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71F-F608-4089-890F-47ECE13488A5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4386-CA91-4B5A-9FCC-E0C629087505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384-DD1B-4720-A2DA-4BEA772FEB3C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14F-D952-4E2A-82CE-7B3AD35D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58D-D710-4D5C-9063-637AF27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084-671A-4F7F-A1A9-74CEA7C9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5D5-9918-4E16-9F01-EC2C5EDF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7D2E-D9A3-4971-99F7-351359B6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347D-361D-4E81-80D0-735321F6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595-54FA-40E2-8CCB-BE2C2BCF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B34A-A688-4828-B376-D73C16F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E89-C04F-454B-846B-7A136B4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E94-4D87-4B50-AED2-4BB6534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A99-A4F7-4D4A-B57D-972F44AA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16D-BA19-4B9D-9FC0-AA65CEE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1ED-2005-4C74-9669-2B22F68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1D3A-AE90-40AB-9BA1-19BAC20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C45-184E-4DFC-875F-F59E3F0C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C4B-999C-4E84-84FC-D9B2621C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7842-4926-4ED0-88D6-590CBBC0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F51-2266-417B-AADA-FF9A6C9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2E6-44C7-41C6-AFC8-2AF4F645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745-83AE-4265-9E16-3016CA0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AA8-3B7F-4235-A78F-8C57B544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E9B-8C16-4D1A-9074-FAAC75B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E8B-5DA2-4FED-B513-E42F602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CD1-EA0D-4078-B146-8E462D1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169-E6E4-433A-A4A8-D48221274F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BFD5-0517-4F03-A9BF-E33515FC1DA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барашка-братц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шли пободатьс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и конец борьбе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врати их в букву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1511280" y="189000"/>
            <a:ext cx="67518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6" descr="animals077"/>
          <p:cNvPicPr/>
          <p:nvPr/>
        </p:nvPicPr>
        <p:blipFill>
          <a:blip r:embed="rId1"/>
          <a:stretch/>
        </p:blipFill>
        <p:spPr>
          <a:xfrm>
            <a:off x="6462720" y="3968640"/>
            <a:ext cx="2124000" cy="212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nimals077"/>
          <p:cNvPicPr/>
          <p:nvPr/>
        </p:nvPicPr>
        <p:blipFill>
          <a:blip r:embed="rId2"/>
          <a:stretch/>
        </p:blipFill>
        <p:spPr>
          <a:xfrm>
            <a:off x="6372360" y="18082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уква «БЭ»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429000" y="56386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132000" y="540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>
            <a:hlinkClick r:id="rId1" action="ppaction://hlinksldjump"/>
          </p:cNvPr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14454" y="3837"/>
                </a:moveTo>
                <a:lnTo>
                  <a:pt x="17030" y="6448"/>
                </a:ln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lnTo>
                  <a:pt x="21417" y="10800"/>
                </a:lnTo>
                <a:lnTo>
                  <a:pt x="19763" y="10800"/>
                </a:lnTo>
                <a:lnTo>
                  <a:pt x="19763" y="17989"/>
                </a:lnTo>
                <a:lnTo>
                  <a:pt x="9145" y="17989"/>
                </a:lnTo>
                <a:lnTo>
                  <a:pt x="9145" y="10800"/>
                </a:lnTo>
                <a:lnTo>
                  <a:pt x="7491" y="10800"/>
                </a:lnTo>
                <a:close/>
              </a:path>
              <a:path fill="darkenLess" w="28908" h="21600">
                <a:moveTo>
                  <a:pt x="17030" y="6448"/>
                </a:move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close/>
              </a:path>
              <a:path fill="darkenLess" w="28908" h="21600">
                <a:moveTo>
                  <a:pt x="13531" y="14299"/>
                </a:moveTo>
                <a:lnTo>
                  <a:pt x="15377" y="14299"/>
                </a:lnTo>
                <a:lnTo>
                  <a:pt x="15377" y="17989"/>
                </a:lnTo>
                <a:lnTo>
                  <a:pt x="19763" y="17989"/>
                </a:lnTo>
                <a:lnTo>
                  <a:pt x="19763" y="10800"/>
                </a:lnTo>
                <a:lnTo>
                  <a:pt x="9145" y="10800"/>
                </a:lnTo>
                <a:lnTo>
                  <a:pt x="9145" y="17989"/>
                </a:lnTo>
                <a:lnTo>
                  <a:pt x="13531" y="17989"/>
                </a:lnTo>
                <a:close/>
              </a:path>
            </a:pathLst>
          </a:custGeom>
          <a:solidFill>
            <a:srgbClr val="ffcf0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1692360" y="1898640"/>
            <a:ext cx="143964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241280" y="396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02000" y="450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3132000" y="1898640"/>
            <a:ext cx="1349640" cy="135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18"/>
          <p:cNvSpPr/>
          <p:nvPr/>
        </p:nvSpPr>
        <p:spPr>
          <a:xfrm>
            <a:off x="4481640" y="1898640"/>
            <a:ext cx="135072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19"/>
          <p:cNvSpPr/>
          <p:nvPr/>
        </p:nvSpPr>
        <p:spPr>
          <a:xfrm>
            <a:off x="5832360" y="1898640"/>
            <a:ext cx="134964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нт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Равнобедренный треугольник 21"/>
          <p:cNvSpPr/>
          <p:nvPr/>
        </p:nvSpPr>
        <p:spPr>
          <a:xfrm>
            <a:off x="1962000" y="3429000"/>
            <a:ext cx="540000" cy="8096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132000" y="2349360"/>
            <a:ext cx="1260720" cy="134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1871640" y="2349360"/>
            <a:ext cx="1260360" cy="1349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392720" y="2349360"/>
            <a:ext cx="1258920" cy="1349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5651640" y="2349360"/>
            <a:ext cx="1260360" cy="1349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инт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2232000" y="3879720"/>
            <a:ext cx="539640" cy="8096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мопроверка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н                     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ё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ы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к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ём итог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Что узнали о звуке?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529000"/>
            <a:ext cx="40402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вёрд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ар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2529000"/>
            <a:ext cx="40417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яг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ар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8">
            <a:hlinkClick r:id="rId1" action="ppaction://hlinksldjump"/>
          </p:cNvPr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14454" y="3837"/>
                </a:moveTo>
                <a:lnTo>
                  <a:pt x="17030" y="6448"/>
                </a:ln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lnTo>
                  <a:pt x="21417" y="10800"/>
                </a:lnTo>
                <a:lnTo>
                  <a:pt x="19763" y="10800"/>
                </a:lnTo>
                <a:lnTo>
                  <a:pt x="19763" y="17989"/>
                </a:lnTo>
                <a:lnTo>
                  <a:pt x="9145" y="17989"/>
                </a:lnTo>
                <a:lnTo>
                  <a:pt x="9145" y="10800"/>
                </a:lnTo>
                <a:lnTo>
                  <a:pt x="7491" y="10800"/>
                </a:lnTo>
                <a:close/>
              </a:path>
              <a:path fill="darkenLess" w="28908" h="21600">
                <a:moveTo>
                  <a:pt x="17030" y="6448"/>
                </a:move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close/>
              </a:path>
              <a:path fill="darkenLess" w="28908" h="21600">
                <a:moveTo>
                  <a:pt x="13531" y="14299"/>
                </a:moveTo>
                <a:lnTo>
                  <a:pt x="15377" y="14299"/>
                </a:lnTo>
                <a:lnTo>
                  <a:pt x="15377" y="17989"/>
                </a:lnTo>
                <a:lnTo>
                  <a:pt x="19763" y="17989"/>
                </a:lnTo>
                <a:lnTo>
                  <a:pt x="19763" y="10800"/>
                </a:lnTo>
                <a:lnTo>
                  <a:pt x="9145" y="10800"/>
                </a:lnTo>
                <a:lnTo>
                  <a:pt x="9145" y="17989"/>
                </a:lnTo>
                <a:lnTo>
                  <a:pt x="13531" y="17989"/>
                </a:lnTo>
                <a:close/>
              </a:path>
            </a:pathLst>
          </a:custGeom>
          <a:solidFill>
            <a:srgbClr val="ffcf0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25320" y="2168640"/>
            <a:ext cx="789336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95280" y="2259000"/>
            <a:ext cx="65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Picture 6" descr="сердце"/>
          <p:cNvPicPr/>
          <p:nvPr/>
        </p:nvPicPr>
        <p:blipFill>
          <a:blip r:embed="rId1"/>
          <a:stretch/>
        </p:blipFill>
        <p:spPr>
          <a:xfrm rot="20098800">
            <a:off x="4095720" y="3679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сердце"/>
          <p:cNvPicPr/>
          <p:nvPr/>
        </p:nvPicPr>
        <p:blipFill>
          <a:blip r:embed="rId2"/>
          <a:stretch/>
        </p:blipFill>
        <p:spPr>
          <a:xfrm rot="20098800">
            <a:off x="7272360" y="6379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сердце"/>
          <p:cNvPicPr/>
          <p:nvPr/>
        </p:nvPicPr>
        <p:blipFill>
          <a:blip r:embed="rId3"/>
          <a:stretch/>
        </p:blipFill>
        <p:spPr>
          <a:xfrm rot="20098800">
            <a:off x="7542360" y="540864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сердце"/>
          <p:cNvPicPr/>
          <p:nvPr/>
        </p:nvPicPr>
        <p:blipFill>
          <a:blip r:embed="rId4"/>
          <a:stretch/>
        </p:blipFill>
        <p:spPr>
          <a:xfrm rot="20098800">
            <a:off x="4572000" y="5589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сердце"/>
          <p:cNvPicPr/>
          <p:nvPr/>
        </p:nvPicPr>
        <p:blipFill>
          <a:blip r:embed="rId5"/>
          <a:stretch/>
        </p:blipFill>
        <p:spPr>
          <a:xfrm rot="20098800">
            <a:off x="1062000" y="5319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37r3[1]"/>
          <p:cNvPicPr/>
          <p:nvPr/>
        </p:nvPicPr>
        <p:blipFill>
          <a:blip r:embed="rId6"/>
          <a:stretch/>
        </p:blipFill>
        <p:spPr>
          <a:xfrm>
            <a:off x="-289080" y="368280"/>
            <a:ext cx="2268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4-11-18T11:54:3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