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3761-2D24-49FF-9B9B-6798F2C7511E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AEB2-5868-41AB-ADBD-521E37AE173F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061C-0B6E-4288-8414-1571F936C760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E02-B56F-4416-8535-0C49FEBA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70A-BF7A-4D25-B599-1B6729FF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B85-A215-4C7D-8F2D-1CAF8946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8679-6FC8-45ED-942D-A6ADDFAB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F4D1-AEBB-4EB5-8E89-EB245F9F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4B3F-1502-4E6B-8669-926BBAB4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E553-A295-4CB7-B3C4-006BF4C5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9790-2B26-42C5-B6E3-9DC0FA84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97A6-15D4-4948-9AA0-DD58D942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1F1C-D9BB-406A-9C00-C19D0658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F537-3144-46CE-86DD-83B0A0BC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BB0-5872-48FF-8380-E1EAFD56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CCAE-2954-434E-A38F-02A62E56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DC2C-E0A6-4119-ACDE-3AFEB83A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E1C7-461E-4812-B47B-A40EAB80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9D8D-FF80-4A96-9D92-1ECE7523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7B53-CD4C-42DD-B983-72247ED9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8B0-3D40-40D4-9498-F614F09A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E2D-9B23-479C-8C54-5D5E3D5A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C91-8574-45A4-8AB7-BC15633D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C26-5719-4170-86F0-9281A7B9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F01-7F86-4631-8AE8-C1B92A65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C858-A8DC-489E-B225-3DE40542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8A33-B032-49A7-AE09-B1A09DC2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83BF-9CAC-4122-AF83-B914133E3F7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7017-531C-46CE-B2CB-335A4E082E6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0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ва барашка-братц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шли пободатьс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ожи конец борьбе –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врати их в букву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Б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1511280" y="189000"/>
            <a:ext cx="67518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Picture 6" descr="animals077"/>
          <p:cNvPicPr/>
          <p:nvPr/>
        </p:nvPicPr>
        <p:blipFill>
          <a:blip r:embed="rId1"/>
          <a:stretch/>
        </p:blipFill>
        <p:spPr>
          <a:xfrm>
            <a:off x="6462720" y="3968640"/>
            <a:ext cx="2124000" cy="212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animals077"/>
          <p:cNvPicPr/>
          <p:nvPr/>
        </p:nvPicPr>
        <p:blipFill>
          <a:blip r:embed="rId2"/>
          <a:stretch/>
        </p:blipFill>
        <p:spPr>
          <a:xfrm>
            <a:off x="6372360" y="18082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уква «БЭ»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3429000" y="563868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132000" y="5408640"/>
            <a:ext cx="42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>
            <a:hlinkClick r:id="rId1" action="ppaction://hlinksldjump"/>
          </p:cNvPr>
          <p:cNvSpPr/>
          <p:nvPr/>
        </p:nvSpPr>
        <p:spPr>
          <a:xfrm>
            <a:off x="8604360" y="6453360"/>
            <a:ext cx="288720" cy="21564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08" h="21600">
                <a:moveTo>
                  <a:pt x="0" y="0"/>
                </a:moveTo>
                <a:lnTo>
                  <a:pt x="28908" y="0"/>
                </a:lnTo>
                <a:lnTo>
                  <a:pt x="28908" y="21600"/>
                </a:lnTo>
                <a:lnTo>
                  <a:pt x="0" y="21600"/>
                </a:lnTo>
                <a:close/>
              </a:path>
              <a:path fill="lightenLess" w="28908" h="21600">
                <a:moveTo>
                  <a:pt x="0" y="0"/>
                </a:moveTo>
                <a:lnTo>
                  <a:pt x="28908" y="0"/>
                </a:lnTo>
                <a:lnTo>
                  <a:pt x="27508" y="1400"/>
                </a:lnTo>
                <a:lnTo>
                  <a:pt x="1400" y="1400"/>
                </a:lnTo>
                <a:close/>
              </a:path>
              <a:path fill="darken" w="28908" h="21600">
                <a:moveTo>
                  <a:pt x="28908" y="0"/>
                </a:moveTo>
                <a:lnTo>
                  <a:pt x="28908" y="21600"/>
                </a:lnTo>
                <a:lnTo>
                  <a:pt x="27508" y="20200"/>
                </a:lnTo>
                <a:lnTo>
                  <a:pt x="27508" y="1400"/>
                </a:lnTo>
                <a:close/>
              </a:path>
              <a:path fill="darkenLess" w="28908" h="21600">
                <a:moveTo>
                  <a:pt x="28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8" y="20200"/>
                </a:lnTo>
                <a:close/>
              </a:path>
              <a:path fill="lighten" w="28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8" h="21600">
                <a:moveTo>
                  <a:pt x="14454" y="3837"/>
                </a:moveTo>
                <a:lnTo>
                  <a:pt x="17030" y="6448"/>
                </a:lnTo>
                <a:lnTo>
                  <a:pt x="17030" y="4707"/>
                </a:lnTo>
                <a:lnTo>
                  <a:pt x="18806" y="4707"/>
                </a:lnTo>
                <a:lnTo>
                  <a:pt x="18806" y="8224"/>
                </a:lnTo>
                <a:lnTo>
                  <a:pt x="21417" y="10800"/>
                </a:lnTo>
                <a:lnTo>
                  <a:pt x="19763" y="10800"/>
                </a:lnTo>
                <a:lnTo>
                  <a:pt x="19763" y="17989"/>
                </a:lnTo>
                <a:lnTo>
                  <a:pt x="9145" y="17989"/>
                </a:lnTo>
                <a:lnTo>
                  <a:pt x="9145" y="10800"/>
                </a:lnTo>
                <a:lnTo>
                  <a:pt x="7491" y="10800"/>
                </a:lnTo>
                <a:close/>
              </a:path>
              <a:path fill="darkenLess" w="28908" h="21600">
                <a:moveTo>
                  <a:pt x="17030" y="6448"/>
                </a:moveTo>
                <a:lnTo>
                  <a:pt x="17030" y="4707"/>
                </a:lnTo>
                <a:lnTo>
                  <a:pt x="18806" y="4707"/>
                </a:lnTo>
                <a:lnTo>
                  <a:pt x="18806" y="8224"/>
                </a:lnTo>
                <a:close/>
              </a:path>
              <a:path fill="darkenLess" w="28908" h="21600">
                <a:moveTo>
                  <a:pt x="13531" y="14299"/>
                </a:moveTo>
                <a:lnTo>
                  <a:pt x="15377" y="14299"/>
                </a:lnTo>
                <a:lnTo>
                  <a:pt x="15377" y="17989"/>
                </a:lnTo>
                <a:lnTo>
                  <a:pt x="19763" y="17989"/>
                </a:lnTo>
                <a:lnTo>
                  <a:pt x="19763" y="10800"/>
                </a:lnTo>
                <a:lnTo>
                  <a:pt x="9145" y="10800"/>
                </a:lnTo>
                <a:lnTo>
                  <a:pt x="9145" y="17989"/>
                </a:lnTo>
                <a:lnTo>
                  <a:pt x="13531" y="17989"/>
                </a:lnTo>
                <a:close/>
              </a:path>
            </a:pathLst>
          </a:custGeom>
          <a:solidFill>
            <a:srgbClr val="ffcf0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Прямоугольник 12"/>
          <p:cNvSpPr/>
          <p:nvPr/>
        </p:nvSpPr>
        <p:spPr>
          <a:xfrm>
            <a:off x="1692360" y="1898640"/>
            <a:ext cx="1439640" cy="1351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241280" y="3968640"/>
            <a:ext cx="42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402000" y="4508640"/>
            <a:ext cx="42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Прямоугольник 17"/>
          <p:cNvSpPr/>
          <p:nvPr/>
        </p:nvSpPr>
        <p:spPr>
          <a:xfrm>
            <a:off x="3132000" y="1898640"/>
            <a:ext cx="1349640" cy="135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Прямоугольник 18"/>
          <p:cNvSpPr/>
          <p:nvPr/>
        </p:nvSpPr>
        <p:spPr>
          <a:xfrm>
            <a:off x="4481640" y="1898640"/>
            <a:ext cx="1350720" cy="1351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Прямоугольник 19"/>
          <p:cNvSpPr/>
          <p:nvPr/>
        </p:nvSpPr>
        <p:spPr>
          <a:xfrm>
            <a:off x="5832360" y="1898640"/>
            <a:ext cx="1349640" cy="1351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77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ант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Равнобедренный треугольник 21"/>
          <p:cNvSpPr/>
          <p:nvPr/>
        </p:nvSpPr>
        <p:spPr>
          <a:xfrm>
            <a:off x="1962000" y="3429000"/>
            <a:ext cx="540000" cy="80964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132000" y="2349360"/>
            <a:ext cx="1260720" cy="134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1871640" y="2349360"/>
            <a:ext cx="1260360" cy="1349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4392720" y="2349360"/>
            <a:ext cx="1258920" cy="1349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5651640" y="2349360"/>
            <a:ext cx="1260360" cy="1349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инт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Равнобедренный треугольник 7"/>
          <p:cNvSpPr/>
          <p:nvPr/>
        </p:nvSpPr>
        <p:spPr>
          <a:xfrm>
            <a:off x="2232000" y="3879720"/>
            <a:ext cx="539640" cy="80964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амопроверка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ан                      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ёр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юк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ор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ы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бк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Подведём итог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Что узнали о звуке?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2529000"/>
            <a:ext cx="40402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согласны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звонки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твёрды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арны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ru-RU" sz="3200" spc="-1" strike="noStrike">
                <a:solidFill>
                  <a:srgbClr val="00b050"/>
                </a:solidFill>
                <a:latin typeface="Tahoma"/>
              </a:rPr>
              <a:t>б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4720" y="2529000"/>
            <a:ext cx="404172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согласны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звонки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мягки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арны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8">
            <a:hlinkClick r:id="rId1" action="ppaction://hlinksldjump"/>
          </p:cNvPr>
          <p:cNvSpPr/>
          <p:nvPr/>
        </p:nvSpPr>
        <p:spPr>
          <a:xfrm>
            <a:off x="8604360" y="6453360"/>
            <a:ext cx="288720" cy="21564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08" h="21600">
                <a:moveTo>
                  <a:pt x="0" y="0"/>
                </a:moveTo>
                <a:lnTo>
                  <a:pt x="28908" y="0"/>
                </a:lnTo>
                <a:lnTo>
                  <a:pt x="28908" y="21600"/>
                </a:lnTo>
                <a:lnTo>
                  <a:pt x="0" y="21600"/>
                </a:lnTo>
                <a:close/>
              </a:path>
              <a:path fill="lightenLess" w="28908" h="21600">
                <a:moveTo>
                  <a:pt x="0" y="0"/>
                </a:moveTo>
                <a:lnTo>
                  <a:pt x="28908" y="0"/>
                </a:lnTo>
                <a:lnTo>
                  <a:pt x="27508" y="1400"/>
                </a:lnTo>
                <a:lnTo>
                  <a:pt x="1400" y="1400"/>
                </a:lnTo>
                <a:close/>
              </a:path>
              <a:path fill="darken" w="28908" h="21600">
                <a:moveTo>
                  <a:pt x="28908" y="0"/>
                </a:moveTo>
                <a:lnTo>
                  <a:pt x="28908" y="21600"/>
                </a:lnTo>
                <a:lnTo>
                  <a:pt x="27508" y="20200"/>
                </a:lnTo>
                <a:lnTo>
                  <a:pt x="27508" y="1400"/>
                </a:lnTo>
                <a:close/>
              </a:path>
              <a:path fill="darkenLess" w="28908" h="21600">
                <a:moveTo>
                  <a:pt x="28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8" y="20200"/>
                </a:lnTo>
                <a:close/>
              </a:path>
              <a:path fill="lighten" w="28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8" h="21600">
                <a:moveTo>
                  <a:pt x="14454" y="3837"/>
                </a:moveTo>
                <a:lnTo>
                  <a:pt x="17030" y="6448"/>
                </a:lnTo>
                <a:lnTo>
                  <a:pt x="17030" y="4707"/>
                </a:lnTo>
                <a:lnTo>
                  <a:pt x="18806" y="4707"/>
                </a:lnTo>
                <a:lnTo>
                  <a:pt x="18806" y="8224"/>
                </a:lnTo>
                <a:lnTo>
                  <a:pt x="21417" y="10800"/>
                </a:lnTo>
                <a:lnTo>
                  <a:pt x="19763" y="10800"/>
                </a:lnTo>
                <a:lnTo>
                  <a:pt x="19763" y="17989"/>
                </a:lnTo>
                <a:lnTo>
                  <a:pt x="9145" y="17989"/>
                </a:lnTo>
                <a:lnTo>
                  <a:pt x="9145" y="10800"/>
                </a:lnTo>
                <a:lnTo>
                  <a:pt x="7491" y="10800"/>
                </a:lnTo>
                <a:close/>
              </a:path>
              <a:path fill="darkenLess" w="28908" h="21600">
                <a:moveTo>
                  <a:pt x="17030" y="6448"/>
                </a:moveTo>
                <a:lnTo>
                  <a:pt x="17030" y="4707"/>
                </a:lnTo>
                <a:lnTo>
                  <a:pt x="18806" y="4707"/>
                </a:lnTo>
                <a:lnTo>
                  <a:pt x="18806" y="8224"/>
                </a:lnTo>
                <a:close/>
              </a:path>
              <a:path fill="darkenLess" w="28908" h="21600">
                <a:moveTo>
                  <a:pt x="13531" y="14299"/>
                </a:moveTo>
                <a:lnTo>
                  <a:pt x="15377" y="14299"/>
                </a:lnTo>
                <a:lnTo>
                  <a:pt x="15377" y="17989"/>
                </a:lnTo>
                <a:lnTo>
                  <a:pt x="19763" y="17989"/>
                </a:lnTo>
                <a:lnTo>
                  <a:pt x="19763" y="10800"/>
                </a:lnTo>
                <a:lnTo>
                  <a:pt x="9145" y="10800"/>
                </a:lnTo>
                <a:lnTo>
                  <a:pt x="9145" y="17989"/>
                </a:lnTo>
                <a:lnTo>
                  <a:pt x="13531" y="17989"/>
                </a:lnTo>
                <a:close/>
              </a:path>
            </a:pathLst>
          </a:custGeom>
          <a:solidFill>
            <a:srgbClr val="ffcf0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625320" y="2168640"/>
            <a:ext cx="789336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!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1295280" y="2259000"/>
            <a:ext cx="6551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3" name="Picture 6" descr="сердце"/>
          <p:cNvPicPr/>
          <p:nvPr/>
        </p:nvPicPr>
        <p:blipFill>
          <a:blip r:embed="rId1"/>
          <a:stretch/>
        </p:blipFill>
        <p:spPr>
          <a:xfrm rot="20098800">
            <a:off x="4095720" y="36792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сердце"/>
          <p:cNvPicPr/>
          <p:nvPr/>
        </p:nvPicPr>
        <p:blipFill>
          <a:blip r:embed="rId2"/>
          <a:stretch/>
        </p:blipFill>
        <p:spPr>
          <a:xfrm rot="20098800">
            <a:off x="7272360" y="63792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сердце"/>
          <p:cNvPicPr/>
          <p:nvPr/>
        </p:nvPicPr>
        <p:blipFill>
          <a:blip r:embed="rId3"/>
          <a:stretch/>
        </p:blipFill>
        <p:spPr>
          <a:xfrm rot="20098800">
            <a:off x="7542360" y="5408640"/>
            <a:ext cx="952200" cy="809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сердце"/>
          <p:cNvPicPr/>
          <p:nvPr/>
        </p:nvPicPr>
        <p:blipFill>
          <a:blip r:embed="rId4"/>
          <a:stretch/>
        </p:blipFill>
        <p:spPr>
          <a:xfrm rot="20098800">
            <a:off x="4572000" y="5589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сердце"/>
          <p:cNvPicPr/>
          <p:nvPr/>
        </p:nvPicPr>
        <p:blipFill>
          <a:blip r:embed="rId5"/>
          <a:stretch/>
        </p:blipFill>
        <p:spPr>
          <a:xfrm rot="20098800">
            <a:off x="1062000" y="5319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37r3[1]"/>
          <p:cNvPicPr/>
          <p:nvPr/>
        </p:nvPicPr>
        <p:blipFill>
          <a:blip r:embed="rId6"/>
          <a:stretch/>
        </p:blipFill>
        <p:spPr>
          <a:xfrm>
            <a:off x="-289080" y="368280"/>
            <a:ext cx="22687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4-11-18T11:54:33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