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D954-0390-40CA-952F-0AB8C0F33F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5EF-939F-42FF-88AB-8E8244798121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F5D-FC4C-4558-B6CE-341E0F5E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1A7-4853-4F10-9C9F-F8E35091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6E1-959C-41E7-81F3-FE892C3A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6A0-3CA7-45A7-81B9-DAC340B8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97BD-2198-4C2A-9D3B-C6E4D3EE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2DD-E324-474F-BE4B-F1789AE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0EA-737D-4FF3-A45E-4A186D62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4E04-A55F-45B0-B3A0-3C67890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AAA-DD2C-4F77-A1A1-7ECD0B21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2CB-1011-4844-A56B-0ADCD79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D87C-FCCB-475A-AA46-D939C98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1DA-486C-4CE6-9E80-60BB269E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DB3C-23B5-4544-8D16-8EE43502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2510-E47B-4836-9A21-6B5231E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B06-012A-42CA-8112-FBBBB233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D7E-3D50-4278-B797-43177964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469-E889-4EAB-9CAB-DA9A56E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7D47-170B-4594-8D44-644EE2BD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5FED-559A-4EA9-B7AD-7A50D4D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5180-B69A-4DCC-972D-54779203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C797-2FBB-4EB8-8DEF-F011070C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2B48-BA11-423E-8D0F-FA400BF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B05-A616-4D04-BA82-3ECEE9C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4752-1E5F-4555-A108-5C24893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0A75-3A96-48A4-9B7C-1945360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4BB0-8DE1-4950-AFD2-A26EBA0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140D-6F08-4AF5-830C-32C433D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15C0-7056-4860-9BA9-22B9E07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2790-58FF-43EB-8285-B17332F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F231-3AC8-4EC4-93F3-7E4A9026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440-F14F-4F0D-BBBB-38ABEAD6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76B-CAE2-4520-BA2F-FAB0A17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7AE-90B4-4A5F-AE50-5193D095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F18-DA74-4CEF-98CC-B8D26D0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9D4-86ED-4F8C-B902-0CE364B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EF5-235A-433A-A309-2C90BC1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1240-5A40-47D7-A147-84C38BE329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51840"/>
              <a:ext cx="3622680" cy="6140880"/>
              <a:chOff x="5407200" y="51840"/>
              <a:chExt cx="3622680" cy="61408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36960"/>
                <a:ext cx="211392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47960"/>
                <a:ext cx="905400" cy="8416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7976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62760"/>
                <a:ext cx="38808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840" y="26413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280" y="12337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1840"/>
                <a:ext cx="52308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523-A7FF-4B53-B81B-5135211F4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C3A1-F8D2-4D0F-BCF2-B7F1DCCE806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596880"/>
            <a:ext cx="78105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рок русского языка </a:t>
            </a:r>
            <a:br>
              <a:rPr sz="5200"/>
            </a:b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3 клас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 Школа Росси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?            Что?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шь                 берёз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щука                  погруз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тёнок              чаш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тух                  мо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а                    самолё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разуйте множественное числ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Утёнок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звено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оросёнок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еро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лесоруб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делите корен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Утёнок – утя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звено – звень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оросёнок – порося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еро – перь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лесоруб – лесорубы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делите корен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1528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06699"/>
                </a:solidFill>
                <a:latin typeface="Verdana"/>
              </a:rPr>
              <a:t>Множественное  число</a:t>
            </a:r>
            <a:endParaRPr b="0" lang="en-US" sz="4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1523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рю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ч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жниц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е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чел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хма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нику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Рисунок 3" descr="BS00439_.WMF"/>
          <p:cNvPicPr/>
          <p:nvPr/>
        </p:nvPicPr>
        <p:blipFill>
          <a:blip r:embed="rId1"/>
          <a:stretch/>
        </p:blipFill>
        <p:spPr>
          <a:xfrm>
            <a:off x="4143240" y="3714840"/>
            <a:ext cx="1855800" cy="17334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WB01748_.GIF"/>
          <p:cNvPicPr/>
          <p:nvPr/>
        </p:nvPicPr>
        <p:blipFill>
          <a:blip r:embed="rId2"/>
          <a:stretch/>
        </p:blipFill>
        <p:spPr>
          <a:xfrm>
            <a:off x="6429240" y="2214720"/>
            <a:ext cx="2286000" cy="1000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02199 L -0.26753 -0.02199 E">
                                      <p:cBhvr>
                                        <p:cTn id="3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5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спределите существительные в 3 столб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7428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Весна, хлеб, пальто, земля, мама, язык, метро, плать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пределить род существительног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Рёва, врач, коллекционер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Организационная диаграмма 2" descr=""/>
          <p:cNvPicPr/>
          <p:nvPr/>
        </p:nvPicPr>
        <p:blipFill>
          <a:blip r:embed="rId1"/>
          <a:stretch/>
        </p:blipFill>
        <p:spPr>
          <a:xfrm>
            <a:off x="30240" y="328680"/>
            <a:ext cx="9083520" cy="602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Рисунок1"/>
          <p:cNvPicPr/>
          <p:nvPr/>
        </p:nvPicPr>
        <p:blipFill>
          <a:blip r:embed="rId2"/>
          <a:stretch/>
        </p:blipFill>
        <p:spPr>
          <a:xfrm>
            <a:off x="7143840" y="4689360"/>
            <a:ext cx="2000160" cy="216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cffd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4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ставить небольшой рассказ ( 3 – 5 предл.)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 именами собственными на тему « Наш класс»  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есенка зн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5" name="Группа 6" descr=""/>
          <p:cNvPicPr/>
          <p:nvPr/>
        </p:nvPicPr>
        <p:blipFill>
          <a:blip r:embed="rId1"/>
          <a:stretch/>
        </p:blipFill>
        <p:spPr>
          <a:xfrm>
            <a:off x="847800" y="2987640"/>
            <a:ext cx="7381800" cy="33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7"/>
          <p:cNvSpPr/>
          <p:nvPr/>
        </p:nvSpPr>
        <p:spPr>
          <a:xfrm>
            <a:off x="5443560" y="3000240"/>
            <a:ext cx="250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МОГУ ПРИМЕНИТ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 ПРАКТИК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КАЖУ ПОМОЩЬ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Рисунок 9" descr="Dlaczego-angielski-wydaje-Ci-się-trudny-624x624.jpg"/>
          <p:cNvPicPr/>
          <p:nvPr/>
        </p:nvPicPr>
        <p:blipFill>
          <a:blip r:embed="rId2"/>
          <a:stretch/>
        </p:blipFill>
        <p:spPr>
          <a:xfrm>
            <a:off x="928800" y="38577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0" descr="1_1.jpg"/>
          <p:cNvPicPr/>
          <p:nvPr/>
        </p:nvPicPr>
        <p:blipFill>
          <a:blip r:embed="rId3"/>
          <a:stretch/>
        </p:blipFill>
        <p:spPr>
          <a:xfrm>
            <a:off x="5286240" y="1714680"/>
            <a:ext cx="21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1" descr="0932d9170b0a3f34046e6a4fcac6df40.jpg"/>
          <p:cNvPicPr/>
          <p:nvPr/>
        </p:nvPicPr>
        <p:blipFill>
          <a:blip r:embed="rId4"/>
          <a:stretch/>
        </p:blipFill>
        <p:spPr>
          <a:xfrm>
            <a:off x="2857680" y="2571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у, ответь скорей, дружок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ы готов начать урок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ё ль на 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и в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ж, пора нам начин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му новую узнат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1124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673280" cy="180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1412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859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Verdana"/>
              </a:rPr>
              <a:t>Минутка чистописания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Verdana"/>
              </a:rPr>
              <a:t>Язык, коллекция,    столица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3646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тгадайте загадку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Трещит, а не кузнечик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Летит, а не птица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езёт, а не лошадь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Словарная работа:</a:t>
            </a:r>
            <a:br>
              <a:rPr sz="4000"/>
            </a:b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br>
              <a:rPr sz="4000"/>
            </a:b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Picture 5" descr="C:\Documents and Settings\Елена\Рабочий стол\27767_12926.jpg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начение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609480" y="185904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амолё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летательный аппарат, тяжелее воздуха, для полетов в атмосфере с помощью силовой установки и крылье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личают: гражданские, военные; винтовые, реактивные, турбовинтовые, турбореактивные, ракет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дберите однокоренные сло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ие сложные слова мы встречали на уроках. Назовите и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Словарная работа:</a:t>
            </a:r>
            <a:br>
              <a:rPr sz="4000"/>
            </a:b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br>
              <a:rPr sz="4000"/>
            </a:b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5" descr="C:\Documents and Settings\Елена\Рабочий стол\27767_12926.jpg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596880"/>
            <a:ext cx="78105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«Имя существительное» 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глубление знаний об имени существительн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аспознавать постоянные и непостоянные призна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 интереса к изучению данной темы, аккуратности, прилеж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</dc:creator>
  <dc:description/>
  <dc:language>en-US</dc:language>
  <cp:lastModifiedBy>Ivan</cp:lastModifiedBy>
  <dcterms:modified xsi:type="dcterms:W3CDTF">2015-01-27T18:13:5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