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41C-D38D-43FB-A4CD-586E18414B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A5B-FA12-4893-A382-6A8A874DB785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CC0-E1D7-4A5F-9ADB-C1170AD5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135-9ACA-416E-A718-9AEED6F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647-8DC4-43BB-AFED-DF462AFB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9DE-C58F-4A4F-89CA-BC849BDE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448-F9C0-4564-9F0E-CD212FBF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0E97-C448-4837-86E4-1E3E72E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821C-2822-4031-A25C-651E31A9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F1A-C729-4AA7-8515-DDDFECB4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0D4-ED72-40CA-8C39-81B5D9A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81F-570C-4D36-9D92-9C306B2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15E7-3946-4D49-8316-4ACE0AA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0C0-2285-4FDF-8E79-FD1F742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097-0C84-43E7-868B-81E2315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9F6-C4EC-4C29-BF9F-C91A1D0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64E-2C3B-44B9-A68F-A8E0A3D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658-5159-414B-AFC3-EEC6438F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86A-9118-44C2-996A-F0FA3D67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394A-8CDD-461E-B075-EF4E08BA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33F0-E437-4CD2-B7A2-949029B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C35A-D56D-43A1-995A-2722BBE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C5AE-CCBD-4A8B-8B43-195E7080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6D2B-41F7-49D1-AECF-0CAF03B7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81B-F261-43F5-B04C-9C46BFF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1A4C-523B-468B-8A77-B1FD279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335E-913F-464D-8127-0DE5C52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F19D-D4E9-42A9-A14C-3D2B982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9104-1A94-4197-B656-F5DD7CE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3CBB-7399-4B48-B513-252C6A5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CC9A-526E-4E03-8B60-0C38DE3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E831-9C55-47F6-9A05-87F89A51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87F-7E5C-479C-9E9A-FCD9AA7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960-D927-4921-A8ED-FEF7B9B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7D5-791B-42C1-B3A7-917BBB9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399-892F-4085-9AF3-979C805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454-2E1A-4788-9105-B78AAD2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C1B-CD53-4065-8C85-DB50F59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0CC-8E33-499E-A5A0-0C0157D8E9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51840"/>
              <a:ext cx="3622680" cy="6140880"/>
              <a:chOff x="5407200" y="51840"/>
              <a:chExt cx="3622680" cy="61408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36960"/>
                <a:ext cx="211392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47960"/>
                <a:ext cx="905400" cy="8416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7976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62760"/>
                <a:ext cx="38808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840" y="26413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280" y="12337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1840"/>
                <a:ext cx="52308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837-EAC2-4BB2-8116-E43805720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967E-38B0-440E-A0FE-13948D98558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596880"/>
            <a:ext cx="78105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рок русского языка </a:t>
            </a:r>
            <a:br>
              <a:rPr sz="5200"/>
            </a:b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3 клас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 Школа Росси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?            Что?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шь                 берёз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щука                  погруз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тёнок              чаш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тух                  мо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а                    самолё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разуйте множественное числ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Утёнок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звено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оросёнок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еро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лесоруб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делите корен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Утёнок – утя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звено – звень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оросёнок – порося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перо – перь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лесоруб – лесорубы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Выделите корен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1528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06699"/>
                </a:solidFill>
                <a:latin typeface="Verdana"/>
              </a:rPr>
              <a:t>Множественное  число</a:t>
            </a:r>
            <a:endParaRPr b="0" lang="en-US" sz="4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1523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рю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ч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жниц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е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чел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ахмат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никул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Рисунок 3" descr="BS00439_.WMF"/>
          <p:cNvPicPr/>
          <p:nvPr/>
        </p:nvPicPr>
        <p:blipFill>
          <a:blip r:embed="rId1"/>
          <a:stretch/>
        </p:blipFill>
        <p:spPr>
          <a:xfrm>
            <a:off x="4143240" y="3714840"/>
            <a:ext cx="1855800" cy="17334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WB01748_.GIF"/>
          <p:cNvPicPr/>
          <p:nvPr/>
        </p:nvPicPr>
        <p:blipFill>
          <a:blip r:embed="rId2"/>
          <a:stretch/>
        </p:blipFill>
        <p:spPr>
          <a:xfrm>
            <a:off x="6429240" y="2214720"/>
            <a:ext cx="2286000" cy="1000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3 -0.02199 L -0.26753 -0.02199 E">
                                      <p:cBhvr>
                                        <p:cTn id="3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5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аспределите существительные в 3 столб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7428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Весна, хлеб, пальто, земля, мама, язык, метро, плать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пределить род существительног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Рёва, врач, коллекционер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Организационная диаграмма 2" descr=""/>
          <p:cNvPicPr/>
          <p:nvPr/>
        </p:nvPicPr>
        <p:blipFill>
          <a:blip r:embed="rId1"/>
          <a:stretch/>
        </p:blipFill>
        <p:spPr>
          <a:xfrm>
            <a:off x="30240" y="328680"/>
            <a:ext cx="9083520" cy="602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Рисунок1"/>
          <p:cNvPicPr/>
          <p:nvPr/>
        </p:nvPicPr>
        <p:blipFill>
          <a:blip r:embed="rId2"/>
          <a:stretch/>
        </p:blipFill>
        <p:spPr>
          <a:xfrm>
            <a:off x="7143840" y="4689360"/>
            <a:ext cx="2000160" cy="216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cffd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4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ее задание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ставить небольшой рассказ ( 3 – 5 предл.)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 именами собственными на тему « Наш класс»  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gradFill rotWithShape="0">
            <a:gsLst>
              <a:gs pos="0">
                <a:srgbClr val="e3f2fc"/>
              </a:gs>
              <a:gs pos="100000">
                <a:srgbClr val="f6fbfe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Лесенка зн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5" name="Группа 6" descr=""/>
          <p:cNvPicPr/>
          <p:nvPr/>
        </p:nvPicPr>
        <p:blipFill>
          <a:blip r:embed="rId1"/>
          <a:stretch/>
        </p:blipFill>
        <p:spPr>
          <a:xfrm>
            <a:off x="847800" y="2987640"/>
            <a:ext cx="7381800" cy="33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7"/>
          <p:cNvSpPr/>
          <p:nvPr/>
        </p:nvSpPr>
        <p:spPr>
          <a:xfrm>
            <a:off x="5443560" y="3000240"/>
            <a:ext cx="250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МОГУ ПРИМЕНИТ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 ПРАКТИК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КАЖУ ПОМОЩЬ!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Рисунок 9" descr="Dlaczego-angielski-wydaje-Ci-się-trudny-624x624.jpg"/>
          <p:cNvPicPr/>
          <p:nvPr/>
        </p:nvPicPr>
        <p:blipFill>
          <a:blip r:embed="rId2"/>
          <a:stretch/>
        </p:blipFill>
        <p:spPr>
          <a:xfrm>
            <a:off x="928800" y="38577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0" descr="1_1.jpg"/>
          <p:cNvPicPr/>
          <p:nvPr/>
        </p:nvPicPr>
        <p:blipFill>
          <a:blip r:embed="rId3"/>
          <a:stretch/>
        </p:blipFill>
        <p:spPr>
          <a:xfrm>
            <a:off x="5286240" y="1714680"/>
            <a:ext cx="21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1" descr="0932d9170b0a3f34046e6a4fcac6df40.jpg"/>
          <p:cNvPicPr/>
          <p:nvPr/>
        </p:nvPicPr>
        <p:blipFill>
          <a:blip r:embed="rId4"/>
          <a:stretch/>
        </p:blipFill>
        <p:spPr>
          <a:xfrm>
            <a:off x="2857680" y="2571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у, ответь скорей, дружок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ы готов начать урок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ё ль на 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ли в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ж, пора нам начин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му новую узнат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1124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673280" cy="1801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1412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859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Verdana"/>
              </a:rPr>
              <a:t>Минутка чистописания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Verdana"/>
              </a:rPr>
              <a:t>Язык, коллекция,    столица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3646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тгадайте загадку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Трещит, а не кузнечик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Летит, а не птица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езёт, а не лошадь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Словарная работа:</a:t>
            </a:r>
            <a:br>
              <a:rPr sz="4000"/>
            </a:b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br>
              <a:rPr sz="4000"/>
            </a:b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Picture 5" descr="C:\Documents and Settings\Елена\Рабочий стол\27767_12926.jpg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начение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609480" y="185904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Самолё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летательный аппарат, тяжелее воздуха, для полетов в атмосфере с помощью силовой установки и крылье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личают: гражданские, военные; винтовые, реактивные, турбовинтовые, турбореактивные, ракет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дберите однокоренные сло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ие сложные слова мы встречали на уроках. Назовите и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Словарная работа:</a:t>
            </a:r>
            <a:br>
              <a:rPr sz="4000"/>
            </a:b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br>
              <a:rPr sz="4000"/>
            </a:b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5" descr="C:\Documents and Settings\Елена\Рабочий стол\27767_12926.jpg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596880"/>
            <a:ext cx="78105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«Имя существительное» </a:t>
            </a:r>
            <a:br>
              <a:rPr sz="52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глубление знаний об имени существительн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аспознавать постоянные и непостоянные призна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 интереса к изучению данной темы, аккуратности, прилеж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</dc:creator>
  <dc:description/>
  <dc:language>en-US</dc:language>
  <cp:lastModifiedBy>Ivan</cp:lastModifiedBy>
  <dcterms:modified xsi:type="dcterms:W3CDTF">2015-01-27T18:13:5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