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F5B-7D5A-40E2-9BB9-F836A2A8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212-E97D-4392-8E58-F6B16BA2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6F5-B231-40F4-85A3-E0E1DBDB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A57-B394-4480-966E-76FF0D5F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5E3D-A2A7-478D-895D-CBD8B16D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CFBA-20E1-4E8F-9C38-A3C53471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0159-E0B1-4D19-9A50-2FBB49EC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A726-8C0A-48A7-A200-CC37B814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6E41-4505-43EC-AA57-7748A5FA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F680-FEDE-4277-96B5-57B52BE0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B5E5-A225-4D17-B855-F1A5761C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B91-EAAA-4B93-B494-E51206AD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49B9-C7B7-4320-A9FF-398EE89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FD6A-8D9B-4FF6-A705-AF626A6B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EB45-5325-4CE1-8A82-3966FCA7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8A9E-69B8-4AEF-AB66-B7B85B77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4906-2FE3-4F00-AF51-543A2749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F8A-4B2A-4233-8A29-286C50D6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BDC-C63E-4CEB-B1B6-6FF5FAA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E5E-80C0-4324-B1C1-F702AA35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98E-1173-436B-9B5D-7F07C6D0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895-B1E0-4AA2-99F5-FB38F81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A53-3365-4985-A302-DFD5C30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5BC-E48F-431A-9E6B-2E6E592F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58C-733D-48F0-B126-2482E7D630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A64A-49DA-47B3-B8C2-ABBC503B24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ехнология «Развитие критического мышления через чтение и письмо»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РКМЧП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143240" y="4643280"/>
            <a:ext cx="343872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втор: Танакова Светлана Владимиров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Кластер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ём графической систематизац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дель класте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700360" y="3500280"/>
            <a:ext cx="1440000" cy="1081080"/>
          </a:xfrm>
          <a:prstGeom prst="flowChartDisplay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3780000" y="249228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788000" y="422100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851280" y="551664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050920" y="472428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116000" y="443700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2340000" y="5589720"/>
            <a:ext cx="457200" cy="45720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3780000" y="2997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4211640" y="429264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780000" y="4653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2484000" y="4508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5"/>
          <p:cNvSpPr/>
          <p:nvPr/>
        </p:nvSpPr>
        <p:spPr>
          <a:xfrm flipH="1">
            <a:off x="161892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2340000" y="5229360"/>
            <a:ext cx="7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Дерево предсказа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вол дерева-тем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тви- предположения – «возможно» и «вероятно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стья- обоснование этих предположений, аргументы в пользу того или иного мн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067280" y="3645000"/>
            <a:ext cx="91440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692360" y="4365720"/>
            <a:ext cx="177804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гумент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867280" y="4365720"/>
            <a:ext cx="201636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гумент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324000" y="5877000"/>
            <a:ext cx="169200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н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268360" y="5950080"/>
            <a:ext cx="216072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н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4932360" y="5734080"/>
            <a:ext cx="180036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н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7236000" y="5734080"/>
            <a:ext cx="1419120" cy="6094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н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1"/>
          <p:cNvSpPr/>
          <p:nvPr/>
        </p:nvSpPr>
        <p:spPr>
          <a:xfrm flipH="1">
            <a:off x="2626920" y="400536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5003640" y="3933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5"/>
          <p:cNvSpPr/>
          <p:nvPr/>
        </p:nvSpPr>
        <p:spPr>
          <a:xfrm flipH="1">
            <a:off x="1115640" y="50846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2987640" y="508464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17"/>
          <p:cNvSpPr/>
          <p:nvPr/>
        </p:nvSpPr>
        <p:spPr>
          <a:xfrm flipH="1">
            <a:off x="5795640" y="5013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7308720" y="5013360"/>
            <a:ext cx="6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лица «Знаю-хочу узнать- узнал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85800" y="1828800"/>
          <a:ext cx="7696080" cy="266688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-зн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-хочу уз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- узн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 правило, набор отрывочных свед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зличные аспекты данной те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нкретные аспекты, освещенные на занят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келет рыб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95280" y="3213000"/>
            <a:ext cx="1584360" cy="230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2050920" y="4149720"/>
            <a:ext cx="4033800" cy="60948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6659640" y="3500280"/>
            <a:ext cx="1728720" cy="170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771640" y="2781360"/>
            <a:ext cx="21600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кольк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4643280" y="2781360"/>
            <a:ext cx="1447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ё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блем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2843280" y="4869000"/>
            <a:ext cx="28872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ытаетс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ё решит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500720" y="4941720"/>
            <a:ext cx="21564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сер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97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ём маркировки текста (чтение с пометками). Во время чтения текста необходимо делать особые пометки (значки), а после прочтения текста заполнить таблицу, где эти значки становятся заголовками столбцов таблиц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63640" y="3095640"/>
          <a:ext cx="7489800" cy="2378160"/>
        </p:xfrm>
        <a:graphic>
          <a:graphicData uri="http://schemas.openxmlformats.org/drawingml/2006/table">
            <a:tbl>
              <a:tblPr/>
              <a:tblGrid>
                <a:gridCol w="1871640"/>
                <a:gridCol w="1873080"/>
                <a:gridCol w="1873440"/>
                <a:gridCol w="187164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(мину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(вопро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(плю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галоч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 думал иначе, это противоречит моим представле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понятно или захотелось узнать подроб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вое для ме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не это извес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Ключевые слов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рать из текста 4-5 ключевых слов и выписать их на доску. По ключевым словам можно придумать рассказ или расставить их в определенной последовательности, а затем на стадии осмысления, искать подтверждение своим предположения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одится 5 минут на то, чтобы «мозговым штурмом» дать общую трактовку этих терминов и предположить, как они будут применяться в конкретном контексте данной те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Кубик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ём используется для закрепления новых знаний и активной перестройки представлений в соответствии с новой информаци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каждой стороне пишется вопрос или задание. Ведущий бросает кубик над столом. Ученики должны ответить на вопрос (выполнить задание), написанный на верхней грани кубика. Вопросы: «Объясни…», « Почему…», «Назови…», «Предложи…», «Придумай…», «Поделись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916360" y="4797360"/>
            <a:ext cx="1584360" cy="158436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Линия сравнен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69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езен, когда предполагается сравнение трёх и более аспектов или вопросов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блица: по горизонтали- то, что подлежит сравнению; по вертикали- различные черты и свойства, по которым это сравнение происходи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55640" y="2924280"/>
          <a:ext cx="7632720" cy="3414600"/>
        </p:xfrm>
        <a:graphic>
          <a:graphicData uri="http://schemas.openxmlformats.org/drawingml/2006/table">
            <a:tbl>
              <a:tblPr/>
              <a:tblGrid>
                <a:gridCol w="2543040"/>
                <a:gridCol w="2546640"/>
                <a:gridCol w="2543040"/>
              </a:tblGrid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ка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ин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льтфиль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втор прои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анр прои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авные гер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ложитель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чества геро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рицательные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Перепутанные логические цепоч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хронологической цепи или причинно-следственной цепи нужно выписать 5-6 отдельных событий, причём каждое событие на отдельную карточку (лист). Листы перетасовываются, группе учащихся предлагается восстановить правильный порядок цепочки. Когда приходят к единому мнению, учитель просит обратить внимание на порядок событий при чтении текста, чтобы проверить, верно их предположение или н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Плюс – минус – интересно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2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ём помогает организовать работу на стадии вызова или на стадии осмысления. Вся информация фиксируется в таблиц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11320" y="3052800"/>
          <a:ext cx="7270560" cy="1835280"/>
        </p:xfrm>
        <a:graphic>
          <a:graphicData uri="http://schemas.openxmlformats.org/drawingml/2006/table">
            <a:tbl>
              <a:tblPr/>
              <a:tblGrid>
                <a:gridCol w="2423880"/>
                <a:gridCol w="2422800"/>
                <a:gridCol w="242388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ю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ин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терес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формация, которая с точки зрения ученика носит позитивный харак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формация негативного харак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иболее интересные и спорные для ученика ф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ритическое мышл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инквей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19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исходит от французского «пять». Это «белое» стихотворение, состоящее из пяти стр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00000" y="2708280"/>
          <a:ext cx="7558200" cy="3168720"/>
        </p:xfrm>
        <a:graphic>
          <a:graphicData uri="http://schemas.openxmlformats.org/drawingml/2006/table">
            <a:tbl>
              <a:tblPr/>
              <a:tblGrid>
                <a:gridCol w="1008000"/>
                <a:gridCol w="4030920"/>
                <a:gridCol w="251928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исло слов, часть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то? Чт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существите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ой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прилагате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 дел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глаг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 автор думает о тем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раза из 4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то? Что? (новое звучание те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существите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Толстые и тонкие вопросы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этап- обучающиеся учатся задавать вопросы, записывая продолжение вопросительного предложения. Сначала ребята придумывают тонкие (однозначный ответ), потом толстые вопросы ( на которые нельзя ответить однозначно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–этап- обучающиеся учатся ставить вопросы по тексту: сначала тонкие, потом толсты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- этап- по каждой части текста дети записывают по одному тонкому и толстому вопросу, которые после задают своим товарищ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ение «со стопом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пременное условие для использования приёма –найти оптимальный момент в тексте для остановки, и разделить текст на ча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дия вызова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а основе заглавия текста и информации об авторе предполагается предположить, о чём пойдет речь в текст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дия осмысления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бучающиеся уточняют свой представление о материале. В ходе беседы выясняется, какие предположения оправдались, какие –нет. Обязателен вопрос «Что будет дальше и почему?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дия рефлекс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синквейн, письмо, дискуссия, совместный поиск, тезисы, выбор пословиц, творческие рабо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хнология РКМЧП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ктивное обучение уча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вместное обучение уча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стоятельное обучение учащих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2286000" y="1197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з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285920"/>
            <a:ext cx="76960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 проектировать универсальные учебные действия в начальной школе. От действия к мысли / Под ред. А.Г. Асмолова. - М.: Просвещение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ценка достижения планируемых результатов в начальной школе /Под ред. Г.С. Ковалевой, О.Б. Логиновой. – М.: Просвещение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мерная основная образовательная программа образовательного учреждения. Начальная школа / сост. Е.В. Савинов. - М.: Просвещение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едеральный государственный стандарт начального общего образования /М-во образования и науки Рос. Федерации. - М.: Просвещение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ракова Р.Г. Технология и аспектный анализ современного урока в начальной школе. - М.: Академкнига/Учебник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ые стратег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гнозир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ка гипоте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явление ранее приобретённых зн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искуссия между ученик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сьмо как средство обу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итательский «откли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вместное обу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ные цели технологии РКМЧ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ирование нового стиля мышления (открытость, гибкость,рефлексивность, осознание внутренней многозначности позиции и точек зрения, альтернативности принимаемых решений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звитие базовых качеств личности (рефлексивность, коммуникативность, креативность, мобильность, самостоятельность, толерантность, ответственность за собственный выбор и результаты своей деятельности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звитие аналитического критического мышлен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ирование культуры чтения ( умение ориентироваться в источниках информации, адекватно понимать прочитанное, сортировать информацию сточки зрения её важности, критически оценивать новые знания, делать выводы и обобщения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ация урока по технологии РКМЧ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ллективный метод обучения (динамические пары и группы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ль учителя- координирующа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цесс мышления –  графическая организация (модели, рисунки, схем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ача урока- вызвать на поверхность представления или более устойчивые формы знания ученика по изученной т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оцессе сами для себя формируют цель: для чего я буду изучать новый материал, что именно мне нужно узнать, чтобы ответить на собственный вопр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Этапы работы 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дия вызова (собственные цели и мотивы для изучения нового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дия осмысления (осмысление содержания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дия рефлексии (проверка знаний в словесной или письменной форм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обенности организации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484280"/>
          <a:ext cx="7772400" cy="5146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адиционная организация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учение, направленное на развитие творческого мышления с помощью вопр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тан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ение. Вопросы. Прогноз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ение учебного текста (объяснение-монолог учител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правляемое чтение учебного текста (объяснение-диалог с помощью вопрос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ст-чтение (объяснение): контроль понимания с помощью вопросов, проверка знания с помощью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ст-чтение (объяснение-диалог): обсуждение с целью выяснения личной позиции обучающегося, его оценки для выяснения переживаемых состоян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лючевые компетенции уча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ебно-познавательные ум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муникативные ум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формационные ум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нностно-смысловые ум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ёмы технологии «РКМЧП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Верно-неверно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«Верные и неверные утверждения» или «Верите ли вы?») Учитель предлагает обучающимся выделить из предложенных им утверждений верные и неверные. Выполняя задания, учащиеся описывают заданную тему, обосновывая свой ответ. После знакомства с основной информацией  учитель возвращает учащихся к выделенным ранее группам «Верно» и «Неверно», и предлагает им оценить их первоначальный вариант, используя полученные на уроке све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5-01-27T02:34:48Z</dcterms:modified>
  <cp:revision>4</cp:revision>
  <dc:subject/>
  <dc:title>PowerPoint Presentation</dc:title>
</cp:coreProperties>
</file>