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9ED-8742-48AA-9FCE-39DD8FC6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DFD-F978-4E76-8FB2-2101296E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40F-429A-4A12-A924-F07F9E3E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DB6-96CF-4820-913C-F70255C6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2D6A-5A23-48D9-B421-E93B7E9C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3444-0104-4884-A353-B1F76AD9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8F4D-D407-41AD-B23F-174F89A9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CF12-BB58-4B1E-8319-9DB4BE6E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305B-36B3-407D-ABB1-4C0A3289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23FA-96C1-4804-B1BE-05030094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F26C-6AF8-460D-9673-E7B1CBD5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6BB-0086-414B-9207-8C727044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9069-F876-40A7-B073-4148A08C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2EAD-3BD1-407E-A00A-E88BD4C5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E32F-D85F-45BF-9B32-E792749B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11C8-E49C-4FC5-BB0D-7A98C426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B178-D06B-450D-901D-3E7B1CC3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F7D-6436-454E-9CEC-84BE871B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796-9218-4C71-BEC2-85DB448A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FA4-0EB7-4B55-9E28-F668BFF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F20-ADCD-4287-8851-51664CC1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EB9-59A6-47C3-960E-36D9250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9AB-0C6F-4CE6-8E41-8264B109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07D-C43E-4CF5-A5B5-913AC887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979D-2D67-4F22-A196-920CCEA139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2906-7E79-4E4B-84FA-85EEDF71FD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ооткрыватели  Австрал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552720" y="594324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хамия Мил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09588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лем Янсзо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63244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ллем Янсзон считается первым европейцем, достигшим берегов Австралии.Первооткрыватель снарядил экспедицию, для того,чтобы найти новые южные земли. 18 декабря 1603 года Виллем Янсзон вышел в плаванием на своем судне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Duyfken».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ландские мореплаватели после того, как обогнули мыс Доброй Надежды, не сразу поворачивали на север, а еще довольно большое расстояние проплывали на восток. И таким образом они однажды попали на неизвестную землю, на ее западный бере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781680" y="2286000"/>
            <a:ext cx="1905120" cy="24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бель Тасма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49532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42 год был ознаменован тем, что голландец Абель Тасман смог доказать, что эта земля – континент, а не является архипелагом, по утверждению Янсзона, и дал ей название Новая Голландия. Итак, с тех пор два больших острова стали называться Новая Зеландия, которые расположены на юго-востоке этого континента. Тогда мореплавателем был открыт еще один остров, который он назвал в свою честь – Тасм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490840" cy="286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жеймс Ку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устя сто лет представители британской империи решили прекратить голландскую монополию в Индийском океане, была снаряжена экспедиция, которой командовал капитан Джеймс Кук. В 1770 году, когда восточный берег австралийского континента увидел Кук, он дал имя этому берегу Новый Южный Уэльс. В 1788 году почти спустя два десятилетия, в районе, недалеко от современного Сиднея, было основано первое английское поселение на территории Австралии. Но много лет, в основном, жителями всех британских поселений на австралийских просторах становились разные каторжн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314880" cy="444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встрал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53360" cy="454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5-01-24T18:37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