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966-6DE4-401F-867A-8C8F99B9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2CE0-1865-422D-9651-4856540E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4E4-0A53-4AC1-85BD-3A716BC6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6D5-82B0-4829-9B6F-AF5E752E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CBF1-CC29-4152-ABBA-75BCDE44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EB98-A739-4F11-ACFF-EACB4E36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8444-C01D-4A92-83E9-1180E836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0FED-2741-4182-A34A-DD802BE7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F3BA-AF24-48F8-A2A9-24C8DD2D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3E06-1F2F-487D-B5F4-8D4B781E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9C26-0F2C-4DF5-BD83-4F169F9C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A261-9B29-4AF9-AD6E-5EB82910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11CA-B24A-4297-AF44-D9961B1A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4EA9-6C00-4858-B461-98A6B926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7FF7-5D4E-4A2F-9508-5A44EC98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EFE1-2F30-43AD-A920-3D45B51F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BACE-7C62-4B40-AFC1-3E4F5520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D9FD-2CCB-4A25-8564-2E9644B3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90B-8CAA-4562-9826-E01EA4DC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5EC9-2A1D-422D-A093-D2084998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EEF8-6E64-4B2D-912C-A300222D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2CA-3FBC-4E5C-833D-5F718915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D23-3E50-46C3-8F0A-EEC377FE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243-7269-48D1-8544-0FC2F8EF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392F-1F52-45FC-B16E-548A15D6D0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7891-6A2F-40E7-8CA0-58082759EB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ооткрыватели  Австрал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552720" y="5943240"/>
            <a:ext cx="221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ахамия Мила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6095880" cy="4210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иллем Янсзо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63244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иллем Янсзон считается первым европейцем, достигшим берегов Австралии.Первооткрыватель снарядил экспедицию, для того,чтобы найти новые южные земли. 18 декабря 1603 года Виллем Янсзон вышел в плаванием на своем судне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Duyfken».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лландские мореплаватели после того, как обогнули мыс Доброй Надежды, не сразу поворачивали на север, а еще довольно большое расстояние проплывали на восток. И таким образом они однажды попали на неизвестную землю, на ее западный берег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781680" y="2286000"/>
            <a:ext cx="1905120" cy="245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Абель Тасман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495324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642 год был ознаменован тем, что голландец Абель Тасман смог доказать, что эта земля – континент, а не является архипелагом, по утверждению Янсзона, и дал ей название Новая Голландия. Итак, с тех пор два больших острова стали называться Новая Зеландия, которые расположены на юго-востоке этого континента. Тогда мореплавателем был открыт еще один остров, который он назвал в свою честь – Тасм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2490840" cy="2867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жеймс Кук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устя сто лет представители британской империи решили прекратить голландскую монополию в Индийском океане, была снаряжена экспедиция, которой командовал капитан Джеймс Кук. В 1770 году, когда восточный берег австралийского континента увидел Кук, он дал имя этому берегу Новый Южный Уэльс. В 1788 году почти спустя два десятилетия, в районе, недалеко от современного Сиднея, было основано первое английское поселение на территории Австралии. Но много лет, в основном, жителями всех британских поселений на австралийских просторах становились разные каторжн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486400" y="1447920"/>
            <a:ext cx="3314880" cy="444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встрал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353360" cy="4548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ом</cp:lastModifiedBy>
  <dcterms:modified xsi:type="dcterms:W3CDTF">2015-01-24T18:37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