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8A67CC-A683-4E2E-BD33-6C193A5C49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0686FD-72DD-4EC5-BA7A-DE7CC04CB3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50"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F6979CF-DBC1-43D8-92D4-B13EAE6C3AC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9F65345-46FA-4064-9D98-41D8F513BED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3784C7D-10FA-44B8-BD43-230F107037F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5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61C7A6-C5EC-4E3E-BAC5-61DB93E7528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5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1"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83777F-C38C-4DF8-815A-0FCE09782E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6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5"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90A506-B9E7-4524-BFEF-B0E0C53052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67"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8"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37BCB02-A655-43BF-8C66-7756386799E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1"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3"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EA884CB-ACDB-42E8-B91B-EA0179BEB2E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5"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6"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7"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8"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9"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0"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CE6D7E6-67FE-430E-AFBC-96C5883FBC3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28"/>
          </p:nvPr>
        </p:nvSpPr>
        <p:spPr/>
        <p:txBody>
          <a:bodyPr/>
          <a:p>
            <a:fld id="{B34C4C65-B4DF-4FD5-BCC6-7723CC71CB08}"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F4D631-956D-4FEB-83D3-3AB93F71C6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8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28"/>
          </p:nvPr>
        </p:nvSpPr>
        <p:spPr/>
        <p:txBody>
          <a:bodyPr/>
          <a:p>
            <a:fld id="{B8011EE1-8CFF-49C5-BE01-2AE924BC37BB}"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9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28"/>
          </p:nvPr>
        </p:nvSpPr>
        <p:spPr/>
        <p:txBody>
          <a:bodyPr/>
          <a:p>
            <a:fld id="{7B00C0A3-8C51-4356-9B57-684F85AC81CE}"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9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28"/>
          </p:nvPr>
        </p:nvSpPr>
        <p:spPr/>
        <p:txBody>
          <a:bodyPr/>
          <a:p>
            <a:fld id="{477D4D07-3856-4E5E-92AE-4D0EAD3F51AA}"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28"/>
          </p:nvPr>
        </p:nvSpPr>
        <p:spPr/>
        <p:txBody>
          <a:bodyPr/>
          <a:p>
            <a:fld id="{AB323A14-D182-4E48-BE98-62E43490287E}"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28"/>
          </p:nvPr>
        </p:nvSpPr>
        <p:spPr/>
        <p:txBody>
          <a:bodyPr/>
          <a:p>
            <a:fld id="{C122FF14-4CC0-41BA-B3BD-36EF5126C249}"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9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28"/>
          </p:nvPr>
        </p:nvSpPr>
        <p:spPr/>
        <p:txBody>
          <a:bodyPr/>
          <a:p>
            <a:fld id="{B24DC1D2-9028-4520-A59D-8D04A86E25FC}"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0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28"/>
          </p:nvPr>
        </p:nvSpPr>
        <p:spPr/>
        <p:txBody>
          <a:bodyPr/>
          <a:p>
            <a:fld id="{00DA8136-39AF-4D94-B3BD-B5657390A3C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0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28"/>
          </p:nvPr>
        </p:nvSpPr>
        <p:spPr/>
        <p:txBody>
          <a:bodyPr/>
          <a:p>
            <a:fld id="{EFEFE7D1-30C5-4C32-835D-C3C191BE067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1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28"/>
          </p:nvPr>
        </p:nvSpPr>
        <p:spPr/>
        <p:txBody>
          <a:bodyPr/>
          <a:p>
            <a:fld id="{1D05DD2B-E1D3-493B-BB77-641FA690AA4E}"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1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28"/>
          </p:nvPr>
        </p:nvSpPr>
        <p:spPr/>
        <p:txBody>
          <a:bodyPr/>
          <a:p>
            <a:fld id="{3A3C49F9-3ABC-4A0C-8CD5-816099BA87E6}"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464A31-9EA5-4039-8220-BE2E8D33B9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1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28"/>
          </p:nvPr>
        </p:nvSpPr>
        <p:spPr/>
        <p:txBody>
          <a:bodyPr/>
          <a:p>
            <a:fld id="{824384AC-5D5C-41D3-97ED-3C453F8E7A17}"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A83F8D-A0F4-4FE8-993C-CEF09782EE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4CABDF-6FB9-4745-B8D3-475F973C02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3DE201-976C-486B-8D9B-45355A3DEA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E6F57C-E68D-4196-A5E2-427EDABCC4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D1E38A-575F-4099-B80F-C000C7CDA8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171514-4419-41D6-98C0-2F17BC4DCA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FE2A5E-F5A8-4420-8733-940D2F2787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BC4830-854D-4424-8F20-7740E062B6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6D77D1-5B96-4CB8-8977-B57611528D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D969CD-CE9E-4FC4-917F-4926D42C52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B1A093-D5D6-4216-854F-26B5CA8246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8BF32F-5290-4F57-AD24-B01C444EFD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4781EA-EFA9-458C-96C1-3B066F18D7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EF626BD-90BD-4973-B230-0A8961879C7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2"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1262C9-0F73-4A2A-849F-CEF8C8CB92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A64E2F-69EE-4755-995C-FE77BFFAD6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7"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ABDFAD-F24B-43A7-A42A-0F97F1B5CC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59128E-475C-411A-A521-7BC9F55102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A3F149-7910-4016-9FF3-CEBE68E239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224821-6AD5-4A67-B84E-6B6803984D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2"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3"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7F040D-4FA1-427D-A927-26F9B3000B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7"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F1F289-0523-46BB-A166-F28872A7D0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1"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2956EC-4E3F-41B4-A317-859E5934F7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3"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4"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7DD167-5C53-45AC-9FD0-3D7E1EB38D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8"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AFC3ADD-29C5-48D0-8863-88F0071FD82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1"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2"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3"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0A9C004-DFAB-4EAF-9172-595D50F217C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627EC38-6D92-4CAF-AA27-2E8162ADD5C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65EA76-D6C5-41A4-8621-E45E61EA1E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5F29B2-4D8F-4112-828F-8FD0632E57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72D1A8-5810-47E5-A7B6-2FBC8687F0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505912-5134-440A-A827-41C42AA058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CCE091-A667-471F-A315-3F48FE2A93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85E9CC-A0B8-4A72-AFB0-768380A8EB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4108A2-E108-49F3-8DCD-97B7147AC1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53E40D-9DAD-4EF5-B4E0-2EEF4629D4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4DFE3C-6A41-4732-954B-8282431B4A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02B706-99FF-4F4E-9690-9EF11FB712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84D4103-95B0-4AEC-B549-747AD85223B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B3C673C-39E8-4588-A35F-4B602CA91A3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660EBE9-1A28-4C26-AA54-237C671BAC1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F2BAEB-48CF-4D3F-8C5E-E18C01D78C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6"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DF98FF-481E-45E1-B8BE-F778452066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A50B13-D729-4905-BA6E-58AB5241C8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62F9A2-0079-4B9A-BEFF-8553403E16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E09671-5C4D-454B-85EE-31BA4E1C40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D026C6-E4DD-43BA-8ECB-6074069777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71550A-88A3-45F5-AB04-D2EFE2B8BB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1"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CDAF07-3FA9-4DC8-AFF6-2F9567FD21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5"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4AD2CB-1608-468E-90D9-2346AC89F8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7"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8"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A15169-7D81-43FA-A213-6C2608EFA6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1"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F7B9285-EF81-4861-B67A-DC17F3CD43C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98FC7F-B337-434F-A605-44575C9E0D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5"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6"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7"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B38A7C7-BCEE-44CE-8FEB-9BF0F5C28C6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224FBAC-B896-4EB1-97C4-B9D50E6AA63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85625D-22B1-473F-891E-B34582028B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00917F-2065-4E60-8126-74ABA791D8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E4EADD2-13C7-4162-90B6-3D9CE5DEF5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E454A1E-7DBB-4F45-AE63-5A274E4786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190E99-5658-4F6E-B128-8576B08A52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743E2D-305B-47BA-B577-17E2E52C5B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8A6C3E-903B-4EE2-8FFD-7B7B54E8BB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E0753C-B6E9-41FD-A4FA-D09186AC3D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F886B-B45B-4793-B04F-4C7D5A997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FA1B6D-BE31-4979-8E12-72F9F8618C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D78204A-0E6C-4AF8-BFBF-2C90D6D27CC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B590DD7-403C-4323-939F-1F096D851C9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BB375D0-2907-4B6E-97B0-5926E44EA11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60"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B34FC2-3E9C-4057-B30A-5B91CBA0D9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62"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9968A1-E0F3-48B1-A9C3-8A18914B5F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CC8A51F-51C5-4D66-828E-A065E7DEE0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E9C222-8301-4DD0-AEFD-570B99125F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988A0D6-975E-412D-95BE-13861F5138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6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A93223-C792-417C-B94C-FD15A82B3A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5BB17-1E93-4E2B-A112-30BB50399E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7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5"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3BD4BB-961F-43BA-87CC-E380435BA1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7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9"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8435E4-B0E9-4853-B76A-36F0EB51C7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81"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2"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60357A1-E1F4-404A-9377-49C7E7CDE7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8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7"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5B554B2-6F0D-4BEB-9CF1-CEFDBC96062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89"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0"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1"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2"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3"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4"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274764A-CFFB-427E-83C0-CD3836050AE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67D01815-105B-4B0C-BFAF-B7787F6B986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0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53E83E43-C69B-4454-84AE-25898C62B7C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0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1BB91690-D593-4C5C-A91C-C8327A445AB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0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0EA95D37-7AFF-456C-9B1E-FF81964A152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FCDCD3F6-9D98-47C4-8F31-51672EAC6E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520A9-C1C2-451D-AC6B-404261B19C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40C2DAAE-426E-431D-9055-905E52C1F92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1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101753A0-923C-44EF-A2D9-04FE96C6A2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1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7E971336-4E0C-464E-9D5F-5DA27D9E35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06D6AE44-FAC6-4DD5-B852-53A1296699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EFF37976-BCE1-40C6-AA30-51EA7F8B7E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C2502599-A9F1-48A2-BC65-1DC8725F282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3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8496113B-8A86-462E-A1ED-D7ABD196BE1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49E7F5F-D4A9-44A0-8646-C980576F571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46"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F29D6C2-315C-4CC8-A60F-4864E240E32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48"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BDDBA7C-BA65-481E-B439-9339D83014A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Полилиния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Полилиния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6924C-F6CB-4EC2-8D9F-4578881D1870}"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1" name="Прямая соединительная линия 6"/>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82" name="Прямая соединительная линия 7"/>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83"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384"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385" name="PlaceHolder 3"/>
          <p:cNvSpPr>
            <a:spLocks noGrp="1"/>
          </p:cNvSpPr>
          <p:nvPr>
            <p:ph type="sldNum" idx="28"/>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0B189-3FDA-4A31-B431-B2637F1A2EF0}" type="slidenum">
              <a:rPr b="0" lang="ru-RU"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386" name="PlaceHolder 4"/>
          <p:cNvSpPr>
            <a:spLocks noGrp="1"/>
          </p:cNvSpPr>
          <p:nvPr>
            <p:ph type="ftr" idx="29"/>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PlaceHolder 5"/>
          <p:cNvSpPr>
            <a:spLocks noGrp="1"/>
          </p:cNvSpPr>
          <p:nvPr>
            <p:ph type="dt" idx="30"/>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efac9"/>
                </a:solidFill>
                <a:latin typeface="Constantia"/>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4" name="PlaceHolder 2"/>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4"/>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D30BB-7BAA-4579-A052-4AEF8AE99416}" type="slidenum">
              <a:rPr b="0" lang="ru-RU"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47"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4" name="Полилиния 8"/>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Полилиния 10"/>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7"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88"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89"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78530-977B-4D48-B3BA-84301529E263}" type="slidenum">
              <a:rPr b="0" lang="ru-RU"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127" name="Полилиния 8"/>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Полилиния 10"/>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39D4E-FCA5-4810-B221-76B39255E641}" type="slidenum">
              <a:rPr b="0" lang="ru-RU"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1"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2"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73"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5"/>
          <p:cNvSpPr>
            <a:spLocks noGrp="1"/>
          </p:cNvSpPr>
          <p:nvPr>
            <p:ph type="sldNum" idx="15"/>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41BEC-9F09-4937-9DF7-2EF1B83AD255}"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1" name="Полилиния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Полилиния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3722E-28A6-49E6-9632-5D11433137A8}"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55"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56" name="PlaceHolder 3"/>
          <p:cNvSpPr>
            <a:spLocks noGrp="1"/>
          </p:cNvSpPr>
          <p:nvPr>
            <p:ph type="dt" idx="19"/>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257" name="PlaceHolder 4"/>
          <p:cNvSpPr>
            <a:spLocks noGrp="1"/>
          </p:cNvSpPr>
          <p:nvPr>
            <p:ph type="ftr" idx="20"/>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PlaceHolder 5"/>
          <p:cNvSpPr>
            <a:spLocks noGrp="1"/>
          </p:cNvSpPr>
          <p:nvPr>
            <p:ph type="sldNum" idx="21"/>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70E86-4DC0-4EFB-8774-5227D5690A27}"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5" name="Прямая соединительная линия 6"/>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6" name="Прямая соединительная линия 7"/>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7" name="Овал 8"/>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99"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300" name="PlaceHolder 3"/>
          <p:cNvSpPr>
            <a:spLocks noGrp="1"/>
          </p:cNvSpPr>
          <p:nvPr>
            <p:ph type="dt" idx="22"/>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301" name="PlaceHolder 4"/>
          <p:cNvSpPr>
            <a:spLocks noGrp="1"/>
          </p:cNvSpPr>
          <p:nvPr>
            <p:ph type="sldNum" idx="23"/>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97AD6-DB36-45DE-8B04-B74AB03A3C29}" type="slidenum">
              <a:rPr b="0" lang="ru-RU"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302" name="PlaceHolder 5"/>
          <p:cNvSpPr>
            <a:spLocks noGrp="1"/>
          </p:cNvSpPr>
          <p:nvPr>
            <p:ph type="ftr" idx="24"/>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9" name="Прямая соединительная линия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4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341"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342" name="PlaceHolder 3"/>
          <p:cNvSpPr>
            <a:spLocks noGrp="1"/>
          </p:cNvSpPr>
          <p:nvPr>
            <p:ph type="dt" idx="25"/>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343" name="PlaceHolder 4"/>
          <p:cNvSpPr>
            <a:spLocks noGrp="1"/>
          </p:cNvSpPr>
          <p:nvPr>
            <p:ph type="ftr" idx="2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PlaceHolder 5"/>
          <p:cNvSpPr>
            <a:spLocks noGrp="1"/>
          </p:cNvSpPr>
          <p:nvPr>
            <p:ph type="sldNum" idx="27"/>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53E8A-EEFB-498B-B3E1-E109CB523EB0}" type="slidenum">
              <a:rPr b="0" lang="ru-RU" sz="1600" spc="-1" strike="noStrike">
                <a:solidFill>
                  <a:srgbClr val="fefac9"/>
                </a:solidFill>
                <a:latin typeface="Constant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4" name="Заголовок 3" descr=""/>
          <p:cNvPicPr/>
          <p:nvPr/>
        </p:nvPicPr>
        <p:blipFill>
          <a:blip r:embed="rId1"/>
          <a:stretch/>
        </p:blipFill>
        <p:spPr>
          <a:xfrm>
            <a:off x="-6480" y="633240"/>
            <a:ext cx="9156960" cy="3157560"/>
          </a:xfrm>
          <a:prstGeom prst="rect">
            <a:avLst/>
          </a:prstGeom>
          <a:ln w="0">
            <a:noFill/>
          </a:ln>
        </p:spPr>
      </p:pic>
      <p:sp>
        <p:nvSpPr>
          <p:cNvPr id="425" name="TextBox 4"/>
          <p:cNvSpPr/>
          <p:nvPr/>
        </p:nvSpPr>
        <p:spPr>
          <a:xfrm>
            <a:off x="3000240" y="285840"/>
            <a:ext cx="335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nstantia"/>
              </a:rPr>
              <a:t>МКОУ Бузыкановская СОШ</a:t>
            </a:r>
            <a:endParaRPr b="0" lang="en-US" sz="1800" spc="-1" strike="noStrike">
              <a:solidFill>
                <a:srgbClr val="ffffff"/>
              </a:solidFill>
              <a:latin typeface="Arial"/>
            </a:endParaRPr>
          </a:p>
        </p:txBody>
      </p:sp>
      <p:sp>
        <p:nvSpPr>
          <p:cNvPr id="426" name="TextBox 6"/>
          <p:cNvSpPr/>
          <p:nvPr/>
        </p:nvSpPr>
        <p:spPr>
          <a:xfrm>
            <a:off x="3071880" y="6488280"/>
            <a:ext cx="3357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nstantia"/>
              </a:rPr>
              <a:t>2013 г.</a:t>
            </a:r>
            <a:endParaRPr b="0" lang="en-US" sz="1800" spc="-1" strike="noStrike">
              <a:solidFill>
                <a:srgbClr val="ffffff"/>
              </a:solidFill>
              <a:latin typeface="Arial"/>
            </a:endParaRPr>
          </a:p>
        </p:txBody>
      </p:sp>
      <p:sp>
        <p:nvSpPr>
          <p:cNvPr id="427" name="TextBox 5"/>
          <p:cNvSpPr/>
          <p:nvPr/>
        </p:nvSpPr>
        <p:spPr>
          <a:xfrm>
            <a:off x="4643280" y="3714840"/>
            <a:ext cx="3571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nstantia"/>
              </a:rPr>
              <a:t>Выполнила: Пилипенко Анна 8 класс</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nstantia"/>
              </a:rPr>
              <a:t>Руководитель: Миронова Г. Н.</a:t>
            </a: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456840" y="1523880"/>
            <a:ext cx="4329000" cy="457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Лейб-гвардии гусарский полк. Наиболее известные бои полка - рейд кавалерии Уварова и Платова во время Бородинского сражения, партизанские действия осенью-зимой 1812 года, участие в заграничном походе 1813-15 годов.</a:t>
            </a:r>
            <a:endParaRPr b="0" lang="en-US" sz="2600" spc="-1" strike="noStrike">
              <a:solidFill>
                <a:srgbClr val="ffffff"/>
              </a:solidFill>
              <a:latin typeface="Constantia"/>
            </a:endParaRPr>
          </a:p>
        </p:txBody>
      </p:sp>
      <p:pic>
        <p:nvPicPr>
          <p:cNvPr id="449" name="Заголовок 2" descr=""/>
          <p:cNvPicPr/>
          <p:nvPr/>
        </p:nvPicPr>
        <p:blipFill>
          <a:blip r:embed="rId1"/>
          <a:stretch/>
        </p:blipFill>
        <p:spPr>
          <a:xfrm>
            <a:off x="493560" y="-146160"/>
            <a:ext cx="8242560" cy="1359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456840" y="1523880"/>
            <a:ext cx="4329000" cy="457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Лейб-гвардии уланский полк. Формировался из блондинов и шатенов (на рыжих лошадях). Участвовал в битве под Аустерлицем. Дислоцировался в Новом Петергофе.</a:t>
            </a:r>
            <a:endParaRPr b="0" lang="en-US" sz="2600" spc="-1" strike="noStrike">
              <a:solidFill>
                <a:srgbClr val="ffffff"/>
              </a:solidFill>
              <a:latin typeface="Constantia"/>
            </a:endParaRPr>
          </a:p>
        </p:txBody>
      </p:sp>
      <p:pic>
        <p:nvPicPr>
          <p:cNvPr id="451" name="Заголовок 2" descr=""/>
          <p:cNvPicPr/>
          <p:nvPr/>
        </p:nvPicPr>
        <p:blipFill>
          <a:blip r:embed="rId1"/>
          <a:stretch/>
        </p:blipFill>
        <p:spPr>
          <a:xfrm>
            <a:off x="493560" y="-146160"/>
            <a:ext cx="8242560" cy="1359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456840" y="1523880"/>
            <a:ext cx="4329000" cy="4572000"/>
          </a:xfrm>
          <a:prstGeom prst="rect">
            <a:avLst/>
          </a:prstGeom>
          <a:noFill/>
          <a:ln w="0">
            <a:noFill/>
          </a:ln>
        </p:spPr>
        <p:txBody>
          <a:bodyPr anchor="t">
            <a:normAutofit fontScale="95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У офицеров и солдат Красной Армии было три типа униформы: повседневная, караульная и выходная, каждый из которых имел два варианта — летний и зимний. В период с 1935 по 1941 год в одежду красноармейцев вносились многочисленные мелкие изменения.</a:t>
            </a:r>
            <a:endParaRPr b="0" lang="en-US" sz="2600" spc="-1" strike="noStrike">
              <a:solidFill>
                <a:srgbClr val="ffffff"/>
              </a:solidFill>
              <a:latin typeface="Constantia"/>
            </a:endParaRPr>
          </a:p>
        </p:txBody>
      </p:sp>
      <p:pic>
        <p:nvPicPr>
          <p:cNvPr id="453" name="Заголовок 2" descr=""/>
          <p:cNvPicPr/>
          <p:nvPr/>
        </p:nvPicPr>
        <p:blipFill>
          <a:blip r:embed="rId1"/>
          <a:stretch/>
        </p:blipFill>
        <p:spPr>
          <a:xfrm>
            <a:off x="493560" y="281160"/>
            <a:ext cx="8242560" cy="931680"/>
          </a:xfrm>
          <a:prstGeom prst="rect">
            <a:avLst/>
          </a:prstGeom>
          <a:ln w="0">
            <a:noFill/>
          </a:ln>
        </p:spPr>
      </p:pic>
      <p:pic>
        <p:nvPicPr>
          <p:cNvPr id="454" name="Picture 2" descr=""/>
          <p:cNvPicPr/>
          <p:nvPr/>
        </p:nvPicPr>
        <p:blipFill>
          <a:blip r:embed="rId2"/>
          <a:stretch/>
        </p:blipFill>
        <p:spPr>
          <a:xfrm>
            <a:off x="5786280" y="1285920"/>
            <a:ext cx="2428920" cy="5099040"/>
          </a:xfrm>
          <a:prstGeom prst="rect">
            <a:avLst/>
          </a:prstGeom>
          <a:ln w="0">
            <a:noFill/>
          </a:ln>
        </p:spPr>
      </p:pic>
    </p:spTree>
  </p:cSld>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10">
                                  <p:stCondLst>
                                    <p:cond delay="0"/>
                                  </p:stCondLst>
                                  <p:childTnLst>
                                    <p:set>
                                      <p:cBhvr>
                                        <p:cTn id="17" dur="1" fill="hold">
                                          <p:stCondLst>
                                            <p:cond delay="0"/>
                                          </p:stCondLst>
                                        </p:cTn>
                                        <p:tgtEl>
                                          <p:spTgt spid="454"/>
                                        </p:tgtEl>
                                        <p:attrNameLst>
                                          <p:attrName>style.visibility</p:attrName>
                                        </p:attrNameLst>
                                      </p:cBhvr>
                                      <p:to>
                                        <p:strVal val="visible"/>
                                      </p:to>
                                    </p:set>
                                    <p:animEffect filter="fade" transition="in">
                                      <p:cBhvr additive="repl">
                                        <p:cTn id="18" dur="2000"/>
                                        <p:tgtEl>
                                          <p:spTgt spid="4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txBox="1"/>
          <p:nvPr/>
        </p:nvSpPr>
        <p:spPr>
          <a:xfrm>
            <a:off x="428400" y="1143000"/>
            <a:ext cx="8329320" cy="161928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Танкисты носили специальный шлем, изготавливаемый из кожи или брезента. Летом использовали более лёгкий вариант шлема, а зимой надевали шлем с меховой подкладкой.</a:t>
            </a:r>
            <a:endParaRPr b="0" lang="en-US" sz="2600" spc="-1" strike="noStrike">
              <a:solidFill>
                <a:srgbClr val="ffffff"/>
              </a:solidFill>
              <a:latin typeface="Constantia"/>
            </a:endParaRPr>
          </a:p>
        </p:txBody>
      </p:sp>
      <p:pic>
        <p:nvPicPr>
          <p:cNvPr id="456" name="Заголовок 2" descr=""/>
          <p:cNvPicPr/>
          <p:nvPr/>
        </p:nvPicPr>
        <p:blipFill>
          <a:blip r:embed="rId1"/>
          <a:stretch/>
        </p:blipFill>
        <p:spPr>
          <a:xfrm>
            <a:off x="493560" y="281160"/>
            <a:ext cx="8242560" cy="9316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456840" y="1523880"/>
            <a:ext cx="4329000" cy="457200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onstantia"/>
              </a:rPr>
              <a:t>В 1943 году Красная Армия приняла новую униформу, кардинально отличавшуюся от использовавшейся до тех пор. Изменилась и система знаков различия.</a:t>
            </a:r>
            <a:endParaRPr b="0" lang="en-US" sz="2200" spc="-1" strike="noStrike">
              <a:solidFill>
                <a:srgbClr val="ffffff"/>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onstantia"/>
              </a:rPr>
              <a:t>Новая гимнастёрка очень походила на ту, что использовалась в царской армии и имела воротник-стойку, застёгивающийся на две пуговицы. Главной отличительной чертой новой униформы стали погоны.</a:t>
            </a:r>
            <a:endParaRPr b="0" lang="en-US" sz="2200" spc="-1" strike="noStrike">
              <a:solidFill>
                <a:srgbClr val="ffffff"/>
              </a:solidFill>
              <a:latin typeface="Constantia"/>
            </a:endParaRPr>
          </a:p>
        </p:txBody>
      </p:sp>
      <p:pic>
        <p:nvPicPr>
          <p:cNvPr id="458" name="Заголовок 2" descr=""/>
          <p:cNvPicPr/>
          <p:nvPr/>
        </p:nvPicPr>
        <p:blipFill>
          <a:blip r:embed="rId1"/>
          <a:stretch/>
        </p:blipFill>
        <p:spPr>
          <a:xfrm>
            <a:off x="493560" y="281160"/>
            <a:ext cx="8242560" cy="9316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txBox="1"/>
          <p:nvPr/>
        </p:nvSpPr>
        <p:spPr>
          <a:xfrm>
            <a:off x="285480" y="1500120"/>
            <a:ext cx="4329000" cy="457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23 мая 1994 года президент РФ Борис Ельцин подписал указ «О военной форме одежды и знаках различия по воинским званиям» - формально в этот день и была отменена советская военная форма. </a:t>
            </a:r>
            <a:endParaRPr b="0" lang="en-US" sz="2600" spc="-1" strike="noStrike">
              <a:solidFill>
                <a:srgbClr val="ffffff"/>
              </a:solidFill>
              <a:latin typeface="Constantia"/>
            </a:endParaRPr>
          </a:p>
        </p:txBody>
      </p:sp>
      <p:pic>
        <p:nvPicPr>
          <p:cNvPr id="460" name="Заголовок 2" descr=""/>
          <p:cNvPicPr/>
          <p:nvPr/>
        </p:nvPicPr>
        <p:blipFill>
          <a:blip r:embed="rId1"/>
          <a:stretch/>
        </p:blipFill>
        <p:spPr>
          <a:xfrm>
            <a:off x="493560" y="-6480"/>
            <a:ext cx="8242560" cy="933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txBox="1"/>
          <p:nvPr/>
        </p:nvSpPr>
        <p:spPr>
          <a:xfrm>
            <a:off x="285480" y="785880"/>
            <a:ext cx="8643960" cy="392904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овая форма состоит из восьми так называемых слоев, комбинируя которые военнослужащие смогут обеспечить себе оптимальный уровень комфорта в зависимости от погодных условий и выполняемых задач. Всего в  комплект входят 19 предметов, в том числе три  пары обуви.</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пециалистами "БТК групп" впервые предложены такие элементы одежды как флисовая куртка,  ветро-влагозащитный костюм, зимняя обувь для особо низких температур, шапка-маска (балаклава), вместо кашне нами предложен шарф-нагрудник, а на замену традиционной "ушанке" придет современная зимняя шапка, которую удобнее использовать в сочетании с каской или современными средствами связи.</a:t>
            </a:r>
            <a:endParaRPr b="0" lang="en-US" sz="1800" spc="-1" strike="noStrike">
              <a:solidFill>
                <a:srgbClr val="ffffff"/>
              </a:solidFill>
              <a:latin typeface="Arial"/>
            </a:endParaRPr>
          </a:p>
        </p:txBody>
      </p:sp>
      <p:sp>
        <p:nvSpPr>
          <p:cNvPr id="462" name="PlaceHolder 1"/>
          <p:cNvSpPr>
            <a:spLocks noGrp="1"/>
          </p:cNvSpPr>
          <p:nvPr>
            <p:ph type="title"/>
          </p:nvPr>
        </p:nvSpPr>
        <p:spPr>
          <a:xfrm>
            <a:off x="500040" y="-360"/>
            <a:ext cx="8229600" cy="91908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100" spc="-1" strike="noStrike">
                <a:solidFill>
                  <a:srgbClr val="ffffff"/>
                </a:solidFill>
                <a:latin typeface="Franklin Gothic Book"/>
              </a:rPr>
              <a:t>Военная форма современной России</a:t>
            </a:r>
            <a:endParaRPr b="0" lang="en-US" sz="4100" spc="-1" strike="noStrike">
              <a:solidFill>
                <a:srgbClr val="ffffff"/>
              </a:solidFill>
              <a:latin typeface="Franklin Gothic Boo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Заголовок 2" descr=""/>
          <p:cNvPicPr/>
          <p:nvPr/>
        </p:nvPicPr>
        <p:blipFill>
          <a:blip r:embed="rId1"/>
          <a:stretch/>
        </p:blipFill>
        <p:spPr>
          <a:xfrm>
            <a:off x="-128520" y="146160"/>
            <a:ext cx="9364680" cy="22860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1">
                                  <p:stCondLst>
                                    <p:cond delay="0"/>
                                  </p:stCondLst>
                                  <p:iterate type="lt">
                                    <p:tmAbs val="20"/>
                                  </p:iterate>
                                  <p:childTnLst>
                                    <p:set>
                                      <p:cBhvr>
                                        <p:cTn id="6" dur="1" fill="hold">
                                          <p:stCondLst>
                                            <p:cond delay="0"/>
                                          </p:stCondLst>
                                        </p:cTn>
                                        <p:tgtEl>
                                          <p:spTgt spid="428"/>
                                        </p:tgtEl>
                                        <p:attrNameLst>
                                          <p:attrName>style.visibility</p:attrName>
                                        </p:attrNameLst>
                                      </p:cBhvr>
                                      <p:to>
                                        <p:strVal val="visible"/>
                                      </p:to>
                                    </p:set>
                                    <p:anim calcmode="lin" valueType="num">
                                      <p:cBhvr additive="repl">
                                        <p:cTn id="7" dur="200" fill="hold"/>
                                        <p:tgtEl>
                                          <p:spTgt spid="428"/>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200" fill="hold"/>
                                        <p:tgtEl>
                                          <p:spTgt spid="428"/>
                                        </p:tgtEl>
                                        <p:attrNameLst>
                                          <p:attrName>ppt_y</p:attrName>
                                        </p:attrNameLst>
                                      </p:cBhvr>
                                      <p:tavLst>
                                        <p:tav tm="0">
                                          <p:val>
                                            <p:strVal val="#ppt_y"/>
                                          </p:val>
                                        </p:tav>
                                        <p:tav tm="100000">
                                          <p:val>
                                            <p:strVal val="#ppt_y"/>
                                          </p:val>
                                        </p:tav>
                                      </p:tavLst>
                                    </p:anim>
                                    <p:anim calcmode="lin" valueType="num">
                                      <p:cBhvr additive="repl">
                                        <p:cTn id="9" dur="200" fill="hold"/>
                                        <p:tgtEl>
                                          <p:spTgt spid="42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200" fill="hold"/>
                                        <p:tgtEl>
                                          <p:spTgt spid="42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20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428760" y="785520"/>
            <a:ext cx="4543200" cy="6072120"/>
          </a:xfrm>
          <a:prstGeom prst="rect">
            <a:avLst/>
          </a:prstGeom>
          <a:noFill/>
          <a:ln w="0">
            <a:noFill/>
          </a:ln>
        </p:spPr>
        <p:txBody>
          <a:bodyPr anchor="t">
            <a:normAutofit/>
          </a:bodyPr>
          <a:p>
            <a:pPr marL="3240" indent="-32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nstantia"/>
              </a:rPr>
              <a:t>Доспех</a:t>
            </a:r>
            <a:endParaRPr b="0" lang="en-US" sz="2400" spc="-1" strike="noStrike">
              <a:solidFill>
                <a:srgbClr val="ffffff"/>
              </a:solidFill>
              <a:latin typeface="Constantia"/>
            </a:endParaRPr>
          </a:p>
          <a:p>
            <a:pPr marL="3240" indent="-32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nstantia"/>
              </a:rPr>
              <a:t> </a:t>
            </a:r>
            <a:r>
              <a:rPr b="0" lang="ru-RU" sz="2400" spc="-1" strike="noStrike">
                <a:solidFill>
                  <a:srgbClr val="ffffff"/>
                </a:solidFill>
                <a:latin typeface="Constantia"/>
              </a:rPr>
              <a:t>Обобщенное название защитного вооружения русских воинов в XIII — XVII вв. Доспехом могли называть и кольчугу, и бахтерец, и пластинчато-чешуйчатые «брони».</a:t>
            </a:r>
            <a:endParaRPr b="0" lang="en-US" sz="2400" spc="-1" strike="noStrike">
              <a:solidFill>
                <a:srgbClr val="ffffff"/>
              </a:solidFill>
              <a:latin typeface="Constantia"/>
            </a:endParaRPr>
          </a:p>
          <a:p>
            <a:pPr marL="3240" indent="-32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3240" indent="-32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nstantia"/>
              </a:rPr>
              <a:t>Само по себе слово «кольчуга» на Руси в историческом контексте обозначало лишь один из многих типов кольчатого доспеха, существовавший наряду с другими, такими, как пансырь и байдана.</a:t>
            </a:r>
            <a:endParaRPr b="0" lang="en-US" sz="2400" spc="-1" strike="noStrike">
              <a:solidFill>
                <a:srgbClr val="ffffff"/>
              </a:solidFill>
              <a:latin typeface="Constantia"/>
            </a:endParaRPr>
          </a:p>
          <a:p>
            <a:pPr marL="3240" indent="-32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pic>
        <p:nvPicPr>
          <p:cNvPr id="430" name="Заголовок 2" descr=""/>
          <p:cNvPicPr/>
          <p:nvPr/>
        </p:nvPicPr>
        <p:blipFill>
          <a:blip r:embed="rId1"/>
          <a:stretch/>
        </p:blipFill>
        <p:spPr>
          <a:xfrm>
            <a:off x="420840" y="-6480"/>
            <a:ext cx="8242200" cy="871560"/>
          </a:xfrm>
          <a:prstGeom prst="rect">
            <a:avLst/>
          </a:prstGeom>
          <a:ln w="0">
            <a:noFill/>
          </a:ln>
        </p:spPr>
      </p:pic>
      <p:pic>
        <p:nvPicPr>
          <p:cNvPr id="431" name="Picture 2" descr=""/>
          <p:cNvPicPr/>
          <p:nvPr/>
        </p:nvPicPr>
        <p:blipFill>
          <a:blip r:embed="rId2"/>
          <a:stretch/>
        </p:blipFill>
        <p:spPr>
          <a:xfrm>
            <a:off x="5072040" y="1071720"/>
            <a:ext cx="3571920" cy="23698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428760" y="785880"/>
            <a:ext cx="4543200" cy="4572000"/>
          </a:xfrm>
          <a:prstGeom prst="rect">
            <a:avLst/>
          </a:prstGeom>
          <a:noFill/>
          <a:ln w="0">
            <a:noFill/>
          </a:ln>
        </p:spPr>
        <p:txBody>
          <a:bodyPr anchor="t">
            <a:normAutofit/>
          </a:bodyPr>
          <a:p>
            <a:pPr marL="3240" indent="-32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Байдана </a:t>
            </a:r>
            <a:endParaRPr b="0" lang="en-US" sz="2600" spc="-1" strike="noStrike">
              <a:solidFill>
                <a:srgbClr val="ffffff"/>
              </a:solidFill>
              <a:latin typeface="Constantia"/>
            </a:endParaRPr>
          </a:p>
          <a:p>
            <a:pPr marL="3240" indent="-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Кольчуга, изготовленная из плоских колец. Появилась на Руси около 1200 г. и просуществовала до XVIIв.</a:t>
            </a:r>
            <a:endParaRPr b="0" lang="en-US" sz="2600" spc="-1" strike="noStrike">
              <a:solidFill>
                <a:srgbClr val="ffffff"/>
              </a:solidFill>
              <a:latin typeface="Constantia"/>
            </a:endParaRPr>
          </a:p>
          <a:p>
            <a:pPr marL="3240" indent="-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Диаметр её колец — 24 мм, ширина — 4,5 мм, толщина — 2,5 мм.</a:t>
            </a:r>
            <a:endParaRPr b="0" lang="en-US" sz="2600" spc="-1" strike="noStrike">
              <a:solidFill>
                <a:srgbClr val="ffffff"/>
              </a:solidFill>
              <a:latin typeface="Constantia"/>
            </a:endParaRPr>
          </a:p>
        </p:txBody>
      </p:sp>
      <p:pic>
        <p:nvPicPr>
          <p:cNvPr id="433" name="Заголовок 2" descr=""/>
          <p:cNvPicPr/>
          <p:nvPr/>
        </p:nvPicPr>
        <p:blipFill>
          <a:blip r:embed="rId1"/>
          <a:stretch/>
        </p:blipFill>
        <p:spPr>
          <a:xfrm>
            <a:off x="420840" y="-6480"/>
            <a:ext cx="8242200" cy="8715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28760" y="785880"/>
            <a:ext cx="4543200" cy="4572000"/>
          </a:xfrm>
          <a:prstGeom prst="rect">
            <a:avLst/>
          </a:prstGeom>
          <a:noFill/>
          <a:ln w="0">
            <a:noFill/>
          </a:ln>
        </p:spPr>
        <p:txBody>
          <a:bodyPr anchor="t">
            <a:normAutofit/>
          </a:bodyPr>
          <a:p>
            <a:pPr marL="3240" indent="-32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Бармица</a:t>
            </a:r>
            <a:endParaRPr b="0" lang="en-US" sz="2600" spc="-1" strike="noStrike">
              <a:solidFill>
                <a:srgbClr val="ffffff"/>
              </a:solidFill>
              <a:latin typeface="Constantia"/>
            </a:endParaRPr>
          </a:p>
          <a:p>
            <a:pPr marL="3240" indent="-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Бармица — элемент шлема в виде кольчужной сетки обрамляющей шлем по нижнему краю. Закрывала шею, плечи, затылок и боковые стороны головы; в некоторых случаях грудь и нижнюю часть лица.</a:t>
            </a:r>
            <a:endParaRPr b="0" lang="en-US" sz="2600" spc="-1" strike="noStrike">
              <a:solidFill>
                <a:srgbClr val="ffffff"/>
              </a:solidFill>
              <a:latin typeface="Constantia"/>
            </a:endParaRPr>
          </a:p>
        </p:txBody>
      </p:sp>
      <p:pic>
        <p:nvPicPr>
          <p:cNvPr id="435" name="Заголовок 2" descr=""/>
          <p:cNvPicPr/>
          <p:nvPr/>
        </p:nvPicPr>
        <p:blipFill>
          <a:blip r:embed="rId1"/>
          <a:stretch/>
        </p:blipFill>
        <p:spPr>
          <a:xfrm>
            <a:off x="420840" y="-6480"/>
            <a:ext cx="8242200" cy="871560"/>
          </a:xfrm>
          <a:prstGeom prst="rect">
            <a:avLst/>
          </a:prstGeom>
          <a:ln w="0">
            <a:noFill/>
          </a:ln>
        </p:spPr>
      </p:pic>
      <p:pic>
        <p:nvPicPr>
          <p:cNvPr id="436" name="Picture 3" descr=""/>
          <p:cNvPicPr/>
          <p:nvPr/>
        </p:nvPicPr>
        <p:blipFill>
          <a:blip r:embed="rId2"/>
          <a:stretch/>
        </p:blipFill>
        <p:spPr>
          <a:xfrm>
            <a:off x="928800" y="4572000"/>
            <a:ext cx="2928960" cy="2170080"/>
          </a:xfrm>
          <a:prstGeom prst="rect">
            <a:avLst/>
          </a:prstGeom>
          <a:ln w="0">
            <a:noFill/>
          </a:ln>
        </p:spPr>
      </p:pic>
      <p:sp>
        <p:nvSpPr>
          <p:cNvPr id="437" name="Прямоугольник 7"/>
          <p:cNvSpPr/>
          <p:nvPr/>
        </p:nvSpPr>
        <p:spPr>
          <a:xfrm>
            <a:off x="5357880" y="5429160"/>
            <a:ext cx="3500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nstantia"/>
              </a:rPr>
              <a:t>Шлемы с бармицами появились впервые в X в.</a:t>
            </a:r>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456840" y="1523880"/>
            <a:ext cx="4329000" cy="457200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nstantia"/>
              </a:rPr>
              <a:t> </a:t>
            </a:r>
            <a:r>
              <a:rPr b="0" lang="ru-RU" sz="2400" spc="-1" strike="noStrike">
                <a:solidFill>
                  <a:srgbClr val="ffffff"/>
                </a:solidFill>
                <a:latin typeface="Constantia"/>
              </a:rPr>
              <a:t>В 1703 г. гвардия была полностью переодета в «немецкие» мундиры. </a:t>
            </a:r>
            <a:endParaRPr b="0" lang="en-US" sz="2400" spc="-1" strike="noStrike">
              <a:solidFill>
                <a:srgbClr val="ffffff"/>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nstantia"/>
              </a:rPr>
              <a:t>Одежда Преображенского полка состояла из следующих основных частей. Под кафтан надевали более короткий камзол. На ноги надевали чулки, штиблеты или тупоносые башмаки. Вокруг шеи завязывали черные галстуки, на руки натягивали кожаные или лосиные перчатки.</a:t>
            </a:r>
            <a:endParaRPr b="0" lang="en-US" sz="2400" spc="-1" strike="noStrike">
              <a:solidFill>
                <a:srgbClr val="ffffff"/>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pic>
        <p:nvPicPr>
          <p:cNvPr id="439" name="Заголовок 2" descr=""/>
          <p:cNvPicPr/>
          <p:nvPr/>
        </p:nvPicPr>
        <p:blipFill>
          <a:blip r:embed="rId1"/>
          <a:stretch/>
        </p:blipFill>
        <p:spPr>
          <a:xfrm>
            <a:off x="450720" y="146160"/>
            <a:ext cx="8242560" cy="933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456840" y="1523880"/>
            <a:ext cx="4329000" cy="4572000"/>
          </a:xfrm>
          <a:prstGeom prst="rect">
            <a:avLst/>
          </a:prstGeom>
          <a:noFill/>
          <a:ln w="0">
            <a:noFill/>
          </a:ln>
        </p:spPr>
        <p:txBody>
          <a:bodyPr anchor="t">
            <a:normAutofit fontScale="95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Артиллерийские офицеры носили кафтан, камзол и штаны красного цвета, синие епанчи; первые три были с вызолоченными пуговицами, а епанча с вызолоченным крючком и петлею; галстук и чулки белые; башмаки тупоносые; шляпа обшивалась золотым галуном.</a:t>
            </a:r>
            <a:endParaRPr b="0" lang="en-US" sz="2600" spc="-1" strike="noStrike">
              <a:solidFill>
                <a:srgbClr val="ffffff"/>
              </a:solidFill>
              <a:latin typeface="Constantia"/>
            </a:endParaRPr>
          </a:p>
        </p:txBody>
      </p:sp>
      <p:pic>
        <p:nvPicPr>
          <p:cNvPr id="441" name="Заголовок 2" descr=""/>
          <p:cNvPicPr/>
          <p:nvPr/>
        </p:nvPicPr>
        <p:blipFill>
          <a:blip r:embed="rId1"/>
          <a:stretch/>
        </p:blipFill>
        <p:spPr>
          <a:xfrm>
            <a:off x="450720" y="146160"/>
            <a:ext cx="8242560" cy="933480"/>
          </a:xfrm>
          <a:prstGeom prst="rect">
            <a:avLst/>
          </a:prstGeom>
          <a:ln w="0">
            <a:noFill/>
          </a:ln>
        </p:spPr>
      </p:pic>
      <p:pic>
        <p:nvPicPr>
          <p:cNvPr id="442" name="Picture 2" descr=""/>
          <p:cNvPicPr/>
          <p:nvPr/>
        </p:nvPicPr>
        <p:blipFill>
          <a:blip r:embed="rId2"/>
          <a:stretch/>
        </p:blipFill>
        <p:spPr>
          <a:xfrm>
            <a:off x="4857840" y="1143000"/>
            <a:ext cx="3929040" cy="52135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txBox="1"/>
          <p:nvPr/>
        </p:nvSpPr>
        <p:spPr>
          <a:xfrm>
            <a:off x="456840" y="1523880"/>
            <a:ext cx="4329000" cy="4572000"/>
          </a:xfrm>
          <a:prstGeom prst="rect">
            <a:avLst/>
          </a:prstGeom>
          <a:noFill/>
          <a:ln w="0">
            <a:noFill/>
          </a:ln>
        </p:spPr>
        <p:txBody>
          <a:bodyPr anchor="t">
            <a:normAutofit fontScale="91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Петр I положил начало унификации одежды для</a:t>
            </a:r>
            <a:endParaRPr b="0" lang="en-US" sz="2600" spc="-1" strike="noStrike">
              <a:solidFill>
                <a:srgbClr val="ffffff"/>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военных, но не успел её  закончить - помешала длившаяся более 20-ти лет</a:t>
            </a:r>
            <a:endParaRPr b="0" lang="en-US" sz="2600" spc="-1" strike="noStrike">
              <a:solidFill>
                <a:srgbClr val="ffffff"/>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Северная война, то весь XVIII век русская военная форма менялась, согласно</a:t>
            </a:r>
            <a:endParaRPr b="0" lang="en-US" sz="2600" spc="-1" strike="noStrike">
              <a:solidFill>
                <a:srgbClr val="ffffff"/>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канонам, им заложенным.</a:t>
            </a:r>
            <a:endParaRPr b="0" lang="en-US" sz="2600" spc="-1" strike="noStrike">
              <a:solidFill>
                <a:srgbClr val="ffffff"/>
              </a:solidFill>
              <a:latin typeface="Constantia"/>
            </a:endParaRPr>
          </a:p>
        </p:txBody>
      </p:sp>
      <p:pic>
        <p:nvPicPr>
          <p:cNvPr id="444" name="Заголовок 2" descr=""/>
          <p:cNvPicPr/>
          <p:nvPr/>
        </p:nvPicPr>
        <p:blipFill>
          <a:blip r:embed="rId1"/>
          <a:stretch/>
        </p:blipFill>
        <p:spPr>
          <a:xfrm>
            <a:off x="450720" y="146160"/>
            <a:ext cx="8242560" cy="933480"/>
          </a:xfrm>
          <a:prstGeom prst="rect">
            <a:avLst/>
          </a:prstGeom>
          <a:ln w="0">
            <a:noFill/>
          </a:ln>
        </p:spPr>
      </p:pic>
      <p:pic>
        <p:nvPicPr>
          <p:cNvPr id="445" name="Picture 2" descr=""/>
          <p:cNvPicPr/>
          <p:nvPr/>
        </p:nvPicPr>
        <p:blipFill>
          <a:blip r:embed="rId2"/>
          <a:stretch/>
        </p:blipFill>
        <p:spPr>
          <a:xfrm>
            <a:off x="5072040" y="1214280"/>
            <a:ext cx="3408480" cy="50007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456840" y="1523880"/>
            <a:ext cx="4329000" cy="4572000"/>
          </a:xfrm>
          <a:prstGeom prst="rect">
            <a:avLst/>
          </a:prstGeom>
          <a:noFill/>
          <a:ln w="0">
            <a:noFill/>
          </a:ln>
        </p:spPr>
        <p:txBody>
          <a:bodyPr anchor="t">
            <a:normAutofit fontScale="97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Линейная  пехота (полки Л-гв. Преображенский, Семеновский, Измайловский, Литовский, гренадерские и пехотные) была одета в темно-зеленые двубортные закрытые мундиры с фалдами и со стоячим воротником.</a:t>
            </a:r>
            <a:endParaRPr b="0" lang="en-US" sz="2600" spc="-1" strike="noStrike">
              <a:solidFill>
                <a:srgbClr val="ffffff"/>
              </a:solidFill>
              <a:latin typeface="Constantia"/>
            </a:endParaRPr>
          </a:p>
        </p:txBody>
      </p:sp>
      <p:pic>
        <p:nvPicPr>
          <p:cNvPr id="447" name="Заголовок 2" descr=""/>
          <p:cNvPicPr/>
          <p:nvPr/>
        </p:nvPicPr>
        <p:blipFill>
          <a:blip r:embed="rId1"/>
          <a:stretch/>
        </p:blipFill>
        <p:spPr>
          <a:xfrm>
            <a:off x="493560" y="-146160"/>
            <a:ext cx="8242560" cy="1359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1T06:47:26Z</dcterms:created>
  <dc:creator>Евгений</dc:creator>
  <dc:description/>
  <dc:language>en-US</dc:language>
  <cp:lastModifiedBy>Учитель</cp:lastModifiedBy>
  <dcterms:modified xsi:type="dcterms:W3CDTF">2015-01-27T09:05:20Z</dcterms:modified>
  <cp:revision>18</cp:revision>
  <dc:subject/>
  <dc:title>Литературно-музыкальная композиция «День защитника Отечества»</dc:title>
</cp:coreProperties>
</file>