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0B62A-3578-4D52-8461-6CB4D4764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3797C-813A-462A-8A36-9CDB7B9A8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1AEBD-3745-4ABE-A14E-8B77A5F4E5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0D9AFC-63EE-4E31-BFB6-04D51A9150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434F1-2BDB-414C-BC52-26E0EEAFE8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DEF96-DC6C-4D99-A658-17AA67139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E8BD4-2B3E-4A21-9F2D-C77B3EC875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01368-30B8-42C2-B1CC-62376B688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06B3A-D544-4C4A-B003-5A73480C8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3A3CEC-A4DC-49D4-A41F-1781DC91EC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9C931D-974E-4B94-82E1-B6706EE0C6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73F4A313-08DE-4502-9C43-59AC615F1BA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8B23A-EB4C-400B-AEF6-7ABEEF2C6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6D7A7629-C470-47C2-A829-E685D4D3A8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62C08203-37A2-4170-979D-365FED232C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699655E-61EA-4FDE-9311-CF65FE3298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017BE33-2C91-4B39-8858-36D49FF18CC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FCBDB5D-D1C6-4185-8553-5AD34A9BFD0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8E722C8-CF0D-445A-91F6-3C6DFB23D2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CF6D092B-B789-4C12-8244-2032DA4E43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E0460A9-E61C-4B4A-AAAB-A5266B52EC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382E92E-953E-433B-90A1-DF7418E434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3A22C83E-F766-4435-AEAD-F87BDDA32C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8C795-8F8C-4257-8C36-ADFD8F7C8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2D077F5F-CBA9-4494-8EC7-EB9179B3249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F6866-9A54-4172-87EF-38F34B52B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06657-10F1-4092-9F18-A706A64F4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FDD0D-84E2-4904-BF8E-3241E5FEA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8F8F4-E596-4E24-8CE1-B0278F79D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A4625-972A-4F28-B1C1-EEF96C1D1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87A6E-A339-46EC-BDAC-70A9BF558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4BD2C-BA95-4AC2-90C7-DA4E5EE5D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E84E8-9662-464E-861B-3FA83481B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0BEFA-B0BF-4811-9CC9-0533C3F33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F662E-67F5-43C2-B9B3-79D5EC2E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3ACBB-7BFC-4651-BC1F-1D9D91A10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5C9C1-C303-44DA-8145-DD1913DF9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79413-61DE-490C-A435-ADC236B92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67251-40F7-4FF2-8D65-CA27B73C6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36F4E-5FF2-4566-A886-4F6AD65F8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AC413-DE4C-4487-87D8-093474934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CD418-7EC7-4099-90C4-A666CE982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D2CE2-78FE-4511-94B8-52EB3D437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7394-FC14-40F6-80A9-28720165D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968FA-F2ED-4507-A8C1-BC340E57C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BFD53-65F3-43DF-AB7A-DC813B5F7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E1C15-2343-4FBE-BFD0-A1DB9A2FE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737CF-E4A3-441C-B844-1C9EBB9B2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7925B-9E42-45A3-8691-DA76E4AA3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6EC56-196B-43AB-830D-95A4DCC901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65144-A066-4A5F-8968-09ACCFC712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9F98A0-D93E-44CA-BDCC-A3A123E051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8AF15-BBBC-43A6-86E2-09BCC3301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0CE18-B15C-4CE0-98CA-BCB7BB134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E312-7391-4295-811F-4DCF3848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D46C1-3659-4252-827F-BE482D56D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FCF1C-009C-448D-AE5B-46B177330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6A6B5-CDB9-40C0-9616-DB93CFE8F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B97C4-DD07-473C-A597-CCDDB36A9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BA3E6-A1A3-49FA-9412-CF8B60135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F669B-74B3-4C3B-9703-E7D3E2B7D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FB691-F847-4CB4-BB99-51792448B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D9BD0-F489-4AEF-B78E-02BC3D5F9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8F6C5-BAD2-4B21-9FAB-54F81DCCE1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B57642-7B20-478B-940C-5D1CD4AD43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C6BA-84E7-42B8-9800-1AA2DF536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A0187-DAA7-4B74-B6D4-12B843242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4D03B-689D-47B4-BCE4-20C1279BF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56506-C5DB-4A93-B84A-BBB49BA91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AFEF1-5C4E-412D-B581-7B0EC2493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1861F-726F-4878-905D-07502559B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42007-4959-44F7-9DD9-97BE40439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B0640-0FA2-4452-A35B-B34582363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B059B-49DD-47D6-8C65-1CFD5D0FA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F2A07-B76D-4BCB-BBB2-D17129221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21D9DE-0322-403F-ABB6-A99974B34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A8784-128C-4EDF-AAF2-75D0C0C3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FDCB62-406F-44A0-8B64-2C50750BB7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F685D-13D5-4828-9425-13AC2EBE51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8A5E85-65B4-49BB-B8F7-C19FC93DA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74C24-B1C1-42D8-A2BE-56F6824DE7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49D2B0-AEA4-403E-81B3-B523A126F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40DA3-CEF5-4730-A4B5-668A1CBA3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71478-04CF-4892-9B38-D025E7EDB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2E208-D832-43F3-8F16-E0370E751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856F3-8D55-48D1-B043-60D344BE0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4116D-CBCD-40BB-A267-6D08D4FF3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F9E4-953E-49E1-92DC-E08982AC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CB928-F455-424F-B82A-0CF3DD0331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C356E-C355-4622-AA51-D9EBAD9A76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FE3F4B-F121-49AF-8A0E-599A0CABC3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890DF8-37CE-48C2-9458-E446B48D5C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ADE7B-BDED-4669-9A77-329AC4F41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F7193-10D5-4938-BC1B-8F1C5743E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E624C7-2906-4BED-8C57-B0E7E4FA0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BBC70B-B70C-4A75-8C4F-1B433D2847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D5CBFA-71C6-4597-928B-D3F9614D5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E0301-B949-4FB0-AD5D-6DA3DAB15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3619-DCC8-4F14-A7E1-81FCBFBAB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30E0A-2ABD-42CF-9100-A07671FFA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7B0FF-6F9C-4F32-A868-E2DAFCCF0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9E999A-FC79-4E70-97D0-51CF8703C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E74C6-4D4A-49D2-A86B-4721680C3B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A85F72-6A8F-47D0-AA54-FCDD1B9E30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00F3909-8ED0-4E36-BF8F-37F93A81B8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253FAAB-BCC4-46FE-BF18-6B97A61BBF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CCF4C9F-2CBE-4696-82FE-985D2CB82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1A64637-933F-4FB0-9B00-23C4D0AF2A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7117FFD-BF6D-42F1-AE8D-F89042C63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CBC1-844F-44E0-9462-CDE99A7A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A038BEF-76C5-4E19-9259-0C80FA6C0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B516219-0D85-411F-BB14-C0E91489C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D4E3EFA-03B6-4568-B884-C573DAEEB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058FA65-BDAA-4303-8479-C86E0C0C6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00A191B-A83B-4E47-8892-EED3A4E0E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1CBF6EF-1788-4744-8935-53FBD383A0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4AFF527-1B3D-4375-AAE3-751EC52CE9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7B0F3-F76F-4874-A573-D27F299B92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82775-84DF-407A-B6F9-F78E9D56B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E57706-03E8-4D85-8474-7346D94EAA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36A9-487E-4730-BCEE-221362A4EC78}"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2"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8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85" name="PlaceHolder 3"/>
          <p:cNvSpPr>
            <a:spLocks noGrp="1"/>
          </p:cNvSpPr>
          <p:nvPr>
            <p:ph type="sldNum" idx="28"/>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9394-8B74-435F-A699-124D8E241EE4}"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386" name="PlaceHolder 4"/>
          <p:cNvSpPr>
            <a:spLocks noGrp="1"/>
          </p:cNvSpPr>
          <p:nvPr>
            <p:ph type="ftr" idx="29"/>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5"/>
          <p:cNvSpPr>
            <a:spLocks noGrp="1"/>
          </p:cNvSpPr>
          <p:nvPr>
            <p:ph type="dt" idx="3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 name="PlaceHolder 2"/>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8AEB-1D9E-4589-841F-0167E807CC4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7"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4"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421C-0868-4639-A1A2-7BC92EB1F470}"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27"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FAB6-0545-4DC6-AB6B-026395512E85}"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0319-7BF5-49EC-A563-E090B2A7B74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1"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C4BD-F948-4A9C-B4C4-B316682F62A4}"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57"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C958-2BEC-457E-91C8-46DF175A71B2}"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9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00" name="PlaceHolder 3"/>
          <p:cNvSpPr>
            <a:spLocks noGrp="1"/>
          </p:cNvSpPr>
          <p:nvPr>
            <p:ph type="dt" idx="2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301" name="PlaceHolder 4"/>
          <p:cNvSpPr>
            <a:spLocks noGrp="1"/>
          </p:cNvSpPr>
          <p:nvPr>
            <p:ph type="sldNum" idx="2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CF46-8A26-450C-84D1-9FEF3251081B}"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302" name="PlaceHolder 5"/>
          <p:cNvSpPr>
            <a:spLocks noGrp="1"/>
          </p:cNvSpPr>
          <p:nvPr>
            <p:ph type="ftr" idx="2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4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42"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343" name="PlaceHolder 4"/>
          <p:cNvSpPr>
            <a:spLocks noGrp="1"/>
          </p:cNvSpPr>
          <p:nvPr>
            <p:ph type="ftr" idx="2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5"/>
          <p:cNvSpPr>
            <a:spLocks noGrp="1"/>
          </p:cNvSpPr>
          <p:nvPr>
            <p:ph type="sldNum" idx="2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E6A8-31F3-4787-9B6F-8BEEAFC634FD}"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3" descr=""/>
          <p:cNvPicPr/>
          <p:nvPr/>
        </p:nvPicPr>
        <p:blipFill>
          <a:blip r:embed="rId1"/>
          <a:stretch/>
        </p:blipFill>
        <p:spPr>
          <a:xfrm>
            <a:off x="-6480" y="633240"/>
            <a:ext cx="9156960" cy="3157560"/>
          </a:xfrm>
          <a:prstGeom prst="rect">
            <a:avLst/>
          </a:prstGeom>
          <a:ln w="0">
            <a:noFill/>
          </a:ln>
        </p:spPr>
      </p:pic>
      <p:sp>
        <p:nvSpPr>
          <p:cNvPr id="425" name="TextBox 4"/>
          <p:cNvSpPr/>
          <p:nvPr/>
        </p:nvSpPr>
        <p:spPr>
          <a:xfrm>
            <a:off x="3000240" y="28584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МКОУ Бузыкановская СОШ</a:t>
            </a:r>
            <a:endParaRPr b="0" lang="en-US" sz="1800" spc="-1" strike="noStrike">
              <a:solidFill>
                <a:srgbClr val="ffffff"/>
              </a:solidFill>
              <a:latin typeface="Arial"/>
            </a:endParaRPr>
          </a:p>
        </p:txBody>
      </p:sp>
      <p:sp>
        <p:nvSpPr>
          <p:cNvPr id="426" name="TextBox 6"/>
          <p:cNvSpPr/>
          <p:nvPr/>
        </p:nvSpPr>
        <p:spPr>
          <a:xfrm>
            <a:off x="3071880" y="6488280"/>
            <a:ext cx="335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2013 г.</a:t>
            </a:r>
            <a:endParaRPr b="0" lang="en-US" sz="1800" spc="-1" strike="noStrike">
              <a:solidFill>
                <a:srgbClr val="ffffff"/>
              </a:solidFill>
              <a:latin typeface="Arial"/>
            </a:endParaRPr>
          </a:p>
        </p:txBody>
      </p:sp>
      <p:sp>
        <p:nvSpPr>
          <p:cNvPr id="427" name="TextBox 5"/>
          <p:cNvSpPr/>
          <p:nvPr/>
        </p:nvSpPr>
        <p:spPr>
          <a:xfrm>
            <a:off x="4643280" y="371484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ыполнила: Пилипенко Анна 8 клас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Руководитель: Миронова Г. Н.</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6840" y="152388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йб-гвардии гусарский полк. Наиболее известные бои полка - рейд кавалерии Уварова и Платова во время Бородинского сражения, партизанские действия осенью-зимой 1812 года, участие в заграничном походе 1813-15 годов.</a:t>
            </a:r>
            <a:endParaRPr b="0" lang="en-US" sz="2600" spc="-1" strike="noStrike">
              <a:solidFill>
                <a:srgbClr val="ffffff"/>
              </a:solidFill>
              <a:latin typeface="Constantia"/>
            </a:endParaRPr>
          </a:p>
        </p:txBody>
      </p:sp>
      <p:pic>
        <p:nvPicPr>
          <p:cNvPr id="449" name="Заголовок 2" descr=""/>
          <p:cNvPicPr/>
          <p:nvPr/>
        </p:nvPicPr>
        <p:blipFill>
          <a:blip r:embed="rId1"/>
          <a:stretch/>
        </p:blipFill>
        <p:spPr>
          <a:xfrm>
            <a:off x="493560" y="-146160"/>
            <a:ext cx="8242560" cy="135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6840" y="152388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йб-гвардии уланский полк. Формировался из блондинов и шатенов (на рыжих лошадях). Участвовал в битве под Аустерлицем. Дислоцировался в Новом Петергофе.</a:t>
            </a:r>
            <a:endParaRPr b="0" lang="en-US" sz="2600" spc="-1" strike="noStrike">
              <a:solidFill>
                <a:srgbClr val="ffffff"/>
              </a:solidFill>
              <a:latin typeface="Constantia"/>
            </a:endParaRPr>
          </a:p>
        </p:txBody>
      </p:sp>
      <p:pic>
        <p:nvPicPr>
          <p:cNvPr id="451" name="Заголовок 2" descr=""/>
          <p:cNvPicPr/>
          <p:nvPr/>
        </p:nvPicPr>
        <p:blipFill>
          <a:blip r:embed="rId1"/>
          <a:stretch/>
        </p:blipFill>
        <p:spPr>
          <a:xfrm>
            <a:off x="493560" y="-146160"/>
            <a:ext cx="8242560" cy="135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6840" y="1523880"/>
            <a:ext cx="4329000" cy="4572000"/>
          </a:xfrm>
          <a:prstGeom prst="rect">
            <a:avLst/>
          </a:prstGeom>
          <a:noFill/>
          <a:ln w="0">
            <a:noFill/>
          </a:ln>
        </p:spPr>
        <p:txBody>
          <a:bodyPr anchor="t">
            <a:normAutofit fontScale="95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У офицеров и солдат Красной Армии было три типа униформы: повседневная, караульная и выходная, каждый из которых имел два варианта — летний и зимний. В период с 1935 по 1941 год в одежду красноармейцев вносились многочисленные мелкие изменения.</a:t>
            </a:r>
            <a:endParaRPr b="0" lang="en-US" sz="2600" spc="-1" strike="noStrike">
              <a:solidFill>
                <a:srgbClr val="ffffff"/>
              </a:solidFill>
              <a:latin typeface="Constantia"/>
            </a:endParaRPr>
          </a:p>
        </p:txBody>
      </p:sp>
      <p:pic>
        <p:nvPicPr>
          <p:cNvPr id="453" name="Заголовок 2" descr=""/>
          <p:cNvPicPr/>
          <p:nvPr/>
        </p:nvPicPr>
        <p:blipFill>
          <a:blip r:embed="rId1"/>
          <a:stretch/>
        </p:blipFill>
        <p:spPr>
          <a:xfrm>
            <a:off x="493560" y="281160"/>
            <a:ext cx="8242560" cy="931680"/>
          </a:xfrm>
          <a:prstGeom prst="rect">
            <a:avLst/>
          </a:prstGeom>
          <a:ln w="0">
            <a:noFill/>
          </a:ln>
        </p:spPr>
      </p:pic>
      <p:pic>
        <p:nvPicPr>
          <p:cNvPr id="454" name="Picture 2" descr=""/>
          <p:cNvPicPr/>
          <p:nvPr/>
        </p:nvPicPr>
        <p:blipFill>
          <a:blip r:embed="rId2"/>
          <a:stretch/>
        </p:blipFill>
        <p:spPr>
          <a:xfrm>
            <a:off x="5786280" y="1285920"/>
            <a:ext cx="2428920" cy="509904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4"/>
                                        </p:tgtEl>
                                        <p:attrNameLst>
                                          <p:attrName>style.visibility</p:attrName>
                                        </p:attrNameLst>
                                      </p:cBhvr>
                                      <p:to>
                                        <p:strVal val="visible"/>
                                      </p:to>
                                    </p:set>
                                    <p:animEffect filter="fade" transition="in">
                                      <p:cBhvr additive="repl">
                                        <p:cTn id="18" dur="2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1143000"/>
            <a:ext cx="8329320" cy="161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Танкисты носили специальный шлем, изготавливаемый из кожи или брезента. Летом использовали более лёгкий вариант шлема, а зимой надевали шлем с меховой подкладкой.</a:t>
            </a:r>
            <a:endParaRPr b="0" lang="en-US" sz="2600" spc="-1" strike="noStrike">
              <a:solidFill>
                <a:srgbClr val="ffffff"/>
              </a:solidFill>
              <a:latin typeface="Constantia"/>
            </a:endParaRPr>
          </a:p>
        </p:txBody>
      </p:sp>
      <p:pic>
        <p:nvPicPr>
          <p:cNvPr id="456" name="Заголовок 2" descr=""/>
          <p:cNvPicPr/>
          <p:nvPr/>
        </p:nvPicPr>
        <p:blipFill>
          <a:blip r:embed="rId1"/>
          <a:stretch/>
        </p:blipFill>
        <p:spPr>
          <a:xfrm>
            <a:off x="493560" y="281160"/>
            <a:ext cx="8242560" cy="931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6840" y="1523880"/>
            <a:ext cx="4329000" cy="45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В 1943 году Красная Армия приняла новую униформу, кардинально отличавшуюся от использовавшейся до тех пор. Изменилась и система знаков различия.</a:t>
            </a:r>
            <a:endParaRPr b="0" lang="en-US" sz="22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Новая гимнастёрка очень походила на ту, что использовалась в царской армии и имела воротник-стойку, застёгивающийся на две пуговицы. Главной отличительной чертой новой униформы стали погоны.</a:t>
            </a:r>
            <a:endParaRPr b="0" lang="en-US" sz="2200" spc="-1" strike="noStrike">
              <a:solidFill>
                <a:srgbClr val="ffffff"/>
              </a:solidFill>
              <a:latin typeface="Constantia"/>
            </a:endParaRPr>
          </a:p>
        </p:txBody>
      </p:sp>
      <p:pic>
        <p:nvPicPr>
          <p:cNvPr id="458" name="Заголовок 2" descr=""/>
          <p:cNvPicPr/>
          <p:nvPr/>
        </p:nvPicPr>
        <p:blipFill>
          <a:blip r:embed="rId1"/>
          <a:stretch/>
        </p:blipFill>
        <p:spPr>
          <a:xfrm>
            <a:off x="493560" y="281160"/>
            <a:ext cx="8242560" cy="931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285480" y="1500120"/>
            <a:ext cx="43290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23 мая 1994 года президент РФ Борис Ельцин подписал указ «О военной форме одежды и знаках различия по воинским званиям» - формально в этот день и была отменена советская военная форма. </a:t>
            </a:r>
            <a:endParaRPr b="0" lang="en-US" sz="2600" spc="-1" strike="noStrike">
              <a:solidFill>
                <a:srgbClr val="ffffff"/>
              </a:solidFill>
              <a:latin typeface="Constantia"/>
            </a:endParaRPr>
          </a:p>
        </p:txBody>
      </p:sp>
      <p:pic>
        <p:nvPicPr>
          <p:cNvPr id="460" name="Заголовок 2" descr=""/>
          <p:cNvPicPr/>
          <p:nvPr/>
        </p:nvPicPr>
        <p:blipFill>
          <a:blip r:embed="rId1"/>
          <a:stretch/>
        </p:blipFill>
        <p:spPr>
          <a:xfrm>
            <a:off x="493560" y="-6480"/>
            <a:ext cx="8242560" cy="93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85480" y="785880"/>
            <a:ext cx="8643960" cy="39290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вая форма состоит из восьми так называемых слоев, комбинируя которые военнослужащие смогут обеспечить себе оптимальный уровень комфорта в зависимости от погодных условий и выполняемых задач. Всего в  комплект входят 19 предметов, в том числе три  пары обуви.</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пециалистами "БТК групп" впервые предложены такие элементы одежды как флисовая куртка,  ветро-влагозащитный костюм, зимняя обувь для особо низких температур, шапка-маска (балаклава), вместо кашне нами предложен шарф-нагрудник, а на замену традиционной "ушанке" придет современная зимняя шапка, которую удобнее использовать в сочетании с каской или современными средствами связи.</a:t>
            </a:r>
            <a:endParaRPr b="0" lang="en-US" sz="1800" spc="-1" strike="noStrike">
              <a:solidFill>
                <a:srgbClr val="ffffff"/>
              </a:solidFill>
              <a:latin typeface="Arial"/>
            </a:endParaRPr>
          </a:p>
        </p:txBody>
      </p:sp>
      <p:sp>
        <p:nvSpPr>
          <p:cNvPr id="462" name="PlaceHolder 1"/>
          <p:cNvSpPr>
            <a:spLocks noGrp="1"/>
          </p:cNvSpPr>
          <p:nvPr>
            <p:ph type="title"/>
          </p:nvPr>
        </p:nvSpPr>
        <p:spPr>
          <a:xfrm>
            <a:off x="500040" y="-360"/>
            <a:ext cx="8229600" cy="9190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Военная форма современной России</a:t>
            </a:r>
            <a:endParaRPr b="0" lang="en-US" sz="4100" spc="-1" strike="noStrike">
              <a:solidFill>
                <a:srgbClr val="ffffff"/>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2" descr=""/>
          <p:cNvPicPr/>
          <p:nvPr/>
        </p:nvPicPr>
        <p:blipFill>
          <a:blip r:embed="rId1"/>
          <a:stretch/>
        </p:blipFill>
        <p:spPr>
          <a:xfrm>
            <a:off x="-128520" y="146160"/>
            <a:ext cx="936468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20"/>
                                  </p:iterate>
                                  <p:childTnLst>
                                    <p:set>
                                      <p:cBhvr>
                                        <p:cTn id="6" dur="1" fill="hold">
                                          <p:stCondLst>
                                            <p:cond delay="0"/>
                                          </p:stCondLst>
                                        </p:cTn>
                                        <p:tgtEl>
                                          <p:spTgt spid="428"/>
                                        </p:tgtEl>
                                        <p:attrNameLst>
                                          <p:attrName>style.visibility</p:attrName>
                                        </p:attrNameLst>
                                      </p:cBhvr>
                                      <p:to>
                                        <p:strVal val="visible"/>
                                      </p:to>
                                    </p:set>
                                    <p:anim calcmode="lin" valueType="num">
                                      <p:cBhvr additive="repl">
                                        <p:cTn id="7" dur="2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 fill="hold"/>
                                        <p:tgtEl>
                                          <p:spTgt spid="428"/>
                                        </p:tgtEl>
                                        <p:attrNameLst>
                                          <p:attrName>ppt_y</p:attrName>
                                        </p:attrNameLst>
                                      </p:cBhvr>
                                      <p:tavLst>
                                        <p:tav tm="0">
                                          <p:val>
                                            <p:strVal val="#ppt_y"/>
                                          </p:val>
                                        </p:tav>
                                        <p:tav tm="100000">
                                          <p:val>
                                            <p:strVal val="#ppt_y"/>
                                          </p:val>
                                        </p:tav>
                                      </p:tavLst>
                                    </p:anim>
                                    <p:anim calcmode="lin" valueType="num">
                                      <p:cBhvr additive="repl">
                                        <p:cTn id="9" dur="2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28760" y="785520"/>
            <a:ext cx="4543200" cy="6072120"/>
          </a:xfrm>
          <a:prstGeom prst="rect">
            <a:avLst/>
          </a:prstGeom>
          <a:noFill/>
          <a:ln w="0">
            <a:noFill/>
          </a:ln>
        </p:spPr>
        <p:txBody>
          <a:bodyPr anchor="t">
            <a:normAutofit/>
          </a:bodyPr>
          <a:p>
            <a:pPr marL="3240" indent="-32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Доспех</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Обобщенное название защитного вооружения русских воинов в XIII — XVII вв. Доспехом могли называть и кольчугу, и бахтерец, и пластинчато-чешуйчатые «брони».</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Само по себе слово «кольчуга» на Руси в историческом контексте обозначало лишь один из многих типов кольчатого доспеха, существовавший наряду с другими, такими, как пансырь и байдана.</a:t>
            </a:r>
            <a:endParaRPr b="0" lang="en-US" sz="2400" spc="-1" strike="noStrike">
              <a:solidFill>
                <a:srgbClr val="ffffff"/>
              </a:solidFill>
              <a:latin typeface="Constantia"/>
            </a:endParaRPr>
          </a:p>
          <a:p>
            <a:pPr marL="3240" indent="-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430" name="Заголовок 2" descr=""/>
          <p:cNvPicPr/>
          <p:nvPr/>
        </p:nvPicPr>
        <p:blipFill>
          <a:blip r:embed="rId1"/>
          <a:stretch/>
        </p:blipFill>
        <p:spPr>
          <a:xfrm>
            <a:off x="420840" y="-6480"/>
            <a:ext cx="8242200" cy="871560"/>
          </a:xfrm>
          <a:prstGeom prst="rect">
            <a:avLst/>
          </a:prstGeom>
          <a:ln w="0">
            <a:noFill/>
          </a:ln>
        </p:spPr>
      </p:pic>
      <p:pic>
        <p:nvPicPr>
          <p:cNvPr id="431" name="Picture 2" descr=""/>
          <p:cNvPicPr/>
          <p:nvPr/>
        </p:nvPicPr>
        <p:blipFill>
          <a:blip r:embed="rId2"/>
          <a:stretch/>
        </p:blipFill>
        <p:spPr>
          <a:xfrm>
            <a:off x="5072040" y="1071720"/>
            <a:ext cx="357192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785880"/>
            <a:ext cx="4543200" cy="4572000"/>
          </a:xfrm>
          <a:prstGeom prst="rect">
            <a:avLst/>
          </a:prstGeom>
          <a:noFill/>
          <a:ln w="0">
            <a:noFill/>
          </a:ln>
        </p:spPr>
        <p:txBody>
          <a:bodyPr anchor="t">
            <a:normAutofit/>
          </a:bodyPr>
          <a:p>
            <a:pPr marL="3240" indent="-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йдана </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ольчуга, изготовленная из плоских колец. Появилась на Руси около 1200 г. и просуществовала до XVIIв.</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Диаметр её колец — 24 мм, ширина — 4,5 мм, толщина — 2,5 мм.</a:t>
            </a:r>
            <a:endParaRPr b="0" lang="en-US" sz="2600" spc="-1" strike="noStrike">
              <a:solidFill>
                <a:srgbClr val="ffffff"/>
              </a:solidFill>
              <a:latin typeface="Constantia"/>
            </a:endParaRPr>
          </a:p>
        </p:txBody>
      </p:sp>
      <p:pic>
        <p:nvPicPr>
          <p:cNvPr id="433" name="Заголовок 2" descr=""/>
          <p:cNvPicPr/>
          <p:nvPr/>
        </p:nvPicPr>
        <p:blipFill>
          <a:blip r:embed="rId1"/>
          <a:stretch/>
        </p:blipFill>
        <p:spPr>
          <a:xfrm>
            <a:off x="420840" y="-6480"/>
            <a:ext cx="8242200" cy="871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28760" y="785880"/>
            <a:ext cx="4543200" cy="4572000"/>
          </a:xfrm>
          <a:prstGeom prst="rect">
            <a:avLst/>
          </a:prstGeom>
          <a:noFill/>
          <a:ln w="0">
            <a:noFill/>
          </a:ln>
        </p:spPr>
        <p:txBody>
          <a:bodyPr anchor="t">
            <a:normAutofit/>
          </a:bodyPr>
          <a:p>
            <a:pPr marL="3240" indent="-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рмица</a:t>
            </a:r>
            <a:endParaRPr b="0" lang="en-US" sz="2600" spc="-1" strike="noStrike">
              <a:solidFill>
                <a:srgbClr val="ffffff"/>
              </a:solidFill>
              <a:latin typeface="Constantia"/>
            </a:endParaRPr>
          </a:p>
          <a:p>
            <a:pPr marL="3240" indent="-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Бармица — элемент шлема в виде кольчужной сетки обрамляющей шлем по нижнему краю. Закрывала шею, плечи, затылок и боковые стороны головы; в некоторых случаях грудь и нижнюю часть лица.</a:t>
            </a:r>
            <a:endParaRPr b="0" lang="en-US" sz="2600" spc="-1" strike="noStrike">
              <a:solidFill>
                <a:srgbClr val="ffffff"/>
              </a:solidFill>
              <a:latin typeface="Constantia"/>
            </a:endParaRPr>
          </a:p>
        </p:txBody>
      </p:sp>
      <p:pic>
        <p:nvPicPr>
          <p:cNvPr id="435" name="Заголовок 2" descr=""/>
          <p:cNvPicPr/>
          <p:nvPr/>
        </p:nvPicPr>
        <p:blipFill>
          <a:blip r:embed="rId1"/>
          <a:stretch/>
        </p:blipFill>
        <p:spPr>
          <a:xfrm>
            <a:off x="420840" y="-6480"/>
            <a:ext cx="8242200" cy="871560"/>
          </a:xfrm>
          <a:prstGeom prst="rect">
            <a:avLst/>
          </a:prstGeom>
          <a:ln w="0">
            <a:noFill/>
          </a:ln>
        </p:spPr>
      </p:pic>
      <p:pic>
        <p:nvPicPr>
          <p:cNvPr id="436" name="Picture 3" descr=""/>
          <p:cNvPicPr/>
          <p:nvPr/>
        </p:nvPicPr>
        <p:blipFill>
          <a:blip r:embed="rId2"/>
          <a:stretch/>
        </p:blipFill>
        <p:spPr>
          <a:xfrm>
            <a:off x="928800" y="4572000"/>
            <a:ext cx="2928960" cy="2170080"/>
          </a:xfrm>
          <a:prstGeom prst="rect">
            <a:avLst/>
          </a:prstGeom>
          <a:ln w="0">
            <a:noFill/>
          </a:ln>
        </p:spPr>
      </p:pic>
      <p:sp>
        <p:nvSpPr>
          <p:cNvPr id="437" name="Прямоугольник 7"/>
          <p:cNvSpPr/>
          <p:nvPr/>
        </p:nvSpPr>
        <p:spPr>
          <a:xfrm>
            <a:off x="5357880" y="542916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Шлемы с бармицами появились впервые в X в.</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6840" y="1523880"/>
            <a:ext cx="4329000" cy="45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В 1703 г. гвардия была полностью переодета в «немецкие» мундиры. </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Одежда Преображенского полка состояла из следующих основных частей. Под кафтан надевали более короткий камзол. На ноги надевали чулки, штиблеты или тупоносые башмаки. Вокруг шеи завязывали черные галстуки, на руки натягивали кожаные или лосиные перчатки.</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439" name="Заголовок 2" descr=""/>
          <p:cNvPicPr/>
          <p:nvPr/>
        </p:nvPicPr>
        <p:blipFill>
          <a:blip r:embed="rId1"/>
          <a:stretch/>
        </p:blipFill>
        <p:spPr>
          <a:xfrm>
            <a:off x="450720" y="146160"/>
            <a:ext cx="8242560" cy="93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6840" y="1523880"/>
            <a:ext cx="4329000" cy="4572000"/>
          </a:xfrm>
          <a:prstGeom prst="rect">
            <a:avLst/>
          </a:prstGeom>
          <a:noFill/>
          <a:ln w="0">
            <a:noFill/>
          </a:ln>
        </p:spPr>
        <p:txBody>
          <a:bodyPr anchor="t">
            <a:normAutofit fontScale="95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Артиллерийские офицеры носили кафтан, камзол и штаны красного цвета, синие епанчи; первые три были с вызолоченными пуговицами, а епанча с вызолоченным крючком и петлею; галстук и чулки белые; башмаки тупоносые; шляпа обшивалась золотым галуном.</a:t>
            </a:r>
            <a:endParaRPr b="0" lang="en-US" sz="2600" spc="-1" strike="noStrike">
              <a:solidFill>
                <a:srgbClr val="ffffff"/>
              </a:solidFill>
              <a:latin typeface="Constantia"/>
            </a:endParaRPr>
          </a:p>
        </p:txBody>
      </p:sp>
      <p:pic>
        <p:nvPicPr>
          <p:cNvPr id="441" name="Заголовок 2" descr=""/>
          <p:cNvPicPr/>
          <p:nvPr/>
        </p:nvPicPr>
        <p:blipFill>
          <a:blip r:embed="rId1"/>
          <a:stretch/>
        </p:blipFill>
        <p:spPr>
          <a:xfrm>
            <a:off x="450720" y="146160"/>
            <a:ext cx="8242560" cy="933480"/>
          </a:xfrm>
          <a:prstGeom prst="rect">
            <a:avLst/>
          </a:prstGeom>
          <a:ln w="0">
            <a:noFill/>
          </a:ln>
        </p:spPr>
      </p:pic>
      <p:pic>
        <p:nvPicPr>
          <p:cNvPr id="442" name="Picture 2" descr=""/>
          <p:cNvPicPr/>
          <p:nvPr/>
        </p:nvPicPr>
        <p:blipFill>
          <a:blip r:embed="rId2"/>
          <a:stretch/>
        </p:blipFill>
        <p:spPr>
          <a:xfrm>
            <a:off x="4857840" y="1143000"/>
            <a:ext cx="3929040" cy="5213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6840" y="1523880"/>
            <a:ext cx="4329000" cy="45720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етр I положил начало унификации одежды для</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военных, но не успел её  закончить - помешала длившаяся более 20-ти лет</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Северная война, то весь XVIII век русская военная форма менялась, согласно</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анонам, им заложенным.</a:t>
            </a:r>
            <a:endParaRPr b="0" lang="en-US" sz="2600" spc="-1" strike="noStrike">
              <a:solidFill>
                <a:srgbClr val="ffffff"/>
              </a:solidFill>
              <a:latin typeface="Constantia"/>
            </a:endParaRPr>
          </a:p>
        </p:txBody>
      </p:sp>
      <p:pic>
        <p:nvPicPr>
          <p:cNvPr id="444" name="Заголовок 2" descr=""/>
          <p:cNvPicPr/>
          <p:nvPr/>
        </p:nvPicPr>
        <p:blipFill>
          <a:blip r:embed="rId1"/>
          <a:stretch/>
        </p:blipFill>
        <p:spPr>
          <a:xfrm>
            <a:off x="450720" y="146160"/>
            <a:ext cx="8242560" cy="933480"/>
          </a:xfrm>
          <a:prstGeom prst="rect">
            <a:avLst/>
          </a:prstGeom>
          <a:ln w="0">
            <a:noFill/>
          </a:ln>
        </p:spPr>
      </p:pic>
      <p:pic>
        <p:nvPicPr>
          <p:cNvPr id="445" name="Picture 2" descr=""/>
          <p:cNvPicPr/>
          <p:nvPr/>
        </p:nvPicPr>
        <p:blipFill>
          <a:blip r:embed="rId2"/>
          <a:stretch/>
        </p:blipFill>
        <p:spPr>
          <a:xfrm>
            <a:off x="5072040" y="1214280"/>
            <a:ext cx="3408480" cy="5000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6840" y="1523880"/>
            <a:ext cx="4329000" cy="457200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инейная  пехота (полки Л-гв. Преображенский, Семеновский, Измайловский, Литовский, гренадерские и пехотные) была одета в темно-зеленые двубортные закрытые мундиры с фалдами и со стоячим воротником.</a:t>
            </a:r>
            <a:endParaRPr b="0" lang="en-US" sz="2600" spc="-1" strike="noStrike">
              <a:solidFill>
                <a:srgbClr val="ffffff"/>
              </a:solidFill>
              <a:latin typeface="Constantia"/>
            </a:endParaRPr>
          </a:p>
        </p:txBody>
      </p:sp>
      <p:pic>
        <p:nvPicPr>
          <p:cNvPr id="447" name="Заголовок 2" descr=""/>
          <p:cNvPicPr/>
          <p:nvPr/>
        </p:nvPicPr>
        <p:blipFill>
          <a:blip r:embed="rId1"/>
          <a:stretch/>
        </p:blipFill>
        <p:spPr>
          <a:xfrm>
            <a:off x="493560" y="-146160"/>
            <a:ext cx="8242560" cy="1359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06:47:26Z</dcterms:created>
  <dc:creator>Евгений</dc:creator>
  <dc:description/>
  <dc:language>en-US</dc:language>
  <cp:lastModifiedBy>Учитель</cp:lastModifiedBy>
  <dcterms:modified xsi:type="dcterms:W3CDTF">2015-01-27T09:05:20Z</dcterms:modified>
  <cp:revision>18</cp:revision>
  <dc:subject/>
  <dc:title>Литературно-музыкальная композиция «День защитника Отечества»</dc:title>
</cp:coreProperties>
</file>