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7AC-D9EE-4B69-9915-89580A44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C3C-215B-41D5-BAB2-508F495D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4F5-F3FC-421A-B2EF-2B6FCD8D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844-14F7-43C0-8922-BE3104DE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3B3A-0BE5-43B8-9C8B-5CC7AC19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91E0-0231-4B4C-9CCA-2C29A149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3015-809B-4BF5-B3A8-54C1F2E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9234-AB44-4CF2-B7DC-0B45321C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0B1C-6478-41CA-A975-89FE66B0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8DF6-B01C-44A8-87F9-FFDC2171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FAF5-7CCF-49C2-B6B6-7C06379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D54-4128-4892-9C6B-A191C47E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FAD2-A349-4422-ABA5-5E98DD51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CB88-E828-40FA-A345-878D1FA8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1419-9789-4576-8DB1-953C728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EBF3-8275-476E-9CD6-AC6A91E0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CE0D-00D6-41B4-ADA7-1CF9EF51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762-4C4A-47A8-BCDC-749D0544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309-0362-48B6-8D4F-2DDDBCF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035-7A63-40F0-A5D5-DF40C587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9D8-1EB9-4C4A-B3D1-D757FCBA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1D9-1BD3-4978-9520-6A022F8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75C-81DD-457A-820A-0BB5DF7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99D-CAE3-48D7-BC57-88BD3221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E44-2742-4AFA-AC01-837EF0B96A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2CC7-C1E9-4363-8A04-3CC2A900DE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User\Pictures\52169420_5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9328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ahoma"/>
              </a:rPr>
              <a:t>Зимняя прогулка</a:t>
            </a:r>
            <a:br>
              <a:rPr sz="6000"/>
            </a:b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760" y="46479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ачурина Е.М. – учитель начальных классов МБОУ «Кунашакскя СОШ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User\Pictures\sxema001.jpg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348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User\Pictures\stick_figure_skier_skiing_on_the_slopes_0515-1103-0903-0708_SMU.jpg"/>
          <p:cNvPicPr/>
          <p:nvPr/>
        </p:nvPicPr>
        <p:blipFill>
          <a:blip r:embed="rId2"/>
          <a:stretch/>
        </p:blipFill>
        <p:spPr>
          <a:xfrm>
            <a:off x="685800" y="3809880"/>
            <a:ext cx="2390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User\Pictures\52169420_5p.jpg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214200"/>
            <a:ext cx="8181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ahoma"/>
              </a:rPr>
              <a:t>Зимняя прогулка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южетная композиция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пейзаж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 фигурой человека в движ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&amp;Dcy;&amp;iecy;&amp;tcy;&amp;scy;&amp;kcy;&amp;icy;&amp;iecy; &amp;scy;&amp;tcy;&amp;icy;&amp;khcy;&amp;icy; &amp;ocy; &amp;zcy;&amp;icy;&amp;m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Tahoma"/>
              </a:rPr>
              <a:t>Зимняя прогулка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южетная компози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2" descr="C:\Users\User\Pictures\53854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едот Струч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едот Струч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1935 &amp;Fcy;&amp;icy;&amp;gcy;&amp;ucy;&amp;rcy;&amp;icy;&amp;scy;&amp;tcy;&amp;kcy;&amp;acy;. &amp;Bcy;. , &amp;kcy;. 25, 5x19, 3 &amp;Scy;&amp;scy;&amp;khcy;. &amp;Acy;&amp;lcy;&amp;iecy;&amp;kcy;&amp;scy;&amp;acy;&amp;ncy;&amp;dcy;&amp;rcy; &amp;Acy;&amp;lcy;&amp;iecy;&amp;kcy;&amp;scy;&amp;acy;&amp;ncy;&amp;dcy;&amp;rcy;&amp;ocy;&amp;vcy;&amp;icy;&amp;chcy; &amp;Dcy;&amp;iecy;&amp;jcy;&amp;ncy;&amp;iecy;&amp;kcy;&amp;acy;"/>
          <p:cNvPicPr/>
          <p:nvPr/>
        </p:nvPicPr>
        <p:blipFill>
          <a:blip r:embed="rId1"/>
          <a:stretch/>
        </p:blipFill>
        <p:spPr>
          <a:xfrm>
            <a:off x="0" y="533520"/>
            <a:ext cx="5832360" cy="6324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Александр Дейне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1931 &amp;Lcy;&amp;ycy;&amp;zhcy;&amp;ncy;&amp;icy;&amp;kcy;&amp;icy;. &amp;KHcy;. , &amp;mcy;. 100x124 &amp;Gcy;&amp;Tcy;&amp;Gcy;. &amp;Acy;&amp;lcy;&amp;iecy;&amp;kcy;&amp;scy;&amp;acy;&amp;ncy;&amp;dcy;&amp;rcy; &amp;Acy;&amp;lcy;&amp;iecy;&amp;kcy;&amp;scy;&amp;acy;&amp;ncy;&amp;dcy;&amp;rcy;&amp;ocy;&amp;vcy;&amp;icy;&amp;chcy; &amp;Dcy;&amp;iecy;&amp;jcy;&amp;ncy;&amp;iecy;&amp;k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&amp;KHcy;&amp;ucy;&amp;dcy;&amp;ocy;&amp;zhcy;&amp;ncy;&amp;icy;&amp;kcy; &amp;Acy;&amp;lcy;&amp;iecy;&amp;kcy;&amp;scy;&amp;acy;&amp;ncy;&amp;dcy;&amp;rcy; &amp;Dcy;&amp;iecy;&amp;jcy;&amp;ncy;&amp;iecy;&amp;kcy;&amp;acy;. &amp;Mcy;&amp;ocy;&amp;zcy;&amp;acy;&amp;icy;&amp;kcy;&amp;acy;. &amp;KHcy;&amp;ocy;&amp;kcy;&amp;kcy;&amp;iecy;&amp;icy;&amp;scy;&amp;tcy;&amp;ycy;. 1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4:22:47Z</dcterms:created>
  <dc:creator>леново</dc:creator>
  <dc:description/>
  <dc:language>en-US</dc:language>
  <cp:lastModifiedBy>леново</cp:lastModifiedBy>
  <dcterms:modified xsi:type="dcterms:W3CDTF">2015-01-27T03:46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