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86E-A7DD-4BBC-9ED9-FF7F7F3A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365-A3B1-4BE7-8913-BAF950D8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CC3-FC27-47D2-91A2-53F21BB1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E23-56EB-4754-84E3-5C336BC2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BE63-CD34-420D-B6F0-2940DF98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CED0-4B59-4E12-9D3D-D1ED40FF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385B-23B7-423B-9BBC-0AB215CE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46D3-76B0-4C3E-98EC-3EDABBBB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88B5-BBFF-47EF-89C2-44F8E111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73FB-B02B-4399-B42A-E48F68D5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D7EF-04CF-4A46-B560-6EBB053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F46-659A-4E01-B373-3F8291CB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0F1B-D8D8-4C1E-A18D-F677133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71BB-0663-46ED-BA3A-14976506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30AD-D612-460E-B3A0-522B9B10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DF02-7995-4B31-8E91-EC211BA6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9E6B-9EFC-46C0-86FB-DE12C366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1D4-E69A-4585-BAB8-49C9160B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0C8-9C68-4334-843B-47968C04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072-8696-4D82-BBB6-7618E800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CDD-E03D-422F-883A-F37A257D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B84-B5B2-44F6-B7E7-5C31E57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189-2087-45F6-9D72-2A3BA5ED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D20-6340-4FAD-9A0B-5E559ED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426A-AD96-46D0-B440-B0B7CA695C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9DA9-62E7-445F-A3EC-3F8AC1A113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User\Pictures\52169420_5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9328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ahoma"/>
              </a:rPr>
              <a:t>Зимняя прогулка</a:t>
            </a:r>
            <a:br>
              <a:rPr sz="6000"/>
            </a:b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760" y="46479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рачурина Е.М. – учитель начальных классов МБОУ «Кунашакскя СОШ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User\Pictures\sxema001.jpg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348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User\Pictures\stick_figure_skier_skiing_on_the_slopes_0515-1103-0903-0708_SMU.jpg"/>
          <p:cNvPicPr/>
          <p:nvPr/>
        </p:nvPicPr>
        <p:blipFill>
          <a:blip r:embed="rId2"/>
          <a:stretch/>
        </p:blipFill>
        <p:spPr>
          <a:xfrm>
            <a:off x="685800" y="3809880"/>
            <a:ext cx="23907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User\Pictures\52169420_5p.jpg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214200"/>
            <a:ext cx="8181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ahoma"/>
              </a:rPr>
              <a:t>Зимняя прогулка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южетная композиция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пейзаж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 фигурой человека в движе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&amp;Dcy;&amp;iecy;&amp;tcy;&amp;scy;&amp;kcy;&amp;icy;&amp;iecy; &amp;scy;&amp;tcy;&amp;icy;&amp;khcy;&amp;icy; &amp;ocy; &amp;zcy;&amp;icy;&amp;m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Tahoma"/>
              </a:rPr>
              <a:t>Зимняя прогулка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южетная компози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2" descr="C:\Users\User\Pictures\53854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едот Струч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едот Струч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1935 &amp;Fcy;&amp;icy;&amp;gcy;&amp;ucy;&amp;rcy;&amp;icy;&amp;scy;&amp;tcy;&amp;kcy;&amp;acy;. &amp;Bcy;. , &amp;kcy;. 25, 5x19, 3 &amp;Scy;&amp;scy;&amp;khcy;. &amp;Acy;&amp;lcy;&amp;iecy;&amp;kcy;&amp;scy;&amp;acy;&amp;ncy;&amp;dcy;&amp;rcy; &amp;Acy;&amp;lcy;&amp;iecy;&amp;kcy;&amp;scy;&amp;acy;&amp;ncy;&amp;dcy;&amp;rcy;&amp;ocy;&amp;vcy;&amp;icy;&amp;chcy; &amp;Dcy;&amp;iecy;&amp;jcy;&amp;ncy;&amp;iecy;&amp;kcy;&amp;acy;"/>
          <p:cNvPicPr/>
          <p:nvPr/>
        </p:nvPicPr>
        <p:blipFill>
          <a:blip r:embed="rId1"/>
          <a:stretch/>
        </p:blipFill>
        <p:spPr>
          <a:xfrm>
            <a:off x="0" y="533520"/>
            <a:ext cx="5832360" cy="6324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Александр Дейне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1931 &amp;Lcy;&amp;ycy;&amp;zhcy;&amp;ncy;&amp;icy;&amp;kcy;&amp;icy;. &amp;KHcy;. , &amp;mcy;. 100x124 &amp;Gcy;&amp;Tcy;&amp;Gcy;. &amp;Acy;&amp;lcy;&amp;iecy;&amp;kcy;&amp;scy;&amp;acy;&amp;ncy;&amp;dcy;&amp;rcy; &amp;Acy;&amp;lcy;&amp;iecy;&amp;kcy;&amp;scy;&amp;acy;&amp;ncy;&amp;dcy;&amp;rcy;&amp;ocy;&amp;vcy;&amp;icy;&amp;chcy; &amp;Dcy;&amp;iecy;&amp;jcy;&amp;ncy;&amp;iecy;&amp;k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&amp;KHcy;&amp;ucy;&amp;dcy;&amp;ocy;&amp;zhcy;&amp;ncy;&amp;icy;&amp;kcy; &amp;Acy;&amp;lcy;&amp;iecy;&amp;kcy;&amp;scy;&amp;acy;&amp;ncy;&amp;dcy;&amp;rcy; &amp;Dcy;&amp;iecy;&amp;jcy;&amp;ncy;&amp;iecy;&amp;kcy;&amp;acy;. &amp;Mcy;&amp;ocy;&amp;zcy;&amp;acy;&amp;icy;&amp;kcy;&amp;acy;. &amp;KHcy;&amp;ocy;&amp;kcy;&amp;kcy;&amp;iecy;&amp;icy;&amp;scy;&amp;tcy;&amp;ycy;. 1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4:22:47Z</dcterms:created>
  <dc:creator>леново</dc:creator>
  <dc:description/>
  <dc:language>en-US</dc:language>
  <cp:lastModifiedBy>леново</cp:lastModifiedBy>
  <dcterms:modified xsi:type="dcterms:W3CDTF">2015-01-27T03:46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