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4.gif" ContentType="image/gif"/>
  <Override PartName="/ppt/media/image23.jpeg" ContentType="image/jpeg"/>
  <Override PartName="/ppt/media/image52.wmf" ContentType="image/x-wmf"/>
  <Override PartName="/ppt/media/image20.gif" ContentType="image/gif"/>
  <Override PartName="/ppt/media/image18.gif" ContentType="image/gif"/>
  <Override PartName="/ppt/media/image14.wmf" ContentType="image/x-wmf"/>
  <Override PartName="/ppt/media/image17.gif" ContentType="image/gif"/>
  <Override PartName="/ppt/media/image13.wmf" ContentType="image/x-wmf"/>
  <Override PartName="/ppt/media/image16.gif" ContentType="image/gif"/>
  <Override PartName="/ppt/media/image15.gif" ContentType="image/gif"/>
  <Override PartName="/ppt/media/image5.jpeg" ContentType="image/jpeg"/>
  <Override PartName="/ppt/media/image26.gif" ContentType="image/gif"/>
  <Override PartName="/ppt/media/image21.gif" ContentType="image/gif"/>
  <Override PartName="/ppt/media/image19.gif" ContentType="image/gif"/>
  <Override PartName="/ppt/media/image41.jpeg" ContentType="image/jpeg"/>
  <Override PartName="/ppt/media/image25.jpeg" ContentType="image/jpeg"/>
  <Override PartName="/ppt/media/image22.gif" ContentType="image/gif"/>
  <Override PartName="/ppt/media/image10.wmf" ContentType="image/x-wmf"/>
  <Override PartName="/ppt/media/image27.wmf" ContentType="image/x-wmf"/>
  <Override PartName="/ppt/media/image4.wmf" ContentType="image/x-wmf"/>
  <Override PartName="/ppt/media/image9.wmf" ContentType="image/x-wmf"/>
  <Override PartName="/ppt/media/image11.gif" ContentType="image/gif"/>
  <Override PartName="/ppt/media/image28.wmf" ContentType="image/x-wmf"/>
  <Override PartName="/ppt/media/image3.jpeg" ContentType="image/jpeg"/>
  <Override PartName="/ppt/media/image37.jpeg" ContentType="image/jpeg"/>
  <Override PartName="/ppt/media/image44.jpeg" ContentType="image/jpeg"/>
  <Override PartName="/ppt/media/image34.png" ContentType="image/png"/>
  <Override PartName="/ppt/media/image45.jpeg" ContentType="image/jpeg"/>
  <Override PartName="/ppt/media/image39.jpeg" ContentType="image/jpeg"/>
  <Override PartName="/ppt/media/image32.wmf" ContentType="image/x-wmf"/>
  <Override PartName="/ppt/media/image7.wmf" ContentType="image/x-wmf"/>
  <Override PartName="/ppt/media/image46.jpeg" ContentType="image/jpeg"/>
  <Override PartName="/ppt/media/image51.gif" ContentType="image/gif"/>
  <Override PartName="/ppt/media/image49.jpeg" ContentType="image/jpeg"/>
  <Override PartName="/ppt/media/image56.wmf" ContentType="image/x-wmf"/>
  <Override PartName="/ppt/media/image50.gif" ContentType="image/gif"/>
  <Override PartName="/ppt/media/image43.png" ContentType="image/png"/>
  <Override PartName="/ppt/media/image53.jpeg" ContentType="image/jpeg"/>
  <Override PartName="/ppt/media/image47.jpeg" ContentType="image/jpeg"/>
  <Override PartName="/ppt/media/image48.jpeg" ContentType="image/jpeg"/>
  <Override PartName="/ppt/media/image55.jpeg" ContentType="image/jpeg"/>
  <Override PartName="/ppt/media/image36.jpeg" ContentType="image/jpeg"/>
  <Override PartName="/ppt/media/image54.gif" ContentType="image/gif"/>
  <Override PartName="/ppt/media/image35.jpeg" ContentType="image/jpeg"/>
  <Override PartName="/ppt/media/image38.jpeg" ContentType="image/jpeg"/>
  <Override PartName="/ppt/media/image31.wmf" ContentType="image/x-wmf"/>
  <Override PartName="/ppt/media/image33.jpeg" ContentType="image/jpeg"/>
  <Override PartName="/ppt/media/image30.wmf" ContentType="image/x-wmf"/>
  <Override PartName="/ppt/media/image6.jpeg" ContentType="image/jpeg"/>
  <Override PartName="/ppt/media/image12.gif" ContentType="image/gif"/>
  <Override PartName="/ppt/media/image2.gif" ContentType="image/gif"/>
  <Override PartName="/ppt/media/image42.jpeg" ContentType="image/jpeg"/>
  <Override PartName="/ppt/media/image40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9CAF-9833-4DE9-A177-0547F75921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C18C-E56F-4D7E-BCF9-9685225F006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40A8-F905-49D6-A3F2-96BF4BC5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198D-F103-4E3C-B7D7-270B962B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B73-305F-41EC-A528-A5ED74BC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2D2-EE9F-45DD-AD2B-0C12A895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5828-613D-406B-A2AA-C6CF5941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BB8D-F190-4B86-8453-CBA7234B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2C1B-7632-4897-BA72-5B0165FB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529D-1DE7-408D-970C-666204F9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1F89-639B-450E-AE52-E2C99C55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FEC1-4308-4D32-BA29-D387F064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89FF-AACF-4241-86E2-7E5FF7D7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3BCF-19DE-4722-AA8B-E6F35D33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9A28-A229-4914-AAF0-B5938093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FB01-6B69-4AD0-8004-4D2029F7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E837-DACD-473C-B839-A746ACF6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CD3F-8C67-44C5-A016-E0130B7F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E6BC-616B-4ABD-9908-B1ECF624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A25-C057-411B-8AC2-1053C8FF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E7DA-1E76-4CC3-9474-EA04E754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95D-06B3-4AFF-996E-B763052D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D22-52F0-4A25-A039-96E3F5D4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3A75-CE49-4AAB-B73D-1356C737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78F-D316-4573-976C-5FF72FB8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6BA8-241E-4912-99A3-EB37F4C3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005A-B37C-4376-963E-BB235C3CBFF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2722-AF95-447B-B7F9-06DB69F945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1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image" Target="../media/image17.gif"/><Relationship Id="rId12" Type="http://schemas.openxmlformats.org/officeDocument/2006/relationships/image" Target="../media/image18.gif"/><Relationship Id="rId13" Type="http://schemas.openxmlformats.org/officeDocument/2006/relationships/image" Target="../media/image19.gif"/><Relationship Id="rId14" Type="http://schemas.openxmlformats.org/officeDocument/2006/relationships/image" Target="../media/image20.gi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00" y="-264960"/>
            <a:ext cx="7559640" cy="39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cc00"/>
                </a:solidFill>
                <a:latin typeface="Arial Black"/>
              </a:rPr>
              <a:t>Маршрут           профессионального</a:t>
            </a:r>
            <a:br>
              <a:rPr sz="3600"/>
            </a:br>
            <a:r>
              <a:rPr b="1" i="1" lang="ru-RU" sz="3600" spc="-1" strike="noStrike">
                <a:solidFill>
                  <a:srgbClr val="ffcc00"/>
                </a:solidFill>
                <a:latin typeface="Arial Black"/>
              </a:rPr>
              <a:t>самоопределения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9" name="Picture 9" descr="File0380"/>
          <p:cNvPicPr/>
          <p:nvPr/>
        </p:nvPicPr>
        <p:blipFill>
          <a:blip r:embed="rId1"/>
          <a:stretch/>
        </p:blipFill>
        <p:spPr>
          <a:xfrm>
            <a:off x="6372360" y="3284640"/>
            <a:ext cx="2447640" cy="3311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0" name="WordArt 12"/>
          <p:cNvSpPr txBox="1"/>
          <p:nvPr/>
        </p:nvSpPr>
        <p:spPr>
          <a:xfrm>
            <a:off x="539640" y="2852640"/>
            <a:ext cx="5184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ЕМ БЫТЬ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WordArt 13"/>
          <p:cNvSpPr txBox="1"/>
          <p:nvPr/>
        </p:nvSpPr>
        <p:spPr>
          <a:xfrm>
            <a:off x="611280" y="4797360"/>
            <a:ext cx="52704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МИРЕ ПРОФЕССИЙ?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cc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WordArt 14"/>
          <p:cNvSpPr txBox="1"/>
          <p:nvPr/>
        </p:nvSpPr>
        <p:spPr>
          <a:xfrm>
            <a:off x="1547640" y="6093000"/>
            <a:ext cx="45720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p:transition advTm="16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00000" y="333000"/>
            <a:ext cx="5832720" cy="591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ать профессиональный мир и познавать самого себ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ить за вас вопрос «КЕМ БЫТЬ?», кроме вас самих не сможет ник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мы можем только  рассказать, как увереннее двигаться по лестнице профессионального успе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7" descr="j0282747"/>
          <p:cNvPicPr/>
          <p:nvPr/>
        </p:nvPicPr>
        <p:blipFill>
          <a:blip r:embed="rId1"/>
          <a:stretch/>
        </p:blipFill>
        <p:spPr>
          <a:xfrm>
            <a:off x="7020000" y="2781360"/>
            <a:ext cx="1655640" cy="237636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520" y="1197000"/>
            <a:ext cx="72388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Секреты выбора профессии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676520" y="3933720"/>
            <a:ext cx="64008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надо учитывать при выборе професс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14"/>
          <p:cNvPicPr/>
          <p:nvPr/>
        </p:nvPicPr>
        <p:blipFill>
          <a:blip r:embed="rId1"/>
          <a:stretch/>
        </p:blipFill>
        <p:spPr>
          <a:xfrm>
            <a:off x="7093080" y="4869000"/>
            <a:ext cx="1619280" cy="165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Diagram 6"/>
          <p:cNvGrpSpPr/>
          <p:nvPr/>
        </p:nvGrpSpPr>
        <p:grpSpPr>
          <a:xfrm>
            <a:off x="1985400" y="417240"/>
            <a:ext cx="6109560" cy="5401800"/>
            <a:chOff x="1985400" y="417240"/>
            <a:chExt cx="6109560" cy="5401800"/>
          </a:xfrm>
        </p:grpSpPr>
        <p:sp>
          <p:nvSpPr>
            <p:cNvPr id="209" name="_s1028"/>
            <p:cNvSpPr/>
            <p:nvPr/>
          </p:nvSpPr>
          <p:spPr>
            <a:xfrm flipV="1">
              <a:off x="4276800" y="416520"/>
              <a:ext cx="1527120" cy="1350360"/>
            </a:xfrm>
            <a:custGeom>
              <a:avLst/>
              <a:gdLst>
                <a:gd name="textAreaLeft" fmla="*/ 547920 w 1527120"/>
                <a:gd name="textAreaRight" fmla="*/ 979200 w 1527120"/>
                <a:gd name="textAreaTop" fmla="*/ 484560 h 1350360"/>
                <a:gd name="textAreaBottom" fmla="*/ 865800 h 13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_s1029"/>
            <p:cNvSpPr/>
            <p:nvPr/>
          </p:nvSpPr>
          <p:spPr>
            <a:xfrm flipV="1">
              <a:off x="3512880" y="1766880"/>
              <a:ext cx="3054600" cy="1350360"/>
            </a:xfrm>
            <a:custGeom>
              <a:avLst/>
              <a:gdLst>
                <a:gd name="textAreaLeft" fmla="*/ 671760 w 3054600"/>
                <a:gd name="textAreaRight" fmla="*/ 2382840 w 3054600"/>
                <a:gd name="textAreaTop" fmla="*/ 297000 h 1350360"/>
                <a:gd name="textAreaBottom" fmla="*/ 1053360 h 13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cc00"/>
                  </a:solidFill>
                  <a:latin typeface="Arial"/>
                </a:rPr>
                <a:t>ПОСТРОЙ</a:t>
              </a:r>
              <a:r>
                <a:rPr b="1" lang="ru-RU" sz="1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план будущей профессионально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карьер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_s1030"/>
            <p:cNvSpPr/>
            <p:nvPr/>
          </p:nvSpPr>
          <p:spPr>
            <a:xfrm flipV="1">
              <a:off x="2749320" y="3117960"/>
              <a:ext cx="4582080" cy="1350360"/>
            </a:xfrm>
            <a:custGeom>
              <a:avLst/>
              <a:gdLst>
                <a:gd name="textAreaLeft" fmla="*/ 795240 w 4582080"/>
                <a:gd name="textAreaRight" fmla="*/ 3786840 w 4582080"/>
                <a:gd name="textAreaTop" fmla="*/ 234360 h 1350360"/>
                <a:gd name="textAreaBottom" fmla="*/ 1116000 h 13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cc00"/>
                  </a:solidFill>
                  <a:latin typeface="Arial"/>
                </a:rPr>
                <a:t>ОБСУДИ СВОЙ ВЫБО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66"/>
                  </a:solidFill>
                  <a:latin typeface="Arial"/>
                </a:rPr>
                <a:t>с друзьями и взрослы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cc00"/>
                  </a:solidFill>
                  <a:latin typeface="Arial"/>
                </a:rPr>
                <a:t>ВЫБЕРИ </a:t>
              </a:r>
              <a:r>
                <a:rPr b="1" lang="ru-RU" sz="12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66"/>
                  </a:solidFill>
                  <a:latin typeface="Arial"/>
                </a:rPr>
                <a:t>учебное заведение, узнай условия поступле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cc00"/>
                  </a:solidFill>
                  <a:latin typeface="Arial"/>
                </a:rPr>
                <a:t>ИЗВЛЕКИ</a:t>
              </a:r>
              <a:r>
                <a:rPr b="1" lang="ru-RU" sz="1200" spc="-1" strike="noStrike">
                  <a:solidFill>
                    <a:srgbClr val="ffcc00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000066"/>
                  </a:solidFill>
                  <a:latin typeface="Arial"/>
                </a:rPr>
                <a:t>пользу из полученных знани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_s1031"/>
            <p:cNvSpPr/>
            <p:nvPr/>
          </p:nvSpPr>
          <p:spPr>
            <a:xfrm flipV="1">
              <a:off x="1985400" y="4467960"/>
              <a:ext cx="6109560" cy="1350360"/>
            </a:xfrm>
            <a:custGeom>
              <a:avLst/>
              <a:gdLst>
                <a:gd name="textAreaLeft" fmla="*/ 919080 w 6109560"/>
                <a:gd name="textAreaRight" fmla="*/ 5190480 w 6109560"/>
                <a:gd name="textAreaTop" fmla="*/ 203040 h 1350360"/>
                <a:gd name="textAreaBottom" fmla="*/ 1147320 h 13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cc00"/>
                  </a:solidFill>
                  <a:latin typeface="Arial"/>
                </a:rPr>
                <a:t>ИЗУЧИ </a:t>
              </a:r>
              <a:r>
                <a:rPr b="0" lang="ru-RU" sz="14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рынок труда, его потребност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cc00"/>
                  </a:solidFill>
                  <a:latin typeface="Arial"/>
                </a:rPr>
                <a:t>ОПРЕДЕЛИ</a:t>
              </a:r>
              <a:r>
                <a:rPr b="1" lang="ru-RU" sz="14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свои способности, умения, талант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cc00"/>
                  </a:solidFill>
                  <a:latin typeface="Arial"/>
                </a:rPr>
                <a:t>СОСТАВЬ </a:t>
              </a:r>
              <a:r>
                <a:rPr b="1" lang="ru-RU" sz="1400" spc="-1" strike="noStrike">
                  <a:solidFill>
                    <a:srgbClr val="ffff00"/>
                  </a:solidFill>
                  <a:latin typeface="Arial"/>
                </a:rPr>
                <a:t>     </a:t>
              </a: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список интересных тебе професс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WordArt 12"/>
          <p:cNvSpPr txBox="1"/>
          <p:nvPr/>
        </p:nvSpPr>
        <p:spPr>
          <a:xfrm>
            <a:off x="684360" y="836640"/>
            <a:ext cx="78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естница профессионального успеха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4" name="Picture 13" descr="j0303472"/>
          <p:cNvPicPr/>
          <p:nvPr/>
        </p:nvPicPr>
        <p:blipFill>
          <a:blip r:embed="rId1"/>
          <a:stretch/>
        </p:blipFill>
        <p:spPr>
          <a:xfrm>
            <a:off x="611280" y="3068640"/>
            <a:ext cx="1873080" cy="3241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j0230824"/>
          <p:cNvPicPr/>
          <p:nvPr/>
        </p:nvPicPr>
        <p:blipFill>
          <a:blip r:embed="rId2"/>
          <a:stretch/>
        </p:blipFill>
        <p:spPr>
          <a:xfrm>
            <a:off x="7308720" y="2060640"/>
            <a:ext cx="1525680" cy="161136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843280" y="765000"/>
            <a:ext cx="6121440" cy="563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МОЖНО ЛИ ПРЕДСКАЗА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ЗАРАН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КОМУ БУД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СОПУТСТВОВА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УСПЕ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j0285410"/>
          <p:cNvPicPr/>
          <p:nvPr/>
        </p:nvPicPr>
        <p:blipFill>
          <a:blip r:embed="rId1"/>
          <a:stretch/>
        </p:blipFill>
        <p:spPr>
          <a:xfrm>
            <a:off x="324000" y="3068640"/>
            <a:ext cx="3605040" cy="352908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4360" y="404280"/>
            <a:ext cx="4319280" cy="58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годня психологи склоняются к тому, что фортуна вовсе уж не так слепа и дарить свои милости предпочитает тем, кто обладает определённым набором черт характера и прежде всего способностью адаптироваться к различным ситуация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j0149481"/>
          <p:cNvPicPr/>
          <p:nvPr/>
        </p:nvPicPr>
        <p:blipFill>
          <a:blip r:embed="rId1"/>
          <a:stretch/>
        </p:blipFill>
        <p:spPr>
          <a:xfrm rot="1464600">
            <a:off x="4932000" y="1484280"/>
            <a:ext cx="3625920" cy="347040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1040"/>
            <a:ext cx="7772400" cy="192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6868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делать  правильный выбор – знач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йти професси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тора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4">
            <a:hlinkClick r:id="rId1" action="ppaction://hlinksldjump"/>
          </p:cNvPr>
          <p:cNvSpPr/>
          <p:nvPr/>
        </p:nvSpPr>
        <p:spPr>
          <a:xfrm>
            <a:off x="611280" y="3500280"/>
            <a:ext cx="2665440" cy="1944720"/>
          </a:xfrm>
          <a:prstGeom prst="ellipse">
            <a:avLst/>
          </a:prstGeom>
          <a:solidFill>
            <a:srgbClr val="9ce157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ОЧ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интересна и привлекатель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5">
            <a:hlinkClick r:id="rId2" action="ppaction://hlinksldjump"/>
          </p:cNvPr>
          <p:cNvSpPr/>
          <p:nvPr/>
        </p:nvSpPr>
        <p:spPr>
          <a:xfrm>
            <a:off x="3203640" y="4581360"/>
            <a:ext cx="2952720" cy="149076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имеет спрос на рынке тру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6">
            <a:hlinkClick r:id="rId3" action="ppaction://hlinksldjump"/>
          </p:cNvPr>
          <p:cNvSpPr/>
          <p:nvPr/>
        </p:nvSpPr>
        <p:spPr>
          <a:xfrm>
            <a:off x="5940360" y="3068640"/>
            <a:ext cx="2211480" cy="180036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О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доступна и посиль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7"/>
          <p:cNvSpPr/>
          <p:nvPr/>
        </p:nvSpPr>
        <p:spPr>
          <a:xfrm flipV="1">
            <a:off x="2050920" y="2637000"/>
            <a:ext cx="1944720" cy="86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8"/>
          <p:cNvSpPr/>
          <p:nvPr/>
        </p:nvSpPr>
        <p:spPr>
          <a:xfrm flipV="1">
            <a:off x="3995640" y="2491920"/>
            <a:ext cx="0" cy="273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9"/>
          <p:cNvSpPr/>
          <p:nvPr/>
        </p:nvSpPr>
        <p:spPr>
          <a:xfrm flipH="1" flipV="1">
            <a:off x="3924360" y="2565360"/>
            <a:ext cx="223200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0" descr="j0300840"/>
          <p:cNvPicPr/>
          <p:nvPr/>
        </p:nvPicPr>
        <p:blipFill>
          <a:blip r:embed="rId4"/>
          <a:stretch/>
        </p:blipFill>
        <p:spPr>
          <a:xfrm>
            <a:off x="2735280" y="2004840"/>
            <a:ext cx="2652840" cy="1916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/>
          <p:cNvSpPr/>
          <p:nvPr/>
        </p:nvSpPr>
        <p:spPr>
          <a:xfrm>
            <a:off x="2484360" y="1268280"/>
            <a:ext cx="4896000" cy="3384720"/>
          </a:xfrm>
          <a:prstGeom prst="triangle">
            <a:avLst>
              <a:gd name="adj" fmla="val 48079"/>
            </a:avLst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3419640" y="2421000"/>
            <a:ext cx="287964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Форму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выб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офесс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140360" y="476280"/>
            <a:ext cx="158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хоч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5508720" y="836640"/>
            <a:ext cx="1224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 flipH="1">
            <a:off x="2700360" y="836640"/>
            <a:ext cx="1295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7"/>
          <p:cNvGrpSpPr/>
          <p:nvPr/>
        </p:nvGrpSpPr>
        <p:grpSpPr>
          <a:xfrm>
            <a:off x="757080" y="300960"/>
            <a:ext cx="8040600" cy="1504800"/>
            <a:chOff x="757080" y="300960"/>
            <a:chExt cx="8040600" cy="1504800"/>
          </a:xfrm>
        </p:grpSpPr>
        <p:sp>
          <p:nvSpPr>
            <p:cNvPr id="235" name="Rectangle 8"/>
            <p:cNvSpPr/>
            <p:nvPr/>
          </p:nvSpPr>
          <p:spPr>
            <a:xfrm rot="19920000">
              <a:off x="755280" y="764640"/>
              <a:ext cx="2106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Arial"/>
                </a:rPr>
                <a:t>интересы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 rot="1620000">
              <a:off x="6687720" y="836280"/>
              <a:ext cx="2106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Arial"/>
                </a:rPr>
                <a:t>склонност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Group 10"/>
          <p:cNvGrpSpPr/>
          <p:nvPr/>
        </p:nvGrpSpPr>
        <p:grpSpPr>
          <a:xfrm>
            <a:off x="1116000" y="4005360"/>
            <a:ext cx="3022560" cy="2016000"/>
            <a:chOff x="1116000" y="4005360"/>
            <a:chExt cx="3022560" cy="2016000"/>
          </a:xfrm>
        </p:grpSpPr>
        <p:sp>
          <p:nvSpPr>
            <p:cNvPr id="238" name="Rectangle 11"/>
            <p:cNvSpPr/>
            <p:nvPr/>
          </p:nvSpPr>
          <p:spPr>
            <a:xfrm>
              <a:off x="1116000" y="4654440"/>
              <a:ext cx="1584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могу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2"/>
            <p:cNvSpPr/>
            <p:nvPr/>
          </p:nvSpPr>
          <p:spPr>
            <a:xfrm>
              <a:off x="2555640" y="5157720"/>
              <a:ext cx="1582920" cy="432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3"/>
            <p:cNvSpPr/>
            <p:nvPr/>
          </p:nvSpPr>
          <p:spPr>
            <a:xfrm flipH="1" flipV="1">
              <a:off x="1619280" y="4005360"/>
              <a:ext cx="71280" cy="720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4"/>
            <p:cNvSpPr/>
            <p:nvPr/>
          </p:nvSpPr>
          <p:spPr>
            <a:xfrm flipH="1">
              <a:off x="1404720" y="5373720"/>
              <a:ext cx="287280" cy="647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Group 19"/>
          <p:cNvGrpSpPr/>
          <p:nvPr/>
        </p:nvGrpSpPr>
        <p:grpSpPr>
          <a:xfrm>
            <a:off x="7559640" y="4581360"/>
            <a:ext cx="1584360" cy="1152720"/>
            <a:chOff x="7559640" y="4581360"/>
            <a:chExt cx="1584360" cy="1152720"/>
          </a:xfrm>
        </p:grpSpPr>
        <p:sp>
          <p:nvSpPr>
            <p:cNvPr id="243" name="Rectangle 20"/>
            <p:cNvSpPr/>
            <p:nvPr/>
          </p:nvSpPr>
          <p:spPr>
            <a:xfrm>
              <a:off x="7559640" y="4581360"/>
              <a:ext cx="1584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cc33"/>
                  </a:solidFill>
                  <a:latin typeface="Arial"/>
                </a:rPr>
                <a:t>надо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21"/>
            <p:cNvSpPr/>
            <p:nvPr/>
          </p:nvSpPr>
          <p:spPr>
            <a:xfrm>
              <a:off x="8172360" y="5229360"/>
              <a:ext cx="0" cy="504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Rectangle 22"/>
          <p:cNvSpPr/>
          <p:nvPr/>
        </p:nvSpPr>
        <p:spPr>
          <a:xfrm>
            <a:off x="6877080" y="5911920"/>
            <a:ext cx="26272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потребности рынка тру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3"/>
          <p:cNvSpPr/>
          <p:nvPr/>
        </p:nvSpPr>
        <p:spPr>
          <a:xfrm rot="21270000">
            <a:off x="179280" y="2492280"/>
            <a:ext cx="263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озможность получения образ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4211640" y="5373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пособ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5"/>
          <p:cNvSpPr/>
          <p:nvPr/>
        </p:nvSpPr>
        <p:spPr>
          <a:xfrm>
            <a:off x="179280" y="616572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остояние здоров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8" descr="j0231557"/>
          <p:cNvPicPr/>
          <p:nvPr/>
        </p:nvPicPr>
        <p:blipFill>
          <a:blip r:embed="rId1"/>
          <a:stretch/>
        </p:blipFill>
        <p:spPr>
          <a:xfrm>
            <a:off x="2556000" y="981000"/>
            <a:ext cx="1604880" cy="172728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604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 Black"/>
              </a:rPr>
              <a:t>УЗНАЙ ВСЕ О ПРОФЕССИИ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5400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Предмет, цел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условия тру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Пути получ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профе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Медицинск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противопоказ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Соотнеси себ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с требованиями     выбранной профе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j0230545"/>
          <p:cNvPicPr/>
          <p:nvPr/>
        </p:nvPicPr>
        <p:blipFill>
          <a:blip r:embed="rId5"/>
          <a:stretch/>
        </p:blipFill>
        <p:spPr>
          <a:xfrm>
            <a:off x="5435640" y="1773360"/>
            <a:ext cx="2805120" cy="4187880"/>
          </a:xfrm>
          <a:prstGeom prst="rect">
            <a:avLst/>
          </a:prstGeom>
          <a:ln w="0">
            <a:noFill/>
          </a:ln>
        </p:spPr>
      </p:pic>
    </p:spTree>
  </p:cSld>
  <p:transition advTm="16000">
    <p:wheel spokes="8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5904000" cy="57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годня именно тот идёт в ногу с судьбой, кто упорно утверждает свою личность ; способен налаживать бесконфликтное взаимодействие с окружающими, физически вынослив, обладает особой гибкостью и незаурядной способностью убеждать друг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7" descr="53946"/>
          <p:cNvPicPr/>
          <p:nvPr/>
        </p:nvPicPr>
        <p:blipFill>
          <a:blip r:embed="rId1"/>
          <a:stretch/>
        </p:blipFill>
        <p:spPr>
          <a:xfrm>
            <a:off x="6732720" y="3860640"/>
            <a:ext cx="2160360" cy="200052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676520" y="549000"/>
            <a:ext cx="6400800" cy="57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Ь     СЕБЯ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6" descr="30603"/>
          <p:cNvPicPr/>
          <p:nvPr/>
        </p:nvPicPr>
        <p:blipFill>
          <a:blip r:embed="rId1"/>
          <a:stretch/>
        </p:blipFill>
        <p:spPr>
          <a:xfrm>
            <a:off x="3348000" y="260280"/>
            <a:ext cx="2881440" cy="2090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File0357"/>
          <p:cNvPicPr/>
          <p:nvPr/>
        </p:nvPicPr>
        <p:blipFill>
          <a:blip r:embed="rId2"/>
          <a:stretch/>
        </p:blipFill>
        <p:spPr>
          <a:xfrm>
            <a:off x="2700360" y="4005360"/>
            <a:ext cx="4321080" cy="259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16000">
    <p:cover dir="d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AMCONFUS"/>
          <p:cNvPicPr/>
          <p:nvPr/>
        </p:nvPicPr>
        <p:blipFill>
          <a:blip r:embed="rId1"/>
          <a:stretch/>
        </p:blipFill>
        <p:spPr>
          <a:xfrm>
            <a:off x="3857760" y="1820880"/>
            <a:ext cx="1317600" cy="290844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3"/>
          <p:cNvGrpSpPr/>
          <p:nvPr/>
        </p:nvGrpSpPr>
        <p:grpSpPr>
          <a:xfrm>
            <a:off x="1676520" y="533520"/>
            <a:ext cx="2420640" cy="1657080"/>
            <a:chOff x="1676520" y="533520"/>
            <a:chExt cx="2420640" cy="1657080"/>
          </a:xfrm>
        </p:grpSpPr>
        <p:sp>
          <p:nvSpPr>
            <p:cNvPr id="155" name="Text Box 4"/>
            <p:cNvSpPr/>
            <p:nvPr/>
          </p:nvSpPr>
          <p:spPr>
            <a:xfrm>
              <a:off x="1676520" y="533520"/>
              <a:ext cx="2420640" cy="15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9900"/>
                  </a:solidFill>
                  <a:latin typeface="Times New Roman"/>
                </a:rPr>
                <a:t>Кто Я?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5"/>
            <p:cNvSpPr/>
            <p:nvPr/>
          </p:nvSpPr>
          <p:spPr>
            <a:xfrm>
              <a:off x="3262320" y="1498680"/>
              <a:ext cx="595440" cy="691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Group 6"/>
          <p:cNvGrpSpPr/>
          <p:nvPr/>
        </p:nvGrpSpPr>
        <p:grpSpPr>
          <a:xfrm>
            <a:off x="4984560" y="685800"/>
            <a:ext cx="3981600" cy="1677960"/>
            <a:chOff x="4984560" y="685800"/>
            <a:chExt cx="3981600" cy="1677960"/>
          </a:xfrm>
        </p:grpSpPr>
        <p:sp>
          <p:nvSpPr>
            <p:cNvPr id="158" name="Text Box 7"/>
            <p:cNvSpPr/>
            <p:nvPr/>
          </p:nvSpPr>
          <p:spPr>
            <a:xfrm>
              <a:off x="5486400" y="685800"/>
              <a:ext cx="3479760" cy="15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00"/>
                  </a:solidFill>
                  <a:latin typeface="Times New Roman"/>
                </a:rPr>
                <a:t>С кем Я?</a:t>
              </a: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4984560" y="1498680"/>
              <a:ext cx="580680" cy="865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9"/>
          <p:cNvGrpSpPr/>
          <p:nvPr/>
        </p:nvGrpSpPr>
        <p:grpSpPr>
          <a:xfrm>
            <a:off x="609480" y="3768840"/>
            <a:ext cx="3438360" cy="1579320"/>
            <a:chOff x="609480" y="3768840"/>
            <a:chExt cx="3438360" cy="1579320"/>
          </a:xfrm>
        </p:grpSpPr>
        <p:sp>
          <p:nvSpPr>
            <p:cNvPr id="161" name="Text Box 10"/>
            <p:cNvSpPr/>
            <p:nvPr/>
          </p:nvSpPr>
          <p:spPr>
            <a:xfrm>
              <a:off x="609480" y="3768840"/>
              <a:ext cx="2914920" cy="15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ffff"/>
                  </a:solidFill>
                  <a:latin typeface="Times New Roman"/>
                </a:rPr>
                <a:t>Какой Я?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11"/>
            <p:cNvSpPr/>
            <p:nvPr/>
          </p:nvSpPr>
          <p:spPr>
            <a:xfrm flipH="1">
              <a:off x="3411000" y="4075200"/>
              <a:ext cx="6368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5175360" y="3581280"/>
            <a:ext cx="3968280" cy="1579680"/>
            <a:chOff x="5175360" y="3581280"/>
            <a:chExt cx="3968280" cy="1579680"/>
          </a:xfrm>
        </p:grpSpPr>
        <p:sp>
          <p:nvSpPr>
            <p:cNvPr id="164" name="Text Box 13"/>
            <p:cNvSpPr/>
            <p:nvPr/>
          </p:nvSpPr>
          <p:spPr>
            <a:xfrm>
              <a:off x="6104880" y="3581280"/>
              <a:ext cx="3038760" cy="15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3300"/>
                  </a:solidFill>
                  <a:latin typeface="Times New Roman"/>
                </a:rPr>
                <a:t>Как Я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ru-RU" sz="3600" spc="-1" strike="noStrike">
                  <a:solidFill>
                    <a:srgbClr val="ff3300"/>
                  </a:solidFill>
                  <a:latin typeface="Times New Roman"/>
                </a:rPr>
                <a:t>живу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4"/>
            <p:cNvSpPr/>
            <p:nvPr/>
          </p:nvSpPr>
          <p:spPr>
            <a:xfrm>
              <a:off x="5175360" y="3960720"/>
              <a:ext cx="800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Group 15"/>
          <p:cNvGrpSpPr/>
          <p:nvPr/>
        </p:nvGrpSpPr>
        <p:grpSpPr>
          <a:xfrm>
            <a:off x="3124080" y="4827600"/>
            <a:ext cx="3657600" cy="1639800"/>
            <a:chOff x="3124080" y="4827600"/>
            <a:chExt cx="3657600" cy="1639800"/>
          </a:xfrm>
        </p:grpSpPr>
        <p:sp>
          <p:nvSpPr>
            <p:cNvPr id="167" name="Text Box 16"/>
            <p:cNvSpPr/>
            <p:nvPr/>
          </p:nvSpPr>
          <p:spPr>
            <a:xfrm>
              <a:off x="3124080" y="5562720"/>
              <a:ext cx="365760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ff00"/>
                  </a:solidFill>
                  <a:latin typeface="Times New Roman"/>
                </a:rPr>
                <a:t>Каким Я стану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H="1">
              <a:off x="4647960" y="4827600"/>
              <a:ext cx="19080" cy="73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6000"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676520" y="476280"/>
            <a:ext cx="6783120" cy="577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струкц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Напротив каждого высказывания отметьте цифру, соответствующую степени вашего желания заниматься этим видом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овсе 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жалуй т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ер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вершенно вер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МИР ПРОФЕССИЙ ДЕЛИТСЯ 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3">
            <a:hlinkClick r:id="rId1" action="ppaction://hlinksldjump"/>
          </p:cNvPr>
          <p:cNvSpPr/>
          <p:nvPr/>
        </p:nvSpPr>
        <p:spPr>
          <a:xfrm>
            <a:off x="395280" y="1484280"/>
            <a:ext cx="2133720" cy="1828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Человек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ПРИ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4">
            <a:hlinkClick r:id="rId2" action="ppaction://hlinksldjump"/>
          </p:cNvPr>
          <p:cNvSpPr/>
          <p:nvPr/>
        </p:nvSpPr>
        <p:spPr>
          <a:xfrm>
            <a:off x="611280" y="4149720"/>
            <a:ext cx="3313080" cy="2050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Человек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44"/>
                </a:solidFill>
                <a:latin typeface="Arial Black"/>
              </a:rPr>
              <a:t>ХУДОЖЕСТВЕ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44"/>
                </a:solidFill>
                <a:latin typeface="Arial Black"/>
              </a:rPr>
              <a:t>ОБРА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5">
            <a:hlinkClick r:id="rId3" action="ppaction://hlinksldjump"/>
          </p:cNvPr>
          <p:cNvSpPr/>
          <p:nvPr/>
        </p:nvSpPr>
        <p:spPr>
          <a:xfrm>
            <a:off x="3348000" y="2133720"/>
            <a:ext cx="2133720" cy="1828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Человек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ТЕХ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6">
            <a:hlinkClick r:id="rId4" action="ppaction://hlinksldjump"/>
          </p:cNvPr>
          <p:cNvSpPr/>
          <p:nvPr/>
        </p:nvSpPr>
        <p:spPr>
          <a:xfrm>
            <a:off x="6659640" y="1628640"/>
            <a:ext cx="2133360" cy="1828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Человек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ЧЕЛО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7">
            <a:hlinkClick r:id="rId5" action="ppaction://hlinksldjump"/>
          </p:cNvPr>
          <p:cNvSpPr/>
          <p:nvPr/>
        </p:nvSpPr>
        <p:spPr>
          <a:xfrm>
            <a:off x="5076720" y="4076640"/>
            <a:ext cx="3311640" cy="21225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Человек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ЗНАКОВ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 flipH="1">
            <a:off x="2484000" y="981000"/>
            <a:ext cx="1366920" cy="461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9"/>
          <p:cNvSpPr/>
          <p:nvPr/>
        </p:nvSpPr>
        <p:spPr>
          <a:xfrm flipH="1">
            <a:off x="2195640" y="981000"/>
            <a:ext cx="1728720" cy="3127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4356000" y="981000"/>
            <a:ext cx="71640" cy="1130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>
            <a:off x="4859280" y="981000"/>
            <a:ext cx="2136960" cy="3129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2"/>
          <p:cNvSpPr/>
          <p:nvPr/>
        </p:nvSpPr>
        <p:spPr>
          <a:xfrm>
            <a:off x="3851280" y="98100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>
            <a:off x="4932360" y="981000"/>
            <a:ext cx="1760400" cy="61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15">
            <a:hlinkClick r:id="" action="ppaction://hlinkshowjump?jump=nextslide"/>
          </p:cNvPr>
          <p:cNvSpPr/>
          <p:nvPr/>
        </p:nvSpPr>
        <p:spPr>
          <a:xfrm>
            <a:off x="8459640" y="602136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cover dir="d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5761080" cy="27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Человек – ПРИРОДА</a:t>
            </a: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рофессиональная дея-тельность, связанная  с растениями, животными. 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508720" y="3573000"/>
            <a:ext cx="341928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ОФЕСС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терина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грон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лорист и т. 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820055"/>
          <p:cNvPicPr/>
          <p:nvPr/>
        </p:nvPicPr>
        <p:blipFill>
          <a:blip r:embed="rId4"/>
          <a:stretch/>
        </p:blipFill>
        <p:spPr>
          <a:xfrm>
            <a:off x="468360" y="3141720"/>
            <a:ext cx="4267080" cy="2844720"/>
          </a:xfrm>
          <a:prstGeom prst="rect">
            <a:avLst/>
          </a:prstGeom>
          <a:ln w="9360">
            <a:solidFill>
              <a:srgbClr val="000044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5" name="Picture 5" descr="771008"/>
          <p:cNvPicPr/>
          <p:nvPr/>
        </p:nvPicPr>
        <p:blipFill>
          <a:blip r:embed="rId5"/>
          <a:stretch/>
        </p:blipFill>
        <p:spPr>
          <a:xfrm>
            <a:off x="5584680" y="620640"/>
            <a:ext cx="3380040" cy="2325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6" name="AutoShape 7">
            <a:hlinkClick r:id="" action="ppaction://hlinkshowjump?jump=nextslide"/>
          </p:cNvPr>
          <p:cNvSpPr/>
          <p:nvPr/>
        </p:nvSpPr>
        <p:spPr>
          <a:xfrm>
            <a:off x="8459640" y="602136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cover dir="d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5545080" cy="283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Человек – ТЕХНИКА</a:t>
            </a:r>
            <a:br>
              <a:rPr sz="3200"/>
            </a:b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рофессиональная дея-тельность, связанная  с техникой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292720" y="3428640"/>
            <a:ext cx="38512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ОФЕСС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есарь, токар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адчик, тех -ни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монтник, во -дит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4" descr="799048"/>
          <p:cNvPicPr/>
          <p:nvPr/>
        </p:nvPicPr>
        <p:blipFill>
          <a:blip r:embed="rId4"/>
          <a:stretch/>
        </p:blipFill>
        <p:spPr>
          <a:xfrm>
            <a:off x="1332000" y="2997360"/>
            <a:ext cx="2952720" cy="3697200"/>
          </a:xfrm>
          <a:prstGeom prst="rect">
            <a:avLst/>
          </a:prstGeom>
          <a:ln w="9360">
            <a:solidFill>
              <a:srgbClr val="000044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0" name="Picture 5" descr="813081"/>
          <p:cNvPicPr/>
          <p:nvPr/>
        </p:nvPicPr>
        <p:blipFill>
          <a:blip r:embed="rId5"/>
          <a:stretch/>
        </p:blipFill>
        <p:spPr>
          <a:xfrm>
            <a:off x="5584680" y="692280"/>
            <a:ext cx="3380040" cy="2232000"/>
          </a:xfrm>
          <a:prstGeom prst="rect">
            <a:avLst/>
          </a:prstGeom>
          <a:ln w="9360">
            <a:solidFill>
              <a:srgbClr val="000044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1" name="AutoShape 7">
            <a:hlinkClick r:id="" action="ppaction://hlinkshowjump?jump=nextslide"/>
          </p:cNvPr>
          <p:cNvSpPr/>
          <p:nvPr/>
        </p:nvSpPr>
        <p:spPr>
          <a:xfrm>
            <a:off x="8459640" y="602136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cover dir="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4920" y="330120"/>
            <a:ext cx="5256360" cy="27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Человек – ЧЕЛОВЕК</a:t>
            </a: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рофессиональная дея-тельность, связанная  с общением и с людьми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859280" y="3429000"/>
            <a:ext cx="388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ОФЕСС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даго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сихоло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оло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авец и т. 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719096"/>
          <p:cNvPicPr/>
          <p:nvPr/>
        </p:nvPicPr>
        <p:blipFill>
          <a:blip r:embed="rId5"/>
          <a:stretch/>
        </p:blipFill>
        <p:spPr>
          <a:xfrm>
            <a:off x="1476360" y="2895480"/>
            <a:ext cx="2590920" cy="3773520"/>
          </a:xfrm>
          <a:prstGeom prst="rect">
            <a:avLst/>
          </a:prstGeom>
          <a:ln w="9360">
            <a:solidFill>
              <a:srgbClr val="000044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5" name="Picture 6" descr="719084"/>
          <p:cNvPicPr/>
          <p:nvPr/>
        </p:nvPicPr>
        <p:blipFill>
          <a:blip r:embed="rId6"/>
          <a:stretch/>
        </p:blipFill>
        <p:spPr>
          <a:xfrm>
            <a:off x="5651640" y="620640"/>
            <a:ext cx="3308040" cy="2324160"/>
          </a:xfrm>
          <a:prstGeom prst="rect">
            <a:avLst/>
          </a:prstGeom>
          <a:ln w="9360">
            <a:solidFill>
              <a:srgbClr val="000044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6" name="AutoShape 8">
            <a:hlinkClick r:id="" action="ppaction://hlinkshowjump?jump=nextslide"/>
          </p:cNvPr>
          <p:cNvSpPr/>
          <p:nvPr/>
        </p:nvSpPr>
        <p:spPr>
          <a:xfrm>
            <a:off x="8459640" y="602136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cover dir="d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449280"/>
            <a:ext cx="5329080" cy="32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Человек – ЗНАКОВАЯ 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СИСТЕМА</a:t>
            </a: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рофессиональная дея- тельность, связанная со знаками (буквами, циф-рами, нотами)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254560" y="3905280"/>
            <a:ext cx="388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ОФЕСС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ный, секретар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ач, учит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зыкант, конструкто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урналис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кусствове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767099"/>
          <p:cNvPicPr/>
          <p:nvPr/>
        </p:nvPicPr>
        <p:blipFill>
          <a:blip r:embed="rId6"/>
          <a:stretch/>
        </p:blipFill>
        <p:spPr>
          <a:xfrm>
            <a:off x="755640" y="3500280"/>
            <a:ext cx="4067280" cy="2637000"/>
          </a:xfrm>
          <a:prstGeom prst="rect">
            <a:avLst/>
          </a:prstGeom>
          <a:ln w="9360">
            <a:solidFill>
              <a:srgbClr val="000044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90" name="Picture 5" descr="767061"/>
          <p:cNvPicPr/>
          <p:nvPr/>
        </p:nvPicPr>
        <p:blipFill>
          <a:blip r:embed="rId7"/>
          <a:stretch/>
        </p:blipFill>
        <p:spPr>
          <a:xfrm>
            <a:off x="6372360" y="333360"/>
            <a:ext cx="2376360" cy="3456000"/>
          </a:xfrm>
          <a:prstGeom prst="rect">
            <a:avLst/>
          </a:prstGeom>
          <a:ln w="9360">
            <a:solidFill>
              <a:srgbClr val="000044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91" name="AutoShape 7">
            <a:hlinkClick r:id="" action="ppaction://hlinkshowjump?jump=nextslide"/>
          </p:cNvPr>
          <p:cNvSpPr/>
          <p:nvPr/>
        </p:nvSpPr>
        <p:spPr>
          <a:xfrm>
            <a:off x="8459640" y="602136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cover dir="d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560" y="206280"/>
            <a:ext cx="5329080" cy="32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Человек – ХУДОЖЕСТВЕННЫЙ ОБРАЗ</a:t>
            </a: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рофессиональная дея -тельность, связанная  с ИСКУССТВОМ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834160" y="3212640"/>
            <a:ext cx="330984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ОФЕСС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зайне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удожни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тограф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ози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4" descr="479047"/>
          <p:cNvPicPr/>
          <p:nvPr/>
        </p:nvPicPr>
        <p:blipFill>
          <a:blip r:embed="rId5"/>
          <a:stretch/>
        </p:blipFill>
        <p:spPr>
          <a:xfrm>
            <a:off x="971640" y="3357720"/>
            <a:ext cx="4038480" cy="2692080"/>
          </a:xfrm>
          <a:prstGeom prst="rect">
            <a:avLst/>
          </a:prstGeom>
          <a:ln w="9360">
            <a:solidFill>
              <a:srgbClr val="000044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95" name="Picture 5" descr="677036"/>
          <p:cNvPicPr/>
          <p:nvPr/>
        </p:nvPicPr>
        <p:blipFill>
          <a:blip r:embed="rId6"/>
          <a:stretch/>
        </p:blipFill>
        <p:spPr>
          <a:xfrm>
            <a:off x="5651640" y="620640"/>
            <a:ext cx="3240000" cy="2078280"/>
          </a:xfrm>
          <a:prstGeom prst="rect">
            <a:avLst/>
          </a:prstGeom>
          <a:ln w="9360">
            <a:solidFill>
              <a:srgbClr val="000044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96" name="AutoShape 7">
            <a:hlinkClick r:id="" action="ppaction://hlinkshowjump?jump=nextslide"/>
          </p:cNvPr>
          <p:cNvSpPr/>
          <p:nvPr/>
        </p:nvSpPr>
        <p:spPr>
          <a:xfrm>
            <a:off x="8459640" y="602136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cover dir="d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676160" y="620280"/>
            <a:ext cx="38322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КАКОВЫ ПОТРЕБ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РЫНКА ТРУ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АМУРСКОЙ ОБ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РАЙЧИХИНС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7" descr="File0359"/>
          <p:cNvPicPr/>
          <p:nvPr/>
        </p:nvPicPr>
        <p:blipFill>
          <a:blip r:embed="rId1"/>
          <a:stretch/>
        </p:blipFill>
        <p:spPr>
          <a:xfrm>
            <a:off x="5148360" y="2781360"/>
            <a:ext cx="3600360" cy="374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16000">
    <p:cover dir="d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560880"/>
            <a:ext cx="82296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Где получить профессию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00" name="Picture 3" descr="File0349"/>
          <p:cNvPicPr/>
          <p:nvPr/>
        </p:nvPicPr>
        <p:blipFill>
          <a:blip r:embed="rId1"/>
          <a:stretch/>
        </p:blipFill>
        <p:spPr>
          <a:xfrm>
            <a:off x="2268360" y="1700280"/>
            <a:ext cx="4751640" cy="49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16000">
    <p:cover dir="d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539280" y="836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 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курсах,  в  специализированных учебных  центра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и  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студиях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ожно пройти  профессиональное обуч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приобрести  различные профессии (бухгалтер, водитель и т.п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алистов   рабочих   профессий обучают и образовывают в 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училищах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техникумах</a:t>
            </a:r>
            <a:r>
              <a:rPr b="0" lang="ru-RU" sz="32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колледжа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профес- сиональных лицеях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3" descr="42"/>
          <p:cNvPicPr/>
          <p:nvPr/>
        </p:nvPicPr>
        <p:blipFill>
          <a:blip r:embed="rId1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lines10"/>
          <p:cNvPicPr/>
          <p:nvPr/>
        </p:nvPicPr>
        <p:blipFill>
          <a:blip r:embed="rId2"/>
          <a:stretch/>
        </p:blipFill>
        <p:spPr>
          <a:xfrm rot="16200000">
            <a:off x="-3161880" y="3161880"/>
            <a:ext cx="6669000" cy="3445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bd19980_"/>
          <p:cNvPicPr/>
          <p:nvPr/>
        </p:nvPicPr>
        <p:blipFill>
          <a:blip r:embed="rId3"/>
          <a:stretch/>
        </p:blipFill>
        <p:spPr>
          <a:xfrm>
            <a:off x="5435640" y="4911840"/>
            <a:ext cx="2628720" cy="1946160"/>
          </a:xfrm>
          <a:prstGeom prst="rect">
            <a:avLst/>
          </a:prstGeom>
          <a:ln w="0">
            <a:noFill/>
          </a:ln>
        </p:spPr>
      </p:pic>
    </p:spTree>
  </p:cSld>
  <p:transition advTm="16000">
    <p:circl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4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9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4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59280" y="476280"/>
            <a:ext cx="396072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Жизнь человека – череда многочисленных выборов. Серьёзных, от которых зависит будущее,  и повседневных, бытовых. Но, среди тысяч принимаемых человеком решений ни одно не может сравниться по своему значению, по роли и по влиянию на судьбу с выбором профессии.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только возможностей, столько вариантов предлагает жизнь!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0" name="Picture 8" descr="File0351"/>
          <p:cNvPicPr/>
          <p:nvPr/>
        </p:nvPicPr>
        <p:blipFill>
          <a:blip r:embed="rId1"/>
          <a:stretch/>
        </p:blipFill>
        <p:spPr>
          <a:xfrm>
            <a:off x="468360" y="1916280"/>
            <a:ext cx="4140000" cy="309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16000"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42472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алистов  с  высшим  образовани-ем готовят 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высшие учебные заведе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вузы) – 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институты, университеты, </a:t>
            </a:r>
            <a:r>
              <a:rPr b="0" lang="ru-RU" sz="3200" spc="-1" strike="noStrike">
                <a:solidFill>
                  <a:srgbClr val="66ff66"/>
                </a:solidFill>
                <a:latin typeface="Arial"/>
              </a:rPr>
              <a:t>ака-демии. 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Университеты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 институ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гото-вят  научные  и  научно-педагогические кадры. 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Аспирантур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 </a:t>
            </a:r>
            <a:r>
              <a:rPr b="0" lang="ru-RU" sz="3200" spc="-1" strike="noStrike" u="sng">
                <a:solidFill>
                  <a:srgbClr val="66ff66"/>
                </a:solidFill>
                <a:uFillTx/>
                <a:latin typeface="Arial"/>
              </a:rPr>
              <a:t>докторантур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-товят научные и научно-педагогические кадры  высшей  квалификации из числа лиц, имеющих законченное  высшее об-разование   и  склонности  к  самостоя-тельной  научно-исследовательской ра-боте (кандидатов и докторов наук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3" descr="42"/>
          <p:cNvPicPr/>
          <p:nvPr/>
        </p:nvPicPr>
        <p:blipFill>
          <a:blip r:embed="rId1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lines10"/>
          <p:cNvPicPr/>
          <p:nvPr/>
        </p:nvPicPr>
        <p:blipFill>
          <a:blip r:embed="rId2"/>
          <a:stretch/>
        </p:blipFill>
        <p:spPr>
          <a:xfrm rot="16200000">
            <a:off x="-3161880" y="3161880"/>
            <a:ext cx="6669000" cy="344520"/>
          </a:xfrm>
          <a:prstGeom prst="rect">
            <a:avLst/>
          </a:prstGeom>
          <a:ln w="0">
            <a:noFill/>
          </a:ln>
        </p:spPr>
      </p:pic>
    </p:spTree>
  </p:cSld>
  <p:transition advTm="16000">
    <p:circle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908000" y="62028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МНИТ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юбой маршрут начинается с первого шага, в том числе и маршрут профессионального самоопред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6" descr="рп"/>
          <p:cNvPicPr/>
          <p:nvPr/>
        </p:nvPicPr>
        <p:blipFill>
          <a:blip r:embed="rId1"/>
          <a:stretch/>
        </p:blipFill>
        <p:spPr>
          <a:xfrm>
            <a:off x="1403280" y="4076640"/>
            <a:ext cx="2089080" cy="208764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755280" y="620280"/>
            <a:ext cx="6480360" cy="563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пытайтесь увидеть весь свой путь. Достаточн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будете видеть столько, чтобы сдвинуться с ме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СДЕЛАЙТЕ ПЕРВЫЙ ШАГ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«ХОЧУ» к «НАДО» через «МОГУ», а может от «НАДО» к «МОГУ» через «ХОЧУ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ВЫБИРАЙТ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6" descr="j0282995"/>
          <p:cNvPicPr/>
          <p:nvPr/>
        </p:nvPicPr>
        <p:blipFill>
          <a:blip r:embed="rId1"/>
          <a:stretch/>
        </p:blipFill>
        <p:spPr>
          <a:xfrm>
            <a:off x="6300720" y="3500280"/>
            <a:ext cx="2586240" cy="309564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File0401"/>
          <p:cNvPicPr/>
          <p:nvPr/>
        </p:nvPicPr>
        <p:blipFill>
          <a:blip r:embed="rId1"/>
          <a:stretch/>
        </p:blipFill>
        <p:spPr>
          <a:xfrm>
            <a:off x="468360" y="404640"/>
            <a:ext cx="8421480" cy="616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13" name="Text Box 3"/>
          <p:cNvSpPr/>
          <p:nvPr/>
        </p:nvSpPr>
        <p:spPr>
          <a:xfrm>
            <a:off x="1116000" y="1916280"/>
            <a:ext cx="4896000" cy="34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4"/>
                </a:solidFill>
                <a:latin typeface="Arial"/>
              </a:rPr>
              <a:t>Любой маршрут осилит идущий, а быстрее к цели приходит тот, кто разработает несколько путей! Желаем Вам выбрать  такую профессию, чтобы  ваша работа в будущем была успешной  и  приносила вам удовольствие.</a:t>
            </a:r>
            <a:r>
              <a:rPr b="1" lang="ru-RU" sz="2400" spc="-1" strike="noStrike">
                <a:solidFill>
                  <a:srgbClr val="00004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cover dir="d"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 Black"/>
              </a:rPr>
              <a:t>УДАЧНОГО ВЫБОРА!!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15" name="Picture 5" descr="j0295363"/>
          <p:cNvPicPr/>
          <p:nvPr/>
        </p:nvPicPr>
        <p:blipFill>
          <a:blip r:embed="rId1"/>
          <a:stretch/>
        </p:blipFill>
        <p:spPr>
          <a:xfrm>
            <a:off x="2411280" y="2060640"/>
            <a:ext cx="3529080" cy="3529080"/>
          </a:xfrm>
          <a:prstGeom prst="rect">
            <a:avLst/>
          </a:prstGeom>
          <a:ln w="0">
            <a:noFill/>
          </a:ln>
        </p:spPr>
      </p:pic>
    </p:spTree>
  </p:cSld>
  <p:transition advTm="16000">
    <p:wheel spokes="8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0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676520" y="404280"/>
            <a:ext cx="640080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России более 7000 профессий, более 700 из них наиболее распространены и, как правило, пользуются спросом на рынке тру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оме этого насчитывается свыше 300 специальностей и 200 направлений, по которым обучают в ВУЗ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хникумы, колледжи, лицеи, училища добавляют ещё несколько сотен специальн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6" descr="File0031"/>
          <p:cNvPicPr/>
          <p:nvPr/>
        </p:nvPicPr>
        <p:blipFill>
          <a:blip r:embed="rId1"/>
          <a:stretch/>
        </p:blipFill>
        <p:spPr>
          <a:xfrm>
            <a:off x="611280" y="4581360"/>
            <a:ext cx="2448000" cy="199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16000">
    <p:cover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71280" y="836280"/>
            <a:ext cx="5329080" cy="54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возможносте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лько вариантов предлагает жизн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к понять КАКАЯ именно профессия ТВО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6" descr="j0299125"/>
          <p:cNvPicPr/>
          <p:nvPr/>
        </p:nvPicPr>
        <p:blipFill>
          <a:blip r:embed="rId1"/>
          <a:stretch/>
        </p:blipFill>
        <p:spPr>
          <a:xfrm rot="1189200">
            <a:off x="5795640" y="1773360"/>
            <a:ext cx="2550960" cy="340668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0251701"/>
          <p:cNvPicPr/>
          <p:nvPr/>
        </p:nvPicPr>
        <p:blipFill>
          <a:blip r:embed="rId1"/>
          <a:stretch/>
        </p:blipFill>
        <p:spPr>
          <a:xfrm>
            <a:off x="1835280" y="4653000"/>
            <a:ext cx="1706400" cy="182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j0334152"/>
          <p:cNvPicPr/>
          <p:nvPr/>
        </p:nvPicPr>
        <p:blipFill>
          <a:blip r:embed="rId2"/>
          <a:stretch/>
        </p:blipFill>
        <p:spPr>
          <a:xfrm>
            <a:off x="4284720" y="189000"/>
            <a:ext cx="1247760" cy="1819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j0230045"/>
          <p:cNvPicPr/>
          <p:nvPr/>
        </p:nvPicPr>
        <p:blipFill>
          <a:blip r:embed="rId3"/>
          <a:stretch/>
        </p:blipFill>
        <p:spPr>
          <a:xfrm>
            <a:off x="6588000" y="476280"/>
            <a:ext cx="1778040" cy="1763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j0285286"/>
          <p:cNvPicPr/>
          <p:nvPr/>
        </p:nvPicPr>
        <p:blipFill>
          <a:blip r:embed="rId4"/>
          <a:stretch/>
        </p:blipFill>
        <p:spPr>
          <a:xfrm>
            <a:off x="2124000" y="836640"/>
            <a:ext cx="1228680" cy="1133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j0284162"/>
          <p:cNvPicPr/>
          <p:nvPr/>
        </p:nvPicPr>
        <p:blipFill>
          <a:blip r:embed="rId5"/>
          <a:stretch/>
        </p:blipFill>
        <p:spPr>
          <a:xfrm>
            <a:off x="7524720" y="4724280"/>
            <a:ext cx="1152720" cy="165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j0398417"/>
          <p:cNvPicPr/>
          <p:nvPr/>
        </p:nvPicPr>
        <p:blipFill>
          <a:blip r:embed="rId6"/>
          <a:stretch/>
        </p:blipFill>
        <p:spPr>
          <a:xfrm>
            <a:off x="1835280" y="2492280"/>
            <a:ext cx="933480" cy="1986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j0404317"/>
          <p:cNvPicPr/>
          <p:nvPr/>
        </p:nvPicPr>
        <p:blipFill>
          <a:blip r:embed="rId7"/>
          <a:stretch/>
        </p:blipFill>
        <p:spPr>
          <a:xfrm>
            <a:off x="4211640" y="3068640"/>
            <a:ext cx="1841400" cy="1301760"/>
          </a:xfrm>
          <a:prstGeom prst="rect">
            <a:avLst/>
          </a:prstGeom>
          <a:ln w="0">
            <a:noFill/>
          </a:ln>
        </p:spPr>
      </p:pic>
      <p:sp>
        <p:nvSpPr>
          <p:cNvPr id="182" name="Line 9"/>
          <p:cNvSpPr/>
          <p:nvPr/>
        </p:nvSpPr>
        <p:spPr>
          <a:xfrm>
            <a:off x="6227640" y="4437000"/>
            <a:ext cx="720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 flipH="1" flipV="1">
            <a:off x="3419280" y="2420640"/>
            <a:ext cx="647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1" descr="lines4"/>
          <p:cNvPicPr/>
          <p:nvPr/>
        </p:nvPicPr>
        <p:blipFill>
          <a:blip r:embed="rId8"/>
          <a:stretch/>
        </p:blipFill>
        <p:spPr>
          <a:xfrm rot="16200000">
            <a:off x="-3298680" y="3298680"/>
            <a:ext cx="6858000" cy="260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star13"/>
          <p:cNvPicPr/>
          <p:nvPr/>
        </p:nvPicPr>
        <p:blipFill>
          <a:blip r:embed="rId9"/>
          <a:stretch/>
        </p:blipFill>
        <p:spPr>
          <a:xfrm>
            <a:off x="46836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star13"/>
          <p:cNvPicPr/>
          <p:nvPr/>
        </p:nvPicPr>
        <p:blipFill>
          <a:blip r:embed="rId10"/>
          <a:stretch/>
        </p:blipFill>
        <p:spPr>
          <a:xfrm>
            <a:off x="46836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7" name="Line 14"/>
          <p:cNvSpPr/>
          <p:nvPr/>
        </p:nvSpPr>
        <p:spPr>
          <a:xfrm flipV="1">
            <a:off x="5076720" y="2133720"/>
            <a:ext cx="0" cy="79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5076720" y="4508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6227640" y="3645000"/>
            <a:ext cx="865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 flipH="1">
            <a:off x="3131640" y="371628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8"/>
          <p:cNvSpPr/>
          <p:nvPr/>
        </p:nvSpPr>
        <p:spPr>
          <a:xfrm flipV="1">
            <a:off x="6156360" y="2420640"/>
            <a:ext cx="576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 flipH="1">
            <a:off x="3419640" y="4437000"/>
            <a:ext cx="720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0" descr="j0295164"/>
          <p:cNvPicPr/>
          <p:nvPr/>
        </p:nvPicPr>
        <p:blipFill>
          <a:blip r:embed="rId11"/>
          <a:stretch/>
        </p:blipFill>
        <p:spPr>
          <a:xfrm>
            <a:off x="7451640" y="3429000"/>
            <a:ext cx="1297080" cy="1195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1" descr="j0283856"/>
          <p:cNvPicPr/>
          <p:nvPr/>
        </p:nvPicPr>
        <p:blipFill>
          <a:blip r:embed="rId12"/>
          <a:stretch/>
        </p:blipFill>
        <p:spPr>
          <a:xfrm>
            <a:off x="6588000" y="5157720"/>
            <a:ext cx="939960" cy="1224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2" descr="j0234669"/>
          <p:cNvPicPr/>
          <p:nvPr/>
        </p:nvPicPr>
        <p:blipFill>
          <a:blip r:embed="rId13"/>
          <a:stretch/>
        </p:blipFill>
        <p:spPr>
          <a:xfrm>
            <a:off x="4500720" y="537372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3" descr="j0234724"/>
          <p:cNvPicPr/>
          <p:nvPr/>
        </p:nvPicPr>
        <p:blipFill>
          <a:blip r:embed="rId14"/>
          <a:stretch/>
        </p:blipFill>
        <p:spPr>
          <a:xfrm>
            <a:off x="7451640" y="2276640"/>
            <a:ext cx="1228680" cy="92376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47236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Учёные – социологи подсчитали, что примерно 40 % молодёжи из – за незнания правил выбора профессии, отсутствия опыта в  профессиональной деятельности избирают профессию, не соответствующую их интересам, склонностям, способностям, внутренним побуждениям. Это влечёт за собой разочарования, даже психические расстройства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8" name="Picture 6" descr="j0283701"/>
          <p:cNvPicPr/>
          <p:nvPr/>
        </p:nvPicPr>
        <p:blipFill>
          <a:blip r:embed="rId1"/>
          <a:stretch/>
        </p:blipFill>
        <p:spPr>
          <a:xfrm>
            <a:off x="7451640" y="4076640"/>
            <a:ext cx="1320840" cy="223200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676520" y="620280"/>
            <a:ext cx="6400800" cy="563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лик и экономический урон государства. Ежегодно оно теряет миллиарды рублей, так как более трети выпускников школ поступают учиться и работать  по специальностям, не соответствующим их индивидуальным запросам и потребностям об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езультате молодые люди оказываются невостребованными на рынке тру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6" descr="11"/>
          <p:cNvPicPr/>
          <p:nvPr/>
        </p:nvPicPr>
        <p:blipFill>
          <a:blip r:embed="rId1"/>
          <a:stretch/>
        </p:blipFill>
        <p:spPr>
          <a:xfrm>
            <a:off x="179280" y="2492280"/>
            <a:ext cx="1944720" cy="128772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676520" y="620280"/>
            <a:ext cx="6400800" cy="563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брать  СВОЮ професси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6" descr="xx"/>
          <p:cNvPicPr/>
          <p:nvPr/>
        </p:nvPicPr>
        <p:blipFill>
          <a:blip r:embed="rId1"/>
          <a:stretch/>
        </p:blipFill>
        <p:spPr>
          <a:xfrm>
            <a:off x="1187280" y="3933720"/>
            <a:ext cx="3097440" cy="259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16000"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9:15:23Z</dcterms:created>
  <dc:creator>Пользователь</dc:creator>
  <dc:description/>
  <dc:language>en-US</dc:language>
  <cp:lastModifiedBy>Admin</cp:lastModifiedBy>
  <dcterms:modified xsi:type="dcterms:W3CDTF">2015-01-27T18:56:06Z</dcterms:modified>
  <cp:revision>86</cp:revision>
  <dc:subject/>
  <dc:title>Мой выбор.</dc:title>
</cp:coreProperties>
</file>