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4.gif" ContentType="image/gif"/>
  <Override PartName="/ppt/media/image23.jpeg" ContentType="image/jpeg"/>
  <Override PartName="/ppt/media/image52.wmf" ContentType="image/x-wmf"/>
  <Override PartName="/ppt/media/image20.gif" ContentType="image/gif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6.gif" ContentType="image/gif"/>
  <Override PartName="/ppt/media/image15.gif" ContentType="image/gif"/>
  <Override PartName="/ppt/media/image5.jpeg" ContentType="image/jpeg"/>
  <Override PartName="/ppt/media/image26.gif" ContentType="image/gif"/>
  <Override PartName="/ppt/media/image21.gif" ContentType="image/gif"/>
  <Override PartName="/ppt/media/image19.gif" ContentType="image/gif"/>
  <Override PartName="/ppt/media/image41.jpeg" ContentType="image/jpeg"/>
  <Override PartName="/ppt/media/image25.jpeg" ContentType="image/jpeg"/>
  <Override PartName="/ppt/media/image22.gif" ContentType="image/gif"/>
  <Override PartName="/ppt/media/image10.wmf" ContentType="image/x-wmf"/>
  <Override PartName="/ppt/media/image27.wmf" ContentType="image/x-wmf"/>
  <Override PartName="/ppt/media/image4.wmf" ContentType="image/x-wmf"/>
  <Override PartName="/ppt/media/image9.wmf" ContentType="image/x-wmf"/>
  <Override PartName="/ppt/media/image11.gif" ContentType="image/gif"/>
  <Override PartName="/ppt/media/image28.wmf" ContentType="image/x-wmf"/>
  <Override PartName="/ppt/media/image3.jpeg" ContentType="image/jpeg"/>
  <Override PartName="/ppt/media/image37.jpeg" ContentType="image/jpeg"/>
  <Override PartName="/ppt/media/image44.jpeg" ContentType="image/jpeg"/>
  <Override PartName="/ppt/media/image34.png" ContentType="image/png"/>
  <Override PartName="/ppt/media/image45.jpeg" ContentType="image/jpeg"/>
  <Override PartName="/ppt/media/image39.jpeg" ContentType="image/jpeg"/>
  <Override PartName="/ppt/media/image32.wmf" ContentType="image/x-wmf"/>
  <Override PartName="/ppt/media/image7.wmf" ContentType="image/x-wmf"/>
  <Override PartName="/ppt/media/image46.jpeg" ContentType="image/jpeg"/>
  <Override PartName="/ppt/media/image51.gif" ContentType="image/gif"/>
  <Override PartName="/ppt/media/image49.jpeg" ContentType="image/jpeg"/>
  <Override PartName="/ppt/media/image56.wmf" ContentType="image/x-wmf"/>
  <Override PartName="/ppt/media/image50.gif" ContentType="image/gif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55.jpeg" ContentType="image/jpeg"/>
  <Override PartName="/ppt/media/image36.jpeg" ContentType="image/jpeg"/>
  <Override PartName="/ppt/media/image54.gif" ContentType="image/gif"/>
  <Override PartName="/ppt/media/image35.jpeg" ContentType="image/jpeg"/>
  <Override PartName="/ppt/media/image38.jpeg" ContentType="image/jpeg"/>
  <Override PartName="/ppt/media/image31.wmf" ContentType="image/x-wmf"/>
  <Override PartName="/ppt/media/image33.jpeg" ContentType="image/jpeg"/>
  <Override PartName="/ppt/media/image30.wmf" ContentType="image/x-wmf"/>
  <Override PartName="/ppt/media/image6.jpeg" ContentType="image/jpeg"/>
  <Override PartName="/ppt/media/image12.gif" ContentType="image/gif"/>
  <Override PartName="/ppt/media/image2.gif" ContentType="image/gif"/>
  <Override PartName="/ppt/media/image42.jpeg" ContentType="image/jpeg"/>
  <Override PartName="/ppt/media/image40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18EB-5331-49A8-97BE-617756C471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060-4BC0-48DD-ADF9-9EF554A4D6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4CB-AA7B-4BC9-B985-B2D5756E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9D7-A037-4B66-884F-129FAFB3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148-24F8-4EBD-8E74-4965598F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AB7-5093-4C43-AE0B-E9F7F978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1A7B-335A-4D05-89D4-6C003A3C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555F-1042-4035-83BB-AFD11E72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25C0-0CF3-486D-A1CC-4B55C17A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F66E-59D6-4C0C-AECF-C5049C85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CB00-5ECF-4F7E-B069-E468A812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357A-C8F5-4BC4-81C2-FF0BAB61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0E7F-AA65-4842-B7C4-D5A01F42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D1F-6DE8-4BCD-94FF-A89964C6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6173-2EE9-420A-BF2D-701757F5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13B7-EA4B-4B35-962A-F84546C0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3DD6-D4B2-414E-A04F-280B27ED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7CC8-2203-4F85-95EB-6338924C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2240-7409-4EED-B447-896D478A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4FA-BDB5-4FA5-B7EC-116B07CF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CC1-DDD2-41B1-ADDC-8A88F75A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372-C12C-4FAB-840F-0A30763B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896-2F95-4261-9C37-2429E8EC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8E8-2360-4869-8532-EC7F53D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D94-C58B-4D2D-8CA5-2C5FF6B6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D8F-3999-410A-A4D9-755CBDE4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102E-E9F2-43E6-8DC2-A3B0A2110C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373-D720-4D5E-AE0B-50CFC4F767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9.gif"/><Relationship Id="rId14" Type="http://schemas.openxmlformats.org/officeDocument/2006/relationships/image" Target="../media/image20.gi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-264960"/>
            <a:ext cx="755964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Arial Black"/>
              </a:rPr>
              <a:t>Маршрут           профессионального</a:t>
            </a: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Arial Black"/>
              </a:rPr>
              <a:t>самоопределени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9" descr="File0380"/>
          <p:cNvPicPr/>
          <p:nvPr/>
        </p:nvPicPr>
        <p:blipFill>
          <a:blip r:embed="rId1"/>
          <a:stretch/>
        </p:blipFill>
        <p:spPr>
          <a:xfrm>
            <a:off x="6372360" y="3284640"/>
            <a:ext cx="2447640" cy="331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WordArt 12"/>
          <p:cNvSpPr txBox="1"/>
          <p:nvPr/>
        </p:nvSpPr>
        <p:spPr>
          <a:xfrm>
            <a:off x="539640" y="2852640"/>
            <a:ext cx="518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ЕМ БЫТЬ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3"/>
          <p:cNvSpPr txBox="1"/>
          <p:nvPr/>
        </p:nvSpPr>
        <p:spPr>
          <a:xfrm>
            <a:off x="611280" y="4797360"/>
            <a:ext cx="52704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ИРЕ ПРОФЕССИЙ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1547640" y="6093000"/>
            <a:ext cx="4572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ransition advTm="16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00000" y="333000"/>
            <a:ext cx="5832720" cy="591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ать профессиональный мир и познавать самого себ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ь за вас вопрос «КЕМ БЫТЬ?», кроме вас самих не сможет ник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мы можем только  рассказать, как увереннее двигаться по лестнице профессионального успе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7" descr="j0282747"/>
          <p:cNvPicPr/>
          <p:nvPr/>
        </p:nvPicPr>
        <p:blipFill>
          <a:blip r:embed="rId1"/>
          <a:stretch/>
        </p:blipFill>
        <p:spPr>
          <a:xfrm>
            <a:off x="7020000" y="2781360"/>
            <a:ext cx="1655640" cy="237636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520" y="1197000"/>
            <a:ext cx="72388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екреты выбора профе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676520" y="393372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надо учитывать при выборе профе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14"/>
          <p:cNvPicPr/>
          <p:nvPr/>
        </p:nvPicPr>
        <p:blipFill>
          <a:blip r:embed="rId1"/>
          <a:stretch/>
        </p:blipFill>
        <p:spPr>
          <a:xfrm>
            <a:off x="7093080" y="4869000"/>
            <a:ext cx="1619280" cy="165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Diagram 6"/>
          <p:cNvGrpSpPr/>
          <p:nvPr/>
        </p:nvGrpSpPr>
        <p:grpSpPr>
          <a:xfrm>
            <a:off x="1985400" y="417240"/>
            <a:ext cx="6109560" cy="5401800"/>
            <a:chOff x="1985400" y="417240"/>
            <a:chExt cx="6109560" cy="5401800"/>
          </a:xfrm>
        </p:grpSpPr>
        <p:sp>
          <p:nvSpPr>
            <p:cNvPr id="209" name="_s1028"/>
            <p:cNvSpPr/>
            <p:nvPr/>
          </p:nvSpPr>
          <p:spPr>
            <a:xfrm flipV="1">
              <a:off x="4276800" y="416520"/>
              <a:ext cx="1527120" cy="1350360"/>
            </a:xfrm>
            <a:custGeom>
              <a:avLst/>
              <a:gdLst>
                <a:gd name="textAreaLeft" fmla="*/ 547920 w 1527120"/>
                <a:gd name="textAreaRight" fmla="*/ 979200 w 1527120"/>
                <a:gd name="textAreaTop" fmla="*/ 484560 h 1350360"/>
                <a:gd name="textAreaBottom" fmla="*/ 86580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1029"/>
            <p:cNvSpPr/>
            <p:nvPr/>
          </p:nvSpPr>
          <p:spPr>
            <a:xfrm flipV="1">
              <a:off x="3512880" y="1766880"/>
              <a:ext cx="3054600" cy="1350360"/>
            </a:xfrm>
            <a:custGeom>
              <a:avLst/>
              <a:gdLst>
                <a:gd name="textAreaLeft" fmla="*/ 671760 w 3054600"/>
                <a:gd name="textAreaRight" fmla="*/ 2382840 w 3054600"/>
                <a:gd name="textAreaTop" fmla="*/ 297000 h 1350360"/>
                <a:gd name="textAreaBottom" fmla="*/ 105336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cc00"/>
                  </a:solidFill>
                  <a:latin typeface="Arial"/>
                </a:rPr>
                <a:t>ПОСТРОЙ</a:t>
              </a: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план будущей профессиональн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карье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1030"/>
            <p:cNvSpPr/>
            <p:nvPr/>
          </p:nvSpPr>
          <p:spPr>
            <a:xfrm flipV="1">
              <a:off x="2749320" y="3117960"/>
              <a:ext cx="4582080" cy="1350360"/>
            </a:xfrm>
            <a:custGeom>
              <a:avLst/>
              <a:gdLst>
                <a:gd name="textAreaLeft" fmla="*/ 795240 w 4582080"/>
                <a:gd name="textAreaRight" fmla="*/ 3786840 w 4582080"/>
                <a:gd name="textAreaTop" fmla="*/ 234360 h 1350360"/>
                <a:gd name="textAreaBottom" fmla="*/ 111600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cc00"/>
                  </a:solidFill>
                  <a:latin typeface="Arial"/>
                </a:rPr>
                <a:t>ОБСУДИ СВОЙ 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66"/>
                  </a:solidFill>
                  <a:latin typeface="Arial"/>
                </a:rPr>
                <a:t>с друзьями и взрослы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cc00"/>
                  </a:solidFill>
                  <a:latin typeface="Arial"/>
                </a:rPr>
                <a:t>ВЫБЕРИ </a:t>
              </a:r>
              <a:r>
                <a:rPr b="1" lang="ru-RU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66"/>
                  </a:solidFill>
                  <a:latin typeface="Arial"/>
                </a:rPr>
                <a:t>учебное заведение, узнай условия поступл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cc00"/>
                  </a:solidFill>
                  <a:latin typeface="Arial"/>
                </a:rPr>
                <a:t>ИЗВЛЕКИ</a:t>
              </a:r>
              <a:r>
                <a:rPr b="1" lang="ru-RU" sz="12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000066"/>
                  </a:solidFill>
                  <a:latin typeface="Arial"/>
                </a:rPr>
                <a:t>пользу из полученных знан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1031"/>
            <p:cNvSpPr/>
            <p:nvPr/>
          </p:nvSpPr>
          <p:spPr>
            <a:xfrm flipV="1">
              <a:off x="1985400" y="4467960"/>
              <a:ext cx="6109560" cy="1350360"/>
            </a:xfrm>
            <a:custGeom>
              <a:avLst/>
              <a:gdLst>
                <a:gd name="textAreaLeft" fmla="*/ 919080 w 6109560"/>
                <a:gd name="textAreaRight" fmla="*/ 5190480 w 6109560"/>
                <a:gd name="textAreaTop" fmla="*/ 203040 h 1350360"/>
                <a:gd name="textAreaBottom" fmla="*/ 114732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cc00"/>
                  </a:solidFill>
                  <a:latin typeface="Arial"/>
                </a:rPr>
                <a:t>ИЗУЧИ </a:t>
              </a:r>
              <a:r>
                <a:rPr b="0" lang="ru-RU" sz="14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рынок труда, его потреб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cc00"/>
                  </a:solidFill>
                  <a:latin typeface="Arial"/>
                </a:rPr>
                <a:t>ОПРЕДЕЛИ</a:t>
              </a: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свои способности, умения, талан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cc00"/>
                  </a:solidFill>
                  <a:latin typeface="Arial"/>
                </a:rPr>
                <a:t>СОСТАВЬ </a:t>
              </a: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список интересных тебе професс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WordArt 12"/>
          <p:cNvSpPr txBox="1"/>
          <p:nvPr/>
        </p:nvSpPr>
        <p:spPr>
          <a:xfrm>
            <a:off x="684360" y="83664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стница профессионального успеха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4" name="Picture 13" descr="j0303472"/>
          <p:cNvPicPr/>
          <p:nvPr/>
        </p:nvPicPr>
        <p:blipFill>
          <a:blip r:embed="rId1"/>
          <a:stretch/>
        </p:blipFill>
        <p:spPr>
          <a:xfrm>
            <a:off x="611280" y="3068640"/>
            <a:ext cx="1873080" cy="324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j0230824"/>
          <p:cNvPicPr/>
          <p:nvPr/>
        </p:nvPicPr>
        <p:blipFill>
          <a:blip r:embed="rId2"/>
          <a:stretch/>
        </p:blipFill>
        <p:spPr>
          <a:xfrm>
            <a:off x="7308720" y="2060640"/>
            <a:ext cx="1525680" cy="161136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843280" y="765000"/>
            <a:ext cx="6121440" cy="563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МОЖНО ЛИ ПРЕДСКАЗ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РА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КОМУ БУД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СОПУТСТВОВ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УСП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j0285410"/>
          <p:cNvPicPr/>
          <p:nvPr/>
        </p:nvPicPr>
        <p:blipFill>
          <a:blip r:embed="rId1"/>
          <a:stretch/>
        </p:blipFill>
        <p:spPr>
          <a:xfrm>
            <a:off x="324000" y="3068640"/>
            <a:ext cx="3605040" cy="352908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4319280" cy="58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одня психологи склоняются к тому, что фортуна вовсе уж не так слепа и дарить свои милости предпочитает тем, кто обладает определённым набором черт характера и прежде всего способностью адаптироваться к различным ситуация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j0149481"/>
          <p:cNvPicPr/>
          <p:nvPr/>
        </p:nvPicPr>
        <p:blipFill>
          <a:blip r:embed="rId1"/>
          <a:stretch/>
        </p:blipFill>
        <p:spPr>
          <a:xfrm rot="1464600">
            <a:off x="4932000" y="1484280"/>
            <a:ext cx="3625920" cy="34704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1040"/>
            <a:ext cx="7772400" cy="192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делать  правильный выбор – знач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йти професс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тора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4">
            <a:hlinkClick r:id="rId1" action="ppaction://hlinksldjump"/>
          </p:cNvPr>
          <p:cNvSpPr/>
          <p:nvPr/>
        </p:nvSpPr>
        <p:spPr>
          <a:xfrm>
            <a:off x="611280" y="3500280"/>
            <a:ext cx="2665440" cy="1944720"/>
          </a:xfrm>
          <a:prstGeom prst="ellipse">
            <a:avLst/>
          </a:prstGeom>
          <a:solidFill>
            <a:srgbClr val="9ce157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ОЧ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интересна и привлекатель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5">
            <a:hlinkClick r:id="rId2" action="ppaction://hlinksldjump"/>
          </p:cNvPr>
          <p:cNvSpPr/>
          <p:nvPr/>
        </p:nvSpPr>
        <p:spPr>
          <a:xfrm>
            <a:off x="3203640" y="4581360"/>
            <a:ext cx="2952720" cy="149076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меет спрос на рынке тру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6">
            <a:hlinkClick r:id="rId3" action="ppaction://hlinksldjump"/>
          </p:cNvPr>
          <p:cNvSpPr/>
          <p:nvPr/>
        </p:nvSpPr>
        <p:spPr>
          <a:xfrm>
            <a:off x="5940360" y="3068640"/>
            <a:ext cx="2211480" cy="180036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О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доступна и посиль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 flipV="1">
            <a:off x="2050920" y="2637000"/>
            <a:ext cx="1944720" cy="86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 flipV="1">
            <a:off x="3995640" y="249192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 flipH="1" flipV="1">
            <a:off x="3924360" y="2565360"/>
            <a:ext cx="2232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j0300840"/>
          <p:cNvPicPr/>
          <p:nvPr/>
        </p:nvPicPr>
        <p:blipFill>
          <a:blip r:embed="rId4"/>
          <a:stretch/>
        </p:blipFill>
        <p:spPr>
          <a:xfrm>
            <a:off x="2735280" y="2004840"/>
            <a:ext cx="2652840" cy="1916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484360" y="1268280"/>
            <a:ext cx="4896000" cy="3384720"/>
          </a:xfrm>
          <a:prstGeom prst="triangle">
            <a:avLst>
              <a:gd name="adj" fmla="val 48079"/>
            </a:avLst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419640" y="2421000"/>
            <a:ext cx="28796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Форм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выб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фе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140360" y="476280"/>
            <a:ext cx="158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хоч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5508720" y="836640"/>
            <a:ext cx="1224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H="1">
            <a:off x="2700360" y="836640"/>
            <a:ext cx="129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757080" y="300960"/>
            <a:ext cx="8040600" cy="1504800"/>
            <a:chOff x="757080" y="300960"/>
            <a:chExt cx="8040600" cy="1504800"/>
          </a:xfrm>
        </p:grpSpPr>
        <p:sp>
          <p:nvSpPr>
            <p:cNvPr id="235" name="Rectangle 8"/>
            <p:cNvSpPr/>
            <p:nvPr/>
          </p:nvSpPr>
          <p:spPr>
            <a:xfrm rot="19920000">
              <a:off x="755280" y="764640"/>
              <a:ext cx="2106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интерес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 rot="1620000">
              <a:off x="6687720" y="836280"/>
              <a:ext cx="2106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склонност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10"/>
          <p:cNvGrpSpPr/>
          <p:nvPr/>
        </p:nvGrpSpPr>
        <p:grpSpPr>
          <a:xfrm>
            <a:off x="1116000" y="4005360"/>
            <a:ext cx="3022560" cy="2016000"/>
            <a:chOff x="1116000" y="4005360"/>
            <a:chExt cx="3022560" cy="2016000"/>
          </a:xfrm>
        </p:grpSpPr>
        <p:sp>
          <p:nvSpPr>
            <p:cNvPr id="238" name="Rectangle 11"/>
            <p:cNvSpPr/>
            <p:nvPr/>
          </p:nvSpPr>
          <p:spPr>
            <a:xfrm>
              <a:off x="1116000" y="4654440"/>
              <a:ext cx="1584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мог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2555640" y="5157720"/>
              <a:ext cx="1582920" cy="432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3"/>
            <p:cNvSpPr/>
            <p:nvPr/>
          </p:nvSpPr>
          <p:spPr>
            <a:xfrm flipH="1" flipV="1">
              <a:off x="1619280" y="4005360"/>
              <a:ext cx="71280" cy="72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4"/>
            <p:cNvSpPr/>
            <p:nvPr/>
          </p:nvSpPr>
          <p:spPr>
            <a:xfrm flipH="1">
              <a:off x="1404720" y="5373720"/>
              <a:ext cx="287280" cy="647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19"/>
          <p:cNvGrpSpPr/>
          <p:nvPr/>
        </p:nvGrpSpPr>
        <p:grpSpPr>
          <a:xfrm>
            <a:off x="7559640" y="4581360"/>
            <a:ext cx="1584360" cy="1152720"/>
            <a:chOff x="7559640" y="4581360"/>
            <a:chExt cx="1584360" cy="1152720"/>
          </a:xfrm>
        </p:grpSpPr>
        <p:sp>
          <p:nvSpPr>
            <p:cNvPr id="243" name="Rectangle 20"/>
            <p:cNvSpPr/>
            <p:nvPr/>
          </p:nvSpPr>
          <p:spPr>
            <a:xfrm>
              <a:off x="7559640" y="4581360"/>
              <a:ext cx="1584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33"/>
                  </a:solidFill>
                  <a:latin typeface="Arial"/>
                </a:rPr>
                <a:t>надо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8172360" y="5229360"/>
              <a:ext cx="0" cy="50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Rectangle 22"/>
          <p:cNvSpPr/>
          <p:nvPr/>
        </p:nvSpPr>
        <p:spPr>
          <a:xfrm>
            <a:off x="6877080" y="5911920"/>
            <a:ext cx="2627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потребности рынка т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 rot="21270000">
            <a:off x="179280" y="2492280"/>
            <a:ext cx="263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озможность получения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4211640" y="5373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особ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179280" y="61657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остояние здоров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8" descr="j0231557"/>
          <p:cNvPicPr/>
          <p:nvPr/>
        </p:nvPicPr>
        <p:blipFill>
          <a:blip r:embed="rId1"/>
          <a:stretch/>
        </p:blipFill>
        <p:spPr>
          <a:xfrm>
            <a:off x="2556000" y="981000"/>
            <a:ext cx="1604880" cy="172728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УЗНАЙ ВСЕ О ПРОФЕССИ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540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редмет, цел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условия тру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ути получ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роф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едицин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ротивопоказ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отнеси себ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 требованиями     выбранной проф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j0230545"/>
          <p:cNvPicPr/>
          <p:nvPr/>
        </p:nvPicPr>
        <p:blipFill>
          <a:blip r:embed="rId5"/>
          <a:stretch/>
        </p:blipFill>
        <p:spPr>
          <a:xfrm>
            <a:off x="5435640" y="1773360"/>
            <a:ext cx="2805120" cy="418788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5904000" cy="57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именно тот идёт в ногу с судьбой, кто упорно утверждает свою личность ; способен налаживать бесконфликтное взаимодействие с окружающими, физически вынослив, обладает особой гибкостью и незаурядной способностью убеждать дру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53946"/>
          <p:cNvPicPr/>
          <p:nvPr/>
        </p:nvPicPr>
        <p:blipFill>
          <a:blip r:embed="rId1"/>
          <a:stretch/>
        </p:blipFill>
        <p:spPr>
          <a:xfrm>
            <a:off x="6732720" y="3860640"/>
            <a:ext cx="2160360" cy="200052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676520" y="549000"/>
            <a:ext cx="6400800" cy="57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Ь     СЕБЯ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6" descr="30603"/>
          <p:cNvPicPr/>
          <p:nvPr/>
        </p:nvPicPr>
        <p:blipFill>
          <a:blip r:embed="rId1"/>
          <a:stretch/>
        </p:blipFill>
        <p:spPr>
          <a:xfrm>
            <a:off x="3348000" y="260280"/>
            <a:ext cx="2881440" cy="2090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File0357"/>
          <p:cNvPicPr/>
          <p:nvPr/>
        </p:nvPicPr>
        <p:blipFill>
          <a:blip r:embed="rId2"/>
          <a:stretch/>
        </p:blipFill>
        <p:spPr>
          <a:xfrm>
            <a:off x="2700360" y="4005360"/>
            <a:ext cx="4321080" cy="25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AMCONFUS"/>
          <p:cNvPicPr/>
          <p:nvPr/>
        </p:nvPicPr>
        <p:blipFill>
          <a:blip r:embed="rId1"/>
          <a:stretch/>
        </p:blipFill>
        <p:spPr>
          <a:xfrm>
            <a:off x="3857760" y="1820880"/>
            <a:ext cx="1317600" cy="290844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"/>
          <p:cNvGrpSpPr/>
          <p:nvPr/>
        </p:nvGrpSpPr>
        <p:grpSpPr>
          <a:xfrm>
            <a:off x="1676520" y="533520"/>
            <a:ext cx="2420640" cy="1657080"/>
            <a:chOff x="1676520" y="533520"/>
            <a:chExt cx="2420640" cy="1657080"/>
          </a:xfrm>
        </p:grpSpPr>
        <p:sp>
          <p:nvSpPr>
            <p:cNvPr id="155" name="Text Box 4"/>
            <p:cNvSpPr/>
            <p:nvPr/>
          </p:nvSpPr>
          <p:spPr>
            <a:xfrm>
              <a:off x="1676520" y="533520"/>
              <a:ext cx="2420640" cy="15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9900"/>
                  </a:solidFill>
                  <a:latin typeface="Times New Roman"/>
                </a:rPr>
                <a:t>Кто Я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>
              <a:off x="3262320" y="1498680"/>
              <a:ext cx="595440" cy="691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4984560" y="685800"/>
            <a:ext cx="3981600" cy="1677960"/>
            <a:chOff x="4984560" y="685800"/>
            <a:chExt cx="3981600" cy="1677960"/>
          </a:xfrm>
        </p:grpSpPr>
        <p:sp>
          <p:nvSpPr>
            <p:cNvPr id="158" name="Text Box 7"/>
            <p:cNvSpPr/>
            <p:nvPr/>
          </p:nvSpPr>
          <p:spPr>
            <a:xfrm>
              <a:off x="5486400" y="685800"/>
              <a:ext cx="3479760" cy="15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С кем Я?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4984560" y="1498680"/>
              <a:ext cx="580680" cy="865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609480" y="3768840"/>
            <a:ext cx="3438360" cy="1579320"/>
            <a:chOff x="609480" y="3768840"/>
            <a:chExt cx="3438360" cy="1579320"/>
          </a:xfrm>
        </p:grpSpPr>
        <p:sp>
          <p:nvSpPr>
            <p:cNvPr id="161" name="Text Box 10"/>
            <p:cNvSpPr/>
            <p:nvPr/>
          </p:nvSpPr>
          <p:spPr>
            <a:xfrm>
              <a:off x="609480" y="3768840"/>
              <a:ext cx="2914920" cy="15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ffff"/>
                  </a:solidFill>
                  <a:latin typeface="Times New Roman"/>
                </a:rPr>
                <a:t>Какой Я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>
              <a:off x="3411000" y="4075200"/>
              <a:ext cx="63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175360" y="3581280"/>
            <a:ext cx="3968280" cy="1579680"/>
            <a:chOff x="5175360" y="3581280"/>
            <a:chExt cx="3968280" cy="1579680"/>
          </a:xfrm>
        </p:grpSpPr>
        <p:sp>
          <p:nvSpPr>
            <p:cNvPr id="164" name="Text Box 13"/>
            <p:cNvSpPr/>
            <p:nvPr/>
          </p:nvSpPr>
          <p:spPr>
            <a:xfrm>
              <a:off x="6104880" y="3581280"/>
              <a:ext cx="3038760" cy="15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3300"/>
                  </a:solidFill>
                  <a:latin typeface="Times New Roman"/>
                </a:rPr>
                <a:t>Как Я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ff3300"/>
                  </a:solidFill>
                  <a:latin typeface="Times New Roman"/>
                </a:rPr>
                <a:t>живу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5175360" y="3960720"/>
              <a:ext cx="800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3124080" y="4827600"/>
            <a:ext cx="3657600" cy="1639800"/>
            <a:chOff x="3124080" y="4827600"/>
            <a:chExt cx="3657600" cy="1639800"/>
          </a:xfrm>
        </p:grpSpPr>
        <p:sp>
          <p:nvSpPr>
            <p:cNvPr id="167" name="Text Box 16"/>
            <p:cNvSpPr/>
            <p:nvPr/>
          </p:nvSpPr>
          <p:spPr>
            <a:xfrm>
              <a:off x="3124080" y="5562720"/>
              <a:ext cx="365760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ff00"/>
                  </a:solidFill>
                  <a:latin typeface="Times New Roman"/>
                </a:rPr>
                <a:t>Каким Я стану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H="1">
              <a:off x="4647960" y="4827600"/>
              <a:ext cx="19080" cy="73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6000"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676520" y="476280"/>
            <a:ext cx="6783120" cy="57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Напротив каждого высказывания отметьте цифру, соответствующую степени вашего желания заниматься этим видом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овсе 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жалуй т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вершенно в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МИР ПРОФЕССИЙ ДЕЛИТСЯ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3">
            <a:hlinkClick r:id="rId1" action="ppaction://hlinksldjump"/>
          </p:cNvPr>
          <p:cNvSpPr/>
          <p:nvPr/>
        </p:nvSpPr>
        <p:spPr>
          <a:xfrm>
            <a:off x="395280" y="1484280"/>
            <a:ext cx="2133720" cy="1828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4">
            <a:hlinkClick r:id="rId2" action="ppaction://hlinksldjump"/>
          </p:cNvPr>
          <p:cNvSpPr/>
          <p:nvPr/>
        </p:nvSpPr>
        <p:spPr>
          <a:xfrm>
            <a:off x="611280" y="4149720"/>
            <a:ext cx="3313080" cy="2050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4"/>
                </a:solidFill>
                <a:latin typeface="Arial Black"/>
              </a:rPr>
              <a:t>ХУДОЖЕСТВ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4"/>
                </a:solidFill>
                <a:latin typeface="Arial Black"/>
              </a:rPr>
              <a:t>ОБР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5">
            <a:hlinkClick r:id="rId3" action="ppaction://hlinksldjump"/>
          </p:cNvPr>
          <p:cNvSpPr/>
          <p:nvPr/>
        </p:nvSpPr>
        <p:spPr>
          <a:xfrm>
            <a:off x="3348000" y="2133720"/>
            <a:ext cx="2133720" cy="1828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ТЕХ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6">
            <a:hlinkClick r:id="rId4" action="ppaction://hlinksldjump"/>
          </p:cNvPr>
          <p:cNvSpPr/>
          <p:nvPr/>
        </p:nvSpPr>
        <p:spPr>
          <a:xfrm>
            <a:off x="6659640" y="1628640"/>
            <a:ext cx="2133360" cy="1828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>
            <a:hlinkClick r:id="rId5" action="ppaction://hlinksldjump"/>
          </p:cNvPr>
          <p:cNvSpPr/>
          <p:nvPr/>
        </p:nvSpPr>
        <p:spPr>
          <a:xfrm>
            <a:off x="5076720" y="4076640"/>
            <a:ext cx="3311640" cy="2122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НАКОВ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 flipH="1">
            <a:off x="2484000" y="981000"/>
            <a:ext cx="1366920" cy="461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 flipH="1">
            <a:off x="2195640" y="981000"/>
            <a:ext cx="1728720" cy="3127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4356000" y="981000"/>
            <a:ext cx="71640" cy="113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4859280" y="981000"/>
            <a:ext cx="2136960" cy="3129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3851280" y="98100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4932360" y="981000"/>
            <a:ext cx="176040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5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576108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ПРИРОДА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-тельность, связанная  с растениями, животными.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508720" y="3573000"/>
            <a:ext cx="341928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терина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он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орист и т. 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820055"/>
          <p:cNvPicPr/>
          <p:nvPr/>
        </p:nvPicPr>
        <p:blipFill>
          <a:blip r:embed="rId4"/>
          <a:stretch/>
        </p:blipFill>
        <p:spPr>
          <a:xfrm>
            <a:off x="468360" y="3141720"/>
            <a:ext cx="4267080" cy="284472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5" descr="771008"/>
          <p:cNvPicPr/>
          <p:nvPr/>
        </p:nvPicPr>
        <p:blipFill>
          <a:blip r:embed="rId5"/>
          <a:stretch/>
        </p:blipFill>
        <p:spPr>
          <a:xfrm>
            <a:off x="5584680" y="620640"/>
            <a:ext cx="3380040" cy="2325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AutoShape 7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5545080" cy="283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ТЕХНИКА</a:t>
            </a:r>
            <a:br>
              <a:rPr sz="3200"/>
            </a:b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-тельность, связанная  с техникой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292720" y="3428640"/>
            <a:ext cx="3851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сарь, токар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адчик, тех -н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монтник, во -ди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799048"/>
          <p:cNvPicPr/>
          <p:nvPr/>
        </p:nvPicPr>
        <p:blipFill>
          <a:blip r:embed="rId4"/>
          <a:stretch/>
        </p:blipFill>
        <p:spPr>
          <a:xfrm>
            <a:off x="1332000" y="2997360"/>
            <a:ext cx="2952720" cy="369720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0" name="Picture 5" descr="813081"/>
          <p:cNvPicPr/>
          <p:nvPr/>
        </p:nvPicPr>
        <p:blipFill>
          <a:blip r:embed="rId5"/>
          <a:stretch/>
        </p:blipFill>
        <p:spPr>
          <a:xfrm>
            <a:off x="5584680" y="692280"/>
            <a:ext cx="3380040" cy="223200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1" name="AutoShape 7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525636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ЧЕЛОВЕК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-тельность, связанная  с общением и с людьми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59280" y="3429000"/>
            <a:ext cx="388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ло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оло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авец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719096"/>
          <p:cNvPicPr/>
          <p:nvPr/>
        </p:nvPicPr>
        <p:blipFill>
          <a:blip r:embed="rId5"/>
          <a:stretch/>
        </p:blipFill>
        <p:spPr>
          <a:xfrm>
            <a:off x="1476360" y="2895480"/>
            <a:ext cx="2590920" cy="377352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5" name="Picture 6" descr="719084"/>
          <p:cNvPicPr/>
          <p:nvPr/>
        </p:nvPicPr>
        <p:blipFill>
          <a:blip r:embed="rId6"/>
          <a:stretch/>
        </p:blipFill>
        <p:spPr>
          <a:xfrm>
            <a:off x="5651640" y="620640"/>
            <a:ext cx="3308040" cy="232416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6" name="AutoShape 8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449280"/>
            <a:ext cx="5329080" cy="32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ЗНАКОВАЯ 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ИСТЕМА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- тельность, связанная со знаками (буквами, циф-рами, нотами)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254560" y="3905280"/>
            <a:ext cx="388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ый,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ач, уч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зыкант, конструк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урналис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усствов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767099"/>
          <p:cNvPicPr/>
          <p:nvPr/>
        </p:nvPicPr>
        <p:blipFill>
          <a:blip r:embed="rId6"/>
          <a:stretch/>
        </p:blipFill>
        <p:spPr>
          <a:xfrm>
            <a:off x="755640" y="3500280"/>
            <a:ext cx="4067280" cy="263700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90" name="Picture 5" descr="767061"/>
          <p:cNvPicPr/>
          <p:nvPr/>
        </p:nvPicPr>
        <p:blipFill>
          <a:blip r:embed="rId7"/>
          <a:stretch/>
        </p:blipFill>
        <p:spPr>
          <a:xfrm>
            <a:off x="6372360" y="333360"/>
            <a:ext cx="2376360" cy="345600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1" name="AutoShape 7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206280"/>
            <a:ext cx="5329080" cy="32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ХУДОЖЕСТВЕННЫЙ ОБРАЗ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 -тельность, связанная  с ИСКУССТВОМ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834160" y="3212640"/>
            <a:ext cx="330984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зайне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н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4" descr="479047"/>
          <p:cNvPicPr/>
          <p:nvPr/>
        </p:nvPicPr>
        <p:blipFill>
          <a:blip r:embed="rId5"/>
          <a:stretch/>
        </p:blipFill>
        <p:spPr>
          <a:xfrm>
            <a:off x="971640" y="3357720"/>
            <a:ext cx="4038480" cy="269208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95" name="Picture 5" descr="677036"/>
          <p:cNvPicPr/>
          <p:nvPr/>
        </p:nvPicPr>
        <p:blipFill>
          <a:blip r:embed="rId6"/>
          <a:stretch/>
        </p:blipFill>
        <p:spPr>
          <a:xfrm>
            <a:off x="5651640" y="620640"/>
            <a:ext cx="3240000" cy="207828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6" name="AutoShape 7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676160" y="620280"/>
            <a:ext cx="38322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КАКОВЫ ПОТРЕ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РЫНКА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АМУР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АЙЧИХИНС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7" descr="File0359"/>
          <p:cNvPicPr/>
          <p:nvPr/>
        </p:nvPicPr>
        <p:blipFill>
          <a:blip r:embed="rId1"/>
          <a:stretch/>
        </p:blipFill>
        <p:spPr>
          <a:xfrm>
            <a:off x="5148360" y="2781360"/>
            <a:ext cx="3600360" cy="37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560880"/>
            <a:ext cx="82296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Где получить профессию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00" name="Picture 3" descr="File0349"/>
          <p:cNvPicPr/>
          <p:nvPr/>
        </p:nvPicPr>
        <p:blipFill>
          <a:blip r:embed="rId1"/>
          <a:stretch/>
        </p:blipFill>
        <p:spPr>
          <a:xfrm>
            <a:off x="2268360" y="1700280"/>
            <a:ext cx="475164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курсах,  в  специализированных учебных  центра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и 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студия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жно пройти  профессиональное обуч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приобрести  различные профессии (бухгалтер, водитель и т.п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ов   рабочих   профессий обучают и образовывают в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училищах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техникумах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колледжа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профес- сиональных лицеях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3" descr="42"/>
          <p:cNvPicPr/>
          <p:nvPr/>
        </p:nvPicPr>
        <p:blipFill>
          <a:blip r:embed="rId1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lines10"/>
          <p:cNvPicPr/>
          <p:nvPr/>
        </p:nvPicPr>
        <p:blipFill>
          <a:blip r:embed="rId2"/>
          <a:stretch/>
        </p:blipFill>
        <p:spPr>
          <a:xfrm rot="16200000">
            <a:off x="-3161880" y="3161880"/>
            <a:ext cx="6669000" cy="344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bd19980_"/>
          <p:cNvPicPr/>
          <p:nvPr/>
        </p:nvPicPr>
        <p:blipFill>
          <a:blip r:embed="rId3"/>
          <a:stretch/>
        </p:blipFill>
        <p:spPr>
          <a:xfrm>
            <a:off x="5435640" y="4911840"/>
            <a:ext cx="2628720" cy="1946160"/>
          </a:xfrm>
          <a:prstGeom prst="rect">
            <a:avLst/>
          </a:prstGeom>
          <a:ln w="0">
            <a:noFill/>
          </a:ln>
        </p:spPr>
      </p:pic>
    </p:spTree>
  </p:cSld>
  <p:transition advTm="16000">
    <p:circl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9280" y="476280"/>
            <a:ext cx="396072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Жизнь человека – череда многочисленных выборов. Серьёзных, от которых зависит будущее,  и повседневных, бытовых. Но, среди тысяч принимаемых человеком решений ни одно не может сравниться по своему значению, по роли и по влиянию на судьбу с выбором профессии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только возможностей, столько вариантов предлагает жизнь!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8" descr="File0351"/>
          <p:cNvPicPr/>
          <p:nvPr/>
        </p:nvPicPr>
        <p:blipFill>
          <a:blip r:embed="rId1"/>
          <a:stretch/>
        </p:blipFill>
        <p:spPr>
          <a:xfrm>
            <a:off x="468360" y="1916280"/>
            <a:ext cx="4140000" cy="309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424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ов  с  высшим  образовани-ем готовят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высшие учебные завед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вузы) –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институты, университеты, 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ака-демии.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Университет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 институ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ото-вят  научные  и  научно-педагогические кадры.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Аспирантур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докторантур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-товят научные и научно-педагогические кадры  высшей  квалификации из числа лиц, имеющих законченное  высшее об-разование   и  склонности  к  самостоя-тельной  научно-исследовательской ра-боте (кандидатов и докторов наук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3" descr="42"/>
          <p:cNvPicPr/>
          <p:nvPr/>
        </p:nvPicPr>
        <p:blipFill>
          <a:blip r:embed="rId1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lines10"/>
          <p:cNvPicPr/>
          <p:nvPr/>
        </p:nvPicPr>
        <p:blipFill>
          <a:blip r:embed="rId2"/>
          <a:stretch/>
        </p:blipFill>
        <p:spPr>
          <a:xfrm rot="16200000">
            <a:off x="-3161880" y="3161880"/>
            <a:ext cx="6669000" cy="344520"/>
          </a:xfrm>
          <a:prstGeom prst="rect">
            <a:avLst/>
          </a:prstGeom>
          <a:ln w="0">
            <a:noFill/>
          </a:ln>
        </p:spPr>
      </p:pic>
    </p:spTree>
  </p:cSld>
  <p:transition advTm="16000">
    <p:circle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908000" y="62028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ой маршрут начинается с первого шага, в том числе и маршрут профессионального само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6" descr="рп"/>
          <p:cNvPicPr/>
          <p:nvPr/>
        </p:nvPicPr>
        <p:blipFill>
          <a:blip r:embed="rId1"/>
          <a:stretch/>
        </p:blipFill>
        <p:spPr>
          <a:xfrm>
            <a:off x="1403280" y="4076640"/>
            <a:ext cx="2089080" cy="208764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6480360" cy="563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ытайтесь увидеть весь свой путь. Достаточ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будете видеть столько, чтобы сдвинуться с ме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СДЕЛАЙТЕ ПЕРВЫЙ ШАГ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«ХОЧУ» к «НАДО» через «МОГУ», а может от «НАДО» к «МОГУ» через «ХОЧУ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ВЫБИРАЙ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6" descr="j0282995"/>
          <p:cNvPicPr/>
          <p:nvPr/>
        </p:nvPicPr>
        <p:blipFill>
          <a:blip r:embed="rId1"/>
          <a:stretch/>
        </p:blipFill>
        <p:spPr>
          <a:xfrm>
            <a:off x="6300720" y="3500280"/>
            <a:ext cx="2586240" cy="309564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File0401"/>
          <p:cNvPicPr/>
          <p:nvPr/>
        </p:nvPicPr>
        <p:blipFill>
          <a:blip r:embed="rId1"/>
          <a:stretch/>
        </p:blipFill>
        <p:spPr>
          <a:xfrm>
            <a:off x="468360" y="404640"/>
            <a:ext cx="8421480" cy="616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13" name="Text Box 3"/>
          <p:cNvSpPr/>
          <p:nvPr/>
        </p:nvSpPr>
        <p:spPr>
          <a:xfrm>
            <a:off x="1116000" y="1916280"/>
            <a:ext cx="489600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4"/>
                </a:solidFill>
                <a:latin typeface="Arial"/>
              </a:rPr>
              <a:t>Любой маршрут осилит идущий, а быстрее к цели приходит тот, кто разработает несколько путей! Желаем Вам выбрать  такую профессию, чтобы  ваша работа в будущем была успешной  и  приносила вам удовольствие.</a:t>
            </a:r>
            <a:r>
              <a:rPr b="1" lang="ru-RU" sz="2400" spc="-1" strike="noStrike">
                <a:solidFill>
                  <a:srgbClr val="00004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Black"/>
              </a:rPr>
              <a:t>УДАЧНОГО ВЫБОРА!!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15" name="Picture 5" descr="j0295363"/>
          <p:cNvPicPr/>
          <p:nvPr/>
        </p:nvPicPr>
        <p:blipFill>
          <a:blip r:embed="rId1"/>
          <a:stretch/>
        </p:blipFill>
        <p:spPr>
          <a:xfrm>
            <a:off x="2411280" y="2060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676520" y="40428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оссии более 7000 профессий, более 700 из них наиболее распространены и, как правило, пользуются спросом на рынке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оме этого насчитывается свыше 300 специальностей и 200 направлений, по которым обучают в ВУЗ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хникумы, колледжи, лицеи, училища добавляют ещё несколько сотен специаль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File0031"/>
          <p:cNvPicPr/>
          <p:nvPr/>
        </p:nvPicPr>
        <p:blipFill>
          <a:blip r:embed="rId1"/>
          <a:stretch/>
        </p:blipFill>
        <p:spPr>
          <a:xfrm>
            <a:off x="611280" y="4581360"/>
            <a:ext cx="2448000" cy="199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71280" y="836280"/>
            <a:ext cx="5329080" cy="54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возможност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ько вариантов предлагает жизн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 понять КАКАЯ именно профессия ТВО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j0299125"/>
          <p:cNvPicPr/>
          <p:nvPr/>
        </p:nvPicPr>
        <p:blipFill>
          <a:blip r:embed="rId1"/>
          <a:stretch/>
        </p:blipFill>
        <p:spPr>
          <a:xfrm rot="1189200">
            <a:off x="5795640" y="1773360"/>
            <a:ext cx="2550960" cy="340668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0251701"/>
          <p:cNvPicPr/>
          <p:nvPr/>
        </p:nvPicPr>
        <p:blipFill>
          <a:blip r:embed="rId1"/>
          <a:stretch/>
        </p:blipFill>
        <p:spPr>
          <a:xfrm>
            <a:off x="1835280" y="4653000"/>
            <a:ext cx="1706400" cy="182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j0334152"/>
          <p:cNvPicPr/>
          <p:nvPr/>
        </p:nvPicPr>
        <p:blipFill>
          <a:blip r:embed="rId2"/>
          <a:stretch/>
        </p:blipFill>
        <p:spPr>
          <a:xfrm>
            <a:off x="4284720" y="189000"/>
            <a:ext cx="1247760" cy="181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j0230045"/>
          <p:cNvPicPr/>
          <p:nvPr/>
        </p:nvPicPr>
        <p:blipFill>
          <a:blip r:embed="rId3"/>
          <a:stretch/>
        </p:blipFill>
        <p:spPr>
          <a:xfrm>
            <a:off x="6588000" y="476280"/>
            <a:ext cx="1778040" cy="176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285286"/>
          <p:cNvPicPr/>
          <p:nvPr/>
        </p:nvPicPr>
        <p:blipFill>
          <a:blip r:embed="rId4"/>
          <a:stretch/>
        </p:blipFill>
        <p:spPr>
          <a:xfrm>
            <a:off x="2124000" y="836640"/>
            <a:ext cx="1228680" cy="1133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j0284162"/>
          <p:cNvPicPr/>
          <p:nvPr/>
        </p:nvPicPr>
        <p:blipFill>
          <a:blip r:embed="rId5"/>
          <a:stretch/>
        </p:blipFill>
        <p:spPr>
          <a:xfrm>
            <a:off x="7524720" y="4724280"/>
            <a:ext cx="1152720" cy="165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j0398417"/>
          <p:cNvPicPr/>
          <p:nvPr/>
        </p:nvPicPr>
        <p:blipFill>
          <a:blip r:embed="rId6"/>
          <a:stretch/>
        </p:blipFill>
        <p:spPr>
          <a:xfrm>
            <a:off x="1835280" y="2492280"/>
            <a:ext cx="933480" cy="1986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j0404317"/>
          <p:cNvPicPr/>
          <p:nvPr/>
        </p:nvPicPr>
        <p:blipFill>
          <a:blip r:embed="rId7"/>
          <a:stretch/>
        </p:blipFill>
        <p:spPr>
          <a:xfrm>
            <a:off x="4211640" y="3068640"/>
            <a:ext cx="1841400" cy="1301760"/>
          </a:xfrm>
          <a:prstGeom prst="rect">
            <a:avLst/>
          </a:prstGeom>
          <a:ln w="0">
            <a:noFill/>
          </a:ln>
        </p:spPr>
      </p:pic>
      <p:sp>
        <p:nvSpPr>
          <p:cNvPr id="182" name="Line 9"/>
          <p:cNvSpPr/>
          <p:nvPr/>
        </p:nvSpPr>
        <p:spPr>
          <a:xfrm>
            <a:off x="6227640" y="4437000"/>
            <a:ext cx="720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 flipV="1">
            <a:off x="3419280" y="2420640"/>
            <a:ext cx="647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lines4"/>
          <p:cNvPicPr/>
          <p:nvPr/>
        </p:nvPicPr>
        <p:blipFill>
          <a:blip r:embed="rId8"/>
          <a:stretch/>
        </p:blipFill>
        <p:spPr>
          <a:xfrm rot="16200000">
            <a:off x="-3298680" y="3298680"/>
            <a:ext cx="6858000" cy="26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star13"/>
          <p:cNvPicPr/>
          <p:nvPr/>
        </p:nvPicPr>
        <p:blipFill>
          <a:blip r:embed="rId9"/>
          <a:stretch/>
        </p:blipFill>
        <p:spPr>
          <a:xfrm>
            <a:off x="46836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star13"/>
          <p:cNvPicPr/>
          <p:nvPr/>
        </p:nvPicPr>
        <p:blipFill>
          <a:blip r:embed="rId10"/>
          <a:stretch/>
        </p:blipFill>
        <p:spPr>
          <a:xfrm>
            <a:off x="468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7" name="Line 14"/>
          <p:cNvSpPr/>
          <p:nvPr/>
        </p:nvSpPr>
        <p:spPr>
          <a:xfrm flipV="1">
            <a:off x="5076720" y="213372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5076720" y="4508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227640" y="364500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 flipH="1">
            <a:off x="3131640" y="3716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 flipV="1">
            <a:off x="6156360" y="242064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H="1">
            <a:off x="3419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0" descr="j0295164"/>
          <p:cNvPicPr/>
          <p:nvPr/>
        </p:nvPicPr>
        <p:blipFill>
          <a:blip r:embed="rId11"/>
          <a:stretch/>
        </p:blipFill>
        <p:spPr>
          <a:xfrm>
            <a:off x="7451640" y="3429000"/>
            <a:ext cx="1297080" cy="1195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1" descr="j0283856"/>
          <p:cNvPicPr/>
          <p:nvPr/>
        </p:nvPicPr>
        <p:blipFill>
          <a:blip r:embed="rId12"/>
          <a:stretch/>
        </p:blipFill>
        <p:spPr>
          <a:xfrm>
            <a:off x="6588000" y="5157720"/>
            <a:ext cx="93996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j0234669"/>
          <p:cNvPicPr/>
          <p:nvPr/>
        </p:nvPicPr>
        <p:blipFill>
          <a:blip r:embed="rId13"/>
          <a:stretch/>
        </p:blipFill>
        <p:spPr>
          <a:xfrm>
            <a:off x="4500720" y="53737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j0234724"/>
          <p:cNvPicPr/>
          <p:nvPr/>
        </p:nvPicPr>
        <p:blipFill>
          <a:blip r:embed="rId14"/>
          <a:stretch/>
        </p:blipFill>
        <p:spPr>
          <a:xfrm>
            <a:off x="7451640" y="2276640"/>
            <a:ext cx="1228680" cy="92376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472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Учёные – социологи подсчитали, что примерно 40 % молодёжи из – за незнания правил выбора профессии, отсутствия опыта в  профессиональной деятельности избирают профессию, не соответствующую их интересам, склонностям, способностям, внутренним побуждениям. Это влечёт за собой разочарования, даже психические расстройства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8" name="Picture 6" descr="j0283701"/>
          <p:cNvPicPr/>
          <p:nvPr/>
        </p:nvPicPr>
        <p:blipFill>
          <a:blip r:embed="rId1"/>
          <a:stretch/>
        </p:blipFill>
        <p:spPr>
          <a:xfrm>
            <a:off x="7451640" y="4076640"/>
            <a:ext cx="1320840" cy="22320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676520" y="620280"/>
            <a:ext cx="6400800" cy="563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к и экономический урон государства. Ежегодно оно теряет миллиарды рублей, так как более трети выпускников школ поступают учиться и работать  по специальностям, не соответствующим их индивидуальным запросам и потребностям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езультате молодые люди оказываются невостребованными на рынке тру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11"/>
          <p:cNvPicPr/>
          <p:nvPr/>
        </p:nvPicPr>
        <p:blipFill>
          <a:blip r:embed="rId1"/>
          <a:stretch/>
        </p:blipFill>
        <p:spPr>
          <a:xfrm>
            <a:off x="179280" y="2492280"/>
            <a:ext cx="1944720" cy="128772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676520" y="620280"/>
            <a:ext cx="6400800" cy="563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брать  СВОЮ професс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xx"/>
          <p:cNvPicPr/>
          <p:nvPr/>
        </p:nvPicPr>
        <p:blipFill>
          <a:blip r:embed="rId1"/>
          <a:stretch/>
        </p:blipFill>
        <p:spPr>
          <a:xfrm>
            <a:off x="1187280" y="3933720"/>
            <a:ext cx="3097440" cy="25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9:15:23Z</dcterms:created>
  <dc:creator>Пользователь</dc:creator>
  <dc:description/>
  <dc:language>en-US</dc:language>
  <cp:lastModifiedBy>Admin</cp:lastModifiedBy>
  <dcterms:modified xsi:type="dcterms:W3CDTF">2015-01-27T18:56:06Z</dcterms:modified>
  <cp:revision>86</cp:revision>
  <dc:subject/>
  <dc:title>Мой выбор.</dc:title>
</cp:coreProperties>
</file>