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36.gif" ContentType="image/gif"/>
  <Override PartName="/ppt/media/image26.gif" ContentType="image/gif"/>
  <Override PartName="/ppt/media/image19.png" ContentType="image/png"/>
  <Override PartName="/ppt/media/image24.png" ContentType="image/png"/>
  <Override PartName="/ppt/media/image31.gif" ContentType="image/gif"/>
  <Override PartName="/ppt/media/image21.gif" ContentType="image/gif"/>
  <Override PartName="/ppt/media/image10.jpeg" ContentType="image/jpeg"/>
  <Override PartName="/ppt/media/image20.gif" ContentType="image/gif"/>
  <Override PartName="/ppt/media/image13.png" ContentType="image/png"/>
  <Override PartName="/ppt/media/image14.jpeg" ContentType="image/jpeg"/>
  <Override PartName="/ppt/media/image5.gif" ContentType="image/gif"/>
  <Override PartName="/ppt/media/image28.gif" ContentType="image/gif"/>
  <Override PartName="/ppt/media/image9.gif" ContentType="image/gif"/>
  <Override PartName="/ppt/media/image11.png" ContentType="image/png"/>
  <Override PartName="/ppt/media/image30.png" ContentType="image/png"/>
  <Override PartName="/ppt/media/image33.gif" ContentType="image/gif"/>
  <Override PartName="/ppt/media/image38.gif" ContentType="image/gif"/>
  <Override PartName="/ppt/media/image8.gif" ContentType="image/gif"/>
  <Override PartName="/ppt/media/image34.png" ContentType="image/png"/>
  <Override PartName="/ppt/media/image39.png" ContentType="image/png"/>
  <Override PartName="/ppt/media/image7.gif" ContentType="image/gif"/>
  <Override PartName="/ppt/media/image37.gif" ContentType="image/gif"/>
  <Override PartName="/ppt/media/image40.png" ContentType="image/png"/>
  <Override PartName="/ppt/media/image4.gif" ContentType="image/gif"/>
  <Override PartName="/ppt/media/image35.jpeg" ContentType="image/jpeg"/>
  <Override PartName="/ppt/media/image1.jpeg" ContentType="image/jpeg"/>
  <Override PartName="/ppt/media/image27.gif" ContentType="image/gif"/>
  <Override PartName="/ppt/media/image3.png" ContentType="image/png"/>
  <Override PartName="/ppt/media/image23.gif" ContentType="image/gif"/>
  <Override PartName="/ppt/media/image17.jpeg" ContentType="image/jpeg"/>
  <Override PartName="/ppt/media/image12.gif" ContentType="image/gif"/>
  <Override PartName="/ppt/media/image32.png" ContentType="image/png"/>
  <Override PartName="/ppt/media/image2.png" ContentType="image/png"/>
  <Override PartName="/ppt/media/image18.jpeg" ContentType="image/jpeg"/>
  <Override PartName="/ppt/media/image15.png" ContentType="image/png"/>
  <Override PartName="/ppt/media/image22.gif" ContentType="image/gif"/>
  <Override PartName="/ppt/media/image25.png" ContentType="image/png"/>
  <Override PartName="/ppt/media/image1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561-7B29-481E-86D1-4C891B76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D25-12F8-4138-AC1B-260847E2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F62-C76F-48F3-8190-BC303E46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45D-44DC-4F2F-BFE6-6729C15A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D3A-51B0-432A-A225-C2551012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E88-BE05-44A0-BAD8-D72B3865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4AD-D871-4D09-BAD1-AC7D3832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E71-AD9E-40DA-A532-A0D09EA4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2F2-F690-4ADC-899B-648FCF19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659-7D6F-4E3C-B6E1-78A8E12E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5C8-F171-4774-8E16-4E0FA442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838-6DCE-478F-99F3-7739A1EC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FD06-342B-4B1B-B04E-409C8561B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hyperlink" Target="http://brocgaus.ru/pictures_fail/072/822_1.htm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brocgaus.ru/pictures_fail/072/822_2.htm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8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rocgaus.ru/text/101/610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rocgaus.ru/text/100/348.htm" TargetMode="External"/><Relationship Id="rId2" Type="http://schemas.openxmlformats.org/officeDocument/2006/relationships/hyperlink" Target="http://brocgaus.ru/text/075/400.htm" TargetMode="External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miles.rc-mir.com/smile.35818.html" TargetMode="External"/><Relationship Id="rId2" Type="http://schemas.openxmlformats.org/officeDocument/2006/relationships/image" Target="../media/image8.gif"/><Relationship Id="rId3" Type="http://schemas.openxmlformats.org/officeDocument/2006/relationships/hyperlink" Target="http://smiles.rc-mir.com/smile.35778.html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4724280"/>
            <a:ext cx="2590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ма: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Олефины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1066680"/>
            <a:ext cx="2133720" cy="1676520"/>
          </a:xfrm>
          <a:prstGeom prst="ellipse">
            <a:avLst/>
          </a:prstGeom>
          <a:noFill/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03480" cy="4800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066680" y="457200"/>
            <a:ext cx="685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зические свойства этилена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43000"/>
            <a:ext cx="4952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  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Этилен – </a:t>
            </a:r>
            <a:r>
              <a:rPr b="0" i="1" lang="en-US" sz="4400" spc="-1" strike="noStrike">
                <a:solidFill>
                  <a:srgbClr val="3333ff"/>
                </a:solidFill>
                <a:latin typeface="Arial"/>
              </a:rPr>
              <a:t>бесцветный газ, почти без запаха, немного легче воздуха плохо растворим в воде.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66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447920"/>
            <a:ext cx="4419720" cy="2133360"/>
          </a:xfrm>
          <a:prstGeom prst="parallelogram">
            <a:avLst>
              <a:gd name="adj" fmla="val 51793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828800"/>
            <a:ext cx="304920" cy="77472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248800">
            <a:off x="1409760" y="2171880"/>
            <a:ext cx="380880" cy="76176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3584000">
            <a:off x="844200" y="2431440"/>
            <a:ext cx="304920" cy="77472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266200">
            <a:off x="1294920" y="2133720"/>
            <a:ext cx="152640" cy="46980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8866200">
            <a:off x="1294560" y="2514600"/>
            <a:ext cx="174600" cy="44784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170400">
            <a:off x="914400" y="2209680"/>
            <a:ext cx="204840" cy="50940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752480"/>
            <a:ext cx="30456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819520"/>
            <a:ext cx="3049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7553000">
            <a:off x="2023920" y="2141640"/>
            <a:ext cx="387360" cy="92052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3706800">
            <a:off x="2704680" y="2171880"/>
            <a:ext cx="380880" cy="76212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0644600">
            <a:off x="2511000" y="2742840"/>
            <a:ext cx="304920" cy="68580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3102200">
            <a:off x="2437920" y="2666520"/>
            <a:ext cx="152640" cy="45720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3200400"/>
            <a:ext cx="3049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2209680"/>
            <a:ext cx="30456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2286000"/>
            <a:ext cx="193680" cy="44784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6538800">
            <a:off x="2760120" y="2573280"/>
            <a:ext cx="157320" cy="49680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8288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31240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16002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2057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981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838080"/>
            <a:ext cx="4343400" cy="2743200"/>
          </a:xfrm>
          <a:prstGeom prst="parallelogram">
            <a:avLst>
              <a:gd name="adj" fmla="val 39583"/>
            </a:avLst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914400"/>
            <a:ext cx="587160" cy="1170000"/>
          </a:xfrm>
          <a:custGeom>
            <a:avLst/>
            <a:gdLst/>
            <a:ahLst/>
            <a:rect l="l" t="t" r="r" b="b"/>
            <a:pathLst>
              <a:path w="370" h="737">
                <a:moveTo>
                  <a:pt x="131" y="709"/>
                </a:moveTo>
                <a:cubicBezTo>
                  <a:pt x="110" y="618"/>
                  <a:pt x="0" y="275"/>
                  <a:pt x="2" y="160"/>
                </a:cubicBezTo>
                <a:cubicBezTo>
                  <a:pt x="4" y="45"/>
                  <a:pt x="90" y="32"/>
                  <a:pt x="146" y="16"/>
                </a:cubicBezTo>
                <a:cubicBezTo>
                  <a:pt x="202" y="0"/>
                  <a:pt x="306" y="16"/>
                  <a:pt x="338" y="64"/>
                </a:cubicBezTo>
                <a:cubicBezTo>
                  <a:pt x="370" y="112"/>
                  <a:pt x="348" y="201"/>
                  <a:pt x="338" y="304"/>
                </a:cubicBezTo>
                <a:cubicBezTo>
                  <a:pt x="328" y="407"/>
                  <a:pt x="299" y="627"/>
                  <a:pt x="275" y="682"/>
                </a:cubicBezTo>
                <a:cubicBezTo>
                  <a:pt x="251" y="737"/>
                  <a:pt x="215" y="636"/>
                  <a:pt x="194" y="637"/>
                </a:cubicBezTo>
                <a:cubicBezTo>
                  <a:pt x="173" y="638"/>
                  <a:pt x="164" y="691"/>
                  <a:pt x="149" y="691"/>
                </a:cubicBezTo>
                <a:cubicBezTo>
                  <a:pt x="134" y="691"/>
                  <a:pt x="112" y="646"/>
                  <a:pt x="104" y="637"/>
                </a:cubicBezTo>
                <a:cubicBezTo>
                  <a:pt x="96" y="628"/>
                  <a:pt x="104" y="637"/>
                  <a:pt x="104" y="63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59600">
            <a:off x="7162920" y="914040"/>
            <a:ext cx="587160" cy="1170000"/>
          </a:xfrm>
          <a:custGeom>
            <a:avLst/>
            <a:gdLst/>
            <a:ahLst/>
            <a:rect l="l" t="t" r="r" b="b"/>
            <a:pathLst>
              <a:path w="370" h="737">
                <a:moveTo>
                  <a:pt x="131" y="709"/>
                </a:moveTo>
                <a:cubicBezTo>
                  <a:pt x="110" y="618"/>
                  <a:pt x="0" y="275"/>
                  <a:pt x="2" y="160"/>
                </a:cubicBezTo>
                <a:cubicBezTo>
                  <a:pt x="4" y="45"/>
                  <a:pt x="90" y="32"/>
                  <a:pt x="146" y="16"/>
                </a:cubicBezTo>
                <a:cubicBezTo>
                  <a:pt x="202" y="0"/>
                  <a:pt x="306" y="16"/>
                  <a:pt x="338" y="64"/>
                </a:cubicBezTo>
                <a:cubicBezTo>
                  <a:pt x="370" y="112"/>
                  <a:pt x="348" y="201"/>
                  <a:pt x="338" y="304"/>
                </a:cubicBezTo>
                <a:cubicBezTo>
                  <a:pt x="328" y="407"/>
                  <a:pt x="299" y="627"/>
                  <a:pt x="275" y="682"/>
                </a:cubicBezTo>
                <a:cubicBezTo>
                  <a:pt x="251" y="737"/>
                  <a:pt x="215" y="636"/>
                  <a:pt x="194" y="637"/>
                </a:cubicBezTo>
                <a:cubicBezTo>
                  <a:pt x="173" y="638"/>
                  <a:pt x="164" y="691"/>
                  <a:pt x="149" y="691"/>
                </a:cubicBezTo>
                <a:cubicBezTo>
                  <a:pt x="134" y="691"/>
                  <a:pt x="112" y="646"/>
                  <a:pt x="104" y="637"/>
                </a:cubicBezTo>
                <a:cubicBezTo>
                  <a:pt x="96" y="628"/>
                  <a:pt x="104" y="637"/>
                  <a:pt x="104" y="63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1581200">
            <a:off x="5867280" y="2285640"/>
            <a:ext cx="587520" cy="1170000"/>
          </a:xfrm>
          <a:custGeom>
            <a:avLst/>
            <a:gdLst/>
            <a:ahLst/>
            <a:rect l="l" t="t" r="r" b="b"/>
            <a:pathLst>
              <a:path w="370" h="737">
                <a:moveTo>
                  <a:pt x="131" y="709"/>
                </a:moveTo>
                <a:cubicBezTo>
                  <a:pt x="110" y="618"/>
                  <a:pt x="0" y="275"/>
                  <a:pt x="2" y="160"/>
                </a:cubicBezTo>
                <a:cubicBezTo>
                  <a:pt x="4" y="45"/>
                  <a:pt x="90" y="32"/>
                  <a:pt x="146" y="16"/>
                </a:cubicBezTo>
                <a:cubicBezTo>
                  <a:pt x="202" y="0"/>
                  <a:pt x="306" y="16"/>
                  <a:pt x="338" y="64"/>
                </a:cubicBezTo>
                <a:cubicBezTo>
                  <a:pt x="370" y="112"/>
                  <a:pt x="348" y="201"/>
                  <a:pt x="338" y="304"/>
                </a:cubicBezTo>
                <a:cubicBezTo>
                  <a:pt x="328" y="407"/>
                  <a:pt x="299" y="627"/>
                  <a:pt x="275" y="682"/>
                </a:cubicBezTo>
                <a:cubicBezTo>
                  <a:pt x="251" y="737"/>
                  <a:pt x="215" y="636"/>
                  <a:pt x="194" y="637"/>
                </a:cubicBezTo>
                <a:cubicBezTo>
                  <a:pt x="173" y="638"/>
                  <a:pt x="164" y="691"/>
                  <a:pt x="149" y="691"/>
                </a:cubicBezTo>
                <a:cubicBezTo>
                  <a:pt x="134" y="691"/>
                  <a:pt x="112" y="646"/>
                  <a:pt x="104" y="637"/>
                </a:cubicBezTo>
                <a:cubicBezTo>
                  <a:pt x="96" y="628"/>
                  <a:pt x="104" y="637"/>
                  <a:pt x="104" y="63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6858000" y="2286000"/>
            <a:ext cx="587520" cy="1170000"/>
          </a:xfrm>
          <a:custGeom>
            <a:avLst/>
            <a:gdLst/>
            <a:ahLst/>
            <a:rect l="l" t="t" r="r" b="b"/>
            <a:pathLst>
              <a:path w="370" h="737">
                <a:moveTo>
                  <a:pt x="131" y="709"/>
                </a:moveTo>
                <a:cubicBezTo>
                  <a:pt x="110" y="618"/>
                  <a:pt x="0" y="275"/>
                  <a:pt x="2" y="160"/>
                </a:cubicBezTo>
                <a:cubicBezTo>
                  <a:pt x="4" y="45"/>
                  <a:pt x="90" y="32"/>
                  <a:pt x="146" y="16"/>
                </a:cubicBezTo>
                <a:cubicBezTo>
                  <a:pt x="202" y="0"/>
                  <a:pt x="306" y="16"/>
                  <a:pt x="338" y="64"/>
                </a:cubicBezTo>
                <a:cubicBezTo>
                  <a:pt x="370" y="112"/>
                  <a:pt x="348" y="201"/>
                  <a:pt x="338" y="304"/>
                </a:cubicBezTo>
                <a:cubicBezTo>
                  <a:pt x="328" y="407"/>
                  <a:pt x="299" y="627"/>
                  <a:pt x="275" y="682"/>
                </a:cubicBezTo>
                <a:cubicBezTo>
                  <a:pt x="251" y="737"/>
                  <a:pt x="215" y="636"/>
                  <a:pt x="194" y="637"/>
                </a:cubicBezTo>
                <a:cubicBezTo>
                  <a:pt x="173" y="638"/>
                  <a:pt x="164" y="691"/>
                  <a:pt x="149" y="691"/>
                </a:cubicBezTo>
                <a:cubicBezTo>
                  <a:pt x="134" y="691"/>
                  <a:pt x="112" y="646"/>
                  <a:pt x="104" y="637"/>
                </a:cubicBezTo>
                <a:cubicBezTo>
                  <a:pt x="96" y="628"/>
                  <a:pt x="104" y="637"/>
                  <a:pt x="104" y="63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1981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1981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866920" y="182844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791320" y="22860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467480" y="1904760"/>
            <a:ext cx="3812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22860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2860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16765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17524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0481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2362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1522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вяз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7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соответствует строению э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600" y="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оение алкенов 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8560" y="42670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42670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80520" y="411444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04920" y="45720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828800" y="4267080"/>
            <a:ext cx="476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5720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5720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3962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4114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4648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28880" y="4370400"/>
            <a:ext cx="571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28880" y="4522680"/>
            <a:ext cx="571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5812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0000"/>
                </a:solidFill>
                <a:latin typeface="Arial"/>
                <a:ea typeface="Arial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441972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3733920"/>
            <a:ext cx="35049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руктурная форму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арактеристика связи С=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1)двойная                           2)Вид связи: </a:t>
            </a:r>
            <a:r>
              <a:rPr b="1" lang="el-GR" sz="1800" spc="-1" strike="noStrike">
                <a:solidFill>
                  <a:srgbClr val="660066"/>
                </a:solidFill>
                <a:latin typeface="Arial"/>
              </a:rPr>
              <a:t>π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660066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3) Длина связи: </a:t>
            </a:r>
            <a:r>
              <a:rPr b="1" lang="el-GR" sz="1800" spc="-1" strike="noStrike">
                <a:solidFill>
                  <a:srgbClr val="660066"/>
                </a:solidFill>
                <a:latin typeface="Arial"/>
              </a:rPr>
              <a:t>π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=0,134 н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562720"/>
            <a:ext cx="4114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4)вид гибридизации: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5)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алентный угол: 120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6) ф-ла молекулы: плоск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5880" y="3809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6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3740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52280" y="152280"/>
            <a:ext cx="8610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ffccff"/>
                </a:solidFill>
                <a:latin typeface="Onyx"/>
              </a:rPr>
              <a:t>Радикалы</a:t>
            </a:r>
            <a:endParaRPr b="0" lang="en-US" sz="1800" spc="1" strike="noStrike">
              <a:ln w="9360">
                <a:solidFill>
                  <a:srgbClr val="ffcccc"/>
                </a:solidFill>
                <a:miter/>
              </a:ln>
              <a:solidFill>
                <a:srgbClr val="ffccff"/>
              </a:solidFill>
              <a:latin typeface="Onyx"/>
              <a:ea typeface="Onyx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219320"/>
            <a:ext cx="434340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ля непредельных соединений существуют свои одновалентные радик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2438280"/>
            <a:ext cx="2057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876920"/>
            <a:ext cx="3581280" cy="1727640"/>
          </a:xfrm>
          <a:prstGeom prst="rect">
            <a:avLst/>
          </a:prstGeom>
          <a:noFill/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          -молек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радик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4952880"/>
            <a:ext cx="6094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5791320"/>
            <a:ext cx="5335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43828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33526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3886200"/>
            <a:ext cx="1295280" cy="1371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"/>
              </a:rPr>
              <a:t>ви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1523880"/>
            <a:ext cx="22096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-C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2438280"/>
            <a:ext cx="60984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971800"/>
            <a:ext cx="1524240" cy="15238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"/>
              </a:rPr>
              <a:t>пропи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666880" y="228600"/>
            <a:ext cx="3276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Изоме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066320" y="685800"/>
            <a:ext cx="1600200" cy="38088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990720"/>
            <a:ext cx="76320" cy="2286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990720"/>
            <a:ext cx="1905120" cy="205740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990720"/>
            <a:ext cx="1524240" cy="38088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143000"/>
            <a:ext cx="2590920" cy="1008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Разветвление углеродного ске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429000"/>
            <a:ext cx="2362320" cy="7038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Межклассовая изом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3124080"/>
            <a:ext cx="236232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Положение двойной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1447920"/>
            <a:ext cx="266688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Пространственная изомерия (стереоизомер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42670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438280" y="4724280"/>
            <a:ext cx="914400" cy="533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724280"/>
            <a:ext cx="228600" cy="533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5334120"/>
            <a:ext cx="457200" cy="5331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56960" y="5334120"/>
            <a:ext cx="301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СН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CH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3886200"/>
            <a:ext cx="3124080" cy="1065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СН</a:t>
            </a:r>
            <a:r>
              <a:rPr b="1" lang="ru-RU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CH</a:t>
            </a:r>
            <a:r>
              <a:rPr b="1" lang="ru-RU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-25000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утен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952880"/>
            <a:ext cx="3200400" cy="12283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CH</a:t>
            </a:r>
            <a:r>
              <a:rPr b="1" lang="ru-RU" sz="28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- CH=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-СН</a:t>
            </a:r>
            <a:r>
              <a:rPr b="1" lang="ru-RU" sz="28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бутен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514600"/>
            <a:ext cx="2362320" cy="904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H</a:t>
            </a:r>
            <a:r>
              <a:rPr b="1" lang="ru-RU" sz="2000" spc="-1" strike="noStrike" baseline="-25000">
                <a:solidFill>
                  <a:srgbClr val="3333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- CH=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-СН</a:t>
            </a:r>
            <a:r>
              <a:rPr b="1" lang="ru-RU" sz="2000" spc="-1" strike="noStrike" baseline="-25000">
                <a:solidFill>
                  <a:srgbClr val="3333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бутен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657600"/>
            <a:ext cx="2362320" cy="1451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ru-RU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-СН</a:t>
            </a:r>
            <a:r>
              <a:rPr b="1" lang="ru-RU" sz="2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ru-RU" sz="2000" spc="-1" strike="noStrike" baseline="-25000">
                <a:solidFill>
                  <a:srgbClr val="ffff00"/>
                </a:solidFill>
                <a:latin typeface="Arial"/>
              </a:rPr>
              <a:t>3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-метилпроп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9625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00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Пространственная изомерия (стереоизомер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98108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Данная изомерия представляет собой расположение радикала в разных плоскостях относительно двойной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16765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Для наличия пространственной изомерии необходимы следующи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3276720"/>
            <a:ext cx="3733920" cy="1334160"/>
          </a:xfrm>
          <a:prstGeom prst="rect">
            <a:avLst/>
          </a:prstGeom>
          <a:solidFill>
            <a:srgbClr val="00ff99"/>
          </a:solidFill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Наличие двойной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Наличие разных радикалов у каждого  атома углерода при двойной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4191120"/>
            <a:ext cx="4724280" cy="57960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H</a:t>
            </a:r>
            <a:r>
              <a:rPr b="1" lang="ru-RU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- CH=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-СН</a:t>
            </a:r>
            <a:r>
              <a:rPr b="1" lang="ru-RU" sz="2800" spc="-1" strike="noStrike" baseline="-25000">
                <a:solidFill>
                  <a:srgbClr val="ff3300"/>
                </a:solidFill>
                <a:latin typeface="Arial"/>
              </a:rPr>
              <a:t>3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бутен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38400" y="5562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5562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990720" y="5409720"/>
            <a:ext cx="38088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914400" y="5867280"/>
            <a:ext cx="38088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438280" y="5486040"/>
            <a:ext cx="45720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5867280"/>
            <a:ext cx="38124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518148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2578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38360" y="5665680"/>
            <a:ext cx="57132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38360" y="5818320"/>
            <a:ext cx="5713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943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94360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6461280"/>
            <a:ext cx="1981080" cy="3988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50000">
                <a:srgbClr val="00ffff"/>
              </a:gs>
              <a:gs pos="100000">
                <a:srgbClr val="cc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нсбутен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67600" y="525780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62920" y="525780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6019920" y="5105160"/>
            <a:ext cx="38088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943600" y="5562720"/>
            <a:ext cx="38088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467480" y="5181480"/>
            <a:ext cx="4572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67480" y="5562720"/>
            <a:ext cx="38124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487692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5562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67560" y="5361120"/>
            <a:ext cx="5713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67560" y="5513400"/>
            <a:ext cx="5713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6386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48720" y="487692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6156360"/>
            <a:ext cx="1981080" cy="3988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50000">
                <a:srgbClr val="00ffff"/>
              </a:gs>
              <a:gs pos="100000">
                <a:srgbClr val="cc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исбутен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257800" y="457200"/>
            <a:ext cx="152388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971440" y="380880"/>
            <a:ext cx="106668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457200"/>
            <a:ext cx="7621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905120" y="380880"/>
            <a:ext cx="121896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5003640"/>
            <a:ext cx="1905120" cy="1854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3885840"/>
            <a:ext cx="25909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из солей β-галоидозамещенных предельных кис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500720" y="4567320"/>
            <a:ext cx="3695760" cy="409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4500720" y="4948200"/>
            <a:ext cx="2829240" cy="676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612880" y="131760"/>
            <a:ext cx="30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лефины образу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04920"/>
            <a:ext cx="1981080" cy="311148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при сухой перегонке органических веществ (при перегонке парафина под давлением (Торпе и Юнг), при сухой перегонке каменного уг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752120" y="30492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7400" y="609480"/>
            <a:ext cx="2514600" cy="31114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при отщеплении элементов воды от предельных спиртов С n Н 2n+2 O под влиянием водоотнимающих веществ (например, фосфорный ангидрид, серная кислота, хлористый ци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228600"/>
            <a:ext cx="2998800" cy="916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при перегонке сложных эфиров жирных кис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428640" y="4572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5335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1295280"/>
            <a:ext cx="3962160" cy="15404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при отнятии спиртовой едкой щелочью галоидоводорода от галоидангидридов одноатомных спиртов: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+ KOH + 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I + Н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5335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3886200"/>
            <a:ext cx="2743200" cy="1191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) при нагревании выше точки кипения некоторых кислот ряда С n Н 2n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647960" y="609480"/>
            <a:ext cx="7596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2895480"/>
            <a:ext cx="4038480" cy="916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) при сухой перегонке (Фиттиг) некоторых двузамещенных гомологов параконовой 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257800" y="3809880"/>
            <a:ext cx="3886200" cy="430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019920" y="4568760"/>
            <a:ext cx="2895480" cy="20516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) при перегонке под уменьшенным давлением бариевых солей некоторых высших кислот ряда 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в присутствии метилата нат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3720" y="5392800"/>
            <a:ext cx="2971800" cy="1503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) из бромосоединений 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при действии натрия или цинка (цинковой пыли) в присутствии спи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2933640" cy="3886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828800" y="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имические свойств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40920" y="2666880"/>
            <a:ext cx="58636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&gt;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H</a:t>
            </a:r>
            <a:r>
              <a:rPr b="1" lang="ru-RU" sz="40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илен                 э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09680" y="1143000"/>
            <a:ext cx="6477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) Гидрирование-</a:t>
            </a:r>
            <a:endParaRPr b="0" i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соединение водорода</a:t>
            </a:r>
            <a:endParaRPr b="0" i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4419720" y="4495680"/>
            <a:ext cx="4724280" cy="2362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800600" y="3174840"/>
            <a:ext cx="5181480" cy="3683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rcRect l="6331" t="0" r="45575" b="90197"/>
          <a:stretch/>
        </p:blipFill>
        <p:spPr>
          <a:xfrm>
            <a:off x="0" y="3200400"/>
            <a:ext cx="5715000" cy="901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Arial"/>
              </a:rPr>
              <a:t>2) Полное окисление алкенов - сходство со всеми органическими соедине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040" y="1828800"/>
            <a:ext cx="5895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+3</a:t>
            </a: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О</a:t>
            </a:r>
            <a:r>
              <a:rPr b="1" lang="ru-RU" sz="40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&gt;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О</a:t>
            </a:r>
            <a:r>
              <a:rPr b="1" lang="ru-RU" sz="4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+3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7" dur="2240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1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4246560"/>
            <a:ext cx="2743200" cy="2611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6331" t="11450" r="53165" b="82021"/>
          <a:stretch/>
        </p:blipFill>
        <p:spPr>
          <a:xfrm>
            <a:off x="609480" y="0"/>
            <a:ext cx="5943600" cy="743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rcRect l="0" t="50955" r="-1260" b="39242"/>
          <a:stretch/>
        </p:blipFill>
        <p:spPr>
          <a:xfrm>
            <a:off x="2666880" y="5257800"/>
            <a:ext cx="6477120" cy="7621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0666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4)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Присоединение галогенов- первая качественная реа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209680"/>
            <a:ext cx="891540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Br</a:t>
            </a:r>
            <a:r>
              <a:rPr b="1" lang="ru-RU" sz="40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&gt;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H</a:t>
            </a:r>
            <a:r>
              <a:rPr b="1" lang="ru-RU" sz="4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ромная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да            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Br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                                    </a:t>
            </a: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дибромбу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289548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289548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685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8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rcRect l="2778" t="60495" r="16668" b="11723"/>
          <a:stretch/>
        </p:blipFill>
        <p:spPr>
          <a:xfrm>
            <a:off x="0" y="0"/>
            <a:ext cx="6629400" cy="1771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rcRect l="10126" t="86660" r="0" b="273"/>
          <a:stretch/>
        </p:blipFill>
        <p:spPr>
          <a:xfrm>
            <a:off x="609480" y="3809880"/>
            <a:ext cx="7772400" cy="874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0880" y="4724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молекула несимметрична,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2360" y="5181480"/>
            <a:ext cx="604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-CH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+ Н-ОН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809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5562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91120" y="5911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панол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2133360" cy="20210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6324480" y="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3" dur="24067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7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66ff33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458200" cy="2666880"/>
          </a:xfrm>
          <a:prstGeom prst="rect">
            <a:avLst/>
          </a:prstGeom>
          <a:noFill/>
          <a:ln cap="rnd" w="38160">
            <a:solidFill>
              <a:srgbClr val="8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До недавнего времени под Олефинами подразумевались вообще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углеводороды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общей формулы 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 baseline="-30000">
                <a:solidFill>
                  <a:srgbClr val="ff0066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Н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 baseline="-25000">
                <a:solidFill>
                  <a:srgbClr val="ff0066"/>
                </a:solidFill>
                <a:latin typeface="Arial"/>
              </a:rPr>
              <a:t>2n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228600"/>
            <a:ext cx="8610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Ложные представления об олефинах...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24080" y="3975120"/>
            <a:ext cx="3353040" cy="288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345360" y="3733920"/>
            <a:ext cx="2798640" cy="312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3733920"/>
            <a:ext cx="2635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8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0" t="0" r="0" b="62148"/>
          <a:stretch/>
        </p:blipFill>
        <p:spPr>
          <a:xfrm>
            <a:off x="0" y="0"/>
            <a:ext cx="9144000" cy="1874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1905120"/>
            <a:ext cx="9144000" cy="9471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66"/>
                </a:solidFill>
                <a:latin typeface="Arial"/>
              </a:rPr>
              <a:t>Реакция неполного окисления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вторая качественная реакц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на алк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638680" y="4033800"/>
            <a:ext cx="3124440" cy="2824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0" y="29718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7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0" dur="34534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rcRect l="11965" t="39443" r="3419" b="10088"/>
          <a:stretch/>
        </p:blipFill>
        <p:spPr>
          <a:xfrm>
            <a:off x="0" y="160020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228600" y="228600"/>
            <a:ext cx="868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имериза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791320" y="4449600"/>
            <a:ext cx="3200400" cy="2408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5486400" cy="36036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657600" cy="34588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0" y="0"/>
            <a:ext cx="9144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учение этилена и его гомолог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362320" y="4486320"/>
            <a:ext cx="2590560" cy="23716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0" y="4495680"/>
            <a:ext cx="2590920" cy="2111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5410080" y="405756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9" dur="2240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73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7c80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553080" y="4267080"/>
            <a:ext cx="2590920" cy="2409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3505320" cy="24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0" y="0"/>
            <a:ext cx="914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алкенов 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85800"/>
            <a:ext cx="5943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1. получение пластмасс – изготовление посуды, труб, пленки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2. получение этанола – растворитель, используется в органическом синтез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3. получение этиленгликоля – антифриз – понижает температуру замерзания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Arial"/>
              </a:rPr>
              <a:t>4. в продуктах переработки нефти и природ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ff"/>
                </a:solidFill>
                <a:latin typeface="Arial"/>
              </a:rPr>
              <a:t>5. для синтеза полимеров и других ценных промышленных  продук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594360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риметилен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других полиметиленовых углеводородов показало, что между ними возможны вещества, обладающие характером, который до известной степени напоминает характер углеводородов ряда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С </a:t>
            </a:r>
            <a:r>
              <a:rPr b="1" lang="en-US" sz="2800" spc="-1" strike="noStrike" baseline="-30000">
                <a:solidFill>
                  <a:srgbClr val="ff0066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Н 2n+2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арафины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, а потому теперь определяют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леф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как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мещенные этиле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С </a:t>
            </a:r>
            <a:r>
              <a:rPr b="1" lang="en-US" sz="2800" spc="-1" strike="noStrike" baseline="-30000">
                <a:solidFill>
                  <a:srgbClr val="66003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Н </a:t>
            </a:r>
            <a:r>
              <a:rPr b="1" lang="en-US" sz="2800" spc="-1" strike="noStrike" baseline="-30000">
                <a:solidFill>
                  <a:srgbClr val="660033"/>
                </a:solidFill>
                <a:latin typeface="Arial"/>
              </a:rPr>
              <a:t>4-m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R</a:t>
            </a:r>
            <a:r>
              <a:rPr b="1" lang="en-US" sz="2800" spc="-1" strike="noStrike" baseline="-30000">
                <a:solidFill>
                  <a:srgbClr val="660033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R = С </a:t>
            </a:r>
            <a:r>
              <a:rPr b="1" i="1" lang="en-US" sz="2800" spc="-1" strike="noStrike" baseline="-30000">
                <a:solidFill>
                  <a:srgbClr val="990099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 Н </a:t>
            </a:r>
            <a:r>
              <a:rPr b="1" i="1" lang="en-US" sz="2800" spc="-1" strike="noStrike" baseline="-30000">
                <a:solidFill>
                  <a:srgbClr val="990099"/>
                </a:solidFill>
                <a:latin typeface="Arial"/>
              </a:rPr>
              <a:t>2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= 1, 2, 3 и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5943600" cy="581400"/>
          </a:xfrm>
          <a:prstGeom prst="rect">
            <a:avLst/>
          </a:prstGeom>
          <a:solidFill>
            <a:srgbClr val="ffff66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вые откры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95880" y="4402080"/>
            <a:ext cx="2743200" cy="245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2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ff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819520"/>
            <a:ext cx="3505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насыщенные ациклические углеводороды, содержащие в молекуле одну двойную связь С=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0"/>
            <a:ext cx="8229600" cy="12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ЛЕФИ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523880"/>
            <a:ext cx="4572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алкены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1295280"/>
            <a:ext cx="3505320" cy="139032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форму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2n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где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≥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24280" y="3086280"/>
            <a:ext cx="4114800" cy="3771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371600"/>
            <a:ext cx="5334120" cy="34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вый член ряда олефин- </a:t>
            </a:r>
            <a:r>
              <a:rPr b="1" i="1" lang="en-US" sz="3600" spc="-1" strike="noStrike" u="sng">
                <a:solidFill>
                  <a:srgbClr val="6600ff"/>
                </a:solidFill>
                <a:uFillTx/>
                <a:latin typeface="Arial"/>
              </a:rPr>
              <a:t>этилен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H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=СH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поэтому олефины называют также </a:t>
            </a:r>
            <a:r>
              <a:rPr b="1" lang="en-US" sz="3600" spc="-1" strike="noStrike" u="sng">
                <a:solidFill>
                  <a:srgbClr val="ff6600"/>
                </a:solidFill>
                <a:uFillTx/>
                <a:latin typeface="Forte"/>
              </a:rPr>
              <a:t>этиленовыми углеводородам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228600"/>
            <a:ext cx="815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latin typeface="Latha"/>
              </a:rPr>
              <a:t>2-ое название олефин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00"/>
              </a:solidFill>
              <a:latin typeface="Latha"/>
              <a:ea typeface="Latha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3683160"/>
            <a:ext cx="3276720" cy="3174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1447920"/>
            <a:ext cx="2667240" cy="2555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7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0"/>
            <a:ext cx="8305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мологический ряд </a:t>
            </a:r>
            <a:endParaRPr b="0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предельных соединений(алкенов)</a:t>
            </a:r>
            <a:endParaRPr b="0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600200"/>
          <a:ext cx="5638680" cy="4657680"/>
        </p:xfrm>
        <a:graphic>
          <a:graphicData uri="http://schemas.openxmlformats.org/drawingml/2006/table">
            <a:tbl>
              <a:tblPr/>
              <a:tblGrid>
                <a:gridCol w="1828800"/>
                <a:gridCol w="380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 (эте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илен (пропе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тилен (буте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кс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п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н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019920" y="1752480"/>
            <a:ext cx="3124080" cy="25318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 систематической номенклатуре суффи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 u="sng">
                <a:solidFill>
                  <a:srgbClr val="6600cc"/>
                </a:solidFill>
                <a:uFillTx/>
                <a:latin typeface="Harlow Solid Italic"/>
              </a:rPr>
              <a:t>ан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Harlow Solid Italic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заменяется на суффикс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 u="sng">
                <a:solidFill>
                  <a:srgbClr val="6600cc"/>
                </a:solidFill>
                <a:uFillTx/>
                <a:latin typeface="Harlow Solid Italic"/>
              </a:rPr>
              <a:t>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05920" y="198108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720"/>
            <a:ext cx="8839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Номенклатура алк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Название радикалов и их местоположение + название главной цепи с заменой суффикса с – «ан»  на – «ен» (указывает на наличие двойной связи) + цифра, указывающая местоположение двойной связи. Нумерация начинается с того конца, к которому ближе расположена двойная связь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0" y="3352680"/>
            <a:ext cx="4693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       2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СН –СН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проп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76920" y="3981600"/>
            <a:ext cx="4267080" cy="2876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4572000"/>
            <a:ext cx="4572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2     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С– СН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       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    СН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  2-метилпропен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37360" y="3666960"/>
            <a:ext cx="2906640" cy="3191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99072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 гомологическом ряду наблюдается следующие закономер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52280"/>
            <a:ext cx="914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ономерности гомологического ряд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2514600"/>
          <a:ext cx="5029200" cy="3189240"/>
        </p:xfrm>
        <a:graphic>
          <a:graphicData uri="http://schemas.openxmlformats.org/drawingml/2006/table">
            <a:tbl>
              <a:tblPr/>
              <a:tblGrid>
                <a:gridCol w="2666880"/>
                <a:gridCol w="2362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грегатное 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аз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3333ff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3333ff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2800" spc="-1" strike="noStrike" baseline="-25000">
                          <a:solidFill>
                            <a:srgbClr val="3333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2800" spc="-1" strike="noStrike" baseline="-25000">
                          <a:solidFill>
                            <a:srgbClr val="3333ff"/>
                          </a:solidFill>
                          <a:latin typeface="Arial"/>
                        </a:rPr>
                        <a:t>18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2800" spc="-1" strike="noStrike" baseline="-25000">
                          <a:solidFill>
                            <a:srgbClr val="3333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жидк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с </a:t>
                      </a:r>
                      <a:r>
                        <a:rPr b="1" lang="en-U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2800" spc="-1" strike="noStrike" baseline="-25000">
                          <a:solidFill>
                            <a:srgbClr val="cc0099"/>
                          </a:solidFill>
                          <a:latin typeface="Arial"/>
                        </a:rPr>
                        <a:t>19</a:t>
                      </a:r>
                      <a:r>
                        <a:rPr b="1" lang="en-U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2800" spc="-1" strike="noStrike" baseline="-25000">
                          <a:solidFill>
                            <a:srgbClr val="cc0099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тверд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баша</cp:lastModifiedBy>
  <dcterms:modified xsi:type="dcterms:W3CDTF">2015-01-27T14:30:46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