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36.gif" ContentType="image/gif"/>
  <Override PartName="/ppt/media/image26.gif" ContentType="image/gif"/>
  <Override PartName="/ppt/media/image19.png" ContentType="image/png"/>
  <Override PartName="/ppt/media/image24.png" ContentType="image/png"/>
  <Override PartName="/ppt/media/image31.gif" ContentType="image/gif"/>
  <Override PartName="/ppt/media/image21.gif" ContentType="image/gif"/>
  <Override PartName="/ppt/media/image10.jpeg" ContentType="image/jpeg"/>
  <Override PartName="/ppt/media/image20.gif" ContentType="image/gif"/>
  <Override PartName="/ppt/media/image13.png" ContentType="image/png"/>
  <Override PartName="/ppt/media/image14.jpeg" ContentType="image/jpeg"/>
  <Override PartName="/ppt/media/image5.gif" ContentType="image/gif"/>
  <Override PartName="/ppt/media/image28.gif" ContentType="image/gif"/>
  <Override PartName="/ppt/media/image9.gif" ContentType="image/gif"/>
  <Override PartName="/ppt/media/image11.png" ContentType="image/png"/>
  <Override PartName="/ppt/media/image30.png" ContentType="image/png"/>
  <Override PartName="/ppt/media/image33.gif" ContentType="image/gif"/>
  <Override PartName="/ppt/media/image38.gif" ContentType="image/gif"/>
  <Override PartName="/ppt/media/image8.gif" ContentType="image/gif"/>
  <Override PartName="/ppt/media/image34.png" ContentType="image/png"/>
  <Override PartName="/ppt/media/image39.png" ContentType="image/png"/>
  <Override PartName="/ppt/media/image7.gif" ContentType="image/gif"/>
  <Override PartName="/ppt/media/image37.gif" ContentType="image/gif"/>
  <Override PartName="/ppt/media/image40.png" ContentType="image/png"/>
  <Override PartName="/ppt/media/image4.gif" ContentType="image/gif"/>
  <Override PartName="/ppt/media/image35.jpeg" ContentType="image/jpeg"/>
  <Override PartName="/ppt/media/image1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17.jpeg" ContentType="image/jpeg"/>
  <Override PartName="/ppt/media/image12.gif" ContentType="image/gif"/>
  <Override PartName="/ppt/media/image32.png" ContentType="image/png"/>
  <Override PartName="/ppt/media/image2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25.png" ContentType="image/png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94B-4DCE-41F0-9153-BFA8083C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35A-139B-498A-B849-C2E5BF6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B8E-144E-48DA-A9ED-486263B5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2BF-710A-4790-984D-B9B3DC5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E75-344F-46EB-9A58-4A19642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6CA-E821-4A4A-A4BA-15B3D0EA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D3F-643B-41B4-80ED-C96C36AA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820-CF3E-491F-89B1-1EA9BA38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7EF-AE3D-4D3F-86DE-5D0B573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5B7-C2C7-43B6-A921-42E89E4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92F-9431-4480-BFD9-F4F8C51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825-89E3-44FD-8ACA-6A176F1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51D-4AFC-4135-B057-8B501921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http://brocgaus.ru/pictures_fail/072/822_1.htm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brocgaus.ru/pictures_fail/072/822_2.htm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rocgaus.ru/text/101/610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rocgaus.ru/text/100/348.htm" TargetMode="External"/><Relationship Id="rId2" Type="http://schemas.openxmlformats.org/officeDocument/2006/relationships/hyperlink" Target="http://brocgaus.ru/text/075/400.htm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iles.rc-mir.com/smile.35818.html" TargetMode="External"/><Relationship Id="rId2" Type="http://schemas.openxmlformats.org/officeDocument/2006/relationships/image" Target="../media/image8.gif"/><Relationship Id="rId3" Type="http://schemas.openxmlformats.org/officeDocument/2006/relationships/hyperlink" Target="http://smiles.rc-mir.com/smile.35778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4724280"/>
            <a:ext cx="2590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а: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Олефины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066680"/>
            <a:ext cx="2133720" cy="1676520"/>
          </a:xfrm>
          <a:prstGeom prst="ellipse">
            <a:avLst/>
          </a:prstGeom>
          <a:noFill/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03480" cy="480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066680" y="45720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ические свойства этилена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495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Этилен –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бесцветный газ, почти без запаха, немного легче воздуха плохо растворим в воде.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66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47920"/>
            <a:ext cx="4419720" cy="2133360"/>
          </a:xfrm>
          <a:prstGeom prst="parallelogram">
            <a:avLst>
              <a:gd name="adj" fmla="val 51793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828800"/>
            <a:ext cx="304920" cy="7747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248800">
            <a:off x="1409760" y="2171880"/>
            <a:ext cx="380880" cy="76176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3584000">
            <a:off x="844200" y="2431440"/>
            <a:ext cx="304920" cy="7747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66200">
            <a:off x="1294920" y="2133720"/>
            <a:ext cx="152640" cy="469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8866200">
            <a:off x="1294560" y="2514600"/>
            <a:ext cx="174600" cy="44784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170400">
            <a:off x="914400" y="2209680"/>
            <a:ext cx="204840" cy="5094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7524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8195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7553000">
            <a:off x="2023920" y="2141640"/>
            <a:ext cx="387360" cy="9205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706800">
            <a:off x="2704680" y="2171880"/>
            <a:ext cx="380880" cy="76212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644600">
            <a:off x="2511000" y="2742840"/>
            <a:ext cx="304920" cy="685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3102200">
            <a:off x="2437920" y="2666520"/>
            <a:ext cx="152640" cy="4572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320040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096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286000"/>
            <a:ext cx="193680" cy="44784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6538800">
            <a:off x="2760120" y="2573280"/>
            <a:ext cx="157320" cy="496800"/>
          </a:xfrm>
          <a:custGeom>
            <a:avLst/>
            <a:gdLst/>
            <a:ahLst/>
            <a:rect l="l" t="t" r="r" b="b"/>
            <a:pathLst>
              <a:path w="120" h="392">
                <a:moveTo>
                  <a:pt x="64" y="384"/>
                </a:moveTo>
                <a:cubicBezTo>
                  <a:pt x="80" y="392"/>
                  <a:pt x="120" y="152"/>
                  <a:pt x="112" y="96"/>
                </a:cubicBezTo>
                <a:cubicBezTo>
                  <a:pt x="104" y="40"/>
                  <a:pt x="32" y="0"/>
                  <a:pt x="16" y="48"/>
                </a:cubicBezTo>
                <a:cubicBezTo>
                  <a:pt x="0" y="96"/>
                  <a:pt x="48" y="376"/>
                  <a:pt x="64" y="384"/>
                </a:cubicBezTo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828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124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1600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057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981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838080"/>
            <a:ext cx="4343400" cy="2743200"/>
          </a:xfrm>
          <a:prstGeom prst="parallelogram">
            <a:avLst>
              <a:gd name="adj" fmla="val 39583"/>
            </a:avLst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914400"/>
            <a:ext cx="58716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59600">
            <a:off x="7162920" y="914040"/>
            <a:ext cx="58716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1581200">
            <a:off x="5867280" y="2285640"/>
            <a:ext cx="58752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6858000" y="2286000"/>
            <a:ext cx="587520" cy="1170000"/>
          </a:xfrm>
          <a:custGeom>
            <a:avLst/>
            <a:gdLst/>
            <a:ahLst/>
            <a:rect l="l" t="t" r="r" b="b"/>
            <a:pathLst>
              <a:path w="370" h="737">
                <a:moveTo>
                  <a:pt x="131" y="709"/>
                </a:moveTo>
                <a:cubicBezTo>
                  <a:pt x="110" y="618"/>
                  <a:pt x="0" y="275"/>
                  <a:pt x="2" y="160"/>
                </a:cubicBezTo>
                <a:cubicBezTo>
                  <a:pt x="4" y="45"/>
                  <a:pt x="90" y="32"/>
                  <a:pt x="146" y="16"/>
                </a:cubicBezTo>
                <a:cubicBezTo>
                  <a:pt x="202" y="0"/>
                  <a:pt x="306" y="16"/>
                  <a:pt x="338" y="64"/>
                </a:cubicBezTo>
                <a:cubicBezTo>
                  <a:pt x="370" y="112"/>
                  <a:pt x="348" y="201"/>
                  <a:pt x="338" y="304"/>
                </a:cubicBezTo>
                <a:cubicBezTo>
                  <a:pt x="328" y="407"/>
                  <a:pt x="299" y="627"/>
                  <a:pt x="275" y="682"/>
                </a:cubicBezTo>
                <a:cubicBezTo>
                  <a:pt x="251" y="737"/>
                  <a:pt x="215" y="636"/>
                  <a:pt x="194" y="637"/>
                </a:cubicBezTo>
                <a:cubicBezTo>
                  <a:pt x="173" y="638"/>
                  <a:pt x="164" y="691"/>
                  <a:pt x="149" y="691"/>
                </a:cubicBezTo>
                <a:cubicBezTo>
                  <a:pt x="134" y="691"/>
                  <a:pt x="112" y="646"/>
                  <a:pt x="104" y="637"/>
                </a:cubicBezTo>
                <a:cubicBezTo>
                  <a:pt x="96" y="628"/>
                  <a:pt x="104" y="637"/>
                  <a:pt x="104" y="63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981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1981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866920" y="18284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1320" y="2286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67480" y="1904760"/>
            <a:ext cx="3812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2860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1676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1752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048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2362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152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соответствует строению э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 алкенов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8560" y="42670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2670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80520" y="411444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4920" y="4572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828800" y="4267080"/>
            <a:ext cx="476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572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396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114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648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37040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8880" y="4522680"/>
            <a:ext cx="571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5812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419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733920"/>
            <a:ext cx="3504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уктурн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истика связи С=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)двойная                           2)Вид связи: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π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) Длина связи: </a:t>
            </a:r>
            <a:r>
              <a:rPr b="1" lang="el-GR" sz="1800" spc="-1" strike="noStrike">
                <a:solidFill>
                  <a:srgbClr val="660066"/>
                </a:solidFill>
                <a:latin typeface="Arial"/>
              </a:rPr>
              <a:t>π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=0,134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56272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4)вид гибридизации: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5)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алентный угол: 120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6) ф-ла молекулы: плоск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6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74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152280"/>
            <a:ext cx="8610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cc"/>
                  </a:solidFill>
                  <a:miter/>
                </a:ln>
                <a:solidFill>
                  <a:srgbClr val="ffccff"/>
                </a:solidFill>
                <a:latin typeface="Onyx"/>
              </a:rPr>
              <a:t>Радикалы</a:t>
            </a:r>
            <a:endParaRPr b="0" lang="en-US" sz="1800" spc="1" strike="noStrike">
              <a:ln w="9360">
                <a:solidFill>
                  <a:srgbClr val="ffcccc"/>
                </a:solidFill>
                <a:miter/>
              </a:ln>
              <a:solidFill>
                <a:srgbClr val="ffccff"/>
              </a:solidFill>
              <a:latin typeface="Onyx"/>
              <a:ea typeface="Onyx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219320"/>
            <a:ext cx="434340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непредельных соединений существуют свои одновалентные радик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438280"/>
            <a:ext cx="2057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876920"/>
            <a:ext cx="3581280" cy="172764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          -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радик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95288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791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352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886200"/>
            <a:ext cx="1295280" cy="1371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ви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1523880"/>
            <a:ext cx="2209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-C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243828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971800"/>
            <a:ext cx="1524240" cy="1523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"/>
              </a:rPr>
              <a:t>пропи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66880" y="228600"/>
            <a:ext cx="3276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Изоме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066320" y="685800"/>
            <a:ext cx="1600200" cy="38088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990720"/>
            <a:ext cx="76320" cy="228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990720"/>
            <a:ext cx="1905120" cy="205740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990720"/>
            <a:ext cx="1524240" cy="3808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43000"/>
            <a:ext cx="2590920" cy="1008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азветвление углеродного ске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429000"/>
            <a:ext cx="2362320" cy="7038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Межклассовая изом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3124080"/>
            <a:ext cx="236232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оложение двойной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1447920"/>
            <a:ext cx="26668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Пространственная изомерия (стереоизомер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2670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4724280"/>
            <a:ext cx="91440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724280"/>
            <a:ext cx="22860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334120"/>
            <a:ext cx="457200" cy="533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56960" y="5334120"/>
            <a:ext cx="301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886200"/>
            <a:ext cx="3124080" cy="1065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CH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тен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952880"/>
            <a:ext cx="3200400" cy="12283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- CH=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бутен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14600"/>
            <a:ext cx="2362320" cy="904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- CH=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-СН</a:t>
            </a:r>
            <a:r>
              <a:rPr b="1" lang="ru-RU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57600"/>
            <a:ext cx="2362320" cy="1451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-СН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3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-метилпр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00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ространственная изомерия (стереоизомер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98108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Данная изомерия представляет собой расположение радикала в разных плоскостях относительно двой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6765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Для наличия пространственной изомерии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276720"/>
            <a:ext cx="3733920" cy="1334160"/>
          </a:xfrm>
          <a:prstGeom prst="rect">
            <a:avLst/>
          </a:prstGeom>
          <a:solidFill>
            <a:srgbClr val="00ff99"/>
          </a:solidFill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аличие двой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Наличие разных радикалов у каждого  атома углерода при двой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191120"/>
            <a:ext cx="4724280" cy="5796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- CH=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-СН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Arial"/>
              </a:rPr>
              <a:t>3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утен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38400" y="5562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562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990720" y="540972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14400" y="586728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438280" y="5486040"/>
            <a:ext cx="45720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867280"/>
            <a:ext cx="3812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51814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2578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38360" y="5665680"/>
            <a:ext cx="57132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8360" y="581832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943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943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6461280"/>
            <a:ext cx="1981080" cy="3988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50000">
                <a:srgbClr val="00ffff"/>
              </a:gs>
              <a:gs pos="100000">
                <a:srgbClr val="cc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нс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67600" y="525780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25780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019920" y="510516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943600" y="556272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467480" y="51814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562720"/>
            <a:ext cx="3812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8769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556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7560" y="536112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7560" y="5513400"/>
            <a:ext cx="571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638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48769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6156360"/>
            <a:ext cx="1981080" cy="3988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50000">
                <a:srgbClr val="00ffff"/>
              </a:gs>
              <a:gs pos="100000">
                <a:srgbClr val="cc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с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257800" y="457200"/>
            <a:ext cx="152388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71440" y="380880"/>
            <a:ext cx="106668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457200"/>
            <a:ext cx="762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05120" y="380880"/>
            <a:ext cx="121896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5003640"/>
            <a:ext cx="1905120" cy="1854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3885840"/>
            <a:ext cx="2590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из солей β-галоидозамещенных предельных 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00720" y="4567320"/>
            <a:ext cx="3695760" cy="409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4500720" y="4948200"/>
            <a:ext cx="2829240" cy="676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12880" y="13176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лефины обра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4920"/>
            <a:ext cx="1981080" cy="311148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ри сухой перегонке органических веществ (при перегонке парафина под давлением (Торпе и Юнг), при сухой перегонке каменного уг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752120" y="3049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609480"/>
            <a:ext cx="2514600" cy="3111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при отщеплении элементов воды от предельных спиртов С n Н 2n+2 O под влиянием водоотнимающих веществ (например, фосфорный ангидрид, серная кислота, хлористый ци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228600"/>
            <a:ext cx="2998800" cy="91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при перегонке сложных эфиров жирных 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428640" y="457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5335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1295280"/>
            <a:ext cx="3962160" cy="15404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при отнятии спиртовой едкой щелочью галоидоводорода от галоидангидридов одноатомных спиртов: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+ KOH +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I + 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33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886200"/>
            <a:ext cx="274320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при нагревании выше точки кипения некоторых кислот ряда С n Н 2n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647960" y="609480"/>
            <a:ext cx="759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2895480"/>
            <a:ext cx="4038480" cy="916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 при сухой перегонке (Фиттиг) некоторых двузамещенных гомологов параконовой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257800" y="3809880"/>
            <a:ext cx="3886200" cy="430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19920" y="4568760"/>
            <a:ext cx="2895480" cy="2051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 при перегонке под уменьшенным давлением бариевых солей некоторых высших кислот ряда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присутствии метилата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392800"/>
            <a:ext cx="2971800" cy="1503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 из бромосоединений 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при действии натрия или цинка (цинковой пыли) в присутствии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828800" y="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мические свой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40920" y="2666880"/>
            <a:ext cx="58636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илен                 э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09680" y="11430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) Гидрирование-</a:t>
            </a:r>
            <a:endParaRPr b="0" i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оединение водорода</a:t>
            </a:r>
            <a:endParaRPr b="0" i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419720" y="449568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00600" y="3174840"/>
            <a:ext cx="5181480" cy="3683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6331" t="0" r="45575" b="90197"/>
          <a:stretch/>
        </p:blipFill>
        <p:spPr>
          <a:xfrm>
            <a:off x="0" y="3200400"/>
            <a:ext cx="5715000" cy="901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2) Полное окисление алкенов - сходство со всеми органическими соедин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040" y="1828800"/>
            <a:ext cx="5895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3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+3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7" dur="2240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1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4246560"/>
            <a:ext cx="2743200" cy="2611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6331" t="11450" r="53165" b="82021"/>
          <a:stretch/>
        </p:blipFill>
        <p:spPr>
          <a:xfrm>
            <a:off x="609480" y="0"/>
            <a:ext cx="5943600" cy="74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0" t="50955" r="-1260" b="39242"/>
          <a:stretch/>
        </p:blipFill>
        <p:spPr>
          <a:xfrm>
            <a:off x="2666880" y="5257800"/>
            <a:ext cx="647712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0666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)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рисоединение галогенов- первая качественная реа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891540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r>
              <a:rPr b="1" lang="ru-RU" sz="40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4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&gt;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H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мная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да         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                                    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дибромбут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28954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28954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2778" t="60495" r="16668" b="11723"/>
          <a:stretch/>
        </p:blipFill>
        <p:spPr>
          <a:xfrm>
            <a:off x="0" y="0"/>
            <a:ext cx="6629400" cy="1771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10126" t="86660" r="0" b="273"/>
          <a:stretch/>
        </p:blipFill>
        <p:spPr>
          <a:xfrm>
            <a:off x="609480" y="3809880"/>
            <a:ext cx="7772400" cy="87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молекула несимметрична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2360" y="5181480"/>
            <a:ext cx="604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-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 Н-О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809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5562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5911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панол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133360" cy="2021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3244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3" dur="24067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7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66ff33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2666880"/>
          </a:xfrm>
          <a:prstGeom prst="rect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До недавнего времени под Олефинами подразумевались вообще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глеводород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общей формулы 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 baseline="-30000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 baseline="-25000">
                <a:solidFill>
                  <a:srgbClr val="ff0066"/>
                </a:solidFill>
                <a:latin typeface="Arial"/>
              </a:rPr>
              <a:t>2n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228600"/>
            <a:ext cx="8610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ожные представления об олефинах..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24080" y="3975120"/>
            <a:ext cx="3353040" cy="28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45360" y="3733920"/>
            <a:ext cx="279864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733920"/>
            <a:ext cx="263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8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0" r="0" b="62148"/>
          <a:stretch/>
        </p:blipFill>
        <p:spPr>
          <a:xfrm>
            <a:off x="0" y="0"/>
            <a:ext cx="9144000" cy="1874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1905120"/>
            <a:ext cx="914400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Реакция неполного окисления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вторая качественная реак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алк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638680" y="4033800"/>
            <a:ext cx="3124440" cy="282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7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0" dur="3453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11965" t="39443" r="3419" b="10088"/>
          <a:stretch/>
        </p:blipFill>
        <p:spPr>
          <a:xfrm>
            <a:off x="0" y="16002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28600" y="228600"/>
            <a:ext cx="868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имериз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791320" y="4449600"/>
            <a:ext cx="3200400" cy="2408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486400" cy="3603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657600" cy="3458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0" y="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учение этилена и его гомолог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362320" y="4486320"/>
            <a:ext cx="2590560" cy="2371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2590920" cy="2111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410080" y="40575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9" dur="2240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3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7c8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590920" cy="2409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24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алкенов 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85800"/>
            <a:ext cx="5943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1. получение пластмасс – изготовление посуды, труб, пленки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2. получение этанола – растворитель, используется в органическом синтез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3. получение этиленгликоля – антифриз – понижает температуру замерзан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Arial"/>
              </a:rPr>
              <a:t>4. в продуктах переработки нефти и природ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ff"/>
                </a:solidFill>
                <a:latin typeface="Arial"/>
              </a:rPr>
              <a:t>5. для синтеза полимеров и других ценных промышленных  проду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594360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риметилен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других полиметиленовых углеводородов показало, что между ними возможны вещества, обладающие характером, который до известной степени напоминает характер углеводородов ряда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 </a:t>
            </a:r>
            <a:r>
              <a:rPr b="1" lang="en-US" sz="2800" spc="-1" strike="noStrike" baseline="-30000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Н 2n+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рафин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, а потому теперь определяют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леф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ак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мещенные этиле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С 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Н 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4-m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R</a:t>
            </a:r>
            <a:r>
              <a:rPr b="1" lang="en-US" sz="2800" spc="-1" strike="noStrike" baseline="-30000">
                <a:solidFill>
                  <a:srgbClr val="660033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R = С </a:t>
            </a:r>
            <a:r>
              <a:rPr b="1" i="1" lang="en-US" sz="2800" spc="-1" strike="noStrike" baseline="-30000">
                <a:solidFill>
                  <a:srgbClr val="990099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990099"/>
                </a:solidFill>
                <a:latin typeface="Arial"/>
              </a:rPr>
              <a:t> Н </a:t>
            </a:r>
            <a:r>
              <a:rPr b="1" i="1" lang="en-US" sz="2800" spc="-1" strike="noStrike" baseline="-30000">
                <a:solidFill>
                  <a:srgbClr val="990099"/>
                </a:solidFill>
                <a:latin typeface="Arial"/>
              </a:rPr>
              <a:t>2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= 1, 2, 3 и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943600" cy="5814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вые откр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5880" y="4402080"/>
            <a:ext cx="274320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819520"/>
            <a:ext cx="3505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насыщенные ациклические углеводороды, содержащие в молекуле одну двойную связь С=С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0"/>
            <a:ext cx="822960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ЕФ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523880"/>
            <a:ext cx="4572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алкены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295280"/>
            <a:ext cx="3505320" cy="13903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2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где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≥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24280" y="3086280"/>
            <a:ext cx="4114800" cy="37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5334120" cy="34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вый член ряда олефин- </a:t>
            </a: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этилен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H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=СH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поэтому олефины называют также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Forte"/>
              </a:rPr>
              <a:t>этиленовыми углеводородам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815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Latha"/>
              </a:rPr>
              <a:t>2-ое название олефин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latin typeface="Latha"/>
              <a:ea typeface="Latha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683160"/>
            <a:ext cx="3276720" cy="317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447920"/>
            <a:ext cx="2667240" cy="255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7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мологический ряд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едельных соединений(алкенов)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600200"/>
          <a:ext cx="5638680" cy="4657680"/>
        </p:xfrm>
        <a:graphic>
          <a:graphicData uri="http://schemas.openxmlformats.org/drawingml/2006/table">
            <a:tbl>
              <a:tblPr/>
              <a:tblGrid>
                <a:gridCol w="182880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 (эт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лен (проп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тилен (буте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п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н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019920" y="1752480"/>
            <a:ext cx="3124080" cy="25318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 систематической номенклатуре суфф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Harlow Solid Italic"/>
              </a:rPr>
              <a:t>ан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Harlow Solid Italic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меняется на суффикс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Harlow Solid Italic"/>
              </a:rPr>
              <a:t>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19810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720"/>
            <a:ext cx="8839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Номенклатура ал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звание радикалов и их местоположение + название главной цепи с заменой суффикса с – «ан»  на – «ен» (указывает на наличие двойной связи) + цифра, указывающая местоположение двойной связи. Нумерация начинается с того конца, к которому ближе расположена двойная связ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0" y="3352680"/>
            <a:ext cx="4693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    2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СН –С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проп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3981600"/>
            <a:ext cx="4267080" cy="2876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572000"/>
            <a:ext cx="4572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2 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С– 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   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СН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2-метилпропен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37360" y="3666960"/>
            <a:ext cx="2906640" cy="3191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9907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гомологическом ряду наблюдается следующие закономер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52280"/>
            <a:ext cx="914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омерности гомологического ря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514600"/>
          <a:ext cx="5029200" cy="318924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а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18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3333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жидк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с </a:t>
                      </a: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2800" spc="-1" strike="noStrike" baseline="-25000">
                          <a:solidFill>
                            <a:srgbClr val="cc0099"/>
                          </a:solidFill>
                          <a:latin typeface="Arial"/>
                        </a:rPr>
                        <a:t>19</a:t>
                      </a:r>
                      <a:r>
                        <a:rPr b="1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cc0099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тверд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аша</cp:lastModifiedBy>
  <dcterms:modified xsi:type="dcterms:W3CDTF">2015-01-27T14:30:4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