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D23-820E-40D3-AFE3-F4050FD2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CA3-6E7B-435A-A2EE-72A41186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112-A34B-45EB-92DC-90A67AB3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434-BDC0-4367-AB31-4F1F8213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62060-DAD3-4E29-8D81-27E002DB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7A6C5-AF87-4171-8244-A4648756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C9E62-8A59-4935-A0D0-44983370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61E9A-2A20-4CAB-A8C6-BD416A9B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EE61A-D462-463F-B623-269A4605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C9BB4-C6CA-407A-99DF-73E9729B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2DC34-51A2-42DA-AEFC-0F8B3049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209-E9DD-4B8F-815C-00F46025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33C4F-5BFE-4687-A9D5-9F7C535B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7FFE8-E49C-4BB4-9BBE-ACFAD628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2801F-4EFF-43A1-9549-A296BACB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BC4C3-C5FE-4D2B-9EAC-43FB9732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7286B-14E9-4CEA-92F9-EF0FE09B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392-F32F-4609-B567-F1AFD8DA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3DC-AB61-4AA7-A141-1BF4BBA7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59E-04C6-45D0-8782-916E2977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610-62CA-46FF-9E05-42D588D7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122-5D8F-438A-A0F3-C66D7790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B32-6C70-47F5-844A-9F3AAAEC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111-9EF1-4919-A9AC-E923CEDE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7AC0-7393-4E7C-8600-9ACC87411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372C-2BE0-4A87-9FF2-42CDB78773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Контрольная работа по искусству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9 клас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21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 каким религиям относятся храмы и как они называютс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887560" cy="3755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2411280" y="4272120"/>
            <a:ext cx="4038840" cy="2701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4"/>
          <a:stretch/>
        </p:blipFill>
        <p:spPr>
          <a:xfrm>
            <a:off x="6443640" y="2359080"/>
            <a:ext cx="2755800" cy="4510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5"/>
          <a:stretch/>
        </p:blipFill>
        <p:spPr>
          <a:xfrm>
            <a:off x="4140360" y="1197000"/>
            <a:ext cx="302400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22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 Кто такой Антонио Вивальди?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числит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звания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го произведен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Желаем успехов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Напишите определения 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что тако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Искусство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Живопис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Графи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Скульптур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Архитектур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Напишите какие вы знаете 3 группы вида искусст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6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1 группа ( какие виды искусств входят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7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2 группа ( какие виды искусств входят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8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3 группа ( какие виды искусств входят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Напишите определение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9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композиция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0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ритм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1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форма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сюжет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3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фактура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Сандро Ботичелли весна"/>
          <p:cNvPicPr/>
          <p:nvPr/>
        </p:nvPicPr>
        <p:blipFill>
          <a:blip r:embed="rId2"/>
          <a:stretch/>
        </p:blipFill>
        <p:spPr>
          <a:xfrm>
            <a:off x="539640" y="1916280"/>
            <a:ext cx="8209080" cy="4941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4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Напишите название и автора картины. Опишите кто изображён на картин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5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Напишите автора и название картин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96000" y="2781000"/>
            <a:ext cx="316872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К"/>
          <p:cNvPicPr/>
          <p:nvPr/>
        </p:nvPicPr>
        <p:blipFill>
          <a:blip r:embed="rId2"/>
          <a:stretch/>
        </p:blipFill>
        <p:spPr>
          <a:xfrm>
            <a:off x="900000" y="1628640"/>
            <a:ext cx="73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6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Какие средства выразительности использовал художник в картин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В"/>
          <p:cNvPicPr/>
          <p:nvPr/>
        </p:nvPicPr>
        <p:blipFill>
          <a:blip r:embed="rId2"/>
          <a:stretch/>
        </p:blipFill>
        <p:spPr>
          <a:xfrm>
            <a:off x="4896000" y="1628640"/>
            <a:ext cx="4248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17.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зовите архитектурные постройк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4680" y="2565360"/>
            <a:ext cx="4592880" cy="3854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4645080" y="2822400"/>
            <a:ext cx="4755960" cy="31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18.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такое синтез искусств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19.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пишите определение что такое    «храмы»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20.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речислите синтетические виды искусств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7:02:59Z</dcterms:created>
  <dc:creator>Юля</dc:creator>
  <dc:description/>
  <dc:language>en-US</dc:language>
  <cp:lastModifiedBy>Asus</cp:lastModifiedBy>
  <dcterms:modified xsi:type="dcterms:W3CDTF">2015-01-27T14:30:07Z</dcterms:modified>
  <cp:revision>9</cp:revision>
  <dc:subject/>
  <dc:title>Контрольная работа по искусству</dc:title>
</cp:coreProperties>
</file>