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FF07-72C1-4D35-8D61-0D789013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343C-94CD-4958-A6F2-1119C67F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8505-F9CB-4D30-B605-F7E150040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A8CF-FB0E-4F13-92D4-5BE94A24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D9D27-24B0-4ED9-9D73-35557069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6A851-1744-4840-AA14-BBD75162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62280-D485-4E74-BE5D-7EECDE30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835A4-8A01-4334-8629-50A3060E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E62C5-7B03-408E-AB6F-11A7C754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56F9E-11FE-4AF8-997E-D105D6E7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A265C-1D55-4114-AB3E-FDF2A556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17FD-2399-4C22-9FCE-085A9CFF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BBEC1-356D-49C5-A4E7-EE637FAC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E0DBF-9ECC-4305-80EE-B9203951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C9ED8-2746-4407-852E-1E586F5F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CA852-7ED9-408D-979D-60A0563C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90610-0888-4CCA-9AEB-62532D16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F91A-5EAE-443B-AD1A-D1CE80E8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F683-42BC-462C-B89B-458EEE59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D8EB-024C-476F-9F3D-09EBC099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6199-6122-4942-A59D-B7737C54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2EF9-0C36-4548-A50E-EDE2DC6F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C7E6-3AA0-45F2-A556-7F5D1F78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D14A-6906-4B56-860E-047E29D3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EC6A-14DB-4504-97E7-D5C34335C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CC26-EFD1-4DBA-AC6B-4A58CAAD6F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Контрольная работа по искусству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ahoma"/>
              </a:rPr>
              <a:t>9 класс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21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 каким религиям относятся храмы и как они называютс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2887560" cy="3755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3"/>
          <a:stretch/>
        </p:blipFill>
        <p:spPr>
          <a:xfrm>
            <a:off x="2411280" y="4272120"/>
            <a:ext cx="4038840" cy="2701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4"/>
          <a:stretch/>
        </p:blipFill>
        <p:spPr>
          <a:xfrm>
            <a:off x="6443640" y="2359080"/>
            <a:ext cx="2755800" cy="4510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5"/>
          <a:stretch/>
        </p:blipFill>
        <p:spPr>
          <a:xfrm>
            <a:off x="4140360" y="1197000"/>
            <a:ext cx="302400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22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 Кто такой Антонио Вивальди?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ечислите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звания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го произведени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й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844640"/>
            <a:ext cx="850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ahoma"/>
              </a:rPr>
              <a:t>Желаем успехов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Напишите определения </a:t>
            </a: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что тако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1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Искусство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Живопись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График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Скульптур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5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Архитектур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Напишите какие вы знаете 3 группы вида искусств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6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1 группа ( какие виды искусств входят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7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2 группа ( какие виды искусств входят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8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3 группа ( какие виды искусств входят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Напишите определение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9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композиция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10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ритм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11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форма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12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сюжет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13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фактура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Сандро Ботичелли весна"/>
          <p:cNvPicPr/>
          <p:nvPr/>
        </p:nvPicPr>
        <p:blipFill>
          <a:blip r:embed="rId2"/>
          <a:stretch/>
        </p:blipFill>
        <p:spPr>
          <a:xfrm>
            <a:off x="539640" y="1916280"/>
            <a:ext cx="8209080" cy="4941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14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Напишите название и автора картины. Опишите кто изображён на картине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964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15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Напишите автора и название картин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96000" y="2781000"/>
            <a:ext cx="316872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К"/>
          <p:cNvPicPr/>
          <p:nvPr/>
        </p:nvPicPr>
        <p:blipFill>
          <a:blip r:embed="rId2"/>
          <a:stretch/>
        </p:blipFill>
        <p:spPr>
          <a:xfrm>
            <a:off x="900000" y="1628640"/>
            <a:ext cx="73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16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Какие средства выразительности использовал художник в картине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6" descr="В"/>
          <p:cNvPicPr/>
          <p:nvPr/>
        </p:nvPicPr>
        <p:blipFill>
          <a:blip r:embed="rId2"/>
          <a:stretch/>
        </p:blipFill>
        <p:spPr>
          <a:xfrm>
            <a:off x="4896000" y="1628640"/>
            <a:ext cx="4248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38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38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17.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зовите архитектурные постройки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4680" y="2565360"/>
            <a:ext cx="4592880" cy="3854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3"/>
          <a:stretch/>
        </p:blipFill>
        <p:spPr>
          <a:xfrm>
            <a:off x="4645080" y="2822400"/>
            <a:ext cx="4755960" cy="31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9806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18.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Что такое синтез искусств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19.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пишите определение что такое    «храмы»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20.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еречислите синтетические виды искусств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7:02:59Z</dcterms:created>
  <dc:creator>Юля</dc:creator>
  <dc:description/>
  <dc:language>en-US</dc:language>
  <cp:lastModifiedBy>Asus</cp:lastModifiedBy>
  <dcterms:modified xsi:type="dcterms:W3CDTF">2015-01-27T14:30:07Z</dcterms:modified>
  <cp:revision>9</cp:revision>
  <dc:subject/>
  <dc:title>Контрольная работа по искусству</dc:title>
</cp:coreProperties>
</file>