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DE1A-0918-43F1-A31E-C6B9383F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76A-270A-4535-818B-8D3A6BB7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E72E-A4BE-411A-B603-42121829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BC9-F0AB-445F-93B7-7CD02475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BC5B-EDDC-4FBC-9AA7-AFA2C646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C8D3-9C27-488A-80C3-DBBAAE46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5DD6-0068-48BF-B5DB-C9D9A8CE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E8EC-E94F-4D9B-8B3A-B91C1437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6B0D-B9AF-43C4-8CA2-87610086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A3AB-4F12-45E0-8695-96679196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75C9-6094-44A4-86C0-6B36E500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EFE1-0665-459D-B312-1E1E2F85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03D7-E211-4A28-9D5D-F6245685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45AC-3D2C-40EA-9642-3432BB0F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5C25-281E-4C47-8EAD-72C93F91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22BD-0D5D-42ED-B926-D1F9D281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E4B7-9E17-4677-BC1E-39522D51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3961-641E-4AD1-80E8-3C5C6C66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9DD-8B1A-43D3-BF59-9DE964A9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8A8-D9B2-4C6A-8B2E-028E1581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F4A3-126F-40CF-BBFC-2D16CCA8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11D6-EA9E-4E08-AFF1-5F00B46D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6E5-310D-4EA6-873D-89C3CB34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A3D-690E-4947-87FD-331F7CCC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915D-5D36-4F8C-B859-FFEF19626F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D05E-6F1F-48FA-A44F-678B6BE7607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Контрольная работа по искусству 8 класс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пишите определения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1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Искусств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Живопис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Графи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Скульптур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Архитектур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пишите какие вы знаете 3 группы вида искусств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1 группа ( какие виды искусств входят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2 группа ( какие виды искусств входят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3 группа ( какие виды искусств входят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пределите художника и его картину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В. Боровиков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Ф. Маляв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Д. Веласке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П. Пикасс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М. де Воо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Л. да Вин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жокон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поллон и му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хр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трет сестёр Гагари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зовите название и автора картины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5348520" cy="3168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4457880" y="2133720"/>
            <a:ext cx="469872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отнесите музу и искусство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7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Кли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Мельпомен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Талия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Эрат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Терпсихор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Урания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Эвтерп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им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агед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юбовной поэз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р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едии и  поэз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строном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орового п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рической поэз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н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 описанию напишите название картины и её автора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96472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25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артине прямоугольного формата изображена женщина в тёмной одежде, обернувшаяся вполоборота. Она сидит в кресле, сложив руки вместе, оперев одну руку на его подлокотник, а другую положив сверху, повернувшись в кресле почти лицом к зрителю. Разделённые пробором, гладко и плоско лежащие волосы, видные сквозь накинутую на них прозрачную вуаль (по некоторым предположениям — атрибут вдовства), падают на плечи двумя негустыми, слегка волнистыми прядями. Зелёное платье в тонких сборках, с жёлтыми рукавами в складках, вырезано на белой невысокой груди. Голова слегка повёрну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26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Напишите название картин Леонардо да Винч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2" descr="D:\ИЛОНА\Крещение христа\325px-Andrea_del_Verrocchio_002.jpg"/>
          <p:cNvPicPr/>
          <p:nvPr/>
        </p:nvPicPr>
        <p:blipFill>
          <a:blip r:embed="rId1"/>
          <a:stretch/>
        </p:blipFill>
        <p:spPr>
          <a:xfrm>
            <a:off x="4788000" y="1557360"/>
            <a:ext cx="2200320" cy="2881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D:\ИЛОНА\Мадонна с цветком\Давинчи.jpg"/>
          <p:cNvPicPr/>
          <p:nvPr/>
        </p:nvPicPr>
        <p:blipFill>
          <a:blip r:embed="rId2"/>
          <a:stretch/>
        </p:blipFill>
        <p:spPr>
          <a:xfrm>
            <a:off x="2771640" y="1557360"/>
            <a:ext cx="1994040" cy="3168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D:\ИЛОНА\Дама с горнрстаем\350px-Leonardo_da_Vinci_046.jpg"/>
          <p:cNvPicPr/>
          <p:nvPr/>
        </p:nvPicPr>
        <p:blipFill>
          <a:blip r:embed="rId3"/>
          <a:stretch/>
        </p:blipFill>
        <p:spPr>
          <a:xfrm>
            <a:off x="7093080" y="1484280"/>
            <a:ext cx="205092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D:\ИЛОНА\тайная вечеря\67350_62764.jpg"/>
          <p:cNvPicPr/>
          <p:nvPr/>
        </p:nvPicPr>
        <p:blipFill>
          <a:blip r:embed="rId4"/>
          <a:stretch/>
        </p:blipFill>
        <p:spPr>
          <a:xfrm>
            <a:off x="3348000" y="4365720"/>
            <a:ext cx="5111640" cy="2492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D:\ИЛОНА\мона лиза\350px-Mona_Lisa.jpg"/>
          <p:cNvPicPr/>
          <p:nvPr/>
        </p:nvPicPr>
        <p:blipFill>
          <a:blip r:embed="rId5"/>
          <a:stretch/>
        </p:blipFill>
        <p:spPr>
          <a:xfrm>
            <a:off x="0" y="2133720"/>
            <a:ext cx="2556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27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.Напишите какими профессиями владел  Леона́рдо ди сер Пье́ро да Ви́нчи 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leonardo"/>
          <p:cNvPicPr/>
          <p:nvPr/>
        </p:nvPicPr>
        <p:blipFill>
          <a:blip r:embed="rId1"/>
          <a:stretch/>
        </p:blipFill>
        <p:spPr>
          <a:xfrm>
            <a:off x="3348000" y="1628640"/>
            <a:ext cx="3672000" cy="522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1403280" y="5732640"/>
            <a:ext cx="70725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0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17:22:33Z</dcterms:created>
  <dc:creator>Юля</dc:creator>
  <dc:description/>
  <dc:language>en-US</dc:language>
  <cp:lastModifiedBy>Asus</cp:lastModifiedBy>
  <dcterms:modified xsi:type="dcterms:W3CDTF">2012-10-21T14:43:43Z</dcterms:modified>
  <cp:revision>6</cp:revision>
  <dc:subject/>
  <dc:title>Контрольная работа по искусству 8 класс.</dc:title>
</cp:coreProperties>
</file>