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81B-8A33-47E0-8C51-FFD4D913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653-B94D-4DCC-87C8-0F932368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656-EE48-45E5-AFC4-DF813B80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F24-F29B-4631-8ACE-81ADCA7B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A5D8-70D0-4BC1-8775-21A4A9A7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58AB-676B-42AA-9BCA-B39686A2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A1C3-EFDF-4295-AFED-7DD77753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B856-396E-45AA-8CD9-F7C7FD8F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29F-4AEC-454B-9B31-E408B8C0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3C9A-88DE-43D4-BBC4-76831D84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DB81-515F-4B16-BB4E-487D1CD7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A29-D351-403A-917E-2A917714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D6AF-E689-422A-B033-F495FDE4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BAB9-D5B4-4471-8978-484509F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D674-5172-414C-B74F-DA2FAD80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978C-60FC-418C-A4CC-98F192E3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673-FCEA-4453-8B14-76A1F461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107-6C7C-41E4-B840-33D698DD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C36-A265-4BCB-9598-56F2696A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1F4-18AC-472D-A5EA-3292AAF9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48C-C583-4094-AA12-82CE0FD0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A43-A645-4D28-97A4-61DBFF8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CBC-C197-40EE-93AF-93B33257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41C-2833-4E03-A101-3930F89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3681-16E0-4243-86C7-D266307B5A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8B5A-D9A4-4152-BDC5-1CFB5EFE68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онтрольная работа по искусству 8 класс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пишите определения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Искусств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Живопис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Графи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Скульптур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Архитектур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пишите какие вы знаете 3 группы вида искусст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1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2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3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ределите художника и его картину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. Боровико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Ф. Маляв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Д. Веласке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. Пикасс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М. де Воо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Л. да Вин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окон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поллон и м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х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трет сестёр Гагари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зовите название и автора картины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5348520" cy="3168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457880" y="2133720"/>
            <a:ext cx="469872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отнесите музу и искусство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Кли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Мельпоме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Талия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рат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Терпсихо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Урания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втерп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м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гед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бовной поэз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едии и  поэз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строном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рового п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рической поэз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н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 описанию напишите название картины и её автор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96472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5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ртине прямоугольного формата изображена женщина в тёмной одежде, обернувшаяся вполоборота. Она сидит в кресле, сложив руки вместе, оперев одну руку на его подлокотник, а другую положив сверху, повернувшись в кресле почти лицом к зрителю. Разделённые пробором, гладко и плоско лежащие волосы, видные сквозь накинутую на них прозрачную вуаль (по некоторым предположениям — атрибут вдовства), падают на плечи двумя негустыми, слегка волнистыми прядями. Зелёное платье в тонких сборках, с жёлтыми рукавами в складках, вырезано на белой невысокой груди. Голова слегка повёрну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26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Напишите название картин Леонардо да Вин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2" descr="D:\ИЛОНА\Крещение христа\325px-Andrea_del_Verrocchio_002.jpg"/>
          <p:cNvPicPr/>
          <p:nvPr/>
        </p:nvPicPr>
        <p:blipFill>
          <a:blip r:embed="rId1"/>
          <a:stretch/>
        </p:blipFill>
        <p:spPr>
          <a:xfrm>
            <a:off x="4788000" y="1557360"/>
            <a:ext cx="2200320" cy="28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ИЛОНА\Мадонна с цветком\Давинчи.jpg"/>
          <p:cNvPicPr/>
          <p:nvPr/>
        </p:nvPicPr>
        <p:blipFill>
          <a:blip r:embed="rId2"/>
          <a:stretch/>
        </p:blipFill>
        <p:spPr>
          <a:xfrm>
            <a:off x="2771640" y="1557360"/>
            <a:ext cx="1994040" cy="316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ИЛОНА\Дама с горнрстаем\350px-Leonardo_da_Vinci_046.jpg"/>
          <p:cNvPicPr/>
          <p:nvPr/>
        </p:nvPicPr>
        <p:blipFill>
          <a:blip r:embed="rId3"/>
          <a:stretch/>
        </p:blipFill>
        <p:spPr>
          <a:xfrm>
            <a:off x="7093080" y="1484280"/>
            <a:ext cx="205092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ИЛОНА\тайная вечеря\67350_62764.jpg"/>
          <p:cNvPicPr/>
          <p:nvPr/>
        </p:nvPicPr>
        <p:blipFill>
          <a:blip r:embed="rId4"/>
          <a:stretch/>
        </p:blipFill>
        <p:spPr>
          <a:xfrm>
            <a:off x="3348000" y="4365720"/>
            <a:ext cx="5111640" cy="2492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ИЛОНА\мона лиза\350px-Mona_Lisa.jpg"/>
          <p:cNvPicPr/>
          <p:nvPr/>
        </p:nvPicPr>
        <p:blipFill>
          <a:blip r:embed="rId5"/>
          <a:stretch/>
        </p:blipFill>
        <p:spPr>
          <a:xfrm>
            <a:off x="0" y="2133720"/>
            <a:ext cx="2556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27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.Напишите какими профессиями владел  Леона́рдо ди сер Пье́ро да Ви́нчи 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leonardo"/>
          <p:cNvPicPr/>
          <p:nvPr/>
        </p:nvPicPr>
        <p:blipFill>
          <a:blip r:embed="rId1"/>
          <a:stretch/>
        </p:blipFill>
        <p:spPr>
          <a:xfrm>
            <a:off x="3348000" y="1628640"/>
            <a:ext cx="3672000" cy="522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403280" y="5732640"/>
            <a:ext cx="70725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7:22:33Z</dcterms:created>
  <dc:creator>Юля</dc:creator>
  <dc:description/>
  <dc:language>en-US</dc:language>
  <cp:lastModifiedBy>Asus</cp:lastModifiedBy>
  <dcterms:modified xsi:type="dcterms:W3CDTF">2012-10-21T14:43:43Z</dcterms:modified>
  <cp:revision>6</cp:revision>
  <dc:subject/>
  <dc:title>Контрольная работа по искусству 8 класс.</dc:title>
</cp:coreProperties>
</file>