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8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34.jpeg" ContentType="image/jpeg"/>
  <Override PartName="/ppt/media/image25.jpeg" ContentType="image/jpeg"/>
  <Override PartName="/ppt/media/image2.png" ContentType="image/png"/>
  <Override PartName="/ppt/media/image10.wmf" ContentType="image/x-wmf"/>
  <Override PartName="/ppt/media/image31.jpeg" ContentType="image/jpeg"/>
  <Override PartName="/ppt/media/image17.wmf" ContentType="image/x-wmf"/>
  <Override PartName="/ppt/media/image9.png" ContentType="image/png"/>
  <Override PartName="/ppt/media/image30.png" ContentType="image/png"/>
  <Override PartName="/ppt/media/image8.jpeg" ContentType="image/jpeg"/>
  <Override PartName="/ppt/media/image5.jpeg" ContentType="image/jpeg"/>
  <Override PartName="/ppt/media/image18.wmf" ContentType="image/x-wmf"/>
  <Override PartName="/ppt/media/image32.jpeg" ContentType="image/jpeg"/>
  <Override PartName="/ppt/media/image20.wmf" ContentType="image/x-wmf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9.wmf" ContentType="image/x-wmf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7704-5768-42B1-BD7B-22C29DA2B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6B19-F252-446A-96CA-0464A6D6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2B7A-84AF-4E98-9614-D9797EA85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75A6-7187-4866-ACB5-3004FF784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BB39-94E8-4109-B919-43971DAD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3414-F259-4F83-AE35-F9BA1EB1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9481-6533-4A60-BEEA-17982B8A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9187-CBF1-4F19-9DBB-D3AE9CCA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A829-F937-493A-B949-B2CCFF0C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AFBB-2C7B-4DF3-B650-8C234F10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AEE7-7B32-48B5-89A6-2FF3B431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5B17-76ED-40F9-9AFF-9CB56F79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5AD5-F5E2-4D4B-9186-4FB64ACDEC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wmf"/><Relationship Id="rId3" Type="http://schemas.openxmlformats.org/officeDocument/2006/relationships/image" Target="../media/image16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5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mmmf.math.msu.su/archive/19992000/spivak67/dragon.gif" TargetMode="Externa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5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Круглый стол по тем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6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«Реализация Закона №153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т 21.07.2008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«О мерах по профилактике безнадзорности и правонарушений несовершеннолетних в Краснодарском крае – как условие формирования самосознания подростк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727360" y="5502240"/>
            <a:ext cx="55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Подготовила: учитель обществознания,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Языкова А.В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00400" y="186840"/>
            <a:ext cx="4830480" cy="1227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Monotype Corsiva"/>
              </a:rPr>
              <a:t>Права дете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680" y="1968480"/>
            <a:ext cx="78753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49"/>
              </a:spcBef>
              <a:buClr>
                <a:srgbClr val="a50021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3300"/>
                </a:solidFill>
                <a:latin typeface="Garamond"/>
              </a:rPr>
              <a:t>Право на жизн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49"/>
              </a:spcBef>
              <a:buClr>
                <a:srgbClr val="a50021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aramond"/>
              </a:rPr>
              <a:t>Право не подвергаться насили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49"/>
              </a:spcBef>
              <a:buClr>
                <a:srgbClr val="a50021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3300"/>
                </a:solidFill>
                <a:latin typeface="Garamond"/>
              </a:rPr>
              <a:t>Право на личную неприкосновенн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49"/>
              </a:spcBef>
              <a:buClr>
                <a:srgbClr val="a50021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aramond"/>
              </a:rPr>
              <a:t>Право на проживание в семь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49"/>
              </a:spcBef>
              <a:buClr>
                <a:srgbClr val="a50021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3300"/>
                </a:solidFill>
                <a:latin typeface="Garamond"/>
              </a:rPr>
              <a:t>Право на заботу и содержание со стороны родител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49"/>
              </a:spcBef>
              <a:buClr>
                <a:srgbClr val="a50021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aramond"/>
              </a:rPr>
              <a:t>Право на получение образования в школе в учебное врем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49"/>
              </a:spcBef>
              <a:buClr>
                <a:srgbClr val="a50021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3300"/>
                </a:solidFill>
                <a:latin typeface="Garamond"/>
              </a:rPr>
              <a:t>Право на организацию отдыха, занятости, досу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ииии"/>
          <p:cNvPicPr/>
          <p:nvPr/>
        </p:nvPicPr>
        <p:blipFill>
          <a:blip r:embed="rId1"/>
          <a:stretch/>
        </p:blipFill>
        <p:spPr>
          <a:xfrm>
            <a:off x="157320" y="138240"/>
            <a:ext cx="2471760" cy="1726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01_banner_love-save[1]"/>
          <p:cNvPicPr/>
          <p:nvPr/>
        </p:nvPicPr>
        <p:blipFill>
          <a:blip r:embed="rId2"/>
          <a:srcRect l="68753" t="5140" r="4687" b="47992"/>
          <a:stretch/>
        </p:blipFill>
        <p:spPr>
          <a:xfrm>
            <a:off x="6784920" y="152280"/>
            <a:ext cx="2130480" cy="189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49120" y="1883880"/>
            <a:ext cx="8629920" cy="46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Право на получение круглосуточной медицинской помощи, на психиатрическую и наркологическую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Garamond"/>
              </a:rPr>
              <a:t>Право на содействие во временном трудоустройстве в свободное от учебы время в возрасте от 14 до 18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Право на защиту от противоправных действий по отношению к ребенку в общественных мес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Garamond"/>
              </a:rPr>
              <a:t>Право на социально-педагогическую реабилитацию в случае нахождения в социально-опасном полож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Право на защиту от вовлечение в употребление наркотических средств, алкоголя, курения таб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imgA"/>
          <p:cNvPicPr/>
          <p:nvPr/>
        </p:nvPicPr>
        <p:blipFill>
          <a:blip r:embed="rId1"/>
          <a:stretch/>
        </p:blipFill>
        <p:spPr>
          <a:xfrm>
            <a:off x="171360" y="142920"/>
            <a:ext cx="1982880" cy="14414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2300400" y="187200"/>
            <a:ext cx="4830480" cy="1227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Monotype Corsiva"/>
              </a:rPr>
              <a:t>Права детей: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0" name="Picture 4" descr="01_banner_love-save[1]"/>
          <p:cNvPicPr/>
          <p:nvPr/>
        </p:nvPicPr>
        <p:blipFill>
          <a:blip r:embed="rId2"/>
          <a:srcRect l="68753" t="5140" r="4687" b="47992"/>
          <a:stretch/>
        </p:blipFill>
        <p:spPr>
          <a:xfrm>
            <a:off x="7391520" y="152280"/>
            <a:ext cx="1523880" cy="10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222120"/>
            <a:ext cx="9144000" cy="1255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-866880" y="131760"/>
            <a:ext cx="9347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Monotype Corsiva"/>
              </a:rPr>
              <a:t>Что будет, если нарушишь Закон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90400" y="1628640"/>
            <a:ext cx="8043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Закон предусматривает, что в зоне ответственности за судьбу ребенка находятся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936720" y="3805200"/>
            <a:ext cx="147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Georgia"/>
              </a:rPr>
              <a:t>семья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2079360" y="5210280"/>
            <a:ext cx="160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Georgia"/>
              </a:rPr>
              <a:t>школа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5579280" y="3629160"/>
            <a:ext cx="338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Georgia"/>
              </a:rPr>
              <a:t>органы власти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4741920" y="5170320"/>
            <a:ext cx="22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Georgia"/>
              </a:rPr>
              <a:t>общество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Line 12"/>
          <p:cNvSpPr/>
          <p:nvPr/>
        </p:nvSpPr>
        <p:spPr>
          <a:xfrm flipH="1">
            <a:off x="1924200" y="2689200"/>
            <a:ext cx="736560" cy="1104840"/>
          </a:xfrm>
          <a:prstGeom prst="line">
            <a:avLst/>
          </a:prstGeom>
          <a:ln w="95400">
            <a:solidFill>
              <a:srgbClr val="cc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Line 13"/>
          <p:cNvSpPr/>
          <p:nvPr/>
        </p:nvSpPr>
        <p:spPr>
          <a:xfrm flipH="1">
            <a:off x="3001680" y="2784600"/>
            <a:ext cx="601560" cy="2360520"/>
          </a:xfrm>
          <a:prstGeom prst="line">
            <a:avLst/>
          </a:prstGeom>
          <a:ln w="95400">
            <a:solidFill>
              <a:srgbClr val="cc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4667400" y="2784600"/>
            <a:ext cx="709560" cy="2278080"/>
          </a:xfrm>
          <a:prstGeom prst="line">
            <a:avLst/>
          </a:prstGeom>
          <a:ln w="95400">
            <a:solidFill>
              <a:srgbClr val="cc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5718240" y="2716200"/>
            <a:ext cx="1338120" cy="927000"/>
          </a:xfrm>
          <a:prstGeom prst="line">
            <a:avLst/>
          </a:prstGeom>
          <a:ln w="95400">
            <a:solidFill>
              <a:srgbClr val="cc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Picture 4" descr="01_banner_love-save[1]"/>
          <p:cNvPicPr/>
          <p:nvPr/>
        </p:nvPicPr>
        <p:blipFill>
          <a:blip r:embed="rId1"/>
          <a:srcRect l="68753" t="5140" r="4687" b="47992"/>
          <a:stretch/>
        </p:blipFill>
        <p:spPr>
          <a:xfrm>
            <a:off x="7426440" y="352440"/>
            <a:ext cx="1523880" cy="1089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080" y="152280"/>
            <a:ext cx="72057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cc3300"/>
                </a:solidFill>
                <a:latin typeface="Monotype Corsiva"/>
              </a:rPr>
              <a:t>При доставлении несовершеннолетнего в </a:t>
            </a:r>
            <a:br>
              <a:rPr sz="3100"/>
            </a:br>
            <a:r>
              <a:rPr b="1" lang="ru-RU" sz="3100" spc="-1" strike="noStrike">
                <a:solidFill>
                  <a:srgbClr val="cc3300"/>
                </a:solidFill>
                <a:latin typeface="Monotype Corsiva"/>
              </a:rPr>
              <a:t>орган внутренних дел </a:t>
            </a:r>
            <a:r>
              <a:rPr b="1" lang="ru-RU" sz="3100" spc="-1" strike="noStrike">
                <a:solidFill>
                  <a:srgbClr val="3333cc"/>
                </a:solidFill>
                <a:latin typeface="Monotype Corsiva"/>
              </a:rPr>
              <a:t>сотрудник милиции обязан</a:t>
            </a:r>
            <a:r>
              <a:rPr b="1" lang="ru-RU" sz="3100" spc="-1" strike="noStrike">
                <a:solidFill>
                  <a:srgbClr val="cc3300"/>
                </a:solidFill>
                <a:latin typeface="Monotype Corsiva"/>
              </a:rPr>
              <a:t>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Установить            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данные, характеризующие личность      несовершеннолетнего; сведения о родителях (законных представителях), условиях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Сообщить             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об обнаружении несовершеннолетнего и принятых мерах родителям либо законным представител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Выяснить</a:t>
            </a: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обстоятельства совершения правонару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Оформить           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материалы, необходимые для направления      заблудившегося, подкинутого ребенка в учреждения органов социальной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защиты населения, образования и здравоохра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ровести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при совершении несовершеннолетним правонарушения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неотложные следственные и другие действия в соответствии с законодательством Р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01_banner_love-save[1]"/>
          <p:cNvPicPr/>
          <p:nvPr/>
        </p:nvPicPr>
        <p:blipFill>
          <a:blip r:embed="rId1"/>
          <a:srcRect l="68753" t="5140" r="4687" b="47992"/>
          <a:stretch/>
        </p:blipFill>
        <p:spPr>
          <a:xfrm>
            <a:off x="7051680" y="0"/>
            <a:ext cx="1817640" cy="162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01_banner_love-save[1]"/>
          <p:cNvPicPr/>
          <p:nvPr/>
        </p:nvPicPr>
        <p:blipFill>
          <a:blip r:embed="rId1"/>
          <a:srcRect l="68753" t="5140" r="4687" b="47992"/>
          <a:stretch/>
        </p:blipFill>
        <p:spPr>
          <a:xfrm>
            <a:off x="5116680" y="1374840"/>
            <a:ext cx="3751200" cy="32385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7"/>
          <p:cNvSpPr/>
          <p:nvPr/>
        </p:nvSpPr>
        <p:spPr>
          <a:xfrm>
            <a:off x="179280" y="216000"/>
            <a:ext cx="862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Наказания родителей, предусмотренные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Законом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16080" y="1609560"/>
            <a:ext cx="5348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Предупреждение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Административный штраф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При угрозе жизни и здоровью ребенка – отобрание его у родителей и лишение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их родительских прав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03_banner_love-save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4846680" y="1822320"/>
            <a:ext cx="257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НА КУБАНИ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272880"/>
            <a:ext cx="9144000" cy="610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 соответствии с Законом об административных правонарушениях № 608-КЗ от 23 июля 2003 года запреще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1. Допуск несовершеннолетних в помещения организаций или индивидуальных предпринимателей, предназначенные для проведения азартных игр и (или) пари либо используемые для реализации товаров (услуг), эксплуатирующих интерес к сексу, а также без сопровождения родителей (лиц, их заменяющих) в организации общественного питания, предназначенные для потребления (распития) алкогольной и спиртосодержащей продукции, пива и напитков, изготавливаемых на его осно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лечет наложение административного штрафа на должностных лиц в размере о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500 до 5000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рублей, на юридических лиц - о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0 000 до 30 000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руб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2. Допуск несовершеннолетних без сопровождения родителей (лиц, их заменяющих) с 22 часов до 6 часов местного времени в иные места, доступные для посещения неопределенного круга лиц и предназначенные для использования в сфере развлечений и (или) досуга, а также оказания услуг по предоставлению доступа к сети "Интернет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лечет наложение административного штрафа на должностных лиц в размере о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500 до 5000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рублей, на юридических лиц - о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5000 до 10 000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рублей. Неуплата административного штрафа в установленный срок влечет наложение административного штрафа 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вукратном размере либо административный арест на 15 су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Organization Chart 6"/>
          <p:cNvGrpSpPr/>
          <p:nvPr/>
        </p:nvGrpSpPr>
        <p:grpSpPr>
          <a:xfrm>
            <a:off x="0" y="1199160"/>
            <a:ext cx="9719640" cy="5349240"/>
            <a:chOff x="0" y="1199160"/>
            <a:chExt cx="9719640" cy="5349240"/>
          </a:xfrm>
        </p:grpSpPr>
        <p:cxnSp>
          <p:nvCxnSpPr>
            <p:cNvPr id="113" name="_s1028"/>
            <p:cNvCxnSpPr>
              <a:stCxn id="114" idx="1"/>
              <a:endCxn id="115" idx="2"/>
            </p:cNvCxnSpPr>
            <p:nvPr/>
          </p:nvCxnSpPr>
          <p:spPr>
            <a:xfrm rot="10800000">
              <a:off x="6626160" y="3412440"/>
              <a:ext cx="442080" cy="525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1029"/>
            <p:cNvCxnSpPr>
              <a:stCxn id="117" idx="3"/>
              <a:endCxn id="115" idx="2"/>
            </p:cNvCxnSpPr>
            <p:nvPr/>
          </p:nvCxnSpPr>
          <p:spPr>
            <a:xfrm flipV="1">
              <a:off x="6185880" y="3412440"/>
              <a:ext cx="441360" cy="206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1030"/>
            <p:cNvCxnSpPr>
              <a:stCxn id="119" idx="3"/>
              <a:endCxn id="120" idx="2"/>
            </p:cNvCxnSpPr>
            <p:nvPr/>
          </p:nvCxnSpPr>
          <p:spPr>
            <a:xfrm flipV="1">
              <a:off x="2651760" y="2534400"/>
              <a:ext cx="443880" cy="266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1031"/>
            <p:cNvCxnSpPr>
              <a:stCxn id="122" idx="1"/>
              <a:endCxn id="120" idx="2"/>
            </p:cNvCxnSpPr>
            <p:nvPr/>
          </p:nvCxnSpPr>
          <p:spPr>
            <a:xfrm rot="10800000">
              <a:off x="3094560" y="2534400"/>
              <a:ext cx="2206080" cy="3840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1032"/>
            <p:cNvCxnSpPr>
              <a:stCxn id="124" idx="1"/>
              <a:endCxn id="125" idx="2"/>
            </p:cNvCxnSpPr>
            <p:nvPr/>
          </p:nvCxnSpPr>
          <p:spPr>
            <a:xfrm rot="10800000">
              <a:off x="6626160" y="4979880"/>
              <a:ext cx="442080" cy="609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1033"/>
            <p:cNvCxnSpPr>
              <a:stCxn id="127" idx="1"/>
              <a:endCxn id="125" idx="2"/>
            </p:cNvCxnSpPr>
            <p:nvPr/>
          </p:nvCxnSpPr>
          <p:spPr>
            <a:xfrm rot="10800000">
              <a:off x="6626160" y="4979880"/>
              <a:ext cx="442080" cy="206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1034"/>
            <p:cNvCxnSpPr>
              <a:stCxn id="125" idx="1"/>
              <a:endCxn id="120" idx="2"/>
            </p:cNvCxnSpPr>
            <p:nvPr/>
          </p:nvCxnSpPr>
          <p:spPr>
            <a:xfrm rot="10800000">
              <a:off x="3094560" y="2534400"/>
              <a:ext cx="2206080" cy="2273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1035"/>
            <p:cNvCxnSpPr>
              <a:stCxn id="115" idx="1"/>
              <a:endCxn id="120" idx="2"/>
            </p:cNvCxnSpPr>
            <p:nvPr/>
          </p:nvCxnSpPr>
          <p:spPr>
            <a:xfrm rot="10800000">
              <a:off x="3094560" y="2535120"/>
              <a:ext cx="2206080" cy="705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1036"/>
            <p:cNvCxnSpPr>
              <a:stCxn id="131" idx="0"/>
              <a:endCxn id="132" idx="2"/>
            </p:cNvCxnSpPr>
            <p:nvPr/>
          </p:nvCxnSpPr>
          <p:spPr>
            <a:xfrm flipH="1" flipV="1" rot="5400000">
              <a:off x="5972400" y="1925640"/>
              <a:ext cx="91800" cy="700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3" name="_s1037"/>
            <p:cNvCxnSpPr>
              <a:stCxn id="120" idx="0"/>
              <a:endCxn id="132" idx="2"/>
            </p:cNvCxnSpPr>
            <p:nvPr/>
          </p:nvCxnSpPr>
          <p:spPr>
            <a:xfrm flipH="1" flipV="1" rot="5400000">
              <a:off x="4685760" y="639000"/>
              <a:ext cx="91800" cy="3273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1038"/>
            <p:cNvCxnSpPr>
              <a:stCxn id="132" idx="0"/>
              <a:endCxn id="135" idx="2"/>
            </p:cNvCxnSpPr>
            <p:nvPr/>
          </p:nvCxnSpPr>
          <p:spPr>
            <a:xfrm flipV="1" rot="16200000">
              <a:off x="5568120" y="1216800"/>
              <a:ext cx="91080" cy="1508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1039"/>
            <p:cNvCxnSpPr>
              <a:stCxn id="137" idx="0"/>
              <a:endCxn id="135" idx="2"/>
            </p:cNvCxnSpPr>
            <p:nvPr/>
          </p:nvCxnSpPr>
          <p:spPr>
            <a:xfrm flipH="1" flipV="1" rot="5400000">
              <a:off x="2917800" y="74520"/>
              <a:ext cx="91080" cy="3793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5" name="_s1040"/>
            <p:cNvSpPr/>
            <p:nvPr/>
          </p:nvSpPr>
          <p:spPr>
            <a:xfrm>
              <a:off x="1050840" y="1644120"/>
              <a:ext cx="7620120" cy="281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" rIns="576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Кружки, клубы, спортивные секции…п. Лазаревское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37" name="_s1041"/>
            <p:cNvSpPr/>
            <p:nvPr/>
          </p:nvSpPr>
          <p:spPr>
            <a:xfrm>
              <a:off x="0" y="2017800"/>
              <a:ext cx="2131560" cy="212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" rIns="576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СОШ №80</a:t>
              </a:r>
              <a:endParaRPr b="0" lang="en-US" sz="1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32" name="_s1042"/>
            <p:cNvSpPr/>
            <p:nvPr/>
          </p:nvSpPr>
          <p:spPr>
            <a:xfrm>
              <a:off x="5301360" y="2017800"/>
              <a:ext cx="2130840" cy="212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" rIns="576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СОШ №75</a:t>
              </a:r>
              <a:endParaRPr b="0" lang="en-US" sz="1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20" name="_s1043"/>
            <p:cNvSpPr/>
            <p:nvPr/>
          </p:nvSpPr>
          <p:spPr>
            <a:xfrm>
              <a:off x="2028600" y="2322000"/>
              <a:ext cx="2131560" cy="213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" rIns="576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Лицей №95</a:t>
              </a:r>
              <a:endParaRPr b="0" lang="en-US" sz="1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31" name="_s1044"/>
            <p:cNvSpPr/>
            <p:nvPr/>
          </p:nvSpPr>
          <p:spPr>
            <a:xfrm>
              <a:off x="4601160" y="2322000"/>
              <a:ext cx="2131560" cy="213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" rIns="576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ООШ №99</a:t>
              </a:r>
              <a:endParaRPr b="0" lang="en-US" sz="1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5" name="_s1045"/>
            <p:cNvSpPr/>
            <p:nvPr/>
          </p:nvSpPr>
          <p:spPr>
            <a:xfrm>
              <a:off x="5301360" y="3065760"/>
              <a:ext cx="2651400" cy="347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" rIns="684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ДЮСШ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25" name="_s1046"/>
            <p:cNvSpPr/>
            <p:nvPr/>
          </p:nvSpPr>
          <p:spPr>
            <a:xfrm>
              <a:off x="5301360" y="4633200"/>
              <a:ext cx="2651400" cy="347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" rIns="684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Музыкальная школа</a:t>
              </a:r>
              <a:endParaRPr b="0" lang="en-US" sz="10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27" name="_s1047"/>
            <p:cNvSpPr/>
            <p:nvPr/>
          </p:nvSpPr>
          <p:spPr>
            <a:xfrm>
              <a:off x="7068240" y="5072040"/>
              <a:ext cx="2651400" cy="227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" rIns="684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ЦДО «Радуга»</a:t>
              </a:r>
              <a:endParaRPr b="0" lang="en-US" sz="1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24" name="_s1048"/>
            <p:cNvSpPr/>
            <p:nvPr/>
          </p:nvSpPr>
          <p:spPr>
            <a:xfrm>
              <a:off x="7068240" y="5474880"/>
              <a:ext cx="2651400" cy="227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Центр национальных культур</a:t>
              </a:r>
              <a:endParaRPr b="0" lang="en-US" sz="1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22" name="_s1049"/>
            <p:cNvSpPr/>
            <p:nvPr/>
          </p:nvSpPr>
          <p:spPr>
            <a:xfrm>
              <a:off x="5301360" y="6201360"/>
              <a:ext cx="2651400" cy="347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Яхт-клуб</a:t>
              </a:r>
              <a:endParaRPr b="0" lang="en-US" sz="13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9" name="_s1050"/>
            <p:cNvSpPr/>
            <p:nvPr/>
          </p:nvSpPr>
          <p:spPr>
            <a:xfrm>
              <a:off x="0" y="2627280"/>
              <a:ext cx="2652120" cy="347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880" rIns="1188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Художественная школа</a:t>
              </a:r>
              <a:endParaRPr b="0" lang="en-US" sz="1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7" name="_s1051"/>
            <p:cNvSpPr/>
            <p:nvPr/>
          </p:nvSpPr>
          <p:spPr>
            <a:xfrm>
              <a:off x="3533760" y="3504600"/>
              <a:ext cx="2652120" cy="227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920" rIns="1692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Школа спортивных игр</a:t>
              </a:r>
              <a:endParaRPr b="0" lang="en-US" sz="1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4" name="_s1052"/>
            <p:cNvSpPr/>
            <p:nvPr/>
          </p:nvSpPr>
          <p:spPr>
            <a:xfrm>
              <a:off x="7068240" y="3823560"/>
              <a:ext cx="2651400" cy="227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Школа спортивных единоборств</a:t>
              </a:r>
              <a:endParaRPr b="0" lang="en-US" sz="1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pic>
          <p:nvPicPr>
            <p:cNvPr id="138" name="Picture 3" descr="P9270112_resize"/>
            <p:cNvPicPr/>
            <p:nvPr/>
          </p:nvPicPr>
          <p:blipFill>
            <a:blip r:embed="rId1"/>
            <a:stretch/>
          </p:blipFill>
          <p:spPr>
            <a:xfrm>
              <a:off x="261720" y="2494800"/>
              <a:ext cx="2017800" cy="15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110" descr=""/>
            <p:cNvPicPr/>
            <p:nvPr/>
          </p:nvPicPr>
          <p:blipFill>
            <a:blip r:embed="rId2"/>
            <a:stretch/>
          </p:blipFill>
          <p:spPr>
            <a:xfrm>
              <a:off x="7490520" y="1199160"/>
              <a:ext cx="1373400" cy="109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111" descr=""/>
            <p:cNvPicPr/>
            <p:nvPr/>
          </p:nvPicPr>
          <p:blipFill>
            <a:blip r:embed="rId3"/>
            <a:stretch/>
          </p:blipFill>
          <p:spPr>
            <a:xfrm>
              <a:off x="2979000" y="4474080"/>
              <a:ext cx="1603440" cy="16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115" descr=""/>
            <p:cNvPicPr/>
            <p:nvPr/>
          </p:nvPicPr>
          <p:blipFill>
            <a:blip r:embed="rId4"/>
            <a:stretch/>
          </p:blipFill>
          <p:spPr>
            <a:xfrm>
              <a:off x="692280" y="4329360"/>
              <a:ext cx="1360080" cy="182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Text Box 84"/>
          <p:cNvSpPr/>
          <p:nvPr/>
        </p:nvSpPr>
        <p:spPr>
          <a:xfrm>
            <a:off x="-948960" y="0"/>
            <a:ext cx="1150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Monotype Corsiva"/>
              </a:rPr>
              <a:t>Чем занять свободное внеурочное время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0" y="0"/>
            <a:ext cx="9144000" cy="1255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-1566720" y="85680"/>
            <a:ext cx="103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Monotype Corsiva"/>
              </a:rPr>
              <a:t>Чем занять свободное внеурочное время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Picture 4" descr="01_banner_love-save[1]"/>
          <p:cNvPicPr/>
          <p:nvPr/>
        </p:nvPicPr>
        <p:blipFill>
          <a:blip r:embed="rId1"/>
          <a:srcRect l="68753" t="5140" r="4687" b="47992"/>
          <a:stretch/>
        </p:blipFill>
        <p:spPr>
          <a:xfrm>
            <a:off x="7402680" y="152280"/>
            <a:ext cx="1523880" cy="1089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235080" y="4168800"/>
            <a:ext cx="3174840" cy="2384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P9270112_resize"/>
          <p:cNvPicPr/>
          <p:nvPr/>
        </p:nvPicPr>
        <p:blipFill>
          <a:blip r:embed="rId3"/>
          <a:stretch/>
        </p:blipFill>
        <p:spPr>
          <a:xfrm>
            <a:off x="2092320" y="3776760"/>
            <a:ext cx="3483000" cy="2612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Гандбол_res"/>
          <p:cNvPicPr/>
          <p:nvPr/>
        </p:nvPicPr>
        <p:blipFill>
          <a:blip r:embed="rId4"/>
          <a:stretch/>
        </p:blipFill>
        <p:spPr>
          <a:xfrm>
            <a:off x="5237280" y="4052880"/>
            <a:ext cx="3660480" cy="26478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0"/>
          <p:cNvSpPr/>
          <p:nvPr/>
        </p:nvSpPr>
        <p:spPr>
          <a:xfrm>
            <a:off x="317520" y="679320"/>
            <a:ext cx="8826480" cy="30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Центр дополнительного образования «Радуга»</a:t>
            </a:r>
            <a:r>
              <a:rPr b="0" lang="ru-RU" sz="2000" spc="-1" strike="noStrike">
                <a:solidFill>
                  <a:srgbClr val="0000ff"/>
                </a:solidFill>
                <a:latin typeface="Arial Black"/>
              </a:rPr>
              <a:t> п. Лазаревское, предлагает</a:t>
            </a:r>
            <a:r>
              <a:rPr b="0" lang="ru-RU" sz="1800" spc="-1" strike="noStrike">
                <a:solidFill>
                  <a:srgbClr val="0000ff"/>
                </a:solidFill>
                <a:latin typeface="Arial Black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удия для детей дошкольного возраста «Малышок»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О студия «Родник»;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ъединение «Палитра»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динение «Юные дизайнеры»;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удия эстрадного танца «Кристалл»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кальная студия «Мелодия»;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динение «Основы информационных технологий»;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ъединение «Английский язык для начинающих», «Французский язык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pull dir="r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0"/>
            <a:ext cx="9144000" cy="1255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-1566720" y="85680"/>
            <a:ext cx="103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Monotype Corsiva"/>
              </a:rPr>
              <a:t>Чем занять свободное внеурочное время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2" name="Picture 4" descr="01_banner_love-save[1]"/>
          <p:cNvPicPr/>
          <p:nvPr/>
        </p:nvPicPr>
        <p:blipFill>
          <a:blip r:embed="rId1"/>
          <a:srcRect l="68753" t="5140" r="4687" b="47992"/>
          <a:stretch/>
        </p:blipFill>
        <p:spPr>
          <a:xfrm>
            <a:off x="7391520" y="152280"/>
            <a:ext cx="1523880" cy="1089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IMGP1730-web"/>
          <p:cNvPicPr/>
          <p:nvPr/>
        </p:nvPicPr>
        <p:blipFill>
          <a:blip r:embed="rId2"/>
          <a:stretch/>
        </p:blipFill>
        <p:spPr>
          <a:xfrm>
            <a:off x="0" y="4726080"/>
            <a:ext cx="3317760" cy="2131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a8c3241d5e3af255f785c8f4671e9c66"/>
          <p:cNvPicPr/>
          <p:nvPr/>
        </p:nvPicPr>
        <p:blipFill>
          <a:blip r:embed="rId3"/>
          <a:stretch/>
        </p:blipFill>
        <p:spPr>
          <a:xfrm>
            <a:off x="4836960" y="3551400"/>
            <a:ext cx="2722680" cy="20397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1"/>
          <p:cNvSpPr/>
          <p:nvPr/>
        </p:nvSpPr>
        <p:spPr>
          <a:xfrm>
            <a:off x="258840" y="750960"/>
            <a:ext cx="888516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 Black"/>
              </a:rPr>
              <a:t>На базе СОШ №80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 Black"/>
              </a:rPr>
              <a:t> функционируют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1250"/>
              </a:spcBef>
              <a:buClr>
                <a:srgbClr val="99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Arial Black"/>
              </a:rPr>
              <a:t>Военно-патриотический клуб «Добрыня»;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 Black"/>
              </a:rPr>
              <a:t>Кружок «Сувенирная игрушка»;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990099"/>
                </a:solidFill>
                <a:latin typeface="Arial Black"/>
              </a:rPr>
              <a:t>Кружок «Театр костюма»;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1250"/>
              </a:spcBef>
              <a:buClr>
                <a:srgbClr val="99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Arial Black"/>
              </a:rPr>
              <a:t>Кружок «Спортивные танцы»;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 Black"/>
              </a:rPr>
              <a:t>Спортивный клуб «Надежды России» с секциями: «Баскетбол», «Футбол», «Волейбол»;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1250"/>
              </a:spcBef>
              <a:buClr>
                <a:srgbClr val="99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66"/>
                </a:solidFill>
                <a:latin typeface="Arial Black"/>
              </a:rPr>
              <a:t>секция «Бокса» от ДЮСШ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6" name="Picture 12" descr="SP_A0462"/>
          <p:cNvPicPr/>
          <p:nvPr/>
        </p:nvPicPr>
        <p:blipFill>
          <a:blip r:embed="rId4"/>
          <a:stretch/>
        </p:blipFill>
        <p:spPr>
          <a:xfrm>
            <a:off x="2109960" y="3701880"/>
            <a:ext cx="2647800" cy="1919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3" descr="SP_A0468"/>
          <p:cNvPicPr/>
          <p:nvPr/>
        </p:nvPicPr>
        <p:blipFill>
          <a:blip r:embed="rId5"/>
          <a:stretch/>
        </p:blipFill>
        <p:spPr>
          <a:xfrm>
            <a:off x="6103800" y="4384800"/>
            <a:ext cx="2832120" cy="22651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42800" y="641160"/>
            <a:ext cx="8229600" cy="329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Цель круглого стола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— поднять качество гражданской активности, самосознания путем расширения для учащихся возможности дискутировать и быть более информированными по поводу общественных проблем молодого поко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90400" y="4294080"/>
            <a:ext cx="79203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 Black"/>
              </a:rPr>
              <a:t>«Защищая и просвещая своих детей,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 Black"/>
              </a:rPr>
              <a:t>Россия обретает будущее»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5"/>
          <p:cNvSpPr txBox="1"/>
          <p:nvPr/>
        </p:nvSpPr>
        <p:spPr>
          <a:xfrm>
            <a:off x="1206360" y="195120"/>
            <a:ext cx="53992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лагодаря Закону - </a:t>
            </a:r>
            <a:endParaRPr b="0" lang="en-US" sz="2800" spc="1" strike="noStrike">
              <a:ln w="12600">
                <a:solidFill>
                  <a:srgbClr val="00008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емья </a:t>
            </a:r>
            <a:endParaRPr b="0" lang="en-US" sz="2800" spc="1" strike="noStrike">
              <a:ln w="12600">
                <a:solidFill>
                  <a:srgbClr val="00008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ановится </a:t>
            </a:r>
            <a:endParaRPr b="0" lang="en-US" sz="2800" spc="1" strike="noStrike">
              <a:ln w="12600">
                <a:solidFill>
                  <a:srgbClr val="00008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репче!</a:t>
            </a:r>
            <a:endParaRPr b="0" lang="en-US" sz="2800" spc="1" strike="noStrike">
              <a:ln w="12600">
                <a:solidFill>
                  <a:srgbClr val="00008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2800" spc="1" strike="noStrike">
              <a:ln w="12600">
                <a:solidFill>
                  <a:srgbClr val="00008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9" name="Picture 6" descr="foto_clouds_05-web"/>
          <p:cNvPicPr/>
          <p:nvPr/>
        </p:nvPicPr>
        <p:blipFill>
          <a:blip r:embed="rId1"/>
          <a:stretch/>
        </p:blipFill>
        <p:spPr>
          <a:xfrm rot="20924400">
            <a:off x="4687560" y="3500280"/>
            <a:ext cx="3998880" cy="2813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55220375"/>
          <p:cNvPicPr/>
          <p:nvPr/>
        </p:nvPicPr>
        <p:blipFill>
          <a:blip r:embed="rId2"/>
          <a:stretch/>
        </p:blipFill>
        <p:spPr>
          <a:xfrm rot="1542600">
            <a:off x="5931000" y="411120"/>
            <a:ext cx="2309760" cy="3137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01_banner_love-save[1]"/>
          <p:cNvPicPr/>
          <p:nvPr/>
        </p:nvPicPr>
        <p:blipFill>
          <a:blip r:embed="rId3"/>
          <a:srcRect l="68753" t="5140" r="4687" b="47992"/>
          <a:stretch/>
        </p:blipFill>
        <p:spPr>
          <a:xfrm>
            <a:off x="264960" y="638280"/>
            <a:ext cx="1824120" cy="1303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Большая семья Гетмановых"/>
          <p:cNvPicPr/>
          <p:nvPr/>
        </p:nvPicPr>
        <p:blipFill>
          <a:blip r:embed="rId4"/>
          <a:stretch/>
        </p:blipFill>
        <p:spPr>
          <a:xfrm>
            <a:off x="268200" y="2247840"/>
            <a:ext cx="4243320" cy="4308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8760" y="834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а человека – совокупность общеобязательных норм (правил поведения), которые определяют меру свободы людей (служат критериями правомерного поведения), закрепляются в законах и иных юридических актах, обеспечиваются государством в целях утверждения порядка и справедливости в обществе, свободы личности, её чести и достои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127040" y="3142800"/>
            <a:ext cx="45594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овесть есть закон всех закон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ранцузский поэ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к Ламарт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тыд запрещает порою т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го не запрещают закон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н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8"/>
          <p:cNvGraphicFramePr/>
          <p:nvPr/>
        </p:nvGraphicFramePr>
        <p:xfrm>
          <a:off x="600120" y="3133800"/>
          <a:ext cx="3070080" cy="30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3133800"/>
                    <a:ext cx="3070080" cy="3079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Картинка 20 из 13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09840" y="1401840"/>
            <a:ext cx="4368960" cy="3638520"/>
          </a:xfrm>
          <a:prstGeom prst="rect">
            <a:avLst/>
          </a:prstGeom>
          <a:ln w="0">
            <a:noFill/>
          </a:ln>
        </p:spPr>
      </p:pic>
      <p:sp>
        <p:nvSpPr>
          <p:cNvPr id="168" name="WordArt 10"/>
          <p:cNvSpPr txBox="1"/>
          <p:nvPr/>
        </p:nvSpPr>
        <p:spPr>
          <a:xfrm>
            <a:off x="942840" y="246240"/>
            <a:ext cx="7701120" cy="10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  чем борется «ЗАКОН» ?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752400" y="2065320"/>
            <a:ext cx="20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лкоголизм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250920" y="2654280"/>
            <a:ext cx="21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Табакокурение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0" y="373212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ркомания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92240" y="4424400"/>
            <a:ext cx="26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токсикомания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6119640" y="24336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громания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3376440" y="5102280"/>
            <a:ext cx="29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квернословие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6269040" y="4707000"/>
            <a:ext cx="287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нтиобщественные действия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1268280" y="520524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силие и жестокость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6578640" y="3363840"/>
            <a:ext cx="23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еспризорность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Text Box 24"/>
          <p:cNvSpPr/>
          <p:nvPr/>
        </p:nvSpPr>
        <p:spPr>
          <a:xfrm>
            <a:off x="6473880" y="3995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езнадзорность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3560" y="44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кторин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Я знаю Закон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02_banner_love-save[1]"/>
          <p:cNvPicPr/>
          <p:nvPr/>
        </p:nvPicPr>
        <p:blipFill>
          <a:blip r:embed="rId1"/>
          <a:stretch/>
        </p:blipFill>
        <p:spPr>
          <a:xfrm>
            <a:off x="1515960" y="2165400"/>
            <a:ext cx="623268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искуссия с участием приглашенных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«Что делать, чтобы не нарушался Закон?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459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ход 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Активность: создать в обществе атмосферу нетерпимости ко всякого рода насилию и жестокости, к нарушениям Законов Р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328720" y="1600200"/>
            <a:ext cx="33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ход 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Деятельность: обеспечить занятость подрост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01_banner_love-save[1]"/>
          <p:cNvPicPr/>
          <p:nvPr/>
        </p:nvPicPr>
        <p:blipFill>
          <a:blip r:embed="rId1"/>
          <a:srcRect l="68753" t="5140" r="4687" b="47992"/>
          <a:stretch/>
        </p:blipFill>
        <p:spPr>
          <a:xfrm>
            <a:off x="5846760" y="4062240"/>
            <a:ext cx="269568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Блок-схема: перфолента 2"/>
          <p:cNvSpPr/>
          <p:nvPr/>
        </p:nvSpPr>
        <p:spPr>
          <a:xfrm>
            <a:off x="2538360" y="252360"/>
            <a:ext cx="3344760" cy="878040"/>
          </a:xfrm>
          <a:prstGeom prst="flowChartPunchedTape">
            <a:avLst/>
          </a:prstGeom>
          <a:solidFill>
            <a:srgbClr val="edf4aa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дросток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Блок-схема: перфолента 3"/>
          <p:cNvSpPr/>
          <p:nvPr/>
        </p:nvSpPr>
        <p:spPr>
          <a:xfrm>
            <a:off x="6219720" y="1247760"/>
            <a:ext cx="2419560" cy="87804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Познающий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Блок-схема: перфолента 4"/>
          <p:cNvSpPr/>
          <p:nvPr/>
        </p:nvSpPr>
        <p:spPr>
          <a:xfrm>
            <a:off x="3252960" y="1243080"/>
            <a:ext cx="2462040" cy="87768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Активный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Блок-схема: перфолента 5"/>
          <p:cNvSpPr/>
          <p:nvPr/>
        </p:nvSpPr>
        <p:spPr>
          <a:xfrm>
            <a:off x="469800" y="1239840"/>
            <a:ext cx="2260800" cy="87804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Азартный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Блок-схема: перфолента 6"/>
          <p:cNvSpPr/>
          <p:nvPr/>
        </p:nvSpPr>
        <p:spPr>
          <a:xfrm>
            <a:off x="297000" y="2595600"/>
            <a:ext cx="2651040" cy="87768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Взрослеет</a:t>
            </a: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Блок-схема: перфолента 7"/>
          <p:cNvSpPr/>
          <p:nvPr/>
        </p:nvSpPr>
        <p:spPr>
          <a:xfrm>
            <a:off x="3103560" y="2567160"/>
            <a:ext cx="3008160" cy="87768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Самоутверждается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Блок-схема: перфолента 8"/>
          <p:cNvSpPr/>
          <p:nvPr/>
        </p:nvSpPr>
        <p:spPr>
          <a:xfrm>
            <a:off x="2779560" y="4981680"/>
            <a:ext cx="3345120" cy="877680"/>
          </a:xfrm>
          <a:prstGeom prst="flowChartPunchedTape">
            <a:avLst/>
          </a:prstGeom>
          <a:solidFill>
            <a:srgbClr val="edf4aa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амоутверждение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Блок-схема: перфолента 9"/>
          <p:cNvSpPr/>
          <p:nvPr/>
        </p:nvSpPr>
        <p:spPr>
          <a:xfrm>
            <a:off x="901800" y="3726000"/>
            <a:ext cx="7315200" cy="87768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Чувство взросления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Блок-схема: перфолента 10"/>
          <p:cNvSpPr/>
          <p:nvPr/>
        </p:nvSpPr>
        <p:spPr>
          <a:xfrm>
            <a:off x="6232680" y="2577960"/>
            <a:ext cx="2490480" cy="87948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Формирует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Блок-схема: перфолента 2"/>
          <p:cNvSpPr/>
          <p:nvPr/>
        </p:nvSpPr>
        <p:spPr>
          <a:xfrm>
            <a:off x="2538360" y="252360"/>
            <a:ext cx="3344760" cy="87804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ава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Блок-схема: перфолента 3"/>
          <p:cNvSpPr/>
          <p:nvPr/>
        </p:nvSpPr>
        <p:spPr>
          <a:xfrm>
            <a:off x="6219720" y="1247760"/>
            <a:ext cx="2419560" cy="878040"/>
          </a:xfrm>
          <a:prstGeom prst="flowChartPunchedTap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щие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Блок-схема: перфолента 4"/>
          <p:cNvSpPr/>
          <p:nvPr/>
        </p:nvSpPr>
        <p:spPr>
          <a:xfrm>
            <a:off x="3252960" y="1243080"/>
            <a:ext cx="2462040" cy="877680"/>
          </a:xfrm>
          <a:prstGeom prst="flowChartPunchedTap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обходимые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Блок-схема: перфолента 5"/>
          <p:cNvSpPr/>
          <p:nvPr/>
        </p:nvSpPr>
        <p:spPr>
          <a:xfrm>
            <a:off x="469800" y="1239840"/>
            <a:ext cx="2260800" cy="878040"/>
          </a:xfrm>
          <a:prstGeom prst="flowChartPunchedTap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ьные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Блок-схема: перфолента 6"/>
          <p:cNvSpPr/>
          <p:nvPr/>
        </p:nvSpPr>
        <p:spPr>
          <a:xfrm>
            <a:off x="297000" y="2595600"/>
            <a:ext cx="2651040" cy="877680"/>
          </a:xfrm>
          <a:prstGeom prst="flowChartPunchedTap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авляют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Блок-схема: перфолента 7"/>
          <p:cNvSpPr/>
          <p:nvPr/>
        </p:nvSpPr>
        <p:spPr>
          <a:xfrm>
            <a:off x="3192480" y="2567160"/>
            <a:ext cx="2593800" cy="877680"/>
          </a:xfrm>
          <a:prstGeom prst="flowChartPunchedTap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регают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Блок-схема: перфолента 8"/>
          <p:cNvSpPr/>
          <p:nvPr/>
        </p:nvSpPr>
        <p:spPr>
          <a:xfrm>
            <a:off x="2779560" y="4981680"/>
            <a:ext cx="3345120" cy="87768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обходимость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Блок-схема: перфолента 9"/>
          <p:cNvSpPr/>
          <p:nvPr/>
        </p:nvSpPr>
        <p:spPr>
          <a:xfrm>
            <a:off x="1095480" y="3738600"/>
            <a:ext cx="7315200" cy="877680"/>
          </a:xfrm>
          <a:prstGeom prst="flowChartPunchedTap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з них нет правового общества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Блок-схема: перфолента 10"/>
          <p:cNvSpPr/>
          <p:nvPr/>
        </p:nvSpPr>
        <p:spPr>
          <a:xfrm>
            <a:off x="6232680" y="2577960"/>
            <a:ext cx="2490480" cy="879480"/>
          </a:xfrm>
          <a:prstGeom prst="flowChartPunchedTap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щищают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Блок-схема: перфолента 2"/>
          <p:cNvSpPr/>
          <p:nvPr/>
        </p:nvSpPr>
        <p:spPr>
          <a:xfrm>
            <a:off x="2538360" y="252360"/>
            <a:ext cx="3344760" cy="878040"/>
          </a:xfrm>
          <a:prstGeom prst="flowChartPunchedTape">
            <a:avLst/>
          </a:prstGeom>
          <a:solidFill>
            <a:srgbClr val="edf4aa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Блок-схема: перфолента 3"/>
          <p:cNvSpPr/>
          <p:nvPr/>
        </p:nvSpPr>
        <p:spPr>
          <a:xfrm>
            <a:off x="6219720" y="1247760"/>
            <a:ext cx="2419560" cy="87804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Ответственный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Блок-схема: перфолента 4"/>
          <p:cNvSpPr/>
          <p:nvPr/>
        </p:nvSpPr>
        <p:spPr>
          <a:xfrm>
            <a:off x="3252960" y="1243080"/>
            <a:ext cx="2462040" cy="87768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Трудный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Блок-схема: перфолента 5"/>
          <p:cNvSpPr/>
          <p:nvPr/>
        </p:nvSpPr>
        <p:spPr>
          <a:xfrm>
            <a:off x="469800" y="1239840"/>
            <a:ext cx="2260800" cy="87804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Правильный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Блок-схема: перфолента 6"/>
          <p:cNvSpPr/>
          <p:nvPr/>
        </p:nvSpPr>
        <p:spPr>
          <a:xfrm>
            <a:off x="297000" y="2595600"/>
            <a:ext cx="2651040" cy="87768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Определяет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Блок-схема: перфолента 7"/>
          <p:cNvSpPr/>
          <p:nvPr/>
        </p:nvSpPr>
        <p:spPr>
          <a:xfrm>
            <a:off x="3192480" y="2567160"/>
            <a:ext cx="2593800" cy="87768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Решает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Блок-схема: перфолента 8"/>
          <p:cNvSpPr/>
          <p:nvPr/>
        </p:nvSpPr>
        <p:spPr>
          <a:xfrm>
            <a:off x="2779560" y="4981680"/>
            <a:ext cx="3345120" cy="877680"/>
          </a:xfrm>
          <a:prstGeom prst="flowChartPunchedTape">
            <a:avLst/>
          </a:prstGeom>
          <a:solidFill>
            <a:srgbClr val="edf4aa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амосознание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Блок-схема: перфолента 9"/>
          <p:cNvSpPr/>
          <p:nvPr/>
        </p:nvSpPr>
        <p:spPr>
          <a:xfrm>
            <a:off x="1095480" y="3738600"/>
            <a:ext cx="7315200" cy="87768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Выбор – право человека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Блок-схема: перфолента 10"/>
          <p:cNvSpPr/>
          <p:nvPr/>
        </p:nvSpPr>
        <p:spPr>
          <a:xfrm>
            <a:off x="6232680" y="2577960"/>
            <a:ext cx="2490480" cy="87948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Обязывает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SP_A0619"/>
          <p:cNvPicPr/>
          <p:nvPr/>
        </p:nvPicPr>
        <p:blipFill>
          <a:blip r:embed="rId1"/>
          <a:stretch/>
        </p:blipFill>
        <p:spPr>
          <a:xfrm rot="20493600">
            <a:off x="353880" y="1740960"/>
            <a:ext cx="3506760" cy="2805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SP_A0621"/>
          <p:cNvPicPr/>
          <p:nvPr/>
        </p:nvPicPr>
        <p:blipFill>
          <a:blip r:embed="rId2"/>
          <a:stretch/>
        </p:blipFill>
        <p:spPr>
          <a:xfrm rot="1041600">
            <a:off x="5097600" y="1577520"/>
            <a:ext cx="3487680" cy="2789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01_banner_love-save[1]"/>
          <p:cNvPicPr/>
          <p:nvPr/>
        </p:nvPicPr>
        <p:blipFill>
          <a:blip r:embed="rId3"/>
          <a:srcRect l="68753" t="5140" r="4687" b="47992"/>
          <a:stretch/>
        </p:blipFill>
        <p:spPr>
          <a:xfrm>
            <a:off x="3297240" y="1746360"/>
            <a:ext cx="2362320" cy="1990440"/>
          </a:xfrm>
          <a:prstGeom prst="rect">
            <a:avLst/>
          </a:prstGeom>
          <a:ln w="0">
            <a:noFill/>
          </a:ln>
        </p:spPr>
      </p:pic>
      <p:sp>
        <p:nvSpPr>
          <p:cNvPr id="215" name="WordArt 8"/>
          <p:cNvSpPr txBox="1"/>
          <p:nvPr/>
        </p:nvSpPr>
        <p:spPr>
          <a:xfrm>
            <a:off x="795240" y="0"/>
            <a:ext cx="74199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Благополучие детей – в наших руках!</a:t>
            </a:r>
            <a:endParaRPr b="0" lang="en-US" sz="2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Благодарим за внимание!</a:t>
            </a:r>
            <a:endParaRPr b="0" lang="en-US" sz="2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216" name="Picture 13" descr="SP_A0458"/>
          <p:cNvPicPr/>
          <p:nvPr/>
        </p:nvPicPr>
        <p:blipFill>
          <a:blip r:embed="rId4"/>
          <a:stretch/>
        </p:blipFill>
        <p:spPr>
          <a:xfrm rot="1470600">
            <a:off x="1348920" y="4043520"/>
            <a:ext cx="2865600" cy="22906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8" descr="SP_A0474"/>
          <p:cNvPicPr/>
          <p:nvPr/>
        </p:nvPicPr>
        <p:blipFill>
          <a:blip r:embed="rId5"/>
          <a:stretch/>
        </p:blipFill>
        <p:spPr>
          <a:xfrm rot="21207600">
            <a:off x="4759200" y="3967200"/>
            <a:ext cx="3159360" cy="2527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ииии"/>
          <p:cNvPicPr/>
          <p:nvPr/>
        </p:nvPicPr>
        <p:blipFill>
          <a:blip r:embed="rId6"/>
          <a:stretch/>
        </p:blipFill>
        <p:spPr>
          <a:xfrm>
            <a:off x="200160" y="758880"/>
            <a:ext cx="1533240" cy="1071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imgA"/>
          <p:cNvPicPr/>
          <p:nvPr/>
        </p:nvPicPr>
        <p:blipFill>
          <a:blip r:embed="rId7"/>
          <a:stretch/>
        </p:blipFill>
        <p:spPr>
          <a:xfrm>
            <a:off x="7205760" y="843120"/>
            <a:ext cx="1712880" cy="1244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7"/>
          <p:cNvGrpSpPr/>
          <p:nvPr/>
        </p:nvGrpSpPr>
        <p:grpSpPr>
          <a:xfrm>
            <a:off x="220680" y="1004760"/>
            <a:ext cx="3936600" cy="5730480"/>
            <a:chOff x="220680" y="1004760"/>
            <a:chExt cx="3936600" cy="5730480"/>
          </a:xfrm>
        </p:grpSpPr>
        <p:sp>
          <p:nvSpPr>
            <p:cNvPr id="47" name="Rectangle 11"/>
            <p:cNvSpPr/>
            <p:nvPr/>
          </p:nvSpPr>
          <p:spPr>
            <a:xfrm>
              <a:off x="220680" y="1004760"/>
              <a:ext cx="3936600" cy="5730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pic>
          <p:nvPicPr>
            <p:cNvPr id="48" name="Picture 4" descr="ГербКубани"/>
            <p:cNvPicPr/>
            <p:nvPr/>
          </p:nvPicPr>
          <p:blipFill>
            <a:blip r:embed="rId1"/>
            <a:stretch/>
          </p:blipFill>
          <p:spPr>
            <a:xfrm>
              <a:off x="1860840" y="1085760"/>
              <a:ext cx="800640" cy="98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 Box 13"/>
            <p:cNvSpPr/>
            <p:nvPr/>
          </p:nvSpPr>
          <p:spPr>
            <a:xfrm>
              <a:off x="466560" y="2314800"/>
              <a:ext cx="3526200" cy="3871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Закон Краснодарского края 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т 21 июля 2008 г. №1539-КЗ</a:t>
              </a:r>
              <a:endParaRPr b="0" lang="en-US" sz="14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 МЕРАХ ПО ПРОФИЛАКТИКЕ БЕЗНАДЗОРНОСТИ И ПРАВОНАРУШЕНИЙ НЕСОВЕРШЕННОЛЕТНИХ В КРАСНОДАРСКОМ КРАЕ</a:t>
              </a:r>
              <a:endParaRPr b="0" lang="en-US" sz="20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г.Краснодар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50" name="Picture 3" descr="ФлагиРФиКр"/>
          <p:cNvPicPr/>
          <p:nvPr/>
        </p:nvPicPr>
        <p:blipFill>
          <a:blip r:embed="rId2"/>
          <a:stretch/>
        </p:blipFill>
        <p:spPr>
          <a:xfrm>
            <a:off x="879480" y="0"/>
            <a:ext cx="2736720" cy="8859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4191120" y="2362320"/>
            <a:ext cx="4572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82720" y="674640"/>
            <a:ext cx="4468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cc3300"/>
                </a:solidFill>
                <a:uFillTx/>
                <a:latin typeface="Tahoma"/>
              </a:rPr>
              <a:t>Принят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Monotype Corsiva"/>
              </a:rPr>
              <a:t>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Законодательным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Собранием </a:t>
            </a: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Краснодарского края</a:t>
            </a:r>
            <a:br>
              <a:rPr sz="3000"/>
            </a:br>
            <a:r>
              <a:rPr b="1" lang="ru-RU" sz="3000" spc="-1" strike="noStrike">
                <a:solidFill>
                  <a:srgbClr val="ff3300"/>
                </a:solidFill>
                <a:latin typeface="Tahoma"/>
              </a:rPr>
              <a:t>16 июля 2008 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4343400" y="2979720"/>
            <a:ext cx="4800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   </a:t>
            </a:r>
            <a:r>
              <a:rPr b="1" lang="ru-RU" sz="2400" spc="-1" strike="noStrike" u="sng">
                <a:solidFill>
                  <a:srgbClr val="cc3300"/>
                </a:solidFill>
                <a:uFillTx/>
                <a:latin typeface="Tahoma"/>
              </a:rPr>
              <a:t>Подписан</a:t>
            </a: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губернатором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Краснодарского края А.Н.Ткачевым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Tahoma"/>
              </a:rPr>
              <a:t>21 июля 2008 г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343400" y="4707000"/>
            <a:ext cx="4800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cc"/>
                </a:solidFill>
                <a:uFillTx/>
                <a:latin typeface="Tahoma"/>
              </a:rPr>
              <a:t>Вступил в силу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1 августа 2008 года</a:t>
            </a:r>
            <a:r>
              <a:rPr b="1" lang="ru-RU" sz="32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8520" y="291960"/>
            <a:ext cx="8229600" cy="36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cc"/>
                </a:solidFill>
                <a:latin typeface="Monotype Corsiva"/>
              </a:rPr>
              <a:t>Указом Президента Росс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Monotype Corsiva"/>
              </a:rPr>
              <a:t>от 14 июля 2007 года</a:t>
            </a:r>
            <a:r>
              <a:rPr b="0" lang="ru-RU" sz="28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«Учитывая важную роль семьи в развитии государства и общества, постановляю провести 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в 2008 году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в Российской Федер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Год семьи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logo"/>
          <p:cNvPicPr/>
          <p:nvPr/>
        </p:nvPicPr>
        <p:blipFill>
          <a:blip r:embed="rId1"/>
          <a:stretch/>
        </p:blipFill>
        <p:spPr>
          <a:xfrm>
            <a:off x="868320" y="4052880"/>
            <a:ext cx="2959200" cy="223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01_banner_love-save[1]"/>
          <p:cNvPicPr/>
          <p:nvPr/>
        </p:nvPicPr>
        <p:blipFill>
          <a:blip r:embed="rId2"/>
          <a:srcRect l="68753" t="5140" r="4687" b="47992"/>
          <a:stretch/>
        </p:blipFill>
        <p:spPr>
          <a:xfrm>
            <a:off x="4906800" y="4087800"/>
            <a:ext cx="3083040" cy="2203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2008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год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Год Семь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40384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В мае 2008 года                 </a:t>
            </a:r>
            <a:r>
              <a:rPr b="1" lang="ru-RU" sz="2400" spc="-1" strike="noStrike">
                <a:solidFill>
                  <a:srgbClr val="cc3300"/>
                </a:solidFill>
                <a:latin typeface="Garamond"/>
              </a:rPr>
              <a:t>президент России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1" lang="ru-RU" sz="2400" spc="-1" strike="noStrike">
                <a:solidFill>
                  <a:srgbClr val="cc3300"/>
                </a:solidFill>
                <a:latin typeface="Garamond"/>
              </a:rPr>
              <a:t>Дмитрий Медведев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    подписал Указ                      </a:t>
            </a:r>
            <a:r>
              <a:rPr b="1" lang="ru-RU" sz="2400" spc="-1" strike="noStrike">
                <a:solidFill>
                  <a:srgbClr val="0000ff"/>
                </a:solidFill>
                <a:latin typeface="Garamond"/>
              </a:rPr>
              <a:t>"Об учреждении ордена "Родительская слава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Эта награда, учрежденная в целях поощрения граждан Российской Федерации, вручается родителям  или усыновителям за большие заслуги в укреплении института семьи и воспитании де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logo"/>
          <p:cNvPicPr/>
          <p:nvPr/>
        </p:nvPicPr>
        <p:blipFill>
          <a:blip r:embed="rId1"/>
          <a:stretch/>
        </p:blipFill>
        <p:spPr>
          <a:xfrm>
            <a:off x="150840" y="0"/>
            <a:ext cx="1295280" cy="976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01_banner_love-save[1]"/>
          <p:cNvPicPr/>
          <p:nvPr/>
        </p:nvPicPr>
        <p:blipFill>
          <a:blip r:embed="rId2"/>
          <a:srcRect l="68753" t="5140" r="4687" b="47992"/>
          <a:stretch/>
        </p:blipFill>
        <p:spPr>
          <a:xfrm>
            <a:off x="7415280" y="0"/>
            <a:ext cx="1523880" cy="1089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97560" y="1152360"/>
            <a:ext cx="4038480" cy="20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ень семьи – 8 ию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аговерная чета святых муромских чудотворцев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етр и Февро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ровители супружеской вер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бви и семейного счаст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5" descr="8_2"/>
          <p:cNvPicPr/>
          <p:nvPr/>
        </p:nvPicPr>
        <p:blipFill>
          <a:blip r:embed="rId3"/>
          <a:stretch/>
        </p:blipFill>
        <p:spPr>
          <a:xfrm>
            <a:off x="5062680" y="3233880"/>
            <a:ext cx="3327120" cy="362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8520" y="642600"/>
            <a:ext cx="681048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Жизненная необходимость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ринятия Закон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7440" y="2493720"/>
            <a:ext cx="8229600" cy="29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751"/>
              </a:spcBef>
              <a:buSzPct val="1233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деградация семь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51"/>
              </a:spcBef>
              <a:buSzPct val="1234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правонарушения несовершеннолетних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51"/>
              </a:spcBef>
              <a:buSzPct val="1234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социальное сиротство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51"/>
              </a:spcBef>
              <a:buSzPct val="12341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беспризорность, безнадзорность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51"/>
              </a:spcBef>
              <a:buSzPct val="12341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жестокое обращение с деть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01_banner_love-save[1]"/>
          <p:cNvPicPr/>
          <p:nvPr/>
        </p:nvPicPr>
        <p:blipFill>
          <a:blip r:embed="rId6"/>
          <a:srcRect l="68753" t="5140" r="4687" b="47992"/>
          <a:stretch/>
        </p:blipFill>
        <p:spPr>
          <a:xfrm>
            <a:off x="7391520" y="152280"/>
            <a:ext cx="1523880" cy="1089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98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8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1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Monotype Corsiva"/>
              </a:rPr>
              <a:t>Цель принятия закона</a:t>
            </a:r>
            <a:r>
              <a:rPr b="1" i="1" lang="ru-RU" sz="4800" spc="-1" strike="noStrike">
                <a:solidFill>
                  <a:srgbClr val="cc3300"/>
                </a:solidFill>
                <a:latin typeface="Monotype Corsiva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4400" y="1242720"/>
            <a:ext cx="7925040" cy="3429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txBody>
          <a:bodyPr anchor="t">
            <a:normAutofit fontScale="89000"/>
          </a:bodyPr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Создание правовой основы для защиты жизни и здоровья несовершеннолетних, профилактики их безнадзорности и правонарушений на территории Краснодарского края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2"/>
          <p:cNvPicPr/>
          <p:nvPr/>
        </p:nvPicPr>
        <p:blipFill>
          <a:blip r:embed="rId1"/>
          <a:stretch/>
        </p:blipFill>
        <p:spPr>
          <a:xfrm>
            <a:off x="1465200" y="4863960"/>
            <a:ext cx="2468520" cy="1770120"/>
          </a:xfrm>
          <a:prstGeom prst="rect">
            <a:avLst/>
          </a:prstGeom>
          <a:ln w="108000">
            <a:solidFill>
              <a:srgbClr val="ffffff"/>
            </a:solidFill>
            <a:miter/>
          </a:ln>
        </p:spPr>
      </p:pic>
      <p:pic>
        <p:nvPicPr>
          <p:cNvPr id="70" name="Picture 5" descr="Герб Краснодарского края"/>
          <p:cNvPicPr/>
          <p:nvPr/>
        </p:nvPicPr>
        <p:blipFill>
          <a:blip r:embed="rId2"/>
          <a:stretch/>
        </p:blipFill>
        <p:spPr>
          <a:xfrm>
            <a:off x="7050240" y="16344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01_banner_love-save[1]"/>
          <p:cNvPicPr/>
          <p:nvPr/>
        </p:nvPicPr>
        <p:blipFill>
          <a:blip r:embed="rId3"/>
          <a:srcRect l="68753" t="5140" r="4687" b="47992"/>
          <a:stretch/>
        </p:blipFill>
        <p:spPr>
          <a:xfrm>
            <a:off x="4730760" y="4789440"/>
            <a:ext cx="2895480" cy="182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Нормативно-правовой фундамент </a:t>
            </a:r>
            <a:br>
              <a:rPr sz="4000"/>
            </a:b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Закона № 1539-К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9240" y="1938240"/>
            <a:ext cx="4437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ституция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мейный Кодекс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Федеральный Закон от 24 июня 1999 г. № 120-ФЗ «Об основах системы профилактики безнадзорности и правонарушений несовершеннолетних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13280" y="204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лава 2 Конституции РФ «Права и свободы гражданина» ст.38 глас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нкт 1.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атеринство и детство, семья находятся под защитой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нкт 2.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абота о детях, их воспитание – равное право и обязанности родите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8" descr="j0300840"/>
          <p:cNvPicPr/>
          <p:nvPr/>
        </p:nvPicPr>
        <p:blipFill>
          <a:blip r:embed="rId1"/>
          <a:stretch/>
        </p:blipFill>
        <p:spPr>
          <a:xfrm>
            <a:off x="522360" y="790560"/>
            <a:ext cx="1371600" cy="1155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68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68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768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768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0" y="0"/>
            <a:ext cx="9144000" cy="1255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633240" y="0"/>
            <a:ext cx="468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Monotype Corsiva"/>
              </a:rPr>
              <a:t>Не нарушает ли 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Monotype Corsiva"/>
              </a:rPr>
              <a:t>Закон права человека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554040" y="1276200"/>
            <a:ext cx="8043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Закон запрещает пребывание в общественных местах в вечернее время несовершеннолетних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0" y="2395440"/>
            <a:ext cx="5329080" cy="2085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до 7 ле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УГЛОСУТОЧНО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от   7 до 14 ле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21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от 14 до 18 ле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22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79360" y="4734000"/>
            <a:ext cx="8864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ст.3 п.3 Закона: «родители, (законные представители), должностные лица </a:t>
            </a:r>
            <a:r>
              <a:rPr b="1" lang="ru-RU" sz="2200" spc="-1" strike="noStrike">
                <a:solidFill>
                  <a:srgbClr val="0000ff"/>
                </a:solidFill>
                <a:latin typeface="Garamond"/>
              </a:rPr>
              <a:t>принимают меры по недопущению нахождения</a:t>
            </a: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 (пребывания) в общественных местах </a:t>
            </a:r>
            <a:r>
              <a:rPr b="1" lang="ru-RU" sz="2200" spc="-1" strike="noStrike">
                <a:solidFill>
                  <a:srgbClr val="ff3300"/>
                </a:solidFill>
                <a:latin typeface="Tahoma"/>
              </a:rPr>
              <a:t>без сопровождения родителей</a:t>
            </a: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Garamond"/>
              </a:rPr>
              <a:t>(законных представителей)</a:t>
            </a: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Garamond"/>
              </a:rPr>
              <a:t>родственников и ответственных лиц</a:t>
            </a: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» данных категорий в </a:t>
            </a:r>
            <a:r>
              <a:rPr b="1" lang="ru-RU" sz="2200" spc="-1" strike="noStrike">
                <a:solidFill>
                  <a:srgbClr val="ff0000"/>
                </a:solidFill>
                <a:latin typeface="Garamond"/>
              </a:rPr>
              <a:t>обозначенное выше время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1" name="Picture 4" descr="01_banner_love-save[1]"/>
          <p:cNvPicPr/>
          <p:nvPr/>
        </p:nvPicPr>
        <p:blipFill>
          <a:blip r:embed="rId1"/>
          <a:srcRect l="68753" t="5140" r="4687" b="47992"/>
          <a:stretch/>
        </p:blipFill>
        <p:spPr>
          <a:xfrm>
            <a:off x="6581880" y="0"/>
            <a:ext cx="2109600" cy="1411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02_banner_love-save[1]"/>
          <p:cNvPicPr/>
          <p:nvPr/>
        </p:nvPicPr>
        <p:blipFill>
          <a:blip r:embed="rId2"/>
          <a:stretch/>
        </p:blipFill>
        <p:spPr>
          <a:xfrm>
            <a:off x="5234040" y="2394000"/>
            <a:ext cx="3909960" cy="2052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ёна</cp:lastModifiedBy>
  <dcterms:modified xsi:type="dcterms:W3CDTF">2015-01-27T12:03:13Z</dcterms:modified>
  <cp:revision>1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