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41C-87D4-43CC-883C-D659D931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02B-7555-4608-8A33-DB527BC3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D37-6E40-4292-8C12-39562144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1C7-D979-46BE-8CE1-C1016B69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87F-7976-4403-8E84-908448DC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DB7-6532-42F2-903F-2204DA35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90C-DA30-4EE2-949E-52671BE6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F3C-A193-4772-8CB6-F7D166FF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19C-606A-4914-A58D-66605372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B42-BBF2-4388-A1D9-8EB21D40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4AC-E3C6-448D-8884-359400A9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E50-D712-47EA-92D3-3F51B3D5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40FC-5CFD-4044-9A32-54119414B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арствен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708280"/>
            <a:ext cx="72327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учитель географии Опарий Людмила Анатоль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СОШ.с. Екатери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ЛЕНДУЛА(НОГОТКИ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ОК.                                 ОЖ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ЕНЬ.                                   ПОЛОСКАНИЯ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Д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ЧНЫЕ КОРЗ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age0003"/>
          <p:cNvPicPr/>
          <p:nvPr/>
        </p:nvPicPr>
        <p:blipFill>
          <a:blip r:embed="rId1"/>
          <a:stretch/>
        </p:blipFill>
        <p:spPr>
          <a:xfrm>
            <a:off x="1116000" y="1628640"/>
            <a:ext cx="2305080" cy="2621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age0036"/>
          <p:cNvPicPr/>
          <p:nvPr/>
        </p:nvPicPr>
        <p:blipFill>
          <a:blip r:embed="rId2"/>
          <a:stretch/>
        </p:blipFill>
        <p:spPr>
          <a:xfrm>
            <a:off x="5508720" y="1484280"/>
            <a:ext cx="19209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ЛАНДЫ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ДОВИТОЕ РАС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ЕЧНЫЕ БОЛЕ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СО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, ЦВЕТКИ, СЕМЕНА.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age0007"/>
          <p:cNvPicPr/>
          <p:nvPr/>
        </p:nvPicPr>
        <p:blipFill>
          <a:blip r:embed="rId1"/>
          <a:stretch/>
        </p:blipFill>
        <p:spPr>
          <a:xfrm>
            <a:off x="324000" y="1484280"/>
            <a:ext cx="4103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45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РАВИЛА СБО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ир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г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собир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ир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ир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.Собирая сохран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роверь себ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3967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п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м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00360" y="1557000"/>
            <a:ext cx="4103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смор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ж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тройство желуд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г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mage0003"/>
          <p:cNvPicPr/>
          <p:nvPr/>
        </p:nvPicPr>
        <p:blipFill>
          <a:blip r:embed="rId1"/>
          <a:stretch/>
        </p:blipFill>
        <p:spPr>
          <a:xfrm>
            <a:off x="-433440" y="0"/>
            <a:ext cx="9577440" cy="7389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Спасибо</a:t>
            </a:r>
            <a:br>
              <a:rPr sz="8000"/>
            </a:b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за    ур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5013000"/>
            <a:ext cx="6440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КРУЖА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ИР 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аткина Н.А.  Учебно-воспитательные занятия  в группе продлённого дня-Волгоград: «Учитель»,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одина Н.В. Экологическое воспитание в начальной школе –Волгоград: «Учитель»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 иллюстра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инки из личного арх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 музыкальной  компози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  из личного арх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age0003"/>
          <p:cNvPicPr/>
          <p:nvPr/>
        </p:nvPicPr>
        <p:blipFill>
          <a:blip r:embed="rId1"/>
          <a:stretch/>
        </p:blipFill>
        <p:spPr>
          <a:xfrm>
            <a:off x="-181080" y="0"/>
            <a:ext cx="9577440" cy="7389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ffff"/>
                </a:solidFill>
                <a:latin typeface="Arial"/>
              </a:rPr>
              <a:t>Лекарственные</a:t>
            </a:r>
            <a:br>
              <a:rPr sz="8000"/>
            </a:br>
            <a:r>
              <a:rPr b="0" lang="ru-RU" sz="8000" spc="-1" strike="noStrike">
                <a:solidFill>
                  <a:srgbClr val="ccffff"/>
                </a:solidFill>
                <a:latin typeface="Arial"/>
              </a:rPr>
              <a:t>раст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5013000"/>
            <a:ext cx="6440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 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ТАЙ- 5000ЛЕТ – 230 ЛЕК.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Я -4000ЛЕТ- МЕТОДЫ С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ИПЕТ – 2000ЛЕТ – ВЫРАЩ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.ГРЕЦИЯ -2000ЛЕТ – ПРОФЕССИИ СБОРЩИКОВ И ПРОДАВ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СЬ – 1581Г. – ПЕРВАЯ АПТ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88Г. – ПЕРВЫЙ ТРАВ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РОМАШ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Ж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МОР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СК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Н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ромашка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Image0005"/>
          <p:cNvPicPr/>
          <p:nvPr/>
        </p:nvPicPr>
        <p:blipFill>
          <a:blip r:embed="rId1"/>
          <a:stretch/>
        </p:blipFill>
        <p:spPr>
          <a:xfrm>
            <a:off x="1258920" y="981000"/>
            <a:ext cx="2233440" cy="3024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076640"/>
            <a:ext cx="874872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Ы,ПОРЕЗЫ,ССА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АВЛИВАЕТ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СКАНИЯ,ПРОМ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И С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Image0033"/>
          <p:cNvPicPr/>
          <p:nvPr/>
        </p:nvPicPr>
        <p:blipFill>
          <a:blip r:embed="rId2"/>
          <a:stretch/>
        </p:blipFill>
        <p:spPr>
          <a:xfrm>
            <a:off x="5292720" y="981000"/>
            <a:ext cx="25178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ИАЛКА ТРЁХЦВЕТНАЯ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АНЮТИНЫ ГЛАЗ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70028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Ш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ЛЕР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ЗЕМНАЯ ЧАСТЬ(ТРА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mage0004"/>
          <p:cNvPicPr/>
          <p:nvPr/>
        </p:nvPicPr>
        <p:blipFill>
          <a:blip r:embed="rId1"/>
          <a:stretch/>
        </p:blipFill>
        <p:spPr>
          <a:xfrm>
            <a:off x="250920" y="1600200"/>
            <a:ext cx="40338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АТЬ-И-МАЧЕХ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Ш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НХ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Ж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АППЕТ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И СОЦВЕ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mage0031"/>
          <p:cNvPicPr/>
          <p:nvPr/>
        </p:nvPicPr>
        <p:blipFill>
          <a:blip r:embed="rId1"/>
          <a:stretch/>
        </p:blipFill>
        <p:spPr>
          <a:xfrm>
            <a:off x="539640" y="1600200"/>
            <a:ext cx="364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МЯ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АЯ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СО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СК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П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И СОЦВЕ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0032"/>
          <p:cNvPicPr/>
          <p:nvPr/>
        </p:nvPicPr>
        <p:blipFill>
          <a:blip r:embed="rId1"/>
          <a:stretch/>
        </p:blipFill>
        <p:spPr>
          <a:xfrm>
            <a:off x="1403280" y="1484280"/>
            <a:ext cx="1584360" cy="2665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mage0034"/>
          <p:cNvPicPr/>
          <p:nvPr/>
        </p:nvPicPr>
        <p:blipFill>
          <a:blip r:embed="rId2"/>
          <a:stretch/>
        </p:blipFill>
        <p:spPr>
          <a:xfrm>
            <a:off x="5508720" y="1600200"/>
            <a:ext cx="19526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ВЕРОБО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Image0030"/>
          <p:cNvPicPr/>
          <p:nvPr/>
        </p:nvPicPr>
        <p:blipFill>
          <a:blip r:embed="rId1"/>
          <a:stretch/>
        </p:blipFill>
        <p:spPr>
          <a:xfrm>
            <a:off x="1403280" y="1600200"/>
            <a:ext cx="1833480" cy="2476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УДОК.                    АЛЛЕР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КУЛИТ.                 АППЕТ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АЯ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mage0035"/>
          <p:cNvPicPr/>
          <p:nvPr/>
        </p:nvPicPr>
        <p:blipFill>
          <a:blip r:embed="rId2"/>
          <a:stretch/>
        </p:blipFill>
        <p:spPr>
          <a:xfrm>
            <a:off x="5435640" y="1600200"/>
            <a:ext cx="20048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11:43:49Z</dcterms:created>
  <dc:creator>Астрахань</dc:creator>
  <dc:description/>
  <dc:language>en-US</dc:language>
  <cp:lastModifiedBy>User</cp:lastModifiedBy>
  <dcterms:modified xsi:type="dcterms:W3CDTF">2015-01-27T16:58:41Z</dcterms:modified>
  <cp:revision>18</cp:revision>
  <dc:subject/>
  <dc:title>ЗЕЛЁНАЯ  АПТЕКА</dc:title>
</cp:coreProperties>
</file>