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56E-9CEA-43D1-B13B-DDBEBACB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178-81D1-450E-B5EA-52B513AB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92D-0A46-43F2-BE48-31DF81F0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493-554F-480E-92B5-F86FDA72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329-9338-4571-9C1A-5753B5DD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728-171C-4411-BEA5-B0B6C9C6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3AC-540F-4D1A-A793-549C55DD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232-00B6-4124-869F-88C5166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198-8973-41CB-8906-9652FEC2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216-7DD7-4CA5-9EBD-8EA7CDC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95E-D30A-4206-8F0C-BF25ABD5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61B-B124-4E12-88B5-1D2D6D86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A16E-4ED3-4F74-870C-F1FA09AA0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708280"/>
            <a:ext cx="72327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географии Опарий Людмила Анато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.с. Екатери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ЛЕНДУЛА(НОГОТКИ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.                                 ОЖ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ЕНЬ.                                   ПОЛОСКАНИЯ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ЧНЫЕ КОРЗ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0003"/>
          <p:cNvPicPr/>
          <p:nvPr/>
        </p:nvPicPr>
        <p:blipFill>
          <a:blip r:embed="rId1"/>
          <a:stretch/>
        </p:blipFill>
        <p:spPr>
          <a:xfrm>
            <a:off x="1116000" y="1628640"/>
            <a:ext cx="2305080" cy="262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age0036"/>
          <p:cNvPicPr/>
          <p:nvPr/>
        </p:nvPicPr>
        <p:blipFill>
          <a:blip r:embed="rId2"/>
          <a:stretch/>
        </p:blipFill>
        <p:spPr>
          <a:xfrm>
            <a:off x="5508720" y="1484280"/>
            <a:ext cx="1920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АНДЫ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ОВИТ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ЕЧНЫЕ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, ЦВЕТКИ, СЕМЕНА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age0007"/>
          <p:cNvPicPr/>
          <p:nvPr/>
        </p:nvPicPr>
        <p:blipFill>
          <a:blip r:embed="rId1"/>
          <a:stretch/>
        </p:blipFill>
        <p:spPr>
          <a:xfrm>
            <a:off x="324000" y="1484280"/>
            <a:ext cx="410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5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АВИЛА СБО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.Собирая сохран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396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00360" y="1557000"/>
            <a:ext cx="4103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м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тройство желуд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г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age0003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38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Спасибо</a:t>
            </a:r>
            <a:br>
              <a:rPr sz="8000"/>
            </a:b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за    ур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40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КРУЖ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Р 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кина Н.А.  Учебно-воспитательные занятия  в группе продлённого дня-Волгоград: «Учитель»,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одина Н.В. Экологическое воспитание в начальной школе –Волгоград: «Учитель»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ллюст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и из личного арх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 музыкальной  композ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  из личного арх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age0003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38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ffff"/>
                </a:solidFill>
                <a:latin typeface="Arial"/>
              </a:rPr>
              <a:t>Лекарственные</a:t>
            </a:r>
            <a:br>
              <a:rPr sz="8000"/>
            </a:br>
            <a:r>
              <a:rPr b="0" lang="ru-RU" sz="8000" spc="-1" strike="noStrike">
                <a:solidFill>
                  <a:srgbClr val="ccffff"/>
                </a:solidFill>
                <a:latin typeface="Arial"/>
              </a:rPr>
              <a:t>раст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40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 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ТАЙ- 5000ЛЕТ – 230 ЛЕК.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Я -4000ЛЕТ- МЕТОДЫ С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ИПЕТ – 2000ЛЕТ – ВЫРАЩ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.ГРЕЦИЯ -2000ЛЕТ – ПРОФЕССИИ СБОРЩИКОВ И ПРОДАВ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Ь – 1581Г. – ПЕРВАЯ АПТ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88Г. – ПЕРВЫЙ ТРАВ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ОР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К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Н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омашка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0005"/>
          <p:cNvPicPr/>
          <p:nvPr/>
        </p:nvPicPr>
        <p:blipFill>
          <a:blip r:embed="rId1"/>
          <a:stretch/>
        </p:blipFill>
        <p:spPr>
          <a:xfrm>
            <a:off x="1258920" y="981000"/>
            <a:ext cx="2233440" cy="3024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8748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Ы,ПОРЕЗЫ,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КАНИЯ,ПРОМ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И С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mage0033"/>
          <p:cNvPicPr/>
          <p:nvPr/>
        </p:nvPicPr>
        <p:blipFill>
          <a:blip r:embed="rId2"/>
          <a:stretch/>
        </p:blipFill>
        <p:spPr>
          <a:xfrm>
            <a:off x="5292720" y="981000"/>
            <a:ext cx="2517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ИАЛКА ТРЁХЦВЕТНА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АНЮТИНЫ ГЛАЗ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Ш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ЛЕР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ЗЕМНАЯ ЧАСТЬ(ТР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0004"/>
          <p:cNvPicPr/>
          <p:nvPr/>
        </p:nvPicPr>
        <p:blipFill>
          <a:blip r:embed="rId1"/>
          <a:stretch/>
        </p:blipFill>
        <p:spPr>
          <a:xfrm>
            <a:off x="250920" y="1600200"/>
            <a:ext cx="4033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Ш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АППЕ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И СОЦВЕ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0031"/>
          <p:cNvPicPr/>
          <p:nvPr/>
        </p:nvPicPr>
        <p:blipFill>
          <a:blip r:embed="rId1"/>
          <a:stretch/>
        </p:blipFill>
        <p:spPr>
          <a:xfrm>
            <a:off x="53964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М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К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И СОЦВЕ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0032"/>
          <p:cNvPicPr/>
          <p:nvPr/>
        </p:nvPicPr>
        <p:blipFill>
          <a:blip r:embed="rId1"/>
          <a:stretch/>
        </p:blipFill>
        <p:spPr>
          <a:xfrm>
            <a:off x="1403280" y="1484280"/>
            <a:ext cx="1584360" cy="266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age0034"/>
          <p:cNvPicPr/>
          <p:nvPr/>
        </p:nvPicPr>
        <p:blipFill>
          <a:blip r:embed="rId2"/>
          <a:stretch/>
        </p:blipFill>
        <p:spPr>
          <a:xfrm>
            <a:off x="5508720" y="1600200"/>
            <a:ext cx="1952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ВЕРОБО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Image0030"/>
          <p:cNvPicPr/>
          <p:nvPr/>
        </p:nvPicPr>
        <p:blipFill>
          <a:blip r:embed="rId1"/>
          <a:stretch/>
        </p:blipFill>
        <p:spPr>
          <a:xfrm>
            <a:off x="1403280" y="1600200"/>
            <a:ext cx="1833480" cy="247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УДОК.                    АЛЛЕР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УЛИТ.                 АППЕ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age0035"/>
          <p:cNvPicPr/>
          <p:nvPr/>
        </p:nvPicPr>
        <p:blipFill>
          <a:blip r:embed="rId2"/>
          <a:stretch/>
        </p:blipFill>
        <p:spPr>
          <a:xfrm>
            <a:off x="5435640" y="1600200"/>
            <a:ext cx="20048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1:43:49Z</dcterms:created>
  <dc:creator>Астрахань</dc:creator>
  <dc:description/>
  <dc:language>en-US</dc:language>
  <cp:lastModifiedBy>User</cp:lastModifiedBy>
  <dcterms:modified xsi:type="dcterms:W3CDTF">2015-01-27T16:58:41Z</dcterms:modified>
  <cp:revision>18</cp:revision>
  <dc:subject/>
  <dc:title>ЗЕЛЁНАЯ  АПТЕКА</dc:title>
</cp:coreProperties>
</file>