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3FE91-BECA-4520-9C8B-496D145DE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6AC65-854C-46A7-9E9F-46B5ECF15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CF443-7B22-4840-9815-30A344357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8E435-F22E-447C-91C9-A9B55D9C1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2D346-5AB3-4C29-BD38-399E74B04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7DC8A-72D4-46F1-BE0F-3D5D88B35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FADF9-9D39-4C43-AA9A-882847579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794FF-A1E6-45A2-9929-0AE6A1623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0B685-8623-4EA5-8620-646988E4B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932EF-F64A-40A7-8172-7A79E135D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90120-810D-4D15-9C09-34E757379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36BC2-8B24-48B8-A57D-47D37C33E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8C256-6038-419A-B864-A86FC1F8F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88734-3424-4BDD-8E91-7525EB478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ED4B3-5879-4BFE-BD2F-7B90597BC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946E9-5B29-4842-9FA2-CF04C0010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644D7-8145-4DC3-AB74-AD22798A2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7A8FF-52AE-4778-A3AD-59D3CE681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1DEFE-058E-4E6F-B3EB-CB4039F06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22BA3-A423-4C80-B353-1CA25F07A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07E1D-6BBF-4CF9-A381-C516C232E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4FF36-064E-45F6-B857-C1243EF9A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3269B-73ED-438B-8885-7B50CA7B5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C9F67-8CE2-4442-94D1-DCC4A1C29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A705D-D53B-4666-9B39-5654A3612FD3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titlemaster_med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C8B99-450C-441C-838A-A5626CA9F88C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Опыт с магнитами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87" name="Picture 9" descr="IMG_2963"/>
          <p:cNvPicPr/>
          <p:nvPr/>
        </p:nvPicPr>
        <p:blipFill>
          <a:blip r:embed="rId1"/>
          <a:stretch/>
        </p:blipFill>
        <p:spPr>
          <a:xfrm>
            <a:off x="2552760" y="1600200"/>
            <a:ext cx="2895480" cy="21718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1" descr="IMG_2965"/>
          <p:cNvPicPr/>
          <p:nvPr/>
        </p:nvPicPr>
        <p:blipFill>
          <a:blip r:embed="rId2"/>
          <a:stretch/>
        </p:blipFill>
        <p:spPr>
          <a:xfrm>
            <a:off x="2552760" y="3924360"/>
            <a:ext cx="2895480" cy="21715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5" descr="IMG_2968"/>
          <p:cNvPicPr/>
          <p:nvPr/>
        </p:nvPicPr>
        <p:blipFill>
          <a:blip r:embed="rId3"/>
          <a:stretch/>
        </p:blipFill>
        <p:spPr>
          <a:xfrm>
            <a:off x="5829480" y="1600200"/>
            <a:ext cx="2895480" cy="21718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7" descr="IMG_2969"/>
          <p:cNvPicPr/>
          <p:nvPr/>
        </p:nvPicPr>
        <p:blipFill>
          <a:blip r:embed="rId4"/>
          <a:stretch/>
        </p:blipFill>
        <p:spPr>
          <a:xfrm>
            <a:off x="5829480" y="3924360"/>
            <a:ext cx="2895480" cy="2171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723888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66"/>
                </a:solidFill>
                <a:latin typeface="Arial"/>
              </a:rPr>
              <a:t>Магнит – это камень, у которого есть необыкновенная способность притягивать к себе железные предметы</a:t>
            </a:r>
            <a:endParaRPr b="0" lang="en-US" sz="28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92" name="Picture 9" descr="IMG_2967"/>
          <p:cNvPicPr/>
          <p:nvPr/>
        </p:nvPicPr>
        <p:blipFill>
          <a:blip r:embed="rId1"/>
          <a:stretch/>
        </p:blipFill>
        <p:spPr>
          <a:xfrm>
            <a:off x="2560680" y="1600200"/>
            <a:ext cx="2895480" cy="21718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0" descr="IMG_2968"/>
          <p:cNvPicPr/>
          <p:nvPr/>
        </p:nvPicPr>
        <p:blipFill>
          <a:blip r:embed="rId2"/>
          <a:stretch/>
        </p:blipFill>
        <p:spPr>
          <a:xfrm>
            <a:off x="5819760" y="1600200"/>
            <a:ext cx="2895480" cy="21718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4" descr="IMG_2970"/>
          <p:cNvPicPr/>
          <p:nvPr/>
        </p:nvPicPr>
        <p:blipFill>
          <a:blip r:embed="rId3"/>
          <a:stretch/>
        </p:blipFill>
        <p:spPr>
          <a:xfrm>
            <a:off x="2552760" y="3924360"/>
            <a:ext cx="2895480" cy="21715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6" descr="IMG_2971"/>
          <p:cNvPicPr/>
          <p:nvPr/>
        </p:nvPicPr>
        <p:blipFill>
          <a:blip r:embed="rId4"/>
          <a:stretch/>
        </p:blipFill>
        <p:spPr>
          <a:xfrm>
            <a:off x="5829480" y="3924360"/>
            <a:ext cx="2895480" cy="2171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Какие предметы притягиваются?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97" name="Picture 11" descr="IMG_2972"/>
          <p:cNvPicPr/>
          <p:nvPr/>
        </p:nvPicPr>
        <p:blipFill>
          <a:blip r:embed="rId1"/>
          <a:stretch/>
        </p:blipFill>
        <p:spPr>
          <a:xfrm>
            <a:off x="2552760" y="1600200"/>
            <a:ext cx="2895480" cy="21718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2" descr="IMG_2973"/>
          <p:cNvPicPr/>
          <p:nvPr/>
        </p:nvPicPr>
        <p:blipFill>
          <a:blip r:embed="rId2"/>
          <a:stretch/>
        </p:blipFill>
        <p:spPr>
          <a:xfrm>
            <a:off x="5829480" y="1600200"/>
            <a:ext cx="2895480" cy="21718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3" descr="IMG_2974"/>
          <p:cNvPicPr/>
          <p:nvPr/>
        </p:nvPicPr>
        <p:blipFill>
          <a:blip r:embed="rId3"/>
          <a:stretch/>
        </p:blipFill>
        <p:spPr>
          <a:xfrm>
            <a:off x="2552760" y="3924360"/>
            <a:ext cx="2895480" cy="21715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6" descr="IMG_2976"/>
          <p:cNvPicPr/>
          <p:nvPr/>
        </p:nvPicPr>
        <p:blipFill>
          <a:blip r:embed="rId4"/>
          <a:stretch/>
        </p:blipFill>
        <p:spPr>
          <a:xfrm>
            <a:off x="5829480" y="3924360"/>
            <a:ext cx="2895480" cy="2171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Вывод: притягиваются металлические предметы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102" name="Picture 9" descr="IMG_2983"/>
          <p:cNvPicPr/>
          <p:nvPr/>
        </p:nvPicPr>
        <p:blipFill>
          <a:blip r:embed="rId1"/>
          <a:stretch/>
        </p:blipFill>
        <p:spPr>
          <a:xfrm>
            <a:off x="2552760" y="1600200"/>
            <a:ext cx="2895480" cy="21718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0" descr="IMG_2984"/>
          <p:cNvPicPr/>
          <p:nvPr/>
        </p:nvPicPr>
        <p:blipFill>
          <a:blip r:embed="rId2"/>
          <a:stretch/>
        </p:blipFill>
        <p:spPr>
          <a:xfrm>
            <a:off x="5829480" y="1600200"/>
            <a:ext cx="2895480" cy="21718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1" descr="IMG_2985"/>
          <p:cNvPicPr/>
          <p:nvPr/>
        </p:nvPicPr>
        <p:blipFill>
          <a:blip r:embed="rId3"/>
          <a:stretch/>
        </p:blipFill>
        <p:spPr>
          <a:xfrm>
            <a:off x="2552760" y="3924360"/>
            <a:ext cx="2895480" cy="21715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2" descr="IMG_2987"/>
          <p:cNvPicPr/>
          <p:nvPr/>
        </p:nvPicPr>
        <p:blipFill>
          <a:blip r:embed="rId4"/>
          <a:stretch/>
        </p:blipFill>
        <p:spPr>
          <a:xfrm>
            <a:off x="5829480" y="3924360"/>
            <a:ext cx="2895480" cy="2171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Неметаллические предметы не испытывают притяжения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107" name="Picture 9" descr="IMG_2990"/>
          <p:cNvPicPr/>
          <p:nvPr/>
        </p:nvPicPr>
        <p:blipFill>
          <a:blip r:embed="rId1"/>
          <a:stretch/>
        </p:blipFill>
        <p:spPr>
          <a:xfrm>
            <a:off x="2552760" y="1600200"/>
            <a:ext cx="2895480" cy="21718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0" descr="IMG_2998"/>
          <p:cNvPicPr/>
          <p:nvPr/>
        </p:nvPicPr>
        <p:blipFill>
          <a:blip r:embed="rId2"/>
          <a:stretch/>
        </p:blipFill>
        <p:spPr>
          <a:xfrm>
            <a:off x="5829480" y="1600200"/>
            <a:ext cx="2895480" cy="21718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1" descr="IMG_2992"/>
          <p:cNvPicPr/>
          <p:nvPr/>
        </p:nvPicPr>
        <p:blipFill>
          <a:blip r:embed="rId3"/>
          <a:stretch/>
        </p:blipFill>
        <p:spPr>
          <a:xfrm>
            <a:off x="2552760" y="3924360"/>
            <a:ext cx="2895480" cy="21715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4" descr="IMG_2993"/>
          <p:cNvPicPr/>
          <p:nvPr/>
        </p:nvPicPr>
        <p:blipFill>
          <a:blip r:embed="rId4"/>
          <a:stretch/>
        </p:blipFill>
        <p:spPr>
          <a:xfrm>
            <a:off x="6119640" y="3924360"/>
            <a:ext cx="1971720" cy="2628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5-01-20T13:14:1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