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4B4-0067-4201-B578-A70EB60A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F30-A75E-44DE-A6DC-9E89463E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CC0-2150-413B-871E-97D60ADD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69D-67F0-4DED-9820-CC6B833E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1A34-6651-4771-8636-130B464E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8C4C-B132-4132-A35C-6FF2B002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1AFE-430F-406F-A08F-6716656D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E45-4E7C-497A-B5EF-999F202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D394-583A-46E1-ABA0-5C605093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797B-BF47-44FF-8F3B-CF331F9D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FDF3-3A71-40C2-8833-3DA93C85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5FC-CE51-4DED-8ABE-A3EDAE9B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6B51-13AB-4C82-AB11-E7DBCB4C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2CEC-3FCC-4019-BFA0-C97BEDA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9062-66EE-4374-A6C0-10F957EF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7F3C-E57A-4CB2-BD39-1CC4E13E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71C0-3861-4114-995A-4F5D7591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AF4-2F4D-4E78-832F-EB98E85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BC1-D23D-401A-989F-EE293066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885-17E9-4848-91B9-21A64A64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F83-2B95-4F9D-84E1-2A044A49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E72-FFDF-4438-9C9F-7020E325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A91-7128-4ABF-91F0-88E2AC19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889-A6F6-49CE-90A1-174F6ED6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2067-4A5A-472D-BBED-B9C8C1F40A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5034-202A-4A88-88BF-08E8607E9B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пыт с магнит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7" name="Picture 9" descr="IMG_2963"/>
          <p:cNvPicPr/>
          <p:nvPr/>
        </p:nvPicPr>
        <p:blipFill>
          <a:blip r:embed="rId1"/>
          <a:stretch/>
        </p:blipFill>
        <p:spPr>
          <a:xfrm>
            <a:off x="2552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MG_2965"/>
          <p:cNvPicPr/>
          <p:nvPr/>
        </p:nvPicPr>
        <p:blipFill>
          <a:blip r:embed="rId2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IMG_2968"/>
          <p:cNvPicPr/>
          <p:nvPr/>
        </p:nvPicPr>
        <p:blipFill>
          <a:blip r:embed="rId3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IMG_2969"/>
          <p:cNvPicPr/>
          <p:nvPr/>
        </p:nvPicPr>
        <p:blipFill>
          <a:blip r:embed="rId4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Магнит – это камень, у которого есть необыкновенная способность притягивать к себе железные предметы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2" name="Picture 9" descr="IMG_2967"/>
          <p:cNvPicPr/>
          <p:nvPr/>
        </p:nvPicPr>
        <p:blipFill>
          <a:blip r:embed="rId1"/>
          <a:stretch/>
        </p:blipFill>
        <p:spPr>
          <a:xfrm>
            <a:off x="25606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IMG_2968"/>
          <p:cNvPicPr/>
          <p:nvPr/>
        </p:nvPicPr>
        <p:blipFill>
          <a:blip r:embed="rId2"/>
          <a:stretch/>
        </p:blipFill>
        <p:spPr>
          <a:xfrm>
            <a:off x="5819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IMG_2970"/>
          <p:cNvPicPr/>
          <p:nvPr/>
        </p:nvPicPr>
        <p:blipFill>
          <a:blip r:embed="rId3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IMG_2971"/>
          <p:cNvPicPr/>
          <p:nvPr/>
        </p:nvPicPr>
        <p:blipFill>
          <a:blip r:embed="rId4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акие предметы притягиваются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11" descr="IMG_2972"/>
          <p:cNvPicPr/>
          <p:nvPr/>
        </p:nvPicPr>
        <p:blipFill>
          <a:blip r:embed="rId1"/>
          <a:stretch/>
        </p:blipFill>
        <p:spPr>
          <a:xfrm>
            <a:off x="2552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IMG_2973"/>
          <p:cNvPicPr/>
          <p:nvPr/>
        </p:nvPicPr>
        <p:blipFill>
          <a:blip r:embed="rId2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IMG_2974"/>
          <p:cNvPicPr/>
          <p:nvPr/>
        </p:nvPicPr>
        <p:blipFill>
          <a:blip r:embed="rId3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IMG_2976"/>
          <p:cNvPicPr/>
          <p:nvPr/>
        </p:nvPicPr>
        <p:blipFill>
          <a:blip r:embed="rId4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вод: притягиваются металлические предмет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2" name="Picture 9" descr="IMG_2983"/>
          <p:cNvPicPr/>
          <p:nvPr/>
        </p:nvPicPr>
        <p:blipFill>
          <a:blip r:embed="rId1"/>
          <a:stretch/>
        </p:blipFill>
        <p:spPr>
          <a:xfrm>
            <a:off x="2552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IMG_2984"/>
          <p:cNvPicPr/>
          <p:nvPr/>
        </p:nvPicPr>
        <p:blipFill>
          <a:blip r:embed="rId2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IMG_2985"/>
          <p:cNvPicPr/>
          <p:nvPr/>
        </p:nvPicPr>
        <p:blipFill>
          <a:blip r:embed="rId3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IMG_2987"/>
          <p:cNvPicPr/>
          <p:nvPr/>
        </p:nvPicPr>
        <p:blipFill>
          <a:blip r:embed="rId4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Неметаллические предметы не испытывают притя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7" name="Picture 9" descr="IMG_2990"/>
          <p:cNvPicPr/>
          <p:nvPr/>
        </p:nvPicPr>
        <p:blipFill>
          <a:blip r:embed="rId1"/>
          <a:stretch/>
        </p:blipFill>
        <p:spPr>
          <a:xfrm>
            <a:off x="255276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IMG_2998"/>
          <p:cNvPicPr/>
          <p:nvPr/>
        </p:nvPicPr>
        <p:blipFill>
          <a:blip r:embed="rId2"/>
          <a:stretch/>
        </p:blipFill>
        <p:spPr>
          <a:xfrm>
            <a:off x="58294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IMG_2992"/>
          <p:cNvPicPr/>
          <p:nvPr/>
        </p:nvPicPr>
        <p:blipFill>
          <a:blip r:embed="rId3"/>
          <a:stretch/>
        </p:blipFill>
        <p:spPr>
          <a:xfrm>
            <a:off x="255276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IMG_2993"/>
          <p:cNvPicPr/>
          <p:nvPr/>
        </p:nvPicPr>
        <p:blipFill>
          <a:blip r:embed="rId4"/>
          <a:stretch/>
        </p:blipFill>
        <p:spPr>
          <a:xfrm>
            <a:off x="6119640" y="3924360"/>
            <a:ext cx="19717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20T13:14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