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2193-514B-4A5C-B801-F89C8ECDF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E889-E0F5-4188-8DDA-88D3DA69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230C-78B3-4AE5-98C3-DFE8693DB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3C42-DA4C-4545-8E8E-1E1587314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375C-A101-4E1B-BA1A-66AA7AC1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71D1-B800-48FD-806F-1EAAFFE4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3D70-2007-4B77-95E7-AE661EAB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8A36-112F-414D-951D-693616D2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3AD0-FC8B-41D9-9E4D-78C6A964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32F7-D9F5-46A1-AE1E-0A9DBDED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8095-61FE-4FB7-8B89-AF15C478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94A0-D203-469A-B85C-B7A44814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6E57-27A0-4CF0-B1CF-17B03AB416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928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48840"/>
                </a:solidFill>
                <a:latin typeface="Calibri"/>
              </a:rPr>
              <a:t>Марокко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429080" y="4143240"/>
            <a:ext cx="4500720" cy="16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48840"/>
                </a:solidFill>
                <a:latin typeface="Calibri"/>
              </a:rPr>
              <a:t>Валовик Анна. 7 класс. Школа «Разум-Л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8840"/>
                </a:solidFill>
                <a:latin typeface="Calibri"/>
              </a:rPr>
              <a:t>Пейзаж Марокк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7" descr="7d2d18a188b89b465a79e25fc6b9a85c.jpg"/>
          <p:cNvPicPr/>
          <p:nvPr/>
        </p:nvPicPr>
        <p:blipFill>
          <a:blip r:embed="rId2"/>
          <a:stretch/>
        </p:blipFill>
        <p:spPr>
          <a:xfrm>
            <a:off x="357120" y="1600200"/>
            <a:ext cx="8429760" cy="4686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8840"/>
                </a:solidFill>
                <a:latin typeface="Calibri"/>
              </a:rPr>
              <a:t>Животные Марокк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6" descr="1232133725_03.jpg"/>
          <p:cNvPicPr/>
          <p:nvPr/>
        </p:nvPicPr>
        <p:blipFill>
          <a:blip r:embed="rId2"/>
          <a:stretch/>
        </p:blipFill>
        <p:spPr>
          <a:xfrm>
            <a:off x="357120" y="1143000"/>
            <a:ext cx="8429760" cy="5602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8840"/>
                </a:solidFill>
                <a:latin typeface="Calibri"/>
              </a:rPr>
              <a:t>Животные Марокк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5" descr="story-2012-bjezopasnost-v-tunisje-v-nastojashhjeje-vrjemja.jpg"/>
          <p:cNvPicPr/>
          <p:nvPr/>
        </p:nvPicPr>
        <p:blipFill>
          <a:blip r:embed="rId2"/>
          <a:stretch/>
        </p:blipFill>
        <p:spPr>
          <a:xfrm>
            <a:off x="857160" y="1143000"/>
            <a:ext cx="7429680" cy="5568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00160" y="27432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8840"/>
                </a:solidFill>
                <a:latin typeface="Calibri"/>
              </a:rPr>
              <a:t>Государство Марокк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00160" y="1600200"/>
            <a:ext cx="621504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Марокко — единственная африканская страна, которая на данный момент не является членом Африканского Союза. Однако это государство входит в Лигу Арабских Государств, Арабский магрибский союз, Франкофонию, Организацию Исламская конеференция, группу Средиземноморского диалог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e9c60"/>
                </a:solidFill>
                <a:latin typeface="Calibri"/>
              </a:rPr>
              <a:t>Герб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3" descr="Coat_of_arms_of_Morocco.svg.png"/>
          <p:cNvPicPr/>
          <p:nvPr/>
        </p:nvPicPr>
        <p:blipFill>
          <a:blip r:embed="rId2"/>
          <a:stretch/>
        </p:blipFill>
        <p:spPr>
          <a:xfrm>
            <a:off x="2620800" y="1743120"/>
            <a:ext cx="3902400" cy="4257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e9c60"/>
                </a:solidFill>
                <a:latin typeface="Calibri"/>
              </a:rPr>
              <a:t>Фла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5" descr="Flag_of_Morocco.svg.png"/>
          <p:cNvPicPr/>
          <p:nvPr/>
        </p:nvPicPr>
        <p:blipFill>
          <a:blip r:embed="rId2"/>
          <a:stretch/>
        </p:blipFill>
        <p:spPr>
          <a:xfrm>
            <a:off x="714240" y="1785960"/>
            <a:ext cx="7643880" cy="4071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8840"/>
                </a:solidFill>
                <a:latin typeface="Calibri"/>
              </a:rPr>
              <a:t>Климат. Природные зон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28800" y="1856880"/>
            <a:ext cx="77580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На средиземноморском побережье страны климат мягкий, субтропический. Средняя температура здесь летом составляет около +24-28 С , а зимой +10-12 С. При движении на юг климат становится всё более континентальным, с жарким (до +37 С) летом и прохладной (до + 5 С) зимой. Суточный перепад температур может достигать 20 градус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8840"/>
                </a:solidFill>
                <a:latin typeface="Calibri"/>
              </a:rPr>
              <a:t>Населе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28800" y="1714320"/>
            <a:ext cx="77580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Население Марокко составляет 30,55 млн человек.  99,1% населения составляют марокканцы. Около 2/3 из них — арабы и арабизированные берберы (потомки древних ливийцев). Государственным языком является арабский, широко распространен французский.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Официальная религия — ислам суннитского толка. 1/3 марокканцев — чистокровные берберы, живут в горах и говорят только на берберском язы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8840"/>
                </a:solidFill>
                <a:latin typeface="Calibri"/>
              </a:rPr>
              <a:t>Хозяйств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28800" y="1714320"/>
            <a:ext cx="77580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В сельском хозяйстве занято 44,6 % трудоспособного населения.  В сельскохозяйственном производстве страны погодный фактор остаётся решающим фактором, и потому применяется орошение. Зерновые, бобовые и сахарная свёкла занимают 80 % обрабатываемых земель. Выращиваются пшеница, томаты, картофель. Прибрежные воды Марокко богаты рыбой, при этом 75 % вылова составляют сардин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8840"/>
                </a:solidFill>
                <a:latin typeface="Calibri"/>
              </a:rPr>
              <a:t>Растительный ми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00080" y="1214280"/>
            <a:ext cx="77580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Ландшафты Марокко представлены густыми лесами, оазисами пустыни, степями и горными лугами. Из всех стран Северной Африки только в Марокко остались большие лесные массивы. Самым распространенным здесь является низкоствольное редколесье. Возраст многих деревьев более 1000 лет. В лесах Рифа также можно встретить каменные и пробковые дубы, аллепские сосны и испанские пихты. На склонах Среднего Атласа произрастают цитрусовые и оливковые деревья. Территория страны в основном состоит из степей. В северо-восточных степях растет большое количество эспарто. Из трав на территории Марокко растут клевер, вьюнки и тимьян. Луга Среднего Атласа усыпаны красивейшими цветущими мак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48840"/>
                </a:solidFill>
                <a:latin typeface="Calibri"/>
              </a:rPr>
              <a:t>Животный ми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99680" y="1071360"/>
            <a:ext cx="86439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Многие животные, обитавшие в Северной Африке в римскую эпоху, к настоящему времени вымерли, в том числе крокодил, бегемот, жираф, буйвол, слон и лев. В пустынных областях Марокко водятся газели, одногорбые верблюды и многие виды змей, в частности гадюковые. На плато Среднего Атласа встречаются кабаны, африканские лисицы, рыси и шакалы, а в высокогорьях Высокого Атласа – гривистый баран. Марокко находится на пути сезонных перелетов птиц между Европой и Африкой. Здесь часто можно видеть аистов и их гнезда. В сельскохозяйственных районах обычны совы, кукушки и сороки, а на болотах – цапли. В горах нередко встречаются грифы, беркуты, ястребы, коршуны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 Воды Атлантики богаты ценными породами рыб: сардины, тунцовые, анчоус, мерлан и др. Южнее встречаются большие колонии ракообразных: лангусты, омары, крабы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00:09:50Z</dcterms:created>
  <dc:creator>Eric</dc:creator>
  <dc:description/>
  <dc:language>en-US</dc:language>
  <cp:lastModifiedBy>Анютка</cp:lastModifiedBy>
  <dcterms:modified xsi:type="dcterms:W3CDTF">2015-01-14T19:41:36Z</dcterms:modified>
  <cp:revision>15</cp:revision>
  <dc:subject/>
  <dc:title>PRESENTATION  NAME</dc:title>
</cp:coreProperties>
</file>