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DEE-153F-4D1C-AD9D-8E9FB0F7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EED-9E0E-42AA-B1C5-3770807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496-8976-439E-B02B-932B315D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614-F3C8-4895-A7A5-E520E23E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35C-3FB7-49D0-98D1-774652B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FEC-A05E-40AA-A256-AB8EF1FE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591-675C-436B-A4F7-32B2CC60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9B7-91A7-4DF6-ADF8-CC0D1CC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7AD-4C5A-4A5F-B545-EE6BFE12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768-1650-468D-A070-F4D0EF7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649-1C34-4275-A2BB-2799490A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AB5-02B7-4129-82D4-39550FE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5D14-3D93-4C34-B68A-3733B68C7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48840"/>
                </a:solidFill>
                <a:latin typeface="Calibri"/>
              </a:rPr>
              <a:t>Марок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9080" y="4143240"/>
            <a:ext cx="450072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48840"/>
                </a:solidFill>
                <a:latin typeface="Calibri"/>
              </a:rPr>
              <a:t>Валовик Анна. 7 класс. Школа «Разум-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Пейзаж Марок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7" descr="7d2d18a188b89b465a79e25fc6b9a85c.jpg"/>
          <p:cNvPicPr/>
          <p:nvPr/>
        </p:nvPicPr>
        <p:blipFill>
          <a:blip r:embed="rId2"/>
          <a:stretch/>
        </p:blipFill>
        <p:spPr>
          <a:xfrm>
            <a:off x="357120" y="1600200"/>
            <a:ext cx="8429760" cy="468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Животные Марок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6" descr="1232133725_03.jpg"/>
          <p:cNvPicPr/>
          <p:nvPr/>
        </p:nvPicPr>
        <p:blipFill>
          <a:blip r:embed="rId2"/>
          <a:stretch/>
        </p:blipFill>
        <p:spPr>
          <a:xfrm>
            <a:off x="357120" y="1143000"/>
            <a:ext cx="8429760" cy="560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Животные Марок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story-2012-bjezopasnost-v-tunisje-v-nastojashhjeje-vrjemja.jpg"/>
          <p:cNvPicPr/>
          <p:nvPr/>
        </p:nvPicPr>
        <p:blipFill>
          <a:blip r:embed="rId2"/>
          <a:stretch/>
        </p:blipFill>
        <p:spPr>
          <a:xfrm>
            <a:off x="857160" y="1143000"/>
            <a:ext cx="7429680" cy="556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Государство Марок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00160" y="1600200"/>
            <a:ext cx="62150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арокко — единственная африканская страна, которая на данный момент не является членом Африканского Союза. Однако это государство входит в Лигу Арабских Государств, Арабский магрибский союз, Франкофонию, Организацию Исламская конеференция, группу Средиземноморского диал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e9c60"/>
                </a:solidFill>
                <a:latin typeface="Calibri"/>
              </a:rPr>
              <a:t>Гер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Coat_of_arms_of_Morocco.svg.png"/>
          <p:cNvPicPr/>
          <p:nvPr/>
        </p:nvPicPr>
        <p:blipFill>
          <a:blip r:embed="rId2"/>
          <a:stretch/>
        </p:blipFill>
        <p:spPr>
          <a:xfrm>
            <a:off x="2620800" y="1743120"/>
            <a:ext cx="3902400" cy="425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e9c60"/>
                </a:solidFill>
                <a:latin typeface="Calibri"/>
              </a:rPr>
              <a:t>Фла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Flag_of_Morocco.svg.png"/>
          <p:cNvPicPr/>
          <p:nvPr/>
        </p:nvPicPr>
        <p:blipFill>
          <a:blip r:embed="rId2"/>
          <a:stretch/>
        </p:blipFill>
        <p:spPr>
          <a:xfrm>
            <a:off x="714240" y="1785960"/>
            <a:ext cx="7643880" cy="407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Климат. Природные зон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28800" y="1856880"/>
            <a:ext cx="77580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 средиземноморском побережье страны климат мягкий, субтропический. Средняя температура здесь летом составляет около +24-28 С , а зимой +10-12 С. При движении на юг климат становится всё более континентальным, с жарким (до +37 С) летом и прохладной (до + 5 С) зимой. Суточный перепад температур может достигать 20 граду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Насел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8800" y="1714320"/>
            <a:ext cx="7758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селение Марокко составляет 30,55 млн человек.  99,1% населения составляют марокканцы. Около 2/3 из них — арабы и арабизированные берберы (потомки древних ливийцев). Государственным языком является арабский, широко распространен французский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фициальная религия — ислам суннитского толка. 1/3 марокканцев — чистокровные берберы, живут в горах и говорят только на берберском язы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Хозяйст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28800" y="1714320"/>
            <a:ext cx="7758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ельском хозяйстве занято 44,6 % трудоспособного населения.  В сельскохозяйственном производстве страны погодный фактор остаётся решающим фактором, и потому применяется орошение. Зерновые, бобовые и сахарная свёкла занимают 80 % обрабатываемых земель. Выращиваются пшеница, томаты, картофель. Прибрежные воды Марокко богаты рыбой, при этом 75 % вылова составляют сард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Растительный м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00080" y="1214280"/>
            <a:ext cx="7758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Ландшафты Марокко представлены густыми лесами, оазисами пустыни, степями и горными лугами. Из всех стран Северной Африки только в Марокко остались большие лесные массивы. Самым распространенным здесь является низкоствольное редколесье. Возраст многих деревьев более 1000 лет. В лесах Рифа также можно встретить каменные и пробковые дубы, аллепские сосны и испанские пихты. На склонах Среднего Атласа произрастают цитрусовые и оливковые деревья. Территория страны в основном состоит из степей. В северо-восточных степях растет большое количество эспарто. Из трав на территории Марокко растут клевер, вьюнки и тимьян. Луга Среднего Атласа усыпаны красивейшими цветущими ма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Животный м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1071360"/>
            <a:ext cx="86439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ногие животные, обитавшие в Северной Африке в римскую эпоху, к настоящему времени вымерли, в том числе крокодил, бегемот, жираф, буйвол, слон и лев. В пустынных областях Марокко водятся газели, одногорбые верблюды и многие виды змей, в частности гадюковые. На плато Среднего Атласа встречаются кабаны, африканские лисицы, рыси и шакалы, а в высокогорьях Высокого Атласа – гривистый баран. Марокко находится на пути сезонных перелетов птиц между Европой и Африкой. Здесь часто можно видеть аистов и их гнезда. В сельскохозяйственных районах обычны совы, кукушки и сороки, а на болотах – цапли. В горах нередко встречаются грифы, беркуты, ястребы, коршуны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Воды Атлантики богаты ценными породами рыб: сардины, тунцовые, анчоус, мерлан и др. Южнее встречаются большие колонии ракообразных: лангусты, омары, крабы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0:09:50Z</dcterms:created>
  <dc:creator>Eric</dc:creator>
  <dc:description/>
  <dc:language>en-US</dc:language>
  <cp:lastModifiedBy>Анютка</cp:lastModifiedBy>
  <dcterms:modified xsi:type="dcterms:W3CDTF">2015-01-14T19:41:36Z</dcterms:modified>
  <cp:revision>15</cp:revision>
  <dc:subject/>
  <dc:title>PRESENTATION  NAME</dc:title>
</cp:coreProperties>
</file>