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22.gif" ContentType="image/gif"/>
  <Override PartName="/ppt/media/image3.gif" ContentType="image/gif"/>
  <Override PartName="/ppt/media/image6.jpeg" ContentType="image/jpeg"/>
  <Override PartName="/ppt/media/image10.png" ContentType="image/png"/>
  <Override PartName="/ppt/media/chimes.wav" ContentType="audio/x-wav"/>
  <Override PartName="/ppt/media/image16.jpeg" ContentType="image/jpeg"/>
  <Override PartName="/ppt/media/image12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5.png" ContentType="image/png"/>
  <Override PartName="/ppt/media/image14.jpeg" ContentType="image/jpeg"/>
  <Override PartName="/ppt/media/image18.gif" ContentType="image/gif"/>
  <Override PartName="/ppt/media/image13.jpeg" ContentType="image/jpeg"/>
  <Override PartName="/ppt/media/image1.gif" ContentType="image/gif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8E4-08DA-4D8E-A35D-D05015C3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C58-7ED2-4937-ABF7-B2B86056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EE0-A920-4DBF-8193-1FF5200B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64C-B44B-4001-9C4C-21AF22FF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E5A-DA52-4788-96B0-0C9EE3D9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618-B8C9-4C4A-9C9F-ECC694B7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1F3-0DD3-4097-9CE3-9086CDE5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580-97E9-4BC6-B5D6-F7F4AA85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2D8-BB7C-4BA0-B1A5-925D6A40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AD0-B0CD-454D-B9C6-12802377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3A0-D939-4FF2-9C5D-A34D166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482-0568-4A96-93B8-94BCCAC5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E2A-D3CF-4E5A-9E62-1BC3692B5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  КВ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1828800"/>
            <a:ext cx="36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елая механика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4" descr="IMG31"/>
          <p:cNvPicPr/>
          <p:nvPr/>
        </p:nvPicPr>
        <p:blipFill>
          <a:blip r:embed="rId1"/>
          <a:stretch/>
        </p:blipFill>
        <p:spPr>
          <a:xfrm>
            <a:off x="3048120" y="3276720"/>
            <a:ext cx="324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Объяснить для измерения каких величин служат эти прибор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80360" cy="5465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2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93080" y="0"/>
            <a:ext cx="18208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8440"/>
            <a:ext cx="83055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колько сил Вы видите?   Укажите 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639040" cy="38098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Какая сила </a:t>
            </a:r>
            <a:br>
              <a:rPr sz="4400"/>
            </a:b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изменяет скорость этих те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4572000" cy="29718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3048120" cy="37148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rcRect l="4021" t="0" r="4021" b="0"/>
          <a:stretch/>
        </p:blipFill>
        <p:spPr>
          <a:xfrm>
            <a:off x="2514600" y="4952880"/>
            <a:ext cx="1447920" cy="14288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rcRect l="50298" t="29279" r="28742" b="0"/>
          <a:stretch/>
        </p:blipFill>
        <p:spPr>
          <a:xfrm>
            <a:off x="4114800" y="1981080"/>
            <a:ext cx="1447920" cy="129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6"/>
          <a:srcRect l="28023" t="29279" r="54617" b="7985"/>
          <a:stretch/>
        </p:blipFill>
        <p:spPr>
          <a:xfrm>
            <a:off x="7238880" y="1981080"/>
            <a:ext cx="1446480" cy="129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7"/>
          <a:srcRect l="5030" t="26617" r="75454" b="13308"/>
          <a:stretch/>
        </p:blipFill>
        <p:spPr>
          <a:xfrm>
            <a:off x="5715000" y="1981080"/>
            <a:ext cx="1393920" cy="129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ила, возникаю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и соприкоснов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ного тела с други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ная вдоль грани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прикосновения те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препятствую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х относительному движени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зывается силой т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00"/>
                </a:solidFill>
                <a:latin typeface="Bradley Hand ITC"/>
              </a:rPr>
              <a:t>   </a:t>
            </a:r>
            <a:r>
              <a:rPr b="1" i="1" lang="en-US" sz="7200" spc="-1" strike="noStrike">
                <a:solidFill>
                  <a:srgbClr val="cc0000"/>
                </a:solidFill>
                <a:latin typeface="Bradley Hand ITC"/>
              </a:rPr>
              <a:t>П о д у м а й т е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190760" cy="28195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4114800" cy="28195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4495680"/>
            <a:ext cx="8686800" cy="2288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adley Hand ITC"/>
              </a:rPr>
              <a:t>В каком из изображенных случа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adley Hand ITC"/>
              </a:rPr>
              <a:t>трение полезно? Вред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adley Hand ITC"/>
              </a:rPr>
              <a:t>Где его нужно увеличить? Уменьш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7">
                                  <p:stCondLst>
                                    <p:cond delay="3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Bradley Hand ITC"/>
              </a:rPr>
              <a:t>Роль силы тр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3429000" cy="15811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3403440" cy="32004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809880" y="1600200"/>
            <a:ext cx="4953240" cy="3230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1216080" cy="2895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97440" y="5029200"/>
            <a:ext cx="54766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adley Hand ITC"/>
              </a:rPr>
              <a:t>Нам без трения, ребя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adley Hand ITC"/>
              </a:rPr>
              <a:t>и ни туда, и ни сюда</a:t>
            </a:r>
            <a:r>
              <a:rPr b="1" i="1" lang="en-US" sz="4000" spc="-1" strike="noStrike">
                <a:solidFill>
                  <a:srgbClr val="ffffff"/>
                </a:solidFill>
                <a:latin typeface="Bradley Hand ITC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0" y="2362320"/>
            <a:ext cx="1981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инка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4" descr="IMG31"/>
          <p:cNvPicPr/>
          <p:nvPr/>
        </p:nvPicPr>
        <p:blipFill>
          <a:blip r:embed="rId1"/>
          <a:stretch/>
        </p:blipFill>
        <p:spPr>
          <a:xfrm>
            <a:off x="5638680" y="380988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40600" y="0"/>
            <a:ext cx="7656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зучая в течение многих лет дви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л, в частности движение Луны во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емли и планет вокруг Солнца,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шел к смелой мысли о том, все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о Вселенной взаимно притягивают 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960" y="2990880"/>
            <a:ext cx="4827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заимное при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ежду всеми те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ыло названо всемир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яготением. Си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семирного тягот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наче назы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равитацио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32360" y="372600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0"/>
            <a:ext cx="841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то открыл закон всемирного тяго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  Кавенди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 Копер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. Формула определяющая силу притя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ежду двумя те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219640" y="3068640"/>
                <a:ext cx="3716280" cy="37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Е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О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280" y="0"/>
            <a:ext cx="8968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. Как изменится сила притяжения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вумя шарами, если один из них за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ругим масса которого вдвое бол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 не измен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  увеличится в два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 уменьшится в два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ему равна гравитационная постоянн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835280" y="4508640"/>
                <a:ext cx="4681440" cy="21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О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Н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Е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Н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</m:den>
                        </m:f>
                      </m:e>
                      <m:e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Н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52560" y="111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9000" y="907920"/>
            <a:ext cx="8251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5. Как изменится сила притяжения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вумя шарами, если расстояние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ими увеличить вдв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 уменьшится в два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  увеличится в четыре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 уменьшится в четыре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из явлений – механическ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8"/>
          <p:cNvSpPr txBox="1"/>
          <p:nvPr/>
        </p:nvSpPr>
        <p:spPr>
          <a:xfrm>
            <a:off x="4572000" y="1268280"/>
            <a:ext cx="3687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9"/>
          <p:cNvSpPr txBox="1"/>
          <p:nvPr/>
        </p:nvSpPr>
        <p:spPr>
          <a:xfrm>
            <a:off x="5651640" y="1989000"/>
            <a:ext cx="176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2"/>
          <p:cNvSpPr txBox="1"/>
          <p:nvPr/>
        </p:nvSpPr>
        <p:spPr>
          <a:xfrm>
            <a:off x="5292720" y="3789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174" name="Picture 19" descr="03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03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446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03"/>
          <p:cNvPicPr/>
          <p:nvPr/>
        </p:nvPicPr>
        <p:blipFill>
          <a:blip r:embed="rId3"/>
          <a:stretch/>
        </p:blipFill>
        <p:spPr>
          <a:xfrm rot="5400000">
            <a:off x="-2787480" y="3227400"/>
            <a:ext cx="6480000" cy="40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" descr="03"/>
          <p:cNvPicPr/>
          <p:nvPr/>
        </p:nvPicPr>
        <p:blipFill>
          <a:blip r:embed="rId4"/>
          <a:stretch/>
        </p:blipFill>
        <p:spPr>
          <a:xfrm rot="5400000">
            <a:off x="5493960" y="3227400"/>
            <a:ext cx="6480000" cy="403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исунках показан ряд физических явлений. </a:t>
            </a:r>
            <a:br>
              <a:rPr sz="5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аждому соответствует своя расчетная форму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12000" y="1268280"/>
            <a:ext cx="24285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=GM m/(r)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.F= m (v)²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I = I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 = sin α/ sin 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E = m v² 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Q = I² 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M= F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t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+ m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t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F = 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&lt; α = &lt; 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.T = 2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√l/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4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5214960" cy="3529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521496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Физика и Ли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 Надо физику учить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………………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8"/>
          <p:cNvSpPr txBox="1"/>
          <p:nvPr/>
        </p:nvSpPr>
        <p:spPr>
          <a:xfrm>
            <a:off x="4572000" y="1268280"/>
            <a:ext cx="3687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WordArt 9"/>
          <p:cNvSpPr txBox="1"/>
          <p:nvPr/>
        </p:nvSpPr>
        <p:spPr>
          <a:xfrm>
            <a:off x="5651640" y="1989000"/>
            <a:ext cx="176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12"/>
          <p:cNvSpPr txBox="1"/>
          <p:nvPr/>
        </p:nvSpPr>
        <p:spPr>
          <a:xfrm>
            <a:off x="5292720" y="3789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189" name="Picture 19" descr="03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03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446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03"/>
          <p:cNvPicPr/>
          <p:nvPr/>
        </p:nvPicPr>
        <p:blipFill>
          <a:blip r:embed="rId3"/>
          <a:stretch/>
        </p:blipFill>
        <p:spPr>
          <a:xfrm rot="5400000">
            <a:off x="-2787480" y="3227400"/>
            <a:ext cx="6480000" cy="40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03"/>
          <p:cNvPicPr/>
          <p:nvPr/>
        </p:nvPicPr>
        <p:blipFill>
          <a:blip r:embed="rId4"/>
          <a:stretch/>
        </p:blipFill>
        <p:spPr>
          <a:xfrm rot="5400000">
            <a:off x="5493960" y="3227400"/>
            <a:ext cx="6480000" cy="403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99840" y="1294920"/>
            <a:ext cx="684036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066680"/>
            <a:ext cx="72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«Так человека яблоко сгуби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о яблоко его же и спас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дь Ньютона открытие разб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еведения мучительное з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орогу к новым звездам пролож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 новый выход страждущим да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ж скоро мы, природы властел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 на Луну пошлем свои маш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ай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533520" y="2057400"/>
            <a:ext cx="8439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СПАСИБО ЗА ИГРУ!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4572000" y="1268280"/>
            <a:ext cx="3687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5651640" y="1989000"/>
            <a:ext cx="176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5292720" y="3789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51" name="Picture 19" descr="03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03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44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03"/>
          <p:cNvPicPr/>
          <p:nvPr/>
        </p:nvPicPr>
        <p:blipFill>
          <a:blip r:embed="rId3"/>
          <a:stretch/>
        </p:blipFill>
        <p:spPr>
          <a:xfrm rot="5400000">
            <a:off x="-2787480" y="3227400"/>
            <a:ext cx="6480000" cy="40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03"/>
          <p:cNvPicPr/>
          <p:nvPr/>
        </p:nvPicPr>
        <p:blipFill>
          <a:blip r:embed="rId4"/>
          <a:stretch/>
        </p:blipFill>
        <p:spPr>
          <a:xfrm rot="5400000">
            <a:off x="5493960" y="3227400"/>
            <a:ext cx="6480000" cy="40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8"/>
          <p:cNvSpPr/>
          <p:nvPr/>
        </p:nvSpPr>
        <p:spPr>
          <a:xfrm>
            <a:off x="3494160" y="3244680"/>
            <a:ext cx="3220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00080" y="857160"/>
          <a:ext cx="7286760" cy="5408640"/>
        </p:xfrm>
        <a:graphic>
          <a:graphicData uri="http://schemas.openxmlformats.org/drawingml/2006/table">
            <a:tbl>
              <a:tblPr/>
              <a:tblGrid>
                <a:gridCol w="3643200"/>
                <a:gridCol w="3643560"/>
              </a:tblGrid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 скорости (в международной Систем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километр в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сантиметр в секун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Метр в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Метр в секун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 силы (в международной Систем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Джоу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Ньют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Паск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Амп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8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ход  вещества  из  жидкого  состояния в тверд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Кристал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л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Конденс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Испа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единицы измерения температуры не существу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Кельв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Цельс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Фаренг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Джоу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8"/>
          <p:cNvSpPr txBox="1"/>
          <p:nvPr/>
        </p:nvSpPr>
        <p:spPr>
          <a:xfrm>
            <a:off x="4572000" y="1268280"/>
            <a:ext cx="3687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5651640" y="1989000"/>
            <a:ext cx="176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12"/>
          <p:cNvSpPr txBox="1"/>
          <p:nvPr/>
        </p:nvSpPr>
        <p:spPr>
          <a:xfrm>
            <a:off x="5292720" y="3789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60" name="Picture 19" descr="03"/>
          <p:cNvPicPr/>
          <p:nvPr/>
        </p:nvPicPr>
        <p:blipFill>
          <a:blip r:embed="rId1"/>
          <a:stretch/>
        </p:blipFill>
        <p:spPr>
          <a:xfrm>
            <a:off x="609480" y="152280"/>
            <a:ext cx="792180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03"/>
          <p:cNvPicPr/>
          <p:nvPr/>
        </p:nvPicPr>
        <p:blipFill>
          <a:blip r:embed="rId2"/>
          <a:stretch/>
        </p:blipFill>
        <p:spPr>
          <a:xfrm>
            <a:off x="609480" y="6411960"/>
            <a:ext cx="7921800" cy="44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03"/>
          <p:cNvPicPr/>
          <p:nvPr/>
        </p:nvPicPr>
        <p:blipFill>
          <a:blip r:embed="rId3"/>
          <a:stretch/>
        </p:blipFill>
        <p:spPr>
          <a:xfrm rot="5400000">
            <a:off x="-2787480" y="3227400"/>
            <a:ext cx="6480000" cy="4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03"/>
          <p:cNvPicPr/>
          <p:nvPr/>
        </p:nvPicPr>
        <p:blipFill>
          <a:blip r:embed="rId4"/>
          <a:stretch/>
        </p:blipFill>
        <p:spPr>
          <a:xfrm rot="5400000">
            <a:off x="5493960" y="3227400"/>
            <a:ext cx="6480000" cy="403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8"/>
          <p:cNvSpPr/>
          <p:nvPr/>
        </p:nvSpPr>
        <p:spPr>
          <a:xfrm>
            <a:off x="3494160" y="3244680"/>
            <a:ext cx="3220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533520"/>
          <a:ext cx="7591680" cy="5948280"/>
        </p:xfrm>
        <a:graphic>
          <a:graphicData uri="http://schemas.openxmlformats.org/drawingml/2006/table">
            <a:tbl>
              <a:tblPr/>
              <a:tblGrid>
                <a:gridCol w="3948120"/>
                <a:gridCol w="3643560"/>
              </a:tblGrid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о брошенное вертикально вверх достигло высоты 10м, упало на землю. Перемещение тела рав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2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1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5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о брошенное вертикально вверх достигло высоты 10м, упало на землю. Путь тела равен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2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1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5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8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ия вдоль которой тело совершает движение, назы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Кри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рям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Траек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 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размерами которого можно пренебречь, называ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Легк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Тяже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Материальная т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 Невесо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8"/>
          <p:cNvSpPr txBox="1"/>
          <p:nvPr/>
        </p:nvSpPr>
        <p:spPr>
          <a:xfrm>
            <a:off x="4572000" y="1268280"/>
            <a:ext cx="3687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9"/>
          <p:cNvSpPr txBox="1"/>
          <p:nvPr/>
        </p:nvSpPr>
        <p:spPr>
          <a:xfrm>
            <a:off x="5651640" y="1989000"/>
            <a:ext cx="176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12"/>
          <p:cNvSpPr txBox="1"/>
          <p:nvPr/>
        </p:nvSpPr>
        <p:spPr>
          <a:xfrm>
            <a:off x="5292720" y="3789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69" name="Picture 19" descr="03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03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44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03"/>
          <p:cNvPicPr/>
          <p:nvPr/>
        </p:nvPicPr>
        <p:blipFill>
          <a:blip r:embed="rId3"/>
          <a:stretch/>
        </p:blipFill>
        <p:spPr>
          <a:xfrm rot="5400000">
            <a:off x="-2787480" y="3227400"/>
            <a:ext cx="6480000" cy="40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03"/>
          <p:cNvPicPr/>
          <p:nvPr/>
        </p:nvPicPr>
        <p:blipFill>
          <a:blip r:embed="rId4"/>
          <a:stretch/>
        </p:blipFill>
        <p:spPr>
          <a:xfrm rot="5400000">
            <a:off x="5493960" y="3227400"/>
            <a:ext cx="6480000" cy="4032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8"/>
          <p:cNvSpPr/>
          <p:nvPr/>
        </p:nvSpPr>
        <p:spPr>
          <a:xfrm>
            <a:off x="3494160" y="3244680"/>
            <a:ext cx="3220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609480"/>
          <a:ext cx="7667640" cy="5408640"/>
        </p:xfrm>
        <a:graphic>
          <a:graphicData uri="http://schemas.openxmlformats.org/drawingml/2006/table">
            <a:tbl>
              <a:tblPr/>
              <a:tblGrid>
                <a:gridCol w="4024080"/>
                <a:gridCol w="3643560"/>
              </a:tblGrid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мля совершает оборот вокруг своей оси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1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1 су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1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 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мля совершает оборот вокруг Солнца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1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1 су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1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 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8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а с которой тело действует на опору или подвес, называется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м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в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 уск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а с которой два тела притягиваются друг к другу,         называется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тяж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 упруг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 Всемирного тяго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  т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05280" y="12189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Самый умный</a:t>
            </a:r>
            <a:br>
              <a:rPr sz="44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Назовите имена великих ученых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Назовите какие силы вы знае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G31"/>
          <p:cNvPicPr/>
          <p:nvPr/>
        </p:nvPicPr>
        <p:blipFill>
          <a:blip r:embed="rId1"/>
          <a:stretch/>
        </p:blipFill>
        <p:spPr>
          <a:xfrm>
            <a:off x="380880" y="533520"/>
            <a:ext cx="1038240" cy="1333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ученый3"/>
          <p:cNvPicPr/>
          <p:nvPr/>
        </p:nvPicPr>
        <p:blipFill>
          <a:blip r:embed="rId2"/>
          <a:stretch/>
        </p:blipFill>
        <p:spPr>
          <a:xfrm>
            <a:off x="5638680" y="2971800"/>
            <a:ext cx="2378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Изобрази я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 веков длится процесс познания окружающ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иная с рождения, все мы за два-три года привыкаем к простым вещам и явлениям вокруг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азите явление так, чтоб члены вашей команды узнал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657600" y="4343400"/>
            <a:ext cx="617400" cy="1655640"/>
            <a:chOff x="3657600" y="4343400"/>
            <a:chExt cx="617400" cy="1655640"/>
          </a:xfrm>
        </p:grpSpPr>
        <p:grpSp>
          <p:nvGrpSpPr>
            <p:cNvPr id="81" name=""/>
            <p:cNvGrpSpPr/>
            <p:nvPr/>
          </p:nvGrpSpPr>
          <p:grpSpPr>
            <a:xfrm>
              <a:off x="3657600" y="4343400"/>
              <a:ext cx="617400" cy="1655640"/>
              <a:chOff x="3657600" y="4343400"/>
              <a:chExt cx="617400" cy="16556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3657600" y="4343400"/>
                <a:ext cx="617400" cy="1655640"/>
                <a:chOff x="3657600" y="4343400"/>
                <a:chExt cx="617400" cy="16556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3801960" y="5711760"/>
                  <a:ext cx="358920" cy="287280"/>
                </a:xfrm>
                <a:custGeom>
                  <a:avLst/>
                  <a:gdLst>
                    <a:gd name="textAreaLeft" fmla="*/ 78840 w 358920"/>
                    <a:gd name="textAreaRight" fmla="*/ 280080 w 358920"/>
                    <a:gd name="textAreaTop" fmla="*/ 63000 h 287280"/>
                    <a:gd name="textAreaBottom" fmla="*/ 224280 h 28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657600" y="4703760"/>
                  <a:ext cx="144360" cy="10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4162320" y="4711680"/>
                  <a:ext cx="112680" cy="100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657600" y="4343400"/>
                  <a:ext cx="615960" cy="7207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 rot="10800000">
                <a:off x="3801600" y="4990680"/>
                <a:ext cx="360360" cy="235080"/>
              </a:xfrm>
              <a:custGeom>
                <a:avLst/>
                <a:gdLst>
                  <a:gd name="textAreaLeft" fmla="*/ 79200 w 360360"/>
                  <a:gd name="textAreaRight" fmla="*/ 281160 w 360360"/>
                  <a:gd name="textAreaTop" fmla="*/ 51480 h 235080"/>
                  <a:gd name="textAreaBottom" fmla="*/ 183600 h 23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73600" y="5638680"/>
              <a:ext cx="215640" cy="73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809880" y="5257800"/>
            <a:ext cx="308160" cy="358920"/>
          </a:xfrm>
          <a:custGeom>
            <a:avLst/>
            <a:gdLst/>
            <a:ahLst/>
            <a:rect l="l" t="t" r="r" b="b"/>
            <a:pathLst>
              <a:path w="272" h="317">
                <a:moveTo>
                  <a:pt x="90" y="317"/>
                </a:moveTo>
                <a:lnTo>
                  <a:pt x="0" y="90"/>
                </a:lnTo>
                <a:lnTo>
                  <a:pt x="90" y="181"/>
                </a:lnTo>
                <a:lnTo>
                  <a:pt x="90" y="0"/>
                </a:lnTo>
                <a:lnTo>
                  <a:pt x="136" y="181"/>
                </a:lnTo>
                <a:lnTo>
                  <a:pt x="227" y="0"/>
                </a:lnTo>
                <a:lnTo>
                  <a:pt x="181" y="181"/>
                </a:lnTo>
                <a:lnTo>
                  <a:pt x="272" y="90"/>
                </a:lnTo>
                <a:lnTo>
                  <a:pt x="227" y="226"/>
                </a:lnTo>
                <a:lnTo>
                  <a:pt x="225" y="312"/>
                </a:lnTo>
                <a:lnTo>
                  <a:pt x="181" y="317"/>
                </a:lnTo>
                <a:lnTo>
                  <a:pt x="90" y="31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43000" y="4419720"/>
            <a:ext cx="617400" cy="1655640"/>
            <a:chOff x="1143000" y="4419720"/>
            <a:chExt cx="617400" cy="1655640"/>
          </a:xfrm>
        </p:grpSpPr>
        <p:grpSp>
          <p:nvGrpSpPr>
            <p:cNvPr id="91" name=""/>
            <p:cNvGrpSpPr/>
            <p:nvPr/>
          </p:nvGrpSpPr>
          <p:grpSpPr>
            <a:xfrm>
              <a:off x="1143000" y="4419720"/>
              <a:ext cx="617400" cy="1655640"/>
              <a:chOff x="1143000" y="4419720"/>
              <a:chExt cx="617400" cy="1655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143000" y="4419720"/>
                <a:ext cx="617400" cy="1655640"/>
                <a:chOff x="1143000" y="4419720"/>
                <a:chExt cx="617400" cy="16556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287360" y="5788080"/>
                  <a:ext cx="358920" cy="287280"/>
                </a:xfrm>
                <a:custGeom>
                  <a:avLst/>
                  <a:gdLst>
                    <a:gd name="textAreaLeft" fmla="*/ 78840 w 358920"/>
                    <a:gd name="textAreaRight" fmla="*/ 280080 w 358920"/>
                    <a:gd name="textAreaTop" fmla="*/ 63000 h 287280"/>
                    <a:gd name="textAreaBottom" fmla="*/ 224280 h 28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143000" y="4780080"/>
                  <a:ext cx="144360" cy="10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1647720" y="4788000"/>
                  <a:ext cx="112680" cy="100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143000" y="4419720"/>
                  <a:ext cx="615960" cy="7207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 rot="10800000">
                <a:off x="1287000" y="5067000"/>
                <a:ext cx="360360" cy="235080"/>
              </a:xfrm>
              <a:custGeom>
                <a:avLst/>
                <a:gdLst>
                  <a:gd name="textAreaLeft" fmla="*/ 79200 w 360360"/>
                  <a:gd name="textAreaRight" fmla="*/ 281160 w 360360"/>
                  <a:gd name="textAreaTop" fmla="*/ 51480 h 235080"/>
                  <a:gd name="textAreaBottom" fmla="*/ 183600 h 23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359000" y="5715000"/>
              <a:ext cx="215640" cy="73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477120" y="4343400"/>
            <a:ext cx="617400" cy="1655640"/>
            <a:chOff x="6477120" y="4343400"/>
            <a:chExt cx="617400" cy="1655640"/>
          </a:xfrm>
        </p:grpSpPr>
        <p:grpSp>
          <p:nvGrpSpPr>
            <p:cNvPr id="100" name=""/>
            <p:cNvGrpSpPr/>
            <p:nvPr/>
          </p:nvGrpSpPr>
          <p:grpSpPr>
            <a:xfrm>
              <a:off x="6477120" y="4343400"/>
              <a:ext cx="617400" cy="1655640"/>
              <a:chOff x="6477120" y="4343400"/>
              <a:chExt cx="617400" cy="165564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6477120" y="4343400"/>
                <a:ext cx="617400" cy="1655640"/>
                <a:chOff x="6477120" y="4343400"/>
                <a:chExt cx="617400" cy="16556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621480" y="5711760"/>
                  <a:ext cx="358920" cy="287280"/>
                </a:xfrm>
                <a:custGeom>
                  <a:avLst/>
                  <a:gdLst>
                    <a:gd name="textAreaLeft" fmla="*/ 78840 w 358920"/>
                    <a:gd name="textAreaRight" fmla="*/ 280080 w 358920"/>
                    <a:gd name="textAreaTop" fmla="*/ 63000 h 287280"/>
                    <a:gd name="textAreaBottom" fmla="*/ 224280 h 28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477120" y="4703760"/>
                  <a:ext cx="144360" cy="10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6981840" y="4711680"/>
                  <a:ext cx="112680" cy="100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477120" y="4343400"/>
                  <a:ext cx="615960" cy="7207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 rot="10800000">
                <a:off x="6621120" y="4990680"/>
                <a:ext cx="360360" cy="235080"/>
              </a:xfrm>
              <a:custGeom>
                <a:avLst/>
                <a:gdLst>
                  <a:gd name="textAreaLeft" fmla="*/ 79200 w 360360"/>
                  <a:gd name="textAreaRight" fmla="*/ 281160 w 360360"/>
                  <a:gd name="textAreaTop" fmla="*/ 51480 h 235080"/>
                  <a:gd name="textAreaBottom" fmla="*/ 183600 h 23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693120" y="5638680"/>
              <a:ext cx="215640" cy="73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295280" y="5334120"/>
            <a:ext cx="308160" cy="358560"/>
          </a:xfrm>
          <a:custGeom>
            <a:avLst/>
            <a:gdLst/>
            <a:ahLst/>
            <a:rect l="l" t="t" r="r" b="b"/>
            <a:pathLst>
              <a:path w="272" h="317">
                <a:moveTo>
                  <a:pt x="90" y="317"/>
                </a:moveTo>
                <a:lnTo>
                  <a:pt x="0" y="90"/>
                </a:lnTo>
                <a:lnTo>
                  <a:pt x="90" y="181"/>
                </a:lnTo>
                <a:lnTo>
                  <a:pt x="90" y="0"/>
                </a:lnTo>
                <a:lnTo>
                  <a:pt x="136" y="181"/>
                </a:lnTo>
                <a:lnTo>
                  <a:pt x="227" y="0"/>
                </a:lnTo>
                <a:lnTo>
                  <a:pt x="181" y="181"/>
                </a:lnTo>
                <a:lnTo>
                  <a:pt x="272" y="90"/>
                </a:lnTo>
                <a:lnTo>
                  <a:pt x="227" y="226"/>
                </a:lnTo>
                <a:lnTo>
                  <a:pt x="225" y="312"/>
                </a:lnTo>
                <a:lnTo>
                  <a:pt x="181" y="317"/>
                </a:lnTo>
                <a:lnTo>
                  <a:pt x="90" y="31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5257800"/>
            <a:ext cx="307800" cy="358920"/>
          </a:xfrm>
          <a:custGeom>
            <a:avLst/>
            <a:gdLst/>
            <a:ahLst/>
            <a:rect l="l" t="t" r="r" b="b"/>
            <a:pathLst>
              <a:path w="272" h="317">
                <a:moveTo>
                  <a:pt x="90" y="317"/>
                </a:moveTo>
                <a:lnTo>
                  <a:pt x="0" y="90"/>
                </a:lnTo>
                <a:lnTo>
                  <a:pt x="90" y="181"/>
                </a:lnTo>
                <a:lnTo>
                  <a:pt x="90" y="0"/>
                </a:lnTo>
                <a:lnTo>
                  <a:pt x="136" y="181"/>
                </a:lnTo>
                <a:lnTo>
                  <a:pt x="227" y="0"/>
                </a:lnTo>
                <a:lnTo>
                  <a:pt x="181" y="181"/>
                </a:lnTo>
                <a:lnTo>
                  <a:pt x="272" y="90"/>
                </a:lnTo>
                <a:lnTo>
                  <a:pt x="227" y="226"/>
                </a:lnTo>
                <a:lnTo>
                  <a:pt x="225" y="312"/>
                </a:lnTo>
                <a:lnTo>
                  <a:pt x="181" y="317"/>
                </a:lnTo>
                <a:lnTo>
                  <a:pt x="90" y="31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88889E-006 1.11111E-006 L -3.88889E-006 -0.42523 E">
                                      <p:cBhvr>
                                        <p:cTn id="105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22222E-006 1.48148E-006 L -2.22222E-006 -0.40417 E">
                                      <p:cBhvr>
                                        <p:cTn id="109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88889E-006 1.11111E-006 L -3.88889E-006 -0.42523 E">
                                      <p:cBhvr>
                                        <p:cTn id="111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88889E-006 1.11111E-006 L -3.88889E-006 -0.42523 E">
                                      <p:cBhvr>
                                        <p:cTn id="113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22222E-006 1.48148E-006 L -2.22222E-006 -0.40417 E">
                                      <p:cBhvr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22222E-006 1.48148E-006 L -2.22222E-006 -0.40417 E">
                                      <p:cBhvr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Достроить график движения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с закрытыми глазам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772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54864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38080" y="1066680"/>
            <a:ext cx="0" cy="4648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4956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38080" y="4495680"/>
            <a:ext cx="99072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52680" y="3504960"/>
            <a:ext cx="99072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666880" y="4191120"/>
            <a:ext cx="15264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46483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62520" y="39625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153280" y="5638680"/>
            <a:ext cx="7621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, c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609480"/>
            <a:ext cx="7617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 м/с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57150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е характер движени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53:02Z</dcterms:created>
  <dc:creator>1</dc:creator>
  <dc:description/>
  <dc:language>en-US</dc:language>
  <cp:lastModifiedBy>1</cp:lastModifiedBy>
  <dcterms:modified xsi:type="dcterms:W3CDTF">2010-04-16T19:09:13Z</dcterms:modified>
  <cp:revision>6</cp:revision>
  <dc:subject/>
  <dc:title>Слайд 1</dc:title>
</cp:coreProperties>
</file>