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A06-4F72-43B5-B5BC-19C0BC5A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664-03C8-4293-B608-C1E95751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E8D3F-D6FF-40AB-8A27-3C3A9B9A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36510-C51B-491B-B821-241E095A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B712E-991E-4EA7-9FE2-F57FACB7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7DBD4-D185-4644-86C6-C40A96A7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CBA36-8D36-492E-92D4-BF9889E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AD7DA-A0DC-45A9-8FFC-6E1DDE7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DEE84-1D5C-4CB2-94F2-6B742E34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21290-E82F-49D3-9026-1A1EADF5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82768-D98F-49A2-AE86-4C9BC826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93C5B-10CC-41FB-8126-B878A8F2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EF0-EDE8-4FA6-8DB6-10C37CAE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4C4EA-BD1E-40CF-B32C-459A90C0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D977C-5DAD-4F0A-9DDE-1D1CC0C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A17BC-3340-4A4F-ACA1-EC3F7B9D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02EB7-99ED-445E-B5D3-0EB9A6F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E9C11-A1D8-4B43-8822-B5E5DD79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10D22-B3B0-4E71-92BF-5403C961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45E4F-45E6-4690-A124-37A26886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ED9F8-74FB-40A5-BD03-CC4095F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830F4-04FE-4B4D-B04B-0820BDB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B2ED3-6B13-4DF7-B087-51312658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0D2-1E8F-4DF0-AFAC-53DAF3B1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CB3B7-D0E3-4AD1-A903-662D7C4D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A34D-94E9-4C11-A7A3-553AEAAC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47F36-3077-4C7D-9FC1-B4622AD9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F4E26-D2E3-4A8D-91D2-6A7522C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4F616-7A6C-4EC1-ADE9-687B7ECC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85CF6-1F41-4836-A92F-1AEB923A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B7AE-58CD-426A-A44B-E99B5B3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B932B-4CD3-4992-ABEF-5E33725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78B28-BB87-486F-B578-3588D03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39258-C61F-4EAB-874C-D7168EE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26F0-8862-4A97-94DA-F89734B2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E01FD-B125-464D-8057-0AEA280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93948-02AB-4405-93AD-FC0EADF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0C5E-8FF6-430F-96FB-74AB88C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C350B-0ED3-4E17-84E5-B7B2D7B1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F3193-FACA-4BE1-94A0-AC941DBF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5E574-1D41-409D-8F0C-125EDE7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B2725-8FB9-4CA5-8693-7F522E64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EDA49-8ECD-4570-9B1C-9D89FDF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294FC-A8E5-43B9-AB92-F0A76988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E6837-F9DE-4534-BD77-01FBE26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95DA-9D3A-49CE-9AE6-064B0667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37106-B25A-4C96-B2BC-A39F577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55505-1A97-4B42-8B3F-17DAFD6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C8900-590A-43B9-BE75-CB55FB8C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DC35-1055-49AD-94B4-85BF82D4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6F015-D203-4BCF-8DCC-453E39EB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0DAD-B1A3-48A9-9596-D42BA025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679C6-3B45-44C6-B053-6DE54F1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47729-50D9-4BB2-A023-DE94960C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B583E-3455-49CC-83D0-4E1A0DF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93EC6-DC02-4FDC-9E21-45345AAB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9C8B-69B0-47D1-BC9B-BA0F8A90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DA373-5279-4DE9-A07C-C37D2A4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072D7-A885-4EBC-AD62-89D47A5A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280EC-6D11-425E-AA7C-6E16D78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5026F-49B6-4D31-AE3D-E9F8281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44392-FA32-4A61-AA98-FE95DBC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D82CD-1397-462C-9CBF-CAA161DC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94FD8-0B0A-4B99-9C30-FD9D244E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6432-3DD1-46E4-94F7-0A5B93D9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0A6A-B830-42E7-A34E-A0DA8915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467C-927E-469C-84C0-10A28BF2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1B43-A2C1-45E8-9EC3-E9E66DF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1DC-8E46-4E9E-B4F4-F3B079C8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BBD5-2E96-4CD1-A097-E9D5AF4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9502-5E85-40F2-8E3E-CECEA2F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9FF3-19CB-46D1-BF3F-49329388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6F00-EC1E-475B-9413-12C41145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9EBC-840B-4627-AA26-0505A15E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4B96-5748-4244-9BD2-58E3B9F7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3690-37F0-43E5-9087-2DC7AE9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54B6-8357-4599-9E31-E5610DCF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E339-2D9D-4508-8B41-40D4BA35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09F9-5D5E-4176-9ABC-ECC547D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928-33BF-495C-9D60-D7AE1FFB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BAA1-F0AF-4DA4-A129-B3B7E35F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1E4A-6AC9-4F14-87DD-075F0FE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1CA1-CCA9-480F-83FF-D15C472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B916-B771-4559-A4D4-636CE7C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778D-737F-417A-A5B0-50CB5B43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B481-A150-47FF-BBE0-6B057EDB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6C77-88A2-4CF2-9057-70998530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723B-58C1-41BB-A56B-FEBF6606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B351-D6D8-47E6-81EB-6FD7F54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8797-91BB-4441-870C-72B3D35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D6C-A7E4-473A-8BD2-59A42A4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B51A-3DF5-4436-B061-F331AA5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9E3B9-FD50-4A60-81DF-9BD0B4A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0CFC-A502-424A-B396-6E837DCF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08BF-DDDA-4B19-8269-3AD45AF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F7B2-AAEE-430C-9869-8CBA3F16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2B94-CFB6-4300-B51A-ABBF015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E469-14DC-4D26-8938-D49583E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11BD-1D90-4420-9E3E-11F30C52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8C03-9359-432D-B7F0-62211867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8FDD-6AC5-457A-AE94-07B0DCF3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797-78AB-44FF-95C3-9E2106AE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4A9B-F143-4B1D-8F88-06295483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8C3D-444E-4571-AF8B-46859C04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DDFC-7399-42FE-8750-D1D37862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E057-56BB-48D9-8498-3B0A7ED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90E4-BB7C-4801-B804-68E014C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F627-4CC9-45E0-AC84-868A13B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D34FA-47BE-4B83-84E3-18A17F0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809C-D60F-49AF-A311-72C7D0D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333D-53B8-47DA-83E5-03F3EA7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68C4-6035-41A9-8C8D-AAFAA395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610-2500-4DE1-9B3C-0A95C78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065F1-9D0D-4796-B489-A78C3AC4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80A1-D50B-477B-AB9B-AAD8AF7C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D71B-9057-46E4-BDAB-4D4097CD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0CE8-C26B-40DD-B41F-54189550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FE1DD-FA6E-4370-AE9B-97D64FAB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3C5E-BCF5-43FB-9E90-8C2E868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5B88-8256-4FAA-8E19-5A715BF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BC4BF-C5F0-46E5-9E2C-CDAD5C1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A934-47D3-441A-929A-7E5097D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6118-2B52-4710-A2FE-D515B9E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4A1-71CA-4A8B-AECD-FB1AF05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7B6A-B530-4C8B-B037-F5C217B0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933A-79A0-4103-8370-82ACFE72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6080-3066-4ADB-920A-6014FD8D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53AE-E535-4D22-A73E-617A249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C2AE5-B05D-46CC-9283-4291837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64C4-0D4A-41DB-B070-6DD14B0F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3197-A2BF-4A8B-9E09-C0205A3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9CD6-84BE-4D62-845B-DCF707E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08D0F-6671-489F-925A-255621CA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1D04D-8D12-4EE6-9E6B-F56F662C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DCA-882F-4C17-B8C6-C915AA2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238A-CC35-472B-B139-6F51F2AE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5CFD-AA26-48F6-B671-D163F2C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3EDE-18F7-47D3-B624-CA80875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A38D7-D27C-4095-90D0-9C51685D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3BEE-BA13-4EC3-AF81-84B69CCF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BA75-92C8-4084-B796-04DFEF7C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09DD-B97E-49D3-B929-AD5A336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E4506-FE81-40E0-B978-899F86D7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1667-142A-4CAA-808E-673A81EE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A8C5-28CB-4AD7-8D95-3C301529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EC7-0E59-4A21-B1B8-44D2848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3D52D-5E51-46F8-B8DE-AFC79E5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970DF-27CE-4E0E-87D6-49F0DC03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DA96-F33E-456C-B615-DC6DAB8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815CD-08AA-4536-AD61-DB4AF11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B2C7-14F4-457A-8E6C-38E26A76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7D4E1-8F1A-491A-8DBF-69D8D0C6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E635-FE83-455E-A372-BBB085D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D20A0-13C1-4B1A-AFF1-EDBEA8D4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DB788-6050-4988-B276-054355B0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BB2E2-1347-4BB7-ADAB-AC2DB53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4BF3-466E-4016-B9EE-BB08736B00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0F70-1AEE-4E70-A936-5D51DE6D54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CBE7-A994-4C12-8F9C-232B272123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FEA-C5FA-4BAA-BFB7-E05D4C3B52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B00-B22C-4B98-95D6-9F8DAE2AFE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36E-AC4E-4C1B-BBA3-ADB54042F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53E1-81D5-4947-A5BC-78D1562C2C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D58-645A-4FDB-B201-0D3D9C48BF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79A0-0528-43EF-A92B-D798A1F50D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6988-8583-40F9-BB4C-310A6A8641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1C03-468D-4B06-B162-6BBAA54DF0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334-331A-49F3-9A8E-BF2CDC1DF5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AF84-6B8C-41B8-94F0-6018D3610B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бытный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ЕЕ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Объект 3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Box 5"/>
          <p:cNvSpPr/>
          <p:nvPr/>
        </p:nvSpPr>
        <p:spPr>
          <a:xfrm>
            <a:off x="1989360" y="168120"/>
            <a:ext cx="43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ипетски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ревня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Объект 3" descr=""/>
          <p:cNvPicPr/>
          <p:nvPr/>
        </p:nvPicPr>
        <p:blipFill>
          <a:blip r:embed="rId1"/>
          <a:stretch/>
        </p:blipFill>
        <p:spPr>
          <a:xfrm>
            <a:off x="0" y="3240"/>
            <a:ext cx="9147240" cy="6854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2202840" y="26028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c3639"/>
                </a:solidFill>
                <a:latin typeface="Arial"/>
              </a:rPr>
              <a:t>Акр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http://www.renclassic.ru/UserFiles/Image/Akrop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Храм Парфен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http://i.sunhome.ru/foto/194/hram_v_luksore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http://www.polosaty.ru/upload/20120712/%D1%80%D0%BE%D0%B4%D0%BE%D1%81%20%D0%B0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2"/>
          <p:cNvSpPr/>
          <p:nvPr/>
        </p:nvSpPr>
        <p:spPr>
          <a:xfrm>
            <a:off x="5518800" y="83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ф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569680" y="47628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к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ий 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а основания Рима – 753 год до н. 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Объект 1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из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нтеон – храм всех б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я первобытных люд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пл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х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болов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емледел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то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улкан Везу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4"/>
          <p:cNvSpPr/>
          <p:nvPr/>
        </p:nvSpPr>
        <p:spPr>
          <a:xfrm>
            <a:off x="5335560" y="6732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ка 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Объект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4" descr=""/>
          <p:cNvPicPr/>
          <p:nvPr/>
        </p:nvPicPr>
        <p:blipFill>
          <a:blip r:embed="rId2"/>
          <a:stretch/>
        </p:blipFill>
        <p:spPr>
          <a:xfrm>
            <a:off x="2916360" y="0"/>
            <a:ext cx="320832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5" descr=""/>
          <p:cNvPicPr/>
          <p:nvPr/>
        </p:nvPicPr>
        <p:blipFill>
          <a:blip r:embed="rId3"/>
          <a:stretch/>
        </p:blipFill>
        <p:spPr>
          <a:xfrm>
            <a:off x="6108840" y="33480"/>
            <a:ext cx="3035160" cy="6824520"/>
          </a:xfrm>
          <a:prstGeom prst="rect">
            <a:avLst/>
          </a:prstGeom>
          <a:ln w="0">
            <a:noFill/>
          </a:ln>
        </p:spPr>
      </p:pic>
      <p:sp>
        <p:nvSpPr>
          <p:cNvPr id="546" name="TextBox 6"/>
          <p:cNvSpPr/>
          <p:nvPr/>
        </p:nvSpPr>
        <p:spPr>
          <a:xfrm>
            <a:off x="1358280" y="260280"/>
            <a:ext cx="1380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олнц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4643280" y="230040"/>
            <a:ext cx="14814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воды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Се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6875640" y="2492280"/>
            <a:ext cx="2085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удрос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Т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Объект 7" descr=""/>
          <p:cNvPicPr/>
          <p:nvPr/>
        </p:nvPicPr>
        <p:blipFill>
          <a:blip r:embed="rId1"/>
          <a:stretch/>
        </p:blipFill>
        <p:spPr>
          <a:xfrm>
            <a:off x="-7920" y="-9360"/>
            <a:ext cx="4454640" cy="334152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9" descr=""/>
          <p:cNvPicPr/>
          <p:nvPr/>
        </p:nvPicPr>
        <p:blipFill>
          <a:blip r:embed="rId2"/>
          <a:stretch/>
        </p:blipFill>
        <p:spPr>
          <a:xfrm>
            <a:off x="4427640" y="-108000"/>
            <a:ext cx="4716360" cy="345600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0" descr=""/>
          <p:cNvPicPr/>
          <p:nvPr/>
        </p:nvPicPr>
        <p:blipFill>
          <a:blip r:embed="rId3"/>
          <a:stretch/>
        </p:blipFill>
        <p:spPr>
          <a:xfrm>
            <a:off x="4427640" y="3348000"/>
            <a:ext cx="4716360" cy="348444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11" descr=""/>
          <p:cNvPicPr/>
          <p:nvPr/>
        </p:nvPicPr>
        <p:blipFill>
          <a:blip r:embed="rId4"/>
          <a:stretch/>
        </p:blipFill>
        <p:spPr>
          <a:xfrm>
            <a:off x="0" y="3348000"/>
            <a:ext cx="44276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Объект 3" descr=""/>
          <p:cNvPicPr/>
          <p:nvPr/>
        </p:nvPicPr>
        <p:blipFill>
          <a:blip r:embed="rId1"/>
          <a:stretch/>
        </p:blipFill>
        <p:spPr>
          <a:xfrm>
            <a:off x="0" y="-31680"/>
            <a:ext cx="3354480" cy="20923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4" descr=""/>
          <p:cNvPicPr/>
          <p:nvPr/>
        </p:nvPicPr>
        <p:blipFill>
          <a:blip r:embed="rId2"/>
          <a:stretch/>
        </p:blipFill>
        <p:spPr>
          <a:xfrm>
            <a:off x="3354480" y="-31680"/>
            <a:ext cx="3564000" cy="230328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5" descr=""/>
          <p:cNvPicPr/>
          <p:nvPr/>
        </p:nvPicPr>
        <p:blipFill>
          <a:blip r:embed="rId3"/>
          <a:stretch/>
        </p:blipFill>
        <p:spPr>
          <a:xfrm>
            <a:off x="0" y="2060640"/>
            <a:ext cx="3354480" cy="219240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" descr=""/>
          <p:cNvPicPr/>
          <p:nvPr/>
        </p:nvPicPr>
        <p:blipFill>
          <a:blip r:embed="rId4"/>
          <a:stretch/>
        </p:blipFill>
        <p:spPr>
          <a:xfrm>
            <a:off x="3354480" y="2268360"/>
            <a:ext cx="3635280" cy="198468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7" descr=""/>
          <p:cNvPicPr/>
          <p:nvPr/>
        </p:nvPicPr>
        <p:blipFill>
          <a:blip r:embed="rId5"/>
          <a:stretch/>
        </p:blipFill>
        <p:spPr>
          <a:xfrm>
            <a:off x="6918480" y="-36360"/>
            <a:ext cx="2228760" cy="428940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8" descr=""/>
          <p:cNvPicPr/>
          <p:nvPr/>
        </p:nvPicPr>
        <p:blipFill>
          <a:blip r:embed="rId6"/>
          <a:stretch/>
        </p:blipFill>
        <p:spPr>
          <a:xfrm>
            <a:off x="0" y="4253040"/>
            <a:ext cx="3354480" cy="260496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9" descr=""/>
          <p:cNvPicPr/>
          <p:nvPr/>
        </p:nvPicPr>
        <p:blipFill>
          <a:blip r:embed="rId7"/>
          <a:stretch/>
        </p:blipFill>
        <p:spPr>
          <a:xfrm>
            <a:off x="3354480" y="4253040"/>
            <a:ext cx="561024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Объект 3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64" name="TextBox 4"/>
          <p:cNvSpPr/>
          <p:nvPr/>
        </p:nvSpPr>
        <p:spPr>
          <a:xfrm>
            <a:off x="2497680" y="1444680"/>
            <a:ext cx="39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Иероглиф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268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5318280" y="490680"/>
            <a:ext cx="351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ра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ук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55:25Z</dcterms:created>
  <dc:creator>Лиля</dc:creator>
  <dc:description/>
  <dc:language>en-US</dc:language>
  <cp:lastModifiedBy>Алёнушка</cp:lastModifiedBy>
  <dcterms:modified xsi:type="dcterms:W3CDTF">2015-01-26T21:29:16Z</dcterms:modified>
  <cp:revision>49</cp:revision>
  <dc:subject/>
  <dc:title>    первобытный человек</dc:title>
</cp:coreProperties>
</file>