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AF4F-D5D4-4678-820A-50E45A357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EED9-5190-4210-9A8A-45230E15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F1596E-D347-4329-B8F8-1A855694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AF7E7E-2B5C-4A47-BA02-6F1F2AB2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CF0321-0D46-4A4A-9666-A63FBE1C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59882E-DBC6-43C7-A11B-37799AC5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47BDF4-11E6-4D38-BBAA-5206D2CA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5C85BB-ED7A-4270-9F5C-584248D9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E52C2F-F707-4ADB-BB37-0EEFE775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7A9D70-3B36-4A97-9215-45F7F0543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54CE3F-D271-4EDB-9B22-57E5985B3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03E9E8-7BC7-4F9D-968F-200DCCB2A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61E4-BB95-424B-BCE2-92A8C1390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F53F1E-4E8C-4AFE-8472-4DB335CD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274DD9-D9A2-40E0-9046-E57B1272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2557D7-ECC0-48A8-A7CB-BE25019B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6D349-7FA2-4C32-99E7-3AF5E9BA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BDC652-9E96-4195-A977-B23281B5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46E088-492D-4D6A-955C-1F19C17D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8D7AB0-E7A5-4D21-B9BE-36353092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E8C133-F48F-4C5D-8870-8D3EBC39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DC20B-6AFD-4DF6-A677-8AAACC36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DCE4D3-7699-4428-BDAF-97EE70485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68FB-35A5-4A86-B9EA-802F2D0AB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91D942-8B65-43DC-804E-1F91BA158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C1450C-8049-413C-B8E8-2EC811C91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12CFE2-CECE-4F04-9093-7D0301F4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4013A4-A40B-4A7F-920A-15C02682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00A43F-08F5-440D-BC54-4C79CA19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95F5AB-B8B3-4F3A-9C92-B6A1E40E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C7397E-63EE-4754-9818-AC450E91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97D6E-58BE-42CD-B289-74001620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DD485-1A30-4C68-ACD1-4E5991F8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B7086-865C-4E28-BDC4-AFF54BF7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C6EE-7F8E-41B7-BBCD-CC99718D0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9B62A-8577-47E2-A81C-38C57A96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A6313-8888-4235-B031-F0E5A133F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704FFB-BE77-4CD3-8BE8-E39309CC2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C86C89-5562-4843-B09D-DB70B295E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5131D5-1ED3-4DAD-82DE-38C45B94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82FE1C-6CD6-4D54-ABBE-99D8C0D6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171DAF-26BD-4AF2-9431-0029C24E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BD7A7C-2F18-4253-ACBE-F66199A5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92E17C-CF1E-4F8E-A8C2-304D90C6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A42085-283E-4955-A9CC-DF0934E3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FA48-560E-4C8B-AB99-2A12C785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690BF8-9D11-4F06-8E61-AE1B5932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32FAD8-BA8F-4449-A4C1-C011C168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EE9049-EF72-48BD-B22F-10C893E2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1F9223-5D8A-422A-B7B0-2E385F613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1A8AF9-F8FB-4DE6-9CB3-CDE54D6FB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CB9F76-493A-445F-AA54-074428C8A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4B5B59-D051-4D38-962D-6048243D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2DE72D-AD3B-483B-8F1D-D0C0F065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3D3CAE-4E26-4C37-855E-B9FB3968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6388A7-FD8C-4AEC-AEC8-8AE3F755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174A4-B436-43B5-B940-B9E19415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32D99C-EEBD-406B-A624-0DD6A1EB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87D43B-76A0-4D26-B13F-7B54465B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C8D06F-7372-48CF-9318-D78AAAD1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C98B51-66A6-4D14-BAD3-8F746C95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D908DE-A572-4509-B19E-73F7D091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C787EC-EA3B-4DF8-9B22-DCCA13E52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CC4885-7FD0-44CA-92DB-5950903C1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4BC37-40D9-4B51-B897-68989423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928D7-BD3C-4ADA-80AA-08688B5D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4915-121C-40EF-BADD-8A29CA13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90FC-CC10-40BB-80BC-CBD28E9B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F151-0513-4246-AD1F-8E37A584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91FF5-B90B-4D58-81AE-EBE85B3B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3D8A-15E1-4CB4-B996-A5A413FB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37544-40B7-4982-B769-7BA1C559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76C72-B8BA-4D98-B765-32D7BDD0A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5893-C0AD-4BF7-8226-CD4FCF924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9A260-E5DC-4A2F-A352-98E6AE672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98217-EA5B-4DF8-AC81-63468034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C53AB-E32D-47CF-B0A8-08CB41E6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8D57F-DF08-4A46-9FB9-9B7CCEBC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AD584-3ABD-4B95-9B3C-3FDE745D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7E71-4CD5-4C56-AB6C-FD72D8BD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BDB3F-AE1B-41DD-8745-F23CE8DC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B102B-9E97-4262-9C45-E36648C7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B0F95-9726-4EF6-B10C-4FE99818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81FD6-B392-4D90-B9D3-C4E34F9A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B4D47-EBD3-45BB-A31B-839F1D3C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F5C35-5615-4ADE-9572-1A7ABCEA7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696A0-F968-41AC-9A19-3925BAD23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D5C87-E903-45D3-92C4-4FF143BFE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6B4FA-9690-4747-82F3-86E2EC27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9BE76-5114-4C47-812A-95B53B2D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5984-F04D-470B-A3B8-54E161FD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52BAC-A84C-48E1-BB14-C82F6ABA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BAA81-B140-44D6-A348-96523C12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01CE6-A708-4A82-94A7-C5F6E903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9E760-0088-4FA1-8055-8CB16007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B5E14-0B33-4559-86CA-C8D2C7A3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21674-C1D7-4629-BE96-1E8E1CAC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4EE94-8998-40E7-AE5A-4014910A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DB967-4046-42EA-AD05-129A618BB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28D8D-5520-4DF9-96FE-B7645BEC1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5D277-D895-49FE-814C-994EAD09F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C7E9-82D9-4AE4-B3A6-77F7DFD9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68465-7E79-4E84-8FD9-120E378C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1F309-73D9-487B-B4A3-9CC2B271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FD6EA-A62E-4B8D-898F-25D9F453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66DF3-5B84-4A91-96DA-54A260AC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C7112-166B-4DF4-A2A2-106146F6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EE7AC-201C-4B78-8748-F6BDCDDA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EB5E5-D2E2-4297-A476-E64CAE01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46CE8-5F32-498A-819D-48C0AD78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A9451-4E84-470A-8A3A-8DF4B818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46EE0-0FB8-4364-86DB-9C7CEA022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A623-D834-4D25-921E-70C354A0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8CA21-DF7D-486F-BB71-5849CDBDF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7C2E2-48E2-469E-A6B5-532396F56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3E43A-6E29-4DC9-B86C-2DDFD539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6387B-6B77-4D74-9613-655F8E84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4B8F2-5380-4CAC-B3C8-EA12B686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2FD9B-A6B1-4849-9C6E-31E6E72F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83995-B6A5-4425-980B-21AAEB8B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66276-616B-41BD-A4C0-B627E56B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9BE5A-A8F0-4ADD-980C-68DB4AD4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47F20-4F3B-4E7C-BBFD-182DFA89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E7B0-166B-4845-BDC7-7922062F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71477-5042-4C45-AE4D-44540651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894A2-097F-4857-A50A-9A78C44B3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FF905-FBA4-49FE-B75D-D7EA8B7F7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4D0C6-5ACA-477C-835E-9DE53B216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B4CC3-484E-4E81-8272-770C68E5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F05D9-B2A2-4911-B4E0-7D661F16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84966-ABF2-4B93-92DB-53EE761D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C44DB-626D-47E5-8BDC-3DFEBD6B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F54BA-801B-407D-B469-6CBA1096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89576-9312-4DB5-997F-6DD83BC8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CB34-CAF6-4AB1-891D-2BF96575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214A5-A2F2-411A-BEE0-F3D160E4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4D91D-DACA-4EA5-9101-4AD3B828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658F7-49A8-48D3-B5A5-1451D501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37319-259B-46F6-95A9-095732070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2A554-DA7A-4FEA-AF8F-E1A5EF2AC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4DB0E-630A-45FF-A90A-C7F5C1005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389BB-CB4E-46D1-AC23-EC17E6D0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7E495-ACF9-46E4-B23B-269D2660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70C6B-FA68-4BCD-9DF5-D2E445DC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79A84-350B-4CF7-A9E1-B84174E2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F936-6E08-41F7-B48D-4D43AA38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48C68-1B67-4390-B999-4B2C875F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B7321-A959-4142-BE0B-8D394FD3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AD04D-1BD1-4A5E-ABBB-3298F60B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82CD6-B25A-4723-BBE1-3B4068FC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764EF-18D8-48CD-810A-DD72AD21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CC839-DDB8-40C1-AC97-519B5C1BD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DED58-DEC9-4497-8EC9-A8592E077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3A1E6-82CE-44A2-9ECA-08A7D254A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8A72B0-838A-45DE-97AE-A30DC1B1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4076CA-21A3-475E-903F-F944EBEA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8304-A7F6-4B2E-A28F-899BC69E895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29E0-D9EE-438B-9891-14383B11645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D391-5F70-4DE3-8301-979F0B71A2F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3CCB-74A4-45DB-B298-0265E5363B0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FA3C-B760-4823-B054-300661C3A79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4F3E-C3F3-4596-9368-02A885C901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15BA-9442-415D-8E32-B79A58A7E9F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24C4-BE15-4071-A369-40DF2E2E37E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91C0-EBD6-45D4-8BF5-23D3E91AACA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B867-188B-42BF-86B4-8E9AB83A76D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3CD2-4F80-4924-BE4C-ACE3E3F23BA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A872-CC02-4D34-A82F-7C194C15A89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3495-289C-484E-9627-E12C93911EA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вобытный челове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ЕЕЕЕ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Объект 3" descr="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TextBox 5"/>
          <p:cNvSpPr/>
          <p:nvPr/>
        </p:nvSpPr>
        <p:spPr>
          <a:xfrm>
            <a:off x="1989360" y="168120"/>
            <a:ext cx="434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гипетские пирами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Древняя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Гре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Объект 3" descr=""/>
          <p:cNvPicPr/>
          <p:nvPr/>
        </p:nvPicPr>
        <p:blipFill>
          <a:blip r:embed="rId1"/>
          <a:stretch/>
        </p:blipFill>
        <p:spPr>
          <a:xfrm>
            <a:off x="0" y="3240"/>
            <a:ext cx="9147240" cy="6854760"/>
          </a:xfrm>
          <a:prstGeom prst="rect">
            <a:avLst/>
          </a:prstGeom>
          <a:ln w="0">
            <a:noFill/>
          </a:ln>
        </p:spPr>
      </p:pic>
      <p:sp>
        <p:nvSpPr>
          <p:cNvPr id="575" name="TextBox 4"/>
          <p:cNvSpPr/>
          <p:nvPr/>
        </p:nvSpPr>
        <p:spPr>
          <a:xfrm>
            <a:off x="2202840" y="260280"/>
            <a:ext cx="26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c3639"/>
                </a:solidFill>
                <a:latin typeface="Arial"/>
              </a:rPr>
              <a:t>Акропо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http://www.renclassic.ru/UserFiles/Image/Akrop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Храм Парфен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http://i.sunhome.ru/foto/194/hram_v_luksore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4" descr="http://www.polosaty.ru/upload/20120712/%D1%80%D0%BE%D0%B4%D0%BE%D1%81%20%D0%B0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581" name="TextBox 2"/>
          <p:cNvSpPr/>
          <p:nvPr/>
        </p:nvSpPr>
        <p:spPr>
          <a:xfrm>
            <a:off x="5518800" y="836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фен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3"/>
          <p:cNvSpPr/>
          <p:nvPr/>
        </p:nvSpPr>
        <p:spPr>
          <a:xfrm>
            <a:off x="2569680" y="476280"/>
            <a:ext cx="148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укс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8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ревний Ри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Дата основания Рима – 753 год до н. э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3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6" name="Объект 1" descr=""/>
          <p:cNvPicPr/>
          <p:nvPr/>
        </p:nvPicPr>
        <p:blipFill>
          <a:blip r:embed="rId1"/>
          <a:stretch/>
        </p:blipFill>
        <p:spPr>
          <a:xfrm>
            <a:off x="3492360" y="0"/>
            <a:ext cx="56516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0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лиз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антеон – храм всех бог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нятия первобытных люд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бор плод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х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ыболов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емледел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отовод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20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улкан Везув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98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9" name="TextBox 4"/>
          <p:cNvSpPr/>
          <p:nvPr/>
        </p:nvSpPr>
        <p:spPr>
          <a:xfrm>
            <a:off x="5335560" y="673200"/>
            <a:ext cx="268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Река Ни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1" name="Объект 1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3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2916360" cy="6858000"/>
          </a:xfrm>
          <a:prstGeom prst="rect">
            <a:avLst/>
          </a:prstGeom>
          <a:ln w="0">
            <a:noFill/>
          </a:ln>
        </p:spPr>
      </p:pic>
      <p:pic>
        <p:nvPicPr>
          <p:cNvPr id="544" name="Рисунок 4" descr=""/>
          <p:cNvPicPr/>
          <p:nvPr/>
        </p:nvPicPr>
        <p:blipFill>
          <a:blip r:embed="rId2"/>
          <a:stretch/>
        </p:blipFill>
        <p:spPr>
          <a:xfrm>
            <a:off x="2916360" y="0"/>
            <a:ext cx="3208320" cy="6858000"/>
          </a:xfrm>
          <a:prstGeom prst="rect">
            <a:avLst/>
          </a:prstGeom>
          <a:ln w="0">
            <a:noFill/>
          </a:ln>
        </p:spPr>
      </p:pic>
      <p:pic>
        <p:nvPicPr>
          <p:cNvPr id="545" name="Рисунок 5" descr=""/>
          <p:cNvPicPr/>
          <p:nvPr/>
        </p:nvPicPr>
        <p:blipFill>
          <a:blip r:embed="rId3"/>
          <a:stretch/>
        </p:blipFill>
        <p:spPr>
          <a:xfrm>
            <a:off x="6108840" y="33480"/>
            <a:ext cx="3035160" cy="6824520"/>
          </a:xfrm>
          <a:prstGeom prst="rect">
            <a:avLst/>
          </a:prstGeom>
          <a:ln w="0">
            <a:noFill/>
          </a:ln>
        </p:spPr>
      </p:pic>
      <p:sp>
        <p:nvSpPr>
          <p:cNvPr id="546" name="TextBox 6"/>
          <p:cNvSpPr/>
          <p:nvPr/>
        </p:nvSpPr>
        <p:spPr>
          <a:xfrm>
            <a:off x="1358280" y="260280"/>
            <a:ext cx="13802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Б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солнц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7"/>
          <p:cNvSpPr/>
          <p:nvPr/>
        </p:nvSpPr>
        <p:spPr>
          <a:xfrm>
            <a:off x="4643280" y="230040"/>
            <a:ext cx="148140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Arial"/>
              </a:rPr>
              <a:t>Б</a:t>
            </a:r>
            <a:r>
              <a:rPr b="0" lang="ru-RU" sz="3200" spc="-1" strike="noStrike">
                <a:solidFill>
                  <a:srgbClr val="00b0f0"/>
                </a:solidFill>
                <a:latin typeface="Arial"/>
              </a:rPr>
              <a:t>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Arial"/>
              </a:rPr>
              <a:t>воды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Arial"/>
              </a:rPr>
              <a:t>Себ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8"/>
          <p:cNvSpPr/>
          <p:nvPr/>
        </p:nvSpPr>
        <p:spPr>
          <a:xfrm>
            <a:off x="6875640" y="2492280"/>
            <a:ext cx="208584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Б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о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мудрост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Т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8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Объект 7" descr=""/>
          <p:cNvPicPr/>
          <p:nvPr/>
        </p:nvPicPr>
        <p:blipFill>
          <a:blip r:embed="rId1"/>
          <a:stretch/>
        </p:blipFill>
        <p:spPr>
          <a:xfrm>
            <a:off x="-7920" y="-9360"/>
            <a:ext cx="4454640" cy="3341520"/>
          </a:xfrm>
          <a:prstGeom prst="rect">
            <a:avLst/>
          </a:prstGeom>
          <a:ln w="0">
            <a:noFill/>
          </a:ln>
        </p:spPr>
      </p:pic>
      <p:pic>
        <p:nvPicPr>
          <p:cNvPr id="551" name="Рисунок 9" descr=""/>
          <p:cNvPicPr/>
          <p:nvPr/>
        </p:nvPicPr>
        <p:blipFill>
          <a:blip r:embed="rId2"/>
          <a:stretch/>
        </p:blipFill>
        <p:spPr>
          <a:xfrm>
            <a:off x="4427640" y="-108000"/>
            <a:ext cx="4716360" cy="3456000"/>
          </a:xfrm>
          <a:prstGeom prst="rect">
            <a:avLst/>
          </a:prstGeom>
          <a:ln w="0">
            <a:noFill/>
          </a:ln>
        </p:spPr>
      </p:pic>
      <p:pic>
        <p:nvPicPr>
          <p:cNvPr id="552" name="Рисунок 10" descr=""/>
          <p:cNvPicPr/>
          <p:nvPr/>
        </p:nvPicPr>
        <p:blipFill>
          <a:blip r:embed="rId3"/>
          <a:stretch/>
        </p:blipFill>
        <p:spPr>
          <a:xfrm>
            <a:off x="4427640" y="3348000"/>
            <a:ext cx="4716360" cy="3484440"/>
          </a:xfrm>
          <a:prstGeom prst="rect">
            <a:avLst/>
          </a:prstGeom>
          <a:ln w="0">
            <a:noFill/>
          </a:ln>
        </p:spPr>
      </p:pic>
      <p:pic>
        <p:nvPicPr>
          <p:cNvPr id="553" name="Рисунок 11" descr=""/>
          <p:cNvPicPr/>
          <p:nvPr/>
        </p:nvPicPr>
        <p:blipFill>
          <a:blip r:embed="rId4"/>
          <a:stretch/>
        </p:blipFill>
        <p:spPr>
          <a:xfrm>
            <a:off x="0" y="3348000"/>
            <a:ext cx="4427640" cy="3510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1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5" name="Объект 3" descr=""/>
          <p:cNvPicPr/>
          <p:nvPr/>
        </p:nvPicPr>
        <p:blipFill>
          <a:blip r:embed="rId1"/>
          <a:stretch/>
        </p:blipFill>
        <p:spPr>
          <a:xfrm>
            <a:off x="0" y="-31680"/>
            <a:ext cx="3354480" cy="2092320"/>
          </a:xfrm>
          <a:prstGeom prst="rect">
            <a:avLst/>
          </a:prstGeom>
          <a:ln w="0">
            <a:noFill/>
          </a:ln>
        </p:spPr>
      </p:pic>
      <p:pic>
        <p:nvPicPr>
          <p:cNvPr id="556" name="Рисунок 4" descr=""/>
          <p:cNvPicPr/>
          <p:nvPr/>
        </p:nvPicPr>
        <p:blipFill>
          <a:blip r:embed="rId2"/>
          <a:stretch/>
        </p:blipFill>
        <p:spPr>
          <a:xfrm>
            <a:off x="3354480" y="-31680"/>
            <a:ext cx="3564000" cy="2303280"/>
          </a:xfrm>
          <a:prstGeom prst="rect">
            <a:avLst/>
          </a:prstGeom>
          <a:ln w="0">
            <a:noFill/>
          </a:ln>
        </p:spPr>
      </p:pic>
      <p:pic>
        <p:nvPicPr>
          <p:cNvPr id="557" name="Рисунок 5" descr=""/>
          <p:cNvPicPr/>
          <p:nvPr/>
        </p:nvPicPr>
        <p:blipFill>
          <a:blip r:embed="rId3"/>
          <a:stretch/>
        </p:blipFill>
        <p:spPr>
          <a:xfrm>
            <a:off x="0" y="2060640"/>
            <a:ext cx="3354480" cy="2192400"/>
          </a:xfrm>
          <a:prstGeom prst="rect">
            <a:avLst/>
          </a:prstGeom>
          <a:ln w="0">
            <a:noFill/>
          </a:ln>
        </p:spPr>
      </p:pic>
      <p:pic>
        <p:nvPicPr>
          <p:cNvPr id="558" name="Рисунок 6" descr=""/>
          <p:cNvPicPr/>
          <p:nvPr/>
        </p:nvPicPr>
        <p:blipFill>
          <a:blip r:embed="rId4"/>
          <a:stretch/>
        </p:blipFill>
        <p:spPr>
          <a:xfrm>
            <a:off x="3354480" y="2268360"/>
            <a:ext cx="3635280" cy="1984680"/>
          </a:xfrm>
          <a:prstGeom prst="rect">
            <a:avLst/>
          </a:prstGeom>
          <a:ln w="0">
            <a:noFill/>
          </a:ln>
        </p:spPr>
      </p:pic>
      <p:pic>
        <p:nvPicPr>
          <p:cNvPr id="559" name="Рисунок 7" descr=""/>
          <p:cNvPicPr/>
          <p:nvPr/>
        </p:nvPicPr>
        <p:blipFill>
          <a:blip r:embed="rId5"/>
          <a:stretch/>
        </p:blipFill>
        <p:spPr>
          <a:xfrm>
            <a:off x="6918480" y="-36360"/>
            <a:ext cx="2228760" cy="4289400"/>
          </a:xfrm>
          <a:prstGeom prst="rect">
            <a:avLst/>
          </a:prstGeom>
          <a:ln w="0">
            <a:noFill/>
          </a:ln>
        </p:spPr>
      </p:pic>
      <p:pic>
        <p:nvPicPr>
          <p:cNvPr id="560" name="Рисунок 8" descr=""/>
          <p:cNvPicPr/>
          <p:nvPr/>
        </p:nvPicPr>
        <p:blipFill>
          <a:blip r:embed="rId6"/>
          <a:stretch/>
        </p:blipFill>
        <p:spPr>
          <a:xfrm>
            <a:off x="0" y="4253040"/>
            <a:ext cx="3354480" cy="2604960"/>
          </a:xfrm>
          <a:prstGeom prst="rect">
            <a:avLst/>
          </a:prstGeom>
          <a:ln w="0">
            <a:noFill/>
          </a:ln>
        </p:spPr>
      </p:pic>
      <p:pic>
        <p:nvPicPr>
          <p:cNvPr id="561" name="Рисунок 9" descr=""/>
          <p:cNvPicPr/>
          <p:nvPr/>
        </p:nvPicPr>
        <p:blipFill>
          <a:blip r:embed="rId7"/>
          <a:stretch/>
        </p:blipFill>
        <p:spPr>
          <a:xfrm>
            <a:off x="3354480" y="4253040"/>
            <a:ext cx="5610240" cy="2562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0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5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3" name="Объект 3" descr="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564" name="TextBox 4"/>
          <p:cNvSpPr/>
          <p:nvPr/>
        </p:nvSpPr>
        <p:spPr>
          <a:xfrm>
            <a:off x="2497680" y="1444680"/>
            <a:ext cx="390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Иероглиф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2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6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2680"/>
          </a:xfrm>
          <a:prstGeom prst="rect">
            <a:avLst/>
          </a:prstGeom>
          <a:ln w="0">
            <a:noFill/>
          </a:ln>
        </p:spPr>
      </p:pic>
      <p:sp>
        <p:nvSpPr>
          <p:cNvPr id="567" name="TextBox 4"/>
          <p:cNvSpPr/>
          <p:nvPr/>
        </p:nvSpPr>
        <p:spPr>
          <a:xfrm>
            <a:off x="5318280" y="490680"/>
            <a:ext cx="351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Храм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Лукс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6:55:25Z</dcterms:created>
  <dc:creator>Лиля</dc:creator>
  <dc:description/>
  <dc:language>en-US</dc:language>
  <cp:lastModifiedBy>Алёнушка</cp:lastModifiedBy>
  <dcterms:modified xsi:type="dcterms:W3CDTF">2015-01-26T21:29:16Z</dcterms:modified>
  <cp:revision>49</cp:revision>
  <dc:subject/>
  <dc:title>    первобытный человек</dc:title>
</cp:coreProperties>
</file>