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C8708-F990-4FA0-98CF-8420AC01D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C4765-7E5D-4251-B958-F6FFABB9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A898A-B1F1-4C6E-8329-47ED2AF07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7F90F-A6A4-42D9-BF2D-97FE27956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61B91A-2868-46D0-9E33-CF9E6062609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06152E-244B-48A9-A6CD-49432A43A0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CBA8E-E198-4DB6-A49B-3F7CFE6C59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8B5095-F7E5-44E5-B7A1-B76675F56A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02953-7E8E-4853-BD77-4195607DBB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BD774C-67C1-4683-9FFD-C2DE6969DF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95BA2-96DF-43E1-A0B3-E2946EB736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F0947-153B-4C23-87B1-7DB02CE08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A15843-DF39-4386-B15C-55AE24B6A7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C806F-1A4A-4F0F-98F4-01668B326A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1A2D98-3F01-4479-BFCE-826D9C551F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8D810D-21F9-4843-BD82-708B9DB27C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5A427D-A2BB-4206-B824-9287AC808D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7F5C5-0A33-4AD1-821B-8A6E9EB8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28004-228B-4418-B2D5-F9975ED5E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3F935-9000-4FE2-B138-070752061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B855C-439E-4170-B342-76AD81D0A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1788-C2D7-4820-9FEE-5827C2B2C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44EE2-56DA-479A-9431-6D379A999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75A80-2397-4168-A5B9-D7BAB5456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B605-3E1D-4A7E-A367-358F0B78465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9B46-D0B6-41D8-8656-A7FD02A558DA}"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1447560"/>
            <a:ext cx="7772400" cy="14317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00000"/>
                </a:solidFill>
                <a:latin typeface="Times New Roman"/>
              </a:rPr>
              <a:t>«Мода и здоровье»</a:t>
            </a:r>
            <a:endParaRPr b="0" lang="en-US" sz="5400" spc="-1" strike="noStrike">
              <a:solidFill>
                <a:srgbClr val="ffffff"/>
              </a:solidFill>
              <a:latin typeface="Tahoma"/>
            </a:endParaRPr>
          </a:p>
        </p:txBody>
      </p:sp>
      <p:sp>
        <p:nvSpPr>
          <p:cNvPr id="84" name="Rectangle 8"/>
          <p:cNvSpPr/>
          <p:nvPr/>
        </p:nvSpPr>
        <p:spPr>
          <a:xfrm>
            <a:off x="1000080" y="3582000"/>
            <a:ext cx="7991640" cy="332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000000"/>
                </a:solidFill>
                <a:latin typeface="Arial"/>
                <a:ea typeface="Arial"/>
              </a:rPr>
              <a:t>	</a:t>
            </a:r>
            <a:r>
              <a:rPr b="0" lang="ru-RU" sz="1800" spc="-1" strike="noStrike">
                <a:solidFill>
                  <a:srgbClr val="000000"/>
                </a:solidFill>
                <a:latin typeface="Arial"/>
                <a:ea typeface="Arial"/>
              </a:rPr>
              <a:t>      </a:t>
            </a:r>
            <a:r>
              <a:rPr b="1" i="1" lang="ru-RU" sz="1800" spc="-1" strike="noStrike" u="sng">
                <a:solidFill>
                  <a:srgbClr val="000000"/>
                </a:solidFill>
                <a:uFillTx/>
                <a:latin typeface="Times New Roman"/>
                <a:ea typeface="Times New Roman"/>
              </a:rPr>
              <a:t>Выполнила:</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Arial"/>
              </a:rPr>
              <a:t>                                                                 </a:t>
            </a:r>
            <a:r>
              <a:rPr b="1" i="1" lang="en-US" sz="1800" spc="-1" strike="noStrike">
                <a:solidFill>
                  <a:srgbClr val="000000"/>
                </a:solidFill>
                <a:latin typeface="Times New Roman"/>
                <a:ea typeface="Arial"/>
              </a:rPr>
              <a:t>    </a:t>
            </a:r>
            <a:r>
              <a:rPr b="1" i="1" lang="ru-RU" sz="1800" spc="-1" strike="noStrike">
                <a:solidFill>
                  <a:srgbClr val="000000"/>
                </a:solidFill>
                <a:latin typeface="Times New Roman"/>
                <a:ea typeface="Times New Roman"/>
              </a:rPr>
              <a:t>ученица10 «А»класса МБОУ г. Астрахани «СОШ № 57» </a:t>
            </a:r>
            <a:r>
              <a:rPr b="1" i="1" lang="ru-RU" sz="1800" spc="-1" strike="noStrike">
                <a:solidFill>
                  <a:srgbClr val="000000"/>
                </a:solidFill>
                <a:latin typeface="Times New Roman"/>
                <a:ea typeface="Arial"/>
              </a:rPr>
              <a:t> </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Arial"/>
              </a:rPr>
              <a:t>                                                                   </a:t>
            </a:r>
            <a:r>
              <a:rPr b="1" i="1" lang="ru-RU" sz="1800" spc="-1" strike="noStrike">
                <a:solidFill>
                  <a:srgbClr val="000000"/>
                </a:solidFill>
                <a:latin typeface="Times New Roman"/>
                <a:ea typeface="Arial"/>
              </a:rPr>
              <a:t>Иримиа Регина</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Arial"/>
              </a:rPr>
              <a:t>                                                                 </a:t>
            </a:r>
            <a:r>
              <a:rPr b="1" i="1" lang="ru-RU" sz="1800" spc="-1" strike="noStrike">
                <a:solidFill>
                  <a:srgbClr val="000000"/>
                </a:solidFill>
                <a:latin typeface="Times New Roman"/>
                <a:ea typeface="Arial"/>
              </a:rPr>
              <a:t>Классный руководитель:</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Arial"/>
              </a:rPr>
              <a:t>                                                       </a:t>
            </a:r>
            <a:r>
              <a:rPr b="1" i="1" lang="ru-RU" sz="1800" spc="-1" strike="noStrike">
                <a:solidFill>
                  <a:srgbClr val="000000"/>
                </a:solidFill>
                <a:latin typeface="Times New Roman"/>
                <a:ea typeface="Arial"/>
              </a:rPr>
              <a:t>Переяслова Наталья Владимировна</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Times New Roman"/>
              </a:rPr>
              <a:t> </a:t>
            </a:r>
            <a:r>
              <a:rPr b="1" i="1" lang="ru-RU" sz="1800" spc="-1" strike="noStrike">
                <a:solidFill>
                  <a:srgbClr val="000000"/>
                </a:solidFill>
                <a:latin typeface="Times New Roman"/>
                <a:ea typeface="Times New Roman"/>
              </a:rPr>
              <a:t>г. Астрахань</a:t>
            </a:r>
            <a:r>
              <a:rPr b="1" i="1" lang="ru-RU" sz="1800" spc="-1" strike="noStrike">
                <a:solidFill>
                  <a:srgbClr val="000000"/>
                </a:solidFill>
                <a:latin typeface="Times New Roman"/>
                <a:ea typeface="Arial"/>
              </a:rPr>
              <a:t> – 2012 г.</a:t>
            </a:r>
            <a:r>
              <a:rPr b="1" i="1" lang="ru-RU" sz="1200" spc="-1" strike="noStrike">
                <a:solidFill>
                  <a:srgbClr val="5d93ff"/>
                </a:solidFill>
                <a:latin typeface="Times New Roman"/>
                <a:ea typeface="Arial"/>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2000"/>
                                        <p:tgtEl>
                                          <p:spTgt spid="84"/>
                                        </p:tgtEl>
                                      </p:cBhvr>
                                    </p:animEffect>
                                    <p:anim calcmode="lin" valueType="num">
                                      <p:cBhvr additive="repl">
                                        <p:cTn id="8" dur="2000" fill="hold"/>
                                        <p:tgtEl>
                                          <p:spTgt spid="84"/>
                                        </p:tgtEl>
                                        <p:attrNameLst>
                                          <p:attrName>r</p:attrName>
                                        </p:attrNameLst>
                                      </p:cBhvr>
                                      <p:tavLst>
                                        <p:tav tm="0">
                                          <p:val>
                                            <p:strVal val="720"/>
                                          </p:val>
                                        </p:tav>
                                        <p:tav tm="100000">
                                          <p:val>
                                            <p:strVal val="0"/>
                                          </p:val>
                                        </p:tav>
                                      </p:tavLst>
                                    </p:anim>
                                    <p:anim calcmode="lin" valueType="num">
                                      <p:cBhvr additive="repl">
                                        <p:cTn id="9" dur="2000" fill="hold"/>
                                        <p:tgtEl>
                                          <p:spTgt spid="84"/>
                                        </p:tgtEl>
                                        <p:attrNameLst>
                                          <p:attrName>ppt_h</p:attrName>
                                        </p:attrNameLst>
                                      </p:cBhvr>
                                      <p:tavLst>
                                        <p:tav tm="0">
                                          <p:val>
                                            <p:fltVal val="0"/>
                                          </p:val>
                                        </p:tav>
                                        <p:tav tm="100000">
                                          <p:val>
                                            <p:strVal val="#ppt_h"/>
                                          </p:val>
                                        </p:tav>
                                      </p:tavLst>
                                    </p:anim>
                                    <p:anim calcmode="lin" valueType="num">
                                      <p:cBhvr additive="repl">
                                        <p:cTn id="10" dur="2000" fill="hold"/>
                                        <p:tgtEl>
                                          <p:spTgt spid="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04920"/>
            <a:ext cx="822960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История Пирсинга</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33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лово «пирсинг» произошло от английского pierce – прокалывать, просверливать. Строго говоря, под пирсингом понимается вдевание предметов в отверстия, сделанные с этой целью на лице или на теле.  Наиболее распространённый и безобидный вид пирсинга - это прокалывание мочек ушей. В последнее время стало модно вдевать серьги и в ушные раковины, брови, нос, пупок, губы, язык, а некоторые носят их на груди в районе соска и в районе гениталий.</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228600" y="152280"/>
            <a:ext cx="4648320" cy="647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i="1" lang="ru-RU" sz="2800" spc="-1" strike="noStrike">
                <a:solidFill>
                  <a:srgbClr val="000000"/>
                </a:solidFill>
                <a:latin typeface="Times New Roman"/>
              </a:rPr>
              <a:t>Искусство пирсинга  чрезвычайно древнее. В далёкие от нас времена эта процедура была больше распространена среди сильной половины человечества, так как часто говорила о принадлежности к племени или рангу,  и служила для демонстрации власти и мужественности. В настоящее время пирсинг выполняет украшающие, эротические и иные функци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Picture 3" descr="5"/>
          <p:cNvPicPr/>
          <p:nvPr/>
        </p:nvPicPr>
        <p:blipFill>
          <a:blip r:embed="rId1"/>
          <a:stretch/>
        </p:blipFill>
        <p:spPr>
          <a:xfrm>
            <a:off x="4857840" y="457200"/>
            <a:ext cx="4286160" cy="5629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Виды пирсинга.</a:t>
            </a:r>
            <a:endParaRPr b="0" lang="en-US" sz="4400" spc="-1" strike="noStrike">
              <a:solidFill>
                <a:srgbClr val="ffffff"/>
              </a:solidFill>
              <a:latin typeface="Tahoma"/>
            </a:endParaRPr>
          </a:p>
        </p:txBody>
      </p:sp>
      <p:sp>
        <p:nvSpPr>
          <p:cNvPr id="101"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Пирсинг бровей</a:t>
            </a:r>
            <a:r>
              <a:rPr b="1" lang="ru-RU" sz="2800" spc="-1" strike="noStrike">
                <a:solidFill>
                  <a:srgbClr val="000000"/>
                </a:solidFill>
                <a:latin typeface="Times New Roman"/>
              </a:rPr>
              <a:t>.</a:t>
            </a:r>
            <a:r>
              <a:rPr b="0" lang="ru-RU" sz="2800" spc="-1" strike="noStrike">
                <a:solidFill>
                  <a:srgbClr val="000000"/>
                </a:solidFill>
                <a:latin typeface="Times New Roman"/>
              </a:rPr>
              <a:t> </a:t>
            </a:r>
            <a:r>
              <a:rPr b="0" i="1" lang="ru-RU" sz="2800" spc="-1" strike="noStrike">
                <a:solidFill>
                  <a:srgbClr val="000000"/>
                </a:solidFill>
                <a:latin typeface="Times New Roman"/>
              </a:rPr>
              <a:t>Этот вид пирсинга заживает приблизительно за месяц. Однако это довольно болезненный процесс.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Пирсинг носа</a:t>
            </a:r>
            <a:r>
              <a:rPr b="1" lang="ru-RU" sz="2800" spc="-1" strike="noStrike">
                <a:solidFill>
                  <a:srgbClr val="000000"/>
                </a:solidFill>
                <a:latin typeface="Times New Roman"/>
              </a:rPr>
              <a:t>.</a:t>
            </a:r>
            <a:r>
              <a:rPr b="0" lang="ru-RU" sz="2800" spc="-1" strike="noStrike">
                <a:solidFill>
                  <a:srgbClr val="000000"/>
                </a:solidFill>
                <a:latin typeface="Times New Roman"/>
              </a:rPr>
              <a:t> </a:t>
            </a:r>
            <a:r>
              <a:rPr b="0" i="1" lang="ru-RU" sz="2800" spc="-1" strike="noStrike">
                <a:solidFill>
                  <a:srgbClr val="000000"/>
                </a:solidFill>
                <a:latin typeface="Times New Roman"/>
              </a:rPr>
              <a:t>Многих девушек, планирующих сделать пирсинг носа, волнует вопрос «возможно ли будет использовать косметику?». Важно помнить, что косметику на лице нужно использовать так, чтобы место прокола оставалось чистым. Именно поэтому пирсинг носа не для тех, кто не мыслит себя без косметики.</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Пирсинг губ</a:t>
            </a:r>
            <a:r>
              <a:rPr b="1" lang="ru-RU" sz="3200" spc="-1" strike="noStrike">
                <a:solidFill>
                  <a:srgbClr val="ffffff"/>
                </a:solidFill>
                <a:latin typeface="Times New Roman"/>
              </a:rPr>
              <a:t>. </a:t>
            </a:r>
            <a:r>
              <a:rPr b="0" i="1" lang="ru-RU" sz="2800" spc="-1" strike="noStrike">
                <a:solidFill>
                  <a:srgbClr val="000000"/>
                </a:solidFill>
                <a:latin typeface="Times New Roman"/>
              </a:rPr>
              <a:t>Он заживает приблизительно за один – два месяца, но в течение этого времени  могут возникнуть серьезные проблемы с приемом пищи и при разговоре. В период заживления при пирсинге губ желательно отказаться от всего горячего, холодного, пряного, сладкого, кислого, твердого и содержащего алкоголь. Кроме того, чувствуется  некоторое неудобство с дикцией в течение трех – четырех дней.</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Пирсинг уха. </a:t>
            </a:r>
            <a:r>
              <a:rPr b="0" i="1" lang="ru-RU" sz="2800" spc="-1" strike="noStrike">
                <a:solidFill>
                  <a:srgbClr val="000000"/>
                </a:solidFill>
                <a:latin typeface="Times New Roman"/>
              </a:rPr>
              <a:t>Его даже и не рассматривают часто как пирсинг.</a:t>
            </a:r>
            <a:r>
              <a:rPr b="0" lang="ru-RU" sz="3200" spc="-1" strike="noStrike">
                <a:solidFill>
                  <a:srgbClr val="ffffff"/>
                </a:solidFill>
                <a:latin typeface="Tahoma"/>
              </a:rPr>
              <a:t> </a:t>
            </a:r>
            <a:r>
              <a:rPr b="0" i="1" lang="ru-RU" sz="2800" spc="-1" strike="noStrike">
                <a:solidFill>
                  <a:srgbClr val="000000"/>
                </a:solidFill>
                <a:latin typeface="Times New Roman"/>
              </a:rPr>
              <a:t>Прокол для пирсинга уха заживает достаточно быстро, обычно одна – две недели. Но если проколоть ушной хрящ, то его заживление может длиться достаточно долго – до двух месяцев и более.</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808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Пирсинг пупка. </a:t>
            </a:r>
            <a:r>
              <a:rPr b="0" i="1" lang="ru-RU" sz="3200" spc="-1" strike="noStrike">
                <a:solidFill>
                  <a:srgbClr val="000000"/>
                </a:solidFill>
                <a:latin typeface="Times New Roman"/>
              </a:rPr>
              <a:t>Нужно хорошенько подумать, прежде чем его делать, ведь заживление длится около 4 – х месяцев. В это время противопоказаны различные физические нагрузки, особенно на мускулатуру живота.</a:t>
            </a:r>
            <a:r>
              <a:rPr b="0" lang="ru-RU" sz="3200" spc="-1" strike="noStrike">
                <a:solidFill>
                  <a:srgbClr val="000000"/>
                </a:solidFill>
                <a:latin typeface="Tahoma"/>
              </a:rPr>
              <a:t> </a:t>
            </a:r>
            <a:endParaRPr b="0" lang="en-US" sz="3200" spc="-1" strike="noStrike">
              <a:solidFill>
                <a:srgbClr val="ffffff"/>
              </a:solidFill>
              <a:latin typeface="Tahoma"/>
            </a:endParaRPr>
          </a:p>
        </p:txBody>
      </p:sp>
      <p:pic>
        <p:nvPicPr>
          <p:cNvPr id="104" name="Picture 3" descr=""/>
          <p:cNvPicPr/>
          <p:nvPr/>
        </p:nvPicPr>
        <p:blipFill>
          <a:blip r:embed="rId1"/>
          <a:stretch/>
        </p:blipFill>
        <p:spPr>
          <a:xfrm>
            <a:off x="5257800" y="3592440"/>
            <a:ext cx="3886200" cy="3265560"/>
          </a:xfrm>
          <a:prstGeom prst="rect">
            <a:avLst/>
          </a:prstGeom>
          <a:ln w="0">
            <a:noFill/>
          </a:ln>
        </p:spPr>
      </p:pic>
      <p:pic>
        <p:nvPicPr>
          <p:cNvPr id="105" name="Picture 4" descr="260309_pier"/>
          <p:cNvPicPr/>
          <p:nvPr/>
        </p:nvPicPr>
        <p:blipFill>
          <a:blip r:embed="rId2"/>
          <a:stretch/>
        </p:blipFill>
        <p:spPr>
          <a:xfrm>
            <a:off x="0" y="3581280"/>
            <a:ext cx="5257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28600"/>
            <a:ext cx="8077320" cy="1155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Опасность для здоровья.</a:t>
            </a:r>
            <a:endParaRPr b="0" lang="en-US" sz="4400" spc="-1" strike="noStrike">
              <a:solidFill>
                <a:srgbClr val="ffffff"/>
              </a:solidFill>
              <a:latin typeface="Tahoma"/>
            </a:endParaRPr>
          </a:p>
        </p:txBody>
      </p:sp>
      <p:sp>
        <p:nvSpPr>
          <p:cNvPr id="107" name="PlaceHolder 2"/>
          <p:cNvSpPr>
            <a:spLocks noGrp="1"/>
          </p:cNvSpPr>
          <p:nvPr>
            <p:ph/>
          </p:nvPr>
        </p:nvSpPr>
        <p:spPr>
          <a:xfrm>
            <a:off x="380880" y="1295280"/>
            <a:ext cx="8229600" cy="5562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0000"/>
                </a:solidFill>
                <a:latin typeface="Times New Roman"/>
              </a:rPr>
              <a:t>Есть ли опасность для здоровья в пирсинге? Многие специалисты сходятся во мнении, что пирсинг опасен, даже если он сделан в специальном салоне, так как пирсеры, как правило, не очень разбираются в анатомии человека и в медицине, кроме как, чем обработать поверхность после прокола. А ведь при неправильном проколе можно повредить крупные  кровеносные сосуды и вызвать сильное кровотечение, а задев нерв – причинить непоправимый вред здоровью человека. При пирсинге бровей могут быть задеты нервные сплетения и частично парализованы мышцы лица.</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80880" y="304560"/>
            <a:ext cx="822960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Аллергическое воспаление ранки - самая распространенная проблема, с которой сталкиваются те, кто решился на пирсинг. Причина проста – абсолютно все серьги содержат никель.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Даже небольшой примеси никеля достаточно, чтобы вызвать аллергию – кожное раздражение на мочках ушей. Если на него ещё подействует инфекция, то может возникнуть настоящее нагноение – с мокнущими ранами и корочками.</a:t>
            </a:r>
            <a:endParaRPr b="0" lang="en-US" sz="2800" spc="-1" strike="noStrike">
              <a:solidFill>
                <a:srgbClr val="ffffff"/>
              </a:solidFill>
              <a:latin typeface="Tahoma"/>
            </a:endParaRPr>
          </a:p>
        </p:txBody>
      </p:sp>
      <p:sp>
        <p:nvSpPr>
          <p:cNvPr id="109" name="Rectangle 3"/>
          <p:cNvSpPr/>
          <p:nvPr/>
        </p:nvSpPr>
        <p:spPr>
          <a:xfrm>
            <a:off x="304920" y="5120280"/>
            <a:ext cx="80010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Если бесконтрольно прокалывать ушную раковину      </a:t>
            </a:r>
            <a:r>
              <a:rPr b="0" i="1" lang="ru-RU" sz="2800" spc="-1" strike="noStrike">
                <a:solidFill>
                  <a:srgbClr val="000000"/>
                </a:solidFill>
                <a:latin typeface="Times New Roman"/>
              </a:rPr>
              <a:t>	</a:t>
            </a:r>
            <a:r>
              <a:rPr b="0" i="1" lang="ru-RU" sz="2800" spc="-1" strike="noStrike">
                <a:solidFill>
                  <a:srgbClr val="000000"/>
                </a:solidFill>
                <a:latin typeface="Times New Roman"/>
              </a:rPr>
              <a:t>в ее верхней части, может ухудшиться слух.</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Если проколот пупок, очень важно знать толщину украшения. Если она выбрана неверно, ранка будет затягиваться очень долго. Другое  нежелательное последствие для женщин при пирсинге сосков – повреждение молочных протоков.</a:t>
            </a:r>
            <a:endParaRPr b="0" lang="en-US" sz="28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о мнению врачей, прокалывать хрящ в носу или в ухе опаснее, чем делать отверстие в мочке уха. Хирурги говорят, что при проделывании отверстий в верхней части уха можно занести инфекцию и полностью потерять чувствительность уха. Опасны также и заклёпки в носу, так как инфекция может  затронуть местные кровеносные сосуды и распространиться на мозг.</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амая серьёзная опасность – инфекция, которая может проникнуть в наш организм из-за нестерильных инструментов. Могут передаться такие смертельные болезни, как гепатит, СПИД, туберкулёз и столбня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0"/>
            <a:ext cx="8153280" cy="6324480"/>
          </a:xfrm>
          <a:prstGeom prst="rect">
            <a:avLst/>
          </a:prstGeom>
          <a:noFill/>
          <a:ln w="0">
            <a:noFill/>
          </a:ln>
        </p:spPr>
        <p:txBody>
          <a:bodyPr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ротивопоказания к пирсингу.</a:t>
            </a: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обострение какого-либо хронического заболевания (гастрит, язва желудка, панкреатит, гломерулонефрит, колит, отит, гайморит)</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аличие системных (красная волчанка, системная склеродермия и др.) и кожных заболеваний (псориаз и т.п.)</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овышение температуры</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лохая свёртываемость крови</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гепатиты В и С </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ахарный диабет</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аллергическая реакция на препараты лидокаиновой  группы (при проколе с анестезией) или на металлы</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эпилепсия и психические расстройства</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черепно-мозговые травмы</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Беременность</a:t>
            </a:r>
            <a:endParaRPr b="0" lang="en-US" sz="1800" spc="-1" strike="noStrike">
              <a:solidFill>
                <a:srgbClr val="ffffff"/>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nSpc>
                <a:spcPct val="80000"/>
              </a:lnSpc>
              <a:spcBef>
                <a:spcPts val="45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редрасположенность к келоидным рубцам</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i="1" lang="ru-RU" sz="3200" spc="-1" strike="noStrike">
                <a:solidFill>
                  <a:srgbClr val="000000"/>
                </a:solidFill>
                <a:latin typeface="Times New Roman"/>
              </a:rPr>
              <a:t>	</a:t>
            </a:r>
            <a:r>
              <a:rPr b="0" i="1" lang="ru-RU" sz="3200" spc="-1" strike="noStrike">
                <a:solidFill>
                  <a:srgbClr val="000000"/>
                </a:solidFill>
                <a:latin typeface="Times New Roman"/>
              </a:rPr>
              <a:t>Мне физически больно видеть женщину, которая своими руками превратила себя в жертву моды, лишила себя индивидуальности и выглядит смешно и странно.</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Ив Сен Лоран</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Татуировка.</a:t>
            </a:r>
            <a:endParaRPr b="0" lang="en-US" sz="4400" spc="-1" strike="noStrike">
              <a:solidFill>
                <a:srgbClr val="ffffff"/>
              </a:solidFill>
              <a:latin typeface="Tahoma"/>
            </a:endParaRPr>
          </a:p>
        </p:txBody>
      </p:sp>
      <p:pic>
        <p:nvPicPr>
          <p:cNvPr id="114" name="Picture 7" descr="1969-5"/>
          <p:cNvPicPr/>
          <p:nvPr/>
        </p:nvPicPr>
        <p:blipFill>
          <a:blip r:embed="rId1"/>
          <a:stretch/>
        </p:blipFill>
        <p:spPr>
          <a:xfrm>
            <a:off x="838080" y="1295280"/>
            <a:ext cx="3721320" cy="5334120"/>
          </a:xfrm>
          <a:prstGeom prst="rect">
            <a:avLst/>
          </a:prstGeom>
          <a:ln w="0">
            <a:noFill/>
          </a:ln>
        </p:spPr>
      </p:pic>
      <p:pic>
        <p:nvPicPr>
          <p:cNvPr id="115" name="Picture 9" descr="1198226127_tattoo_007"/>
          <p:cNvPicPr/>
          <p:nvPr/>
        </p:nvPicPr>
        <p:blipFill>
          <a:blip r:embed="rId2"/>
          <a:stretch/>
        </p:blipFill>
        <p:spPr>
          <a:xfrm>
            <a:off x="4572000" y="129528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Для меня татуировки — это все мгновения моей жизни. Однажды в Шотландии я отправилась в салон тату посреди ночи. И не жалею об этом. Есть мгновения, о которых хочется не забыть.</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Анджелина Джол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04920"/>
            <a:ext cx="8229600" cy="3657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В наши дни под татуировкой (в дальнейшем тату) понимают неглубокое введение в кожный покров посредством колюще-режущих инструментов красящих веществ, чтобы получить долго не исчезающее и устойчивое изображение, узор или рисунок.</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118" name="Picture 5" descr="front1"/>
          <p:cNvPicPr/>
          <p:nvPr/>
        </p:nvPicPr>
        <p:blipFill>
          <a:blip r:embed="rId1"/>
          <a:stretch/>
        </p:blipFill>
        <p:spPr>
          <a:xfrm>
            <a:off x="4343400" y="344016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История татуировки.</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В буквальном переводе с английского языка «tattoo»- «несмываемое слово». Изучающие тату сходятся во мнении, что сам термин «татуировка» ввел в обиход знаменитый путешественник капитан Джеймс Кук после своих вояжей в жаркие края Океании и Полинезии. «Тату» на диалекте островитян означало «рисовать». У явайцев «тату» - «рана».</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онятно, что в разных регионах Земли тату приобретала особые черты. Например, у народов, населяющих северо-восток Сибири и Аляску (чукчи, ханты, эскимосы, ненцы),культивировались изображения тотемных животных-покровителей племени - Медведя, Кита, Оленя. У скифских вождей и принцесс обнаружились рисунки лошадей, баранов, мифических существ. Татуировкой покрывались тела, руки, ноги, лицо, половые органы. Это делалось как для обозначения принадлежности к тому или иному роду-племени, так и для устрашения противника в бою. Например, у древних славян воины наносили себе лицевую татуировк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60" y="0"/>
            <a:ext cx="66294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У наших предков был весьма популярен травный, растительный орнамент, передающий сочное живое ощущение растения, наполненного соками, могучей жизненной силой. Его образцы, в отличие от не столь долго живущих татуировок, исчезающих вместе с их владельцами(если не применялась специальная обработка или специфические условия хранения),сохранились на художественных изделиях резьбы по кости, например, ларцов и тарелок, датируемых XVIII вв. из собрания Музея этнографии народов СССР. </a:t>
            </a:r>
            <a:endParaRPr b="0" lang="en-US" sz="2800" spc="-1" strike="noStrike">
              <a:solidFill>
                <a:srgbClr val="ffffff"/>
              </a:solidFill>
              <a:latin typeface="Tahoma"/>
            </a:endParaRPr>
          </a:p>
        </p:txBody>
      </p:sp>
      <p:pic>
        <p:nvPicPr>
          <p:cNvPr id="123" name="Picture 5" descr="slavyan_tattoos_2_010"/>
          <p:cNvPicPr/>
          <p:nvPr/>
        </p:nvPicPr>
        <p:blipFill>
          <a:blip r:embed="rId1"/>
          <a:stretch/>
        </p:blipFill>
        <p:spPr>
          <a:xfrm>
            <a:off x="7010280" y="3733920"/>
            <a:ext cx="2133720" cy="3124080"/>
          </a:xfrm>
          <a:prstGeom prst="rect">
            <a:avLst/>
          </a:prstGeom>
          <a:ln w="0">
            <a:noFill/>
          </a:ln>
        </p:spPr>
      </p:pic>
      <p:pic>
        <p:nvPicPr>
          <p:cNvPr id="124" name="Picture 7" descr="slavyan_tattoos_2_024"/>
          <p:cNvPicPr/>
          <p:nvPr/>
        </p:nvPicPr>
        <p:blipFill>
          <a:blip r:embed="rId2"/>
          <a:stretch/>
        </p:blipFill>
        <p:spPr>
          <a:xfrm>
            <a:off x="7010280" y="0"/>
            <a:ext cx="2133720" cy="1981080"/>
          </a:xfrm>
          <a:prstGeom prst="rect">
            <a:avLst/>
          </a:prstGeom>
          <a:ln w="0">
            <a:noFill/>
          </a:ln>
        </p:spPr>
      </p:pic>
      <p:pic>
        <p:nvPicPr>
          <p:cNvPr id="125" name="Picture 8" descr="slavyan_tattoos_2_06"/>
          <p:cNvPicPr/>
          <p:nvPr/>
        </p:nvPicPr>
        <p:blipFill>
          <a:blip r:embed="rId3"/>
          <a:stretch/>
        </p:blipFill>
        <p:spPr>
          <a:xfrm>
            <a:off x="7010280" y="19810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28600" y="2057400"/>
            <a:ext cx="6781680" cy="647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Но так как бывать морякам приходилось в разных странах и континентах, то иногда среди общей массы стандартных тем тату могли попадатьсяи настоящие шедевры, напоминающие их обладателям о пережитых приключениях. Например, руку одного вполне могли украшать родоплеменные знаки таитянских островитян. Ногу другого - обвить восточные драконы. Торс третьего - покрыть загадочные символы индейских племен. Естественно, что, возвратившись при удачном раскладе, домой, моряки просто не могли не стать объектом повышенного интереса как среди дам, так и не бывавших в море мужчин. </a:t>
            </a:r>
            <a:endParaRPr b="0" lang="en-US" sz="2400" spc="-1" strike="noStrike">
              <a:solidFill>
                <a:srgbClr val="ffffff"/>
              </a:solidFill>
              <a:latin typeface="Tahoma"/>
            </a:endParaRPr>
          </a:p>
        </p:txBody>
      </p:sp>
      <p:pic>
        <p:nvPicPr>
          <p:cNvPr id="127" name="Picture 5" descr="dragon19"/>
          <p:cNvPicPr/>
          <p:nvPr/>
        </p:nvPicPr>
        <p:blipFill>
          <a:blip r:embed="rId1"/>
          <a:stretch/>
        </p:blipFill>
        <p:spPr>
          <a:xfrm>
            <a:off x="6477120" y="2076480"/>
            <a:ext cx="2666880" cy="4781520"/>
          </a:xfrm>
          <a:prstGeom prst="rect">
            <a:avLst/>
          </a:prstGeom>
          <a:ln w="0">
            <a:noFill/>
          </a:ln>
        </p:spPr>
      </p:pic>
      <p:sp>
        <p:nvSpPr>
          <p:cNvPr id="128" name="Rectangle 6"/>
          <p:cNvSpPr/>
          <p:nvPr/>
        </p:nvSpPr>
        <p:spPr>
          <a:xfrm>
            <a:off x="228600" y="0"/>
            <a:ext cx="8915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е стоит думать, что наносимые в те времена изображения являлись верхом красоты и изящества. Совсем нет. В ходу были простейшие рисунки и сюжеты. Например, черепаха могла означать, что ее носитель пересек экватор, якорь - что молодцу покорилась Атлантик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Нанесение татуировок</a:t>
            </a:r>
            <a:endParaRPr b="0" lang="en-US" sz="3200" spc="-1" strike="noStrike">
              <a:solidFill>
                <a:srgbClr val="ffffff"/>
              </a:solidFill>
              <a:latin typeface="Tahoma"/>
            </a:endParaRPr>
          </a:p>
        </p:txBody>
      </p:sp>
      <p:sp>
        <p:nvSpPr>
          <p:cNvPr id="130"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000000"/>
                </a:solidFill>
                <a:latin typeface="Times New Roman"/>
              </a:rPr>
              <a:t>Современные тату-мастера используют электрические машинки, в которых применяется стерильная игла, крепящаяся к баллончику с краской. Игла быстро движется вверх-вниз, проникая под кожу примерно на 3 мм (так как верхний слой кожи эпидермис постоянно меняется в течение жизни, значит, краска там не задержится).</a:t>
            </a:r>
            <a:endParaRPr b="0" lang="en-US" sz="2800" spc="-1" strike="noStrike">
              <a:solidFill>
                <a:srgbClr val="ffffff"/>
              </a:solidFill>
              <a:latin typeface="Tahoma"/>
            </a:endParaRPr>
          </a:p>
        </p:txBody>
      </p:sp>
      <p:pic>
        <p:nvPicPr>
          <p:cNvPr id="131" name="Picture 5" descr="212_0"/>
          <p:cNvPicPr/>
          <p:nvPr/>
        </p:nvPicPr>
        <p:blipFill>
          <a:blip r:embed="rId1"/>
          <a:stretch/>
        </p:blipFill>
        <p:spPr>
          <a:xfrm>
            <a:off x="6172200" y="4267080"/>
            <a:ext cx="2971800" cy="2590920"/>
          </a:xfrm>
          <a:prstGeom prst="rect">
            <a:avLst/>
          </a:prstGeom>
          <a:ln w="0">
            <a:noFill/>
          </a:ln>
        </p:spPr>
      </p:pic>
      <p:pic>
        <p:nvPicPr>
          <p:cNvPr id="132" name="Picture 7" descr="1226336703_tattoo-015"/>
          <p:cNvPicPr/>
          <p:nvPr/>
        </p:nvPicPr>
        <p:blipFill>
          <a:blip r:embed="rId2"/>
          <a:stretch/>
        </p:blipFill>
        <p:spPr>
          <a:xfrm>
            <a:off x="533520" y="4495680"/>
            <a:ext cx="2685960" cy="2210040"/>
          </a:xfrm>
          <a:prstGeom prst="rect">
            <a:avLst/>
          </a:prstGeom>
          <a:ln w="0">
            <a:noFill/>
          </a:ln>
        </p:spPr>
      </p:pic>
      <p:pic>
        <p:nvPicPr>
          <p:cNvPr id="133" name="Picture 8" descr="1102010__45350"/>
          <p:cNvPicPr/>
          <p:nvPr/>
        </p:nvPicPr>
        <p:blipFill>
          <a:blip r:embed="rId3"/>
          <a:stretch/>
        </p:blipFill>
        <p:spPr>
          <a:xfrm>
            <a:off x="3352680" y="4267080"/>
            <a:ext cx="28958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0" y="-360"/>
            <a:ext cx="4114800" cy="7162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i="1" lang="ru-RU" sz="2400" spc="-1" strike="noStrike">
                <a:solidFill>
                  <a:srgbClr val="000000"/>
                </a:solidFill>
                <a:latin typeface="Times New Roman"/>
              </a:rPr>
              <a:t>Начинается собственно процесс нанесения татуировки. Мастера тату отдают предпочтение тем аппаратам, которые работают от электросети. Рисунок получается четким и однородно прокрашенным. Такие машины сводят к минимуму повреждения кровеносных сосудов и болезненных ощущений клиенту они доставляют гораздо меньше, чем другие аппараты. Какие жалобы могут возникнуть у клиента? Разве что на легкое покалывание в области нанесения рисунка.</a:t>
            </a:r>
            <a:endParaRPr b="0" lang="en-US" sz="24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endParaRPr b="0" lang="en-US" sz="2000" spc="-1" strike="noStrike">
              <a:solidFill>
                <a:srgbClr val="ffffff"/>
              </a:solidFill>
              <a:latin typeface="Tahoma"/>
            </a:endParaRPr>
          </a:p>
        </p:txBody>
      </p:sp>
      <p:pic>
        <p:nvPicPr>
          <p:cNvPr id="135" name="Picture 5" descr="2"/>
          <p:cNvPicPr/>
          <p:nvPr/>
        </p:nvPicPr>
        <p:blipFill>
          <a:blip r:embed="rId1"/>
          <a:stretch/>
        </p:blipFill>
        <p:spPr>
          <a:xfrm>
            <a:off x="304920" y="1295280"/>
            <a:ext cx="4381560" cy="335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09480" y="0"/>
            <a:ext cx="82296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начала набивают контуры. Потом делают заливку и тени. При татуировке краска вносится с помощью игл в верхний слой кожи эпидермис на небольшую глубину. После заживления проколов краска остается в коже.</a:t>
            </a:r>
            <a:endParaRPr b="0" lang="en-US" sz="2800" spc="-1" strike="noStrike">
              <a:solidFill>
                <a:srgbClr val="ffffff"/>
              </a:solidFill>
              <a:latin typeface="Tahoma"/>
            </a:endParaRPr>
          </a:p>
        </p:txBody>
      </p:sp>
      <p:pic>
        <p:nvPicPr>
          <p:cNvPr id="137" name="Picture 9" descr="stef11"/>
          <p:cNvPicPr/>
          <p:nvPr/>
        </p:nvPicPr>
        <p:blipFill>
          <a:blip r:embed="rId1"/>
          <a:stretch/>
        </p:blipFill>
        <p:spPr>
          <a:xfrm>
            <a:off x="609480" y="2438280"/>
            <a:ext cx="4343400" cy="3627720"/>
          </a:xfrm>
          <a:prstGeom prst="rect">
            <a:avLst/>
          </a:prstGeom>
          <a:ln w="0">
            <a:noFill/>
          </a:ln>
        </p:spPr>
      </p:pic>
      <p:pic>
        <p:nvPicPr>
          <p:cNvPr id="138" name="Picture 11" descr="085103_3"/>
          <p:cNvPicPr/>
          <p:nvPr/>
        </p:nvPicPr>
        <p:blipFill>
          <a:blip r:embed="rId2"/>
          <a:stretch/>
        </p:blipFill>
        <p:spPr>
          <a:xfrm>
            <a:off x="4952880" y="2514600"/>
            <a:ext cx="4191120" cy="35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ahoma"/>
              </a:rPr>
              <a:t>Введение</a:t>
            </a:r>
            <a:endParaRPr b="0" lang="en-US" sz="4400" spc="-1" strike="noStrike">
              <a:solidFill>
                <a:srgbClr val="ffffff"/>
              </a:solidFill>
              <a:latin typeface="Tahoma"/>
            </a:endParaRPr>
          </a:p>
        </p:txBody>
      </p:sp>
      <p:sp>
        <p:nvSpPr>
          <p:cNvPr id="87" name="PlaceHolder 2"/>
          <p:cNvSpPr>
            <a:spLocks noGrp="1"/>
          </p:cNvSpPr>
          <p:nvPr>
            <p:ph/>
          </p:nvPr>
        </p:nvSpPr>
        <p:spPr>
          <a:xfrm>
            <a:off x="457200" y="1447920"/>
            <a:ext cx="82296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	</a:t>
            </a:r>
            <a:r>
              <a:rPr b="1" i="1" lang="ru-RU" sz="3200" spc="-1" strike="noStrike">
                <a:solidFill>
                  <a:srgbClr val="000000"/>
                </a:solidFill>
                <a:latin typeface="Times New Roman"/>
              </a:rPr>
              <a:t>Теоретическое изучение влияний модных атрибутов на здоровье человека</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Что такое татуировка</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История татуировки</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Медицинские аспекты в процедуре нанесения татуировки</a:t>
            </a:r>
            <a:r>
              <a:rPr b="1" lang="ru-RU" sz="3200" spc="-1" strike="noStrike">
                <a:solidFill>
                  <a:srgbClr val="ffffff"/>
                </a:solidFill>
                <a:latin typeface="Tahoma"/>
              </a:rPr>
              <a:t> </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Реакция кожи</a:t>
            </a:r>
            <a:endParaRPr b="0" lang="en-US" sz="3200" spc="-1" strike="noStrike">
              <a:solidFill>
                <a:srgbClr val="ffffff"/>
              </a:solidFill>
              <a:latin typeface="Tahoma"/>
            </a:endParaRPr>
          </a:p>
          <a:p>
            <a:pPr marL="609480" indent="-609480">
              <a:lnSpc>
                <a:spcPct val="100000"/>
              </a:lnSpc>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Противопоказания к татуировкам</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28600" y="228240"/>
            <a:ext cx="4038480" cy="624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Не стремитесь сделать татуировку всю сразу. Настройтесь на длительный и болезненный процесс нанесения татуировки. Обычно требуется несколько сеансов. На первом делаются контуры. На втором – закраска основным цветом. На третьем – раскрашивание, наложение теней и окончательная доводка. После полного заживления желательно снова показаться мастеру, для исправления возможных выпадений краски. Самое главное – отсутствие спешки и желания закончить побыстрее. Если вы устали, скажите об этом мастеру, возможно нужен перерыв или завершение сеанса. Вообще, обо всех своих ощущениях сообщайте мастер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0" name="Picture 5" descr="20_01_00"/>
          <p:cNvPicPr/>
          <p:nvPr/>
        </p:nvPicPr>
        <p:blipFill>
          <a:blip r:embed="rId1"/>
          <a:stretch/>
        </p:blipFill>
        <p:spPr>
          <a:xfrm>
            <a:off x="4419720" y="838080"/>
            <a:ext cx="4724280" cy="3988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60" y="0"/>
            <a:ext cx="518148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0000"/>
                </a:solidFill>
                <a:latin typeface="Times New Roman"/>
              </a:rPr>
              <a:t>Некоторые татуировщики сначала рисуют контуры рисунка на коже, а затем уже вводят краску. Процедура нанесения татуировки - достаточно болезненная, хотя боль зависит от степени чувствительности. Некоторые люди даже получают удовольствие от проколов, в то время как другие падают в обморок от одного только вида крови. </a:t>
            </a:r>
            <a:endParaRPr b="0" lang="en-US" sz="2800" spc="-1" strike="noStrike">
              <a:solidFill>
                <a:srgbClr val="ffffff"/>
              </a:solidFill>
              <a:latin typeface="Tahoma"/>
            </a:endParaRPr>
          </a:p>
        </p:txBody>
      </p:sp>
      <p:pic>
        <p:nvPicPr>
          <p:cNvPr id="142" name="Picture 5" descr="79196697"/>
          <p:cNvPicPr/>
          <p:nvPr/>
        </p:nvPicPr>
        <p:blipFill>
          <a:blip r:embed="rId1"/>
          <a:stretch/>
        </p:blipFill>
        <p:spPr>
          <a:xfrm>
            <a:off x="5029200" y="0"/>
            <a:ext cx="4114800" cy="2819520"/>
          </a:xfrm>
          <a:prstGeom prst="rect">
            <a:avLst/>
          </a:prstGeom>
          <a:ln w="0">
            <a:noFill/>
          </a:ln>
        </p:spPr>
      </p:pic>
      <p:pic>
        <p:nvPicPr>
          <p:cNvPr id="143" name="Picture 7" descr="tatu_odessa"/>
          <p:cNvPicPr/>
          <p:nvPr/>
        </p:nvPicPr>
        <p:blipFill>
          <a:blip r:embed="rId2"/>
          <a:stretch/>
        </p:blipFill>
        <p:spPr>
          <a:xfrm>
            <a:off x="5029200" y="2819520"/>
            <a:ext cx="4114800" cy="287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Реакция кожи.</a:t>
            </a:r>
            <a:endParaRPr b="0" lang="en-US" sz="4400" spc="-1" strike="noStrike">
              <a:solidFill>
                <a:srgbClr val="ffffff"/>
              </a:solidFill>
              <a:latin typeface="Tahoma"/>
            </a:endParaRPr>
          </a:p>
        </p:txBody>
      </p:sp>
      <p:sp>
        <p:nvSpPr>
          <p:cNvPr id="145" name="PlaceHolder 2"/>
          <p:cNvSpPr>
            <a:spLocks noGrp="1"/>
          </p:cNvSpPr>
          <p:nvPr>
            <p:ph/>
          </p:nvPr>
        </p:nvSpPr>
        <p:spPr>
          <a:xfrm>
            <a:off x="456840" y="1066680"/>
            <a:ext cx="487692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i="1" lang="ru-RU" sz="2000" spc="-1" strike="noStrike">
                <a:solidFill>
                  <a:srgbClr val="000000"/>
                </a:solidFill>
                <a:latin typeface="Times New Roman"/>
              </a:rPr>
              <a:t>Повреждение эпидермиса, соединительнотканных волокон, а также клеток кожи и сосудов. Результат - точечные кровоизлияни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В зоне повреждения развивается асептическое воспаление, сопровождающееся расширением капилляров и переполнением их кровью. При этом стенки капилляров истончаются, становятся проницаемыми, в результате чего плазма и клетки крови (лейкоциты и эритроциты) начинают проникать в окружающие ткани. Визуально данный процесс оценивается как появление отека и покраснения на поврежденном участке кожи, сопровождающееся местным повышением температуры.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146" name="Picture 5" descr="vulg_psoriaz"/>
          <p:cNvPicPr/>
          <p:nvPr/>
        </p:nvPicPr>
        <p:blipFill>
          <a:blip r:embed="rId1"/>
          <a:stretch/>
        </p:blipFill>
        <p:spPr>
          <a:xfrm>
            <a:off x="6172200" y="1447920"/>
            <a:ext cx="2971800" cy="2058840"/>
          </a:xfrm>
          <a:prstGeom prst="rect">
            <a:avLst/>
          </a:prstGeom>
          <a:ln w="0">
            <a:noFill/>
          </a:ln>
        </p:spPr>
      </p:pic>
      <p:pic>
        <p:nvPicPr>
          <p:cNvPr id="147" name="Picture 6" descr="229"/>
          <p:cNvPicPr/>
          <p:nvPr/>
        </p:nvPicPr>
        <p:blipFill>
          <a:blip r:embed="rId2"/>
          <a:stretch/>
        </p:blipFill>
        <p:spPr>
          <a:xfrm>
            <a:off x="6172200" y="3505320"/>
            <a:ext cx="2971800" cy="234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228600"/>
            <a:ext cx="8229600" cy="6019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Иммунные системы организм вступают в борьбу с воспалением: вокруг поврежденного участка скапливаются клетки-макрофаги, которые начинают поглощать разрушенные волокна и утратившие жизнеспособность клетки. Их задача — уничтожить вокруг очага воспаления все, что мешает процессам нормальной жизнедеятельности тканей. Однако следует учитывать, что частицы красящего состава тоже воспринимаются макрофагами как инородные тела, и клетки-защитники пытаются удалить и их. «Съеденный» пигмент попадает внутрь макрофага, но не уничтожается им, а накапливается в клеточной цитоплазме, в этом случае говорят о незавершенном фагоцитозе. В результате подобной реакции организма макрофаги погибают, а пигменты татуировки остаются в кож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Медицинские проблемы, возникающие при </a:t>
            </a:r>
            <a:r>
              <a:rPr b="1" i="1" lang="ru-RU" sz="2800" spc="-1" strike="noStrike">
                <a:solidFill>
                  <a:srgbClr val="000000"/>
                </a:solidFill>
                <a:latin typeface="Times New Roman"/>
              </a:rPr>
              <a:t>	</a:t>
            </a:r>
            <a:r>
              <a:rPr b="1" i="1" lang="ru-RU" sz="2800" spc="-1" strike="noStrike">
                <a:solidFill>
                  <a:srgbClr val="000000"/>
                </a:solidFill>
                <a:latin typeface="Times New Roman"/>
              </a:rPr>
              <a:t>	</a:t>
            </a:r>
            <a:r>
              <a:rPr b="1" i="1" lang="ru-RU" sz="2800" spc="-1" strike="noStrike">
                <a:solidFill>
                  <a:srgbClr val="000000"/>
                </a:solidFill>
                <a:latin typeface="Times New Roman"/>
              </a:rPr>
              <a:t>	</a:t>
            </a:r>
            <a:r>
              <a:rPr b="1" i="1" lang="ru-RU" sz="2800" spc="-1" strike="noStrike">
                <a:solidFill>
                  <a:srgbClr val="000000"/>
                </a:solidFill>
                <a:latin typeface="Times New Roman"/>
              </a:rPr>
              <a:t>	</a:t>
            </a:r>
            <a:r>
              <a:rPr b="1" i="1" lang="ru-RU" sz="2800" spc="-1" strike="noStrike">
                <a:solidFill>
                  <a:srgbClr val="000000"/>
                </a:solidFill>
                <a:latin typeface="Times New Roman"/>
              </a:rPr>
              <a:t>татуировках</a:t>
            </a:r>
            <a:endParaRPr b="0" lang="en-US" sz="28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Инфекция. Занести инфекцию можно, если недостаточно аккуратно обращаться с татуировкой сразу после ее нанесения. При малейшем подозрении необходимо обратиться к врачу.</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Аллергия. Бывает, что пигменты, входящие в состав краски, вызывают аллергическую реакцию.</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Гранулёма. Гранулёма - это воспаление, имеющее вид плотного узелка. Если вокруг татуировки образуются плотные подкожные узелки, скорее всего это гранулёма. За исключением запущенных случаев, это лечится и встречается крайне редк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28600" y="380880"/>
            <a:ext cx="5029200" cy="6096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В зоне повреждения развивается асептическое воспаление, сопровождающееся расширением капилляров и переполнением их кровью. При этом стенки капилляров истончаются, становятся проницаемыми, в результате чего плазма и клетки крови (лейкоциты и эритроциты) начинают проникать в окружающие ткани. Визуально данный процесс оценивается как появление отека и покраснения на поврежденном участке кожи, сопровождающееся местным повышением температуры.</a:t>
            </a:r>
            <a:endParaRPr b="0" lang="en-US" sz="2400" spc="-1" strike="noStrike">
              <a:solidFill>
                <a:srgbClr val="ffffff"/>
              </a:solidFill>
              <a:latin typeface="Tahoma"/>
            </a:endParaRPr>
          </a:p>
        </p:txBody>
      </p:sp>
      <p:pic>
        <p:nvPicPr>
          <p:cNvPr id="151" name="Picture 5" descr="syph12"/>
          <p:cNvPicPr/>
          <p:nvPr/>
        </p:nvPicPr>
        <p:blipFill>
          <a:blip r:embed="rId1"/>
          <a:stretch/>
        </p:blipFill>
        <p:spPr>
          <a:xfrm>
            <a:off x="5638680" y="0"/>
            <a:ext cx="3505320" cy="3581280"/>
          </a:xfrm>
          <a:prstGeom prst="rect">
            <a:avLst/>
          </a:prstGeom>
          <a:ln w="0">
            <a:noFill/>
          </a:ln>
        </p:spPr>
      </p:pic>
      <p:pic>
        <p:nvPicPr>
          <p:cNvPr id="152" name="Picture 6" descr="gunpowder_tattoo_3_101003"/>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92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imes New Roman"/>
              </a:rPr>
              <a:t>Противопоказания</a:t>
            </a:r>
            <a:endParaRPr b="0" lang="en-US" sz="4400" spc="-1" strike="noStrike">
              <a:solidFill>
                <a:srgbClr val="ffffff"/>
              </a:solidFill>
              <a:latin typeface="Tahoma"/>
            </a:endParaRPr>
          </a:p>
        </p:txBody>
      </p:sp>
      <p:sp>
        <p:nvSpPr>
          <p:cNvPr id="154" name="PlaceHolder 2"/>
          <p:cNvSpPr>
            <a:spLocks noGrp="1"/>
          </p:cNvSpPr>
          <p:nvPr>
            <p:ph/>
          </p:nvPr>
        </p:nvSpPr>
        <p:spPr>
          <a:xfrm>
            <a:off x="457200" y="914400"/>
            <a:ext cx="8229600" cy="4648320"/>
          </a:xfrm>
          <a:prstGeom prst="rect">
            <a:avLst/>
          </a:prstGeom>
          <a:noFill/>
          <a:ln w="0">
            <a:noFill/>
          </a:ln>
        </p:spPr>
        <p:txBody>
          <a:bodyPr anchor="t">
            <a:normAutofit/>
          </a:bodyPr>
          <a:p>
            <a:pPr marL="343080" indent="-343080" algn="ctr">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000000"/>
                </a:solidFill>
                <a:latin typeface="Times New Roman"/>
              </a:rPr>
              <a:t>При склонности кожи к келоидным рубцам (плотное разрастание соединительной ткани кожи).</a:t>
            </a:r>
            <a:r>
              <a:rPr b="0" lang="ru-RU" sz="2400" spc="-1" strike="noStrike">
                <a:solidFill>
                  <a:srgbClr val="000000"/>
                </a:solidFill>
                <a:latin typeface="Times New Roman"/>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Не рекомендуется наносить татуировки людям, страдающим заболеваниями иммунной системы (СПИД, туберкулез), диабетом, кожными и сердечными заболеваниями.</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о время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	</a:t>
            </a:r>
            <a:endParaRPr b="0" lang="en-US" sz="2400" spc="-1" strike="noStrike">
              <a:solidFill>
                <a:srgbClr val="ffffff"/>
              </a:solidFill>
              <a:latin typeface="Tahoma"/>
            </a:endParaRPr>
          </a:p>
        </p:txBody>
      </p:sp>
      <p:pic>
        <p:nvPicPr>
          <p:cNvPr id="155" name="Picture 6" descr="1174048786_pregnant_woman_3"/>
          <p:cNvPicPr/>
          <p:nvPr/>
        </p:nvPicPr>
        <p:blipFill>
          <a:blip r:embed="rId1"/>
          <a:stretch/>
        </p:blipFill>
        <p:spPr>
          <a:xfrm>
            <a:off x="4648320" y="3276720"/>
            <a:ext cx="4495680" cy="3581280"/>
          </a:xfrm>
          <a:prstGeom prst="rect">
            <a:avLst/>
          </a:prstGeom>
          <a:ln w="0">
            <a:noFill/>
          </a:ln>
        </p:spPr>
      </p:pic>
      <p:pic>
        <p:nvPicPr>
          <p:cNvPr id="156" name="Picture 7" descr="1174048776_pregnant_woman"/>
          <p:cNvPicPr/>
          <p:nvPr/>
        </p:nvPicPr>
        <p:blipFill>
          <a:blip r:embed="rId2"/>
          <a:stretch/>
        </p:blipFill>
        <p:spPr>
          <a:xfrm>
            <a:off x="1371600" y="3876840"/>
            <a:ext cx="3000240" cy="2981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Пирсинг и татуировк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Пирсинг и татуировка – это не просто проколы, а настоящая хирургическая операция со всеми вытекающими отсюда возможными последствиями: аллергические реакции, гнойное воспаление, заражение крови. А значит, делать их необходимо в специализированных медицинских учреждениях с соблюдением всех правил асептики и антисептик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Перед нанесением татуировки необходимо чётко представить себе время, когда тату надоест и захочется от нее избавиться. Если на месте проколола для пирсинга после удаления украшения остается точечный шрамик, то на месте сведенной татуировки – зачастую безобразные шрамы и рубц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Учитывая вышесказанное, предпочтительнее делать временную татуировку и пользоваться специальными клипсами вместо пирсинг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1" i="1" lang="ru-RU" sz="3200" spc="-1" strike="noStrike">
                <a:solidFill>
                  <a:srgbClr val="000000"/>
                </a:solidFill>
                <a:latin typeface="Times New Roman"/>
              </a:rPr>
              <a:t>Солярий</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Солнечная инсоляция в больших дозах, будь то естественное или искусственное излучение, однозначно вредна для организма. В малых же дозах, с соблюдением всех необходимых предосторожностей и приведенных в нашей работе рекомендаций, - так же однозначно полезна.</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Заключение</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Природа человека предусматривает его постоянное стремление к совершенству для сохранения конкурентоспособности. Это нормальное, по сути, явление реализуется в различных, в том числе искаженных, формах в зависимости от социальных факторов и уровня самосознания лич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 нашей работе мы рассмотрели наиболее распространенные в настоящее время среди наших сверстников, массовые формы украшательства, направленные на достижение определенного поверхностного стандарта, воспринимаемого многими как повышение социального статус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76176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	</a:t>
            </a:r>
            <a:r>
              <a:rPr b="1" i="1" lang="ru-RU" sz="3200" spc="-1" strike="noStrike">
                <a:solidFill>
                  <a:srgbClr val="000000"/>
                </a:solidFill>
                <a:latin typeface="Times New Roman"/>
              </a:rPr>
              <a:t>Практическая часть</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a:t>
            </a:r>
            <a:r>
              <a:rPr b="0" i="1" lang="ru-RU" sz="3200" spc="-1" strike="noStrike">
                <a:solidFill>
                  <a:srgbClr val="000000"/>
                </a:solidFill>
                <a:latin typeface="Times New Roman"/>
              </a:rPr>
              <a:t>Описание анкеты</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  Текст анкеты</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  Первичное анкетирование</a:t>
            </a:r>
            <a:r>
              <a:rPr b="1" i="1" lang="ru-RU" sz="3200" spc="-1" strike="noStrike">
                <a:solidFill>
                  <a:srgbClr val="000000"/>
                </a:solidFill>
                <a:latin typeface="Times New Roman"/>
              </a:rPr>
              <a:t> </a:t>
            </a:r>
            <a:r>
              <a:rPr b="0" i="1" lang="ru-RU" sz="3200" spc="-1" strike="noStrike">
                <a:solidFill>
                  <a:srgbClr val="000000"/>
                </a:solidFill>
                <a:latin typeface="Times New Roman"/>
              </a:rPr>
              <a:t>учащихся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  Анализ результатов анкетирования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  </a:t>
            </a:r>
            <a:r>
              <a:rPr b="0" i="1" lang="ru-RU" sz="3200" spc="-1" strike="noStrike">
                <a:solidFill>
                  <a:srgbClr val="000000"/>
                </a:solidFill>
                <a:latin typeface="Times New Roman"/>
              </a:rPr>
              <a:t>-  Диаграммы по результатам анкетирования</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85440"/>
            <a:ext cx="822960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i="1" lang="ru-RU" sz="2800" spc="-1" strike="noStrike">
                <a:solidFill>
                  <a:srgbClr val="000000"/>
                </a:solidFill>
                <a:latin typeface="Times New Roman"/>
              </a:rPr>
              <a:t>Даже краткий обзор технологии и рисков таких популярных в массовом сознании и практике форм украшательства, как пирсинг, татуировка, солярий, показывает наличие множества связанных с ними грозных опасностей для здоровья и жизни человека, решившего применить их на себе.</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i="1" lang="ru-RU" sz="2800" spc="-1" strike="noStrike">
                <a:solidFill>
                  <a:srgbClr val="000000"/>
                </a:solidFill>
                <a:latin typeface="Times New Roman"/>
              </a:rPr>
              <a:t>Поэтому можно обоснованно заключить, что увлечение внешним украшательством, часто скрывающее внутреннюю пустоту, отсутствие культуры и потенциала развития человеческой личности, стремление к стандартизации - прямо опасно для здоровья, а иногда – жизн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Перспективу проведенного нами исследования мы видим в дальнейшей популяризации знаний о влиянии на здоровье модных атрибутов. Этому будет способствовать создание нами сайта «Мода и здоровь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 человеке все должно быть прекрасно», – сказал великий русский писатель Антон Павлович Чехов</a:t>
            </a:r>
            <a:r>
              <a:rPr b="1" i="1" lang="ru-RU" sz="2400" spc="-1" strike="noStrike">
                <a:solidFill>
                  <a:srgbClr val="000000"/>
                </a:solidFill>
                <a:latin typeface="Times New Roman"/>
              </a:rPr>
              <a:t>. Но то, что вредно для здоровья – не может быть красиво, а тем более прекрасно!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	</a:t>
            </a:r>
            <a:r>
              <a:rPr b="0" i="1" lang="ru-RU" sz="2400" spc="-1" strike="noStrike">
                <a:solidFill>
                  <a:srgbClr val="000000"/>
                </a:solidFill>
                <a:latin typeface="Times New Roman"/>
              </a:rPr>
              <a:t>В современном обществе сформировалась целая индустрия нездоровья, зарабатывающая большие деньги на распространении самых диких и нездоровых стандартов поведения, потребления, питания, украшательства, одежды и т.п. Поможем себе и нашим сверстникам предотвратить пагубные последствия, возникающие при взаимодействии с модой, чтобы сохранить самое дорогое, что у нас есть - здоровье и жизнь!</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3"/>
          <p:cNvSpPr/>
          <p:nvPr/>
        </p:nvSpPr>
        <p:spPr>
          <a:xfrm>
            <a:off x="2828880" y="0"/>
            <a:ext cx="33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rPr>
              <a:t>Источники информации</a:t>
            </a:r>
            <a:endParaRPr b="0" lang="en-US" sz="2400" spc="-1" strike="noStrike">
              <a:solidFill>
                <a:srgbClr val="ffffff"/>
              </a:solidFill>
              <a:latin typeface="Times New Roman"/>
            </a:endParaRPr>
          </a:p>
        </p:txBody>
      </p:sp>
      <p:sp>
        <p:nvSpPr>
          <p:cNvPr id="164" name="Rectangle 4"/>
          <p:cNvSpPr/>
          <p:nvPr/>
        </p:nvSpPr>
        <p:spPr>
          <a:xfrm>
            <a:off x="304200" y="380880"/>
            <a:ext cx="349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2c"/>
                </a:solidFill>
                <a:latin typeface="Times New Roman"/>
              </a:rPr>
              <a:t>1) http://dermnetnz.org/bacterial/syphilis.htm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5" name="Rectangle 4"/>
          <p:cNvSpPr/>
          <p:nvPr/>
        </p:nvSpPr>
        <p:spPr>
          <a:xfrm>
            <a:off x="300600" y="685800"/>
            <a:ext cx="384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2c"/>
                </a:solidFill>
                <a:latin typeface="Times New Roman"/>
              </a:rPr>
              <a:t>2) http://tattoomoscow.ru/images/stories/front1.jpg</a:t>
            </a:r>
            <a:endParaRPr b="0" lang="en-US" sz="1400" spc="-1" strike="noStrike">
              <a:solidFill>
                <a:srgbClr val="ffffff"/>
              </a:solidFill>
              <a:latin typeface="Times New Roman"/>
            </a:endParaRPr>
          </a:p>
        </p:txBody>
      </p:sp>
      <p:sp>
        <p:nvSpPr>
          <p:cNvPr id="166" name="Rectangle 4"/>
          <p:cNvSpPr/>
          <p:nvPr/>
        </p:nvSpPr>
        <p:spPr>
          <a:xfrm>
            <a:off x="228600" y="2487600"/>
            <a:ext cx="89154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2c"/>
                </a:solidFill>
                <a:latin typeface="Times New Roman"/>
              </a:rPr>
              <a:t>6)http://go.mail.ru/search_images?rch=l&amp;type=all&amp;is=0&amp;q=%D0%BD%D0%B0%D0%BD%D0%B5%D1%81%D0%B5%D0%BD%D0%B8%D0%B5+%D1%82%D0%B0%D1%82%D1%83+%D1%84%D0%BE%D1%82%D0%BE#w=150&amp;h=100&amp;s=5179&amp;pic=http%3A%2F%2Fwww.raut.ru%2Ffiles%2Ftato%2F2011%2Fjanuary%2F79196697.jpg&amp;page=http%3A%2F%2Fwww.raut.ru%2Fnews%2Fmoda_vdohnovljajut_devushek_na_podvigi.html&amp;descr=%D0%9F%D0%BE%D1%8F%D0%B2%D0%B8%D0%BB%D1%81%D1%8F+%D0%BB%D0%B0%D0%B7%D0%B5%D1%80%D0%BD%D1%8B%D0%B9+%D0%BC%D0%B5%D1%82%D0%BE%D0%B4+%D0%BD%D0%B0%D0%BD%D0%B5%D1%81%D0%B5%D0%BD%D0%B8%D1%8F+%D1%82%D0%B0%D1%82%D1%83</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7" name="Rectangle 6"/>
          <p:cNvSpPr/>
          <p:nvPr/>
        </p:nvSpPr>
        <p:spPr>
          <a:xfrm>
            <a:off x="304920" y="1654200"/>
            <a:ext cx="86104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2c"/>
                </a:solidFill>
                <a:latin typeface="Times New Roman"/>
              </a:rPr>
              <a:t>5)http://go.mail.ru/search_images?rch=l&amp;type=all&amp;is=0&amp;q=%D0%BD%D0%B0%D0%BD%D0%B5%D1%81%D0%B5%D0%BD%D0%B8%D0%B5+%D1%82%D0%B0%D1%82%D1%83+%D1%84%D0%BE%D1%82%D0%BE#w=300&amp;h=210&amp;s=29071&amp;pic=http%3A%2F%2Fwww.weekend.od.ua%2Ffoto%2Fnews%2Ftatu_odessa.jpg&amp;page=http%3A%2F%2Fweekend.od.ua%2Fnews_full.php%3Fid%3D1542&amp;descr=%D1%82%D0%B0%D1%82%D1%83+%D0%BE%D0%B4%D0%B5%D1%81%D1%81%D0%B0</a:t>
            </a:r>
            <a:endParaRPr b="0" lang="en-US" sz="1200" spc="-1" strike="noStrike">
              <a:solidFill>
                <a:srgbClr val="ffffff"/>
              </a:solidFill>
              <a:latin typeface="Times New Roman"/>
            </a:endParaRPr>
          </a:p>
        </p:txBody>
      </p:sp>
      <p:sp>
        <p:nvSpPr>
          <p:cNvPr id="168" name="Rectangle 8"/>
          <p:cNvSpPr/>
          <p:nvPr/>
        </p:nvSpPr>
        <p:spPr>
          <a:xfrm>
            <a:off x="228600" y="4168800"/>
            <a:ext cx="84582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2c"/>
                </a:solidFill>
                <a:latin typeface="Times New Roman"/>
              </a:rPr>
              <a:t>8)http://go.mail.ru/search_images?q=%D0%B2%D0%BE%D1%81%D1%82%D0%BE%D1%87%D0%BD%D1%8B%D0%B5+%D0%B4%D1%80%D0%B0%D0%BA%D0%BE%D0%BD%D1%8B+%D1%82%D0%B0%D1%82%D1%83+%D1%84%D0%BE%D1%82%D0%BE&amp;rch=l&amp;fr=rc#w=500&amp;h=400&amp;s=46984&amp;pic=http%3A%2F%2Fwww.myanapa.ru%2Fimages%2Fevents%2Fstef11.jpg&amp;page=http%3A%2F%2Fwww.myanapa.ru%2Fanapa_events.aspx%3Fid%3D39&amp;descr=%D0%90%D0%BD%D0%B0%D0%BF%D0%B0+%D1%82%D0%B0%D1%82%D1%83</a:t>
            </a:r>
            <a:endParaRPr b="0" lang="en-US" sz="1000" spc="-1" strike="noStrike">
              <a:solidFill>
                <a:srgbClr val="ffffff"/>
              </a:solidFill>
              <a:latin typeface="Times New Roman"/>
            </a:endParaRPr>
          </a:p>
        </p:txBody>
      </p:sp>
      <p:sp>
        <p:nvSpPr>
          <p:cNvPr id="169" name="Rectangle 10"/>
          <p:cNvSpPr/>
          <p:nvPr/>
        </p:nvSpPr>
        <p:spPr>
          <a:xfrm>
            <a:off x="228600" y="4854600"/>
            <a:ext cx="89154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2c"/>
                </a:solidFill>
                <a:latin typeface="Times New Roman"/>
              </a:rPr>
              <a:t>9)http://go.mail.ru/search_images?rch=l&amp;type=all&amp;is=0&amp;q=%D0%BD%D0%B0%D0%BD%D0%B5%D1%81%D0%B5%D0%BD%D0%B8%D0%B5+%D1%82%D0%B0%D1%82%D1%83+%D1%84%D0%BE%D1%82%D0%BE#w=380&amp;h=273&amp;s=23256&amp;pic=http%3A%2F%2Fwww.giport.ru%2Fimg%2Fnews%2F2010%2F12%2F09%2F085103_3.jpg&amp;page=http%3A%2F%2Fwww.giport.ru%2Fnews_miloserdie%2F64989%2Fnpage%2F1%2F&amp;descr=%D0%9A%D0%B0%D0%BD%D0%B0%D0%B4%D0%B5%D1%86+%D1%81%D0%B4%D0%B5%D0%BB%D0%B0%D0%B5%D1%82+%D0%BD%D0%B0+%D1%81%D0%B2%D0%BE%D0%B5%D0%BC+%D1%82%D0%B5%D0%BB%D0%B5+100+%D1%82%D1%8B%D1%81%D1%8F%D1%87+%D1%82%D0%B0%D1%82%D1%83%D0%B8%D1%80%D0%BE%D0%B2%D0%BE%D0%BA...</a:t>
            </a:r>
            <a:endParaRPr b="0" lang="en-US" sz="800" spc="-1" strike="noStrike">
              <a:solidFill>
                <a:srgbClr val="ffffff"/>
              </a:solidFill>
              <a:latin typeface="Times New Roman"/>
            </a:endParaRPr>
          </a:p>
        </p:txBody>
      </p:sp>
      <p:sp>
        <p:nvSpPr>
          <p:cNvPr id="170" name="Rectangle 4"/>
          <p:cNvSpPr/>
          <p:nvPr/>
        </p:nvSpPr>
        <p:spPr>
          <a:xfrm>
            <a:off x="228600" y="3483000"/>
            <a:ext cx="82296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2c"/>
                </a:solidFill>
                <a:latin typeface="Times New Roman"/>
              </a:rPr>
              <a:t>7)http://www.google.ru/imgres?q=%D0%B8%D0%BC%D0%BF%D0%B5%D1%82%D0%B8%D0%B3%D0%BE&amp;hl=ru&amp;newwindow=1&amp;client=opera&amp;rls=ru&amp;channel=suggest&amp;tbm=isch&amp;tbnid=x_XLcHN7m0jltM:&amp;imgrefurl=http://unionclinic.ru/psoriaz&amp;docid=NRIuOShwmh-oRM&amp;imgurl=http://unionclinic.ru/i/files/vulg_psoriaz.jpg&amp;w=488&amp;h=338&amp;ei=sVfFTumuIen64QTMgrHGDQ&amp;zoom=1&amp;iact=rc&amp;dur=359&amp;sig=113976343220053243031&amp;page=10&amp;tbnh=120&amp;tbnw=174&amp;start=155&amp;ndsp=15&amp;ved=1t:429,r:12,s:155&amp;tx=178&amp;ty=72&amp;biw=1020&amp;bih=624</a:t>
            </a:r>
            <a:endParaRPr b="0" lang="en-US" sz="1000" spc="-1" strike="noStrike">
              <a:solidFill>
                <a:srgbClr val="ffffff"/>
              </a:solidFill>
              <a:latin typeface="Times New Roman"/>
            </a:endParaRPr>
          </a:p>
        </p:txBody>
      </p:sp>
      <p:sp>
        <p:nvSpPr>
          <p:cNvPr id="171" name="Rectangle 4"/>
          <p:cNvSpPr/>
          <p:nvPr/>
        </p:nvSpPr>
        <p:spPr>
          <a:xfrm>
            <a:off x="152280" y="6073920"/>
            <a:ext cx="89917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2c"/>
                </a:solidFill>
                <a:latin typeface="Times New Roman"/>
              </a:rPr>
              <a:t>11) http://go.mail.ru/search_images?rch=l&amp;type=all&amp;is=0&amp;q=%D0%BD%D0%B0%D0%BD%D0%B5%D1%81%D0%B5%D0%BD%D0%B8%D0%B5+%D1%82%D0%B0%D1%82%D1%83+%D1%84%D0%BE%D1%82%D0%BE#w=450&amp;h=300&amp;s=65895&amp;pic=http%3A%2F%2Fwww.znaikak.ru%2Fdesign%2Fpic%2Fvisred%2F20_01_00.jpg&amp;page=http%3A%2F%2Fwww.znaikak.ru%2Fhowchoosetatooandmake.html&amp;descr=2.+%D0%9D%D0%B0%D1%85%D0%BE%D0%B4%D0%B8%D0%BC+%D0%BC%D0%B0%D1%81%D1%82%D0%B5%D1%80%D0%B0+%D0%BF%D0%BE+%D0%BD%D0%B0%D0%BD%D0%B5%D1%81%D0%B5%D0%BD%D0%B8%D1%8E+%D1%82%D0%B0%D1%82%D1%83+%7C+%D0%9B%D1%8E%D0%B1%D0%BE%D0%BC+%D1%81%D0%BB%D1%83%D1%87%D0%B0%D0%B5...</a:t>
            </a:r>
            <a:endParaRPr b="0" lang="en-US" sz="800" spc="-1" strike="noStrike">
              <a:solidFill>
                <a:srgbClr val="ffffff"/>
              </a:solidFill>
              <a:latin typeface="Times New Roman"/>
            </a:endParaRPr>
          </a:p>
        </p:txBody>
      </p:sp>
      <p:sp>
        <p:nvSpPr>
          <p:cNvPr id="172" name="Rectangle 4"/>
          <p:cNvSpPr/>
          <p:nvPr/>
        </p:nvSpPr>
        <p:spPr>
          <a:xfrm>
            <a:off x="228600" y="5540400"/>
            <a:ext cx="8686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2c"/>
                </a:solidFill>
                <a:latin typeface="Times New Roman"/>
              </a:rPr>
              <a:t>10)http://go.mail.ru/search_images?rch=l&amp;type=all&amp;is=0&amp;q=%D0%BD%D0%B0%D0%BD%D0%B5%D1%81%D0%B5%D0%BD%D0%B8%D0%B5+%D1%82%D0%B0%D1%82%D1%83+%D1%84%D0%BE%D1%82%D0%BE#w=460&amp;h=307&amp;s=22527&amp;pic=http%3A%2F%2Fwww.radiuscity.ru%2Ffiles%2Farticles%2Fissue176%2Farticle2442%2F2.jpg&amp;page=http%3A%2F%2Fwww.radiuscity.ru%2Farticles.aspx%3Fid%3D2442&amp;descr=%D0%9F%D1%80%D0%BE%D1%86%D0%B5%D1%81%D1%81+%D1%81%D0%BE%D0%B7%D0%B4%D0%B0%D0%BD%D0%B8%D1%8F+%D1%82%D0%B0%D1%82%D1%83</a:t>
            </a:r>
            <a:endParaRPr b="0" lang="en-US" sz="800" spc="-1" strike="noStrike">
              <a:solidFill>
                <a:srgbClr val="ffffff"/>
              </a:solidFill>
              <a:latin typeface="Times New Roman"/>
            </a:endParaRPr>
          </a:p>
        </p:txBody>
      </p:sp>
      <p:sp>
        <p:nvSpPr>
          <p:cNvPr id="173" name="Rectangle 4"/>
          <p:cNvSpPr/>
          <p:nvPr/>
        </p:nvSpPr>
        <p:spPr>
          <a:xfrm>
            <a:off x="358200" y="1400040"/>
            <a:ext cx="3431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 http://www.tatuirovanie.ru/slavyan_tattoos_2.html</a:t>
            </a:r>
            <a:endParaRPr b="0" lang="en-US" sz="1200" spc="-1" strike="noStrike">
              <a:solidFill>
                <a:srgbClr val="ffffff"/>
              </a:solidFill>
              <a:latin typeface="Times New Roman"/>
            </a:endParaRPr>
          </a:p>
        </p:txBody>
      </p:sp>
      <p:sp>
        <p:nvSpPr>
          <p:cNvPr id="174" name="Rectangle 4"/>
          <p:cNvSpPr/>
          <p:nvPr/>
        </p:nvSpPr>
        <p:spPr>
          <a:xfrm>
            <a:off x="363960" y="990720"/>
            <a:ext cx="313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 http://tattoo-design.ru/dragons/dragon19.html</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ahoma"/>
              </a:rPr>
              <a:t>Введение</a:t>
            </a:r>
            <a:endParaRPr b="0" lang="en-US" sz="4400" spc="-1" strike="noStrike">
              <a:solidFill>
                <a:srgbClr val="ffffff"/>
              </a:solidFill>
              <a:latin typeface="Tahoma"/>
            </a:endParaRPr>
          </a:p>
        </p:txBody>
      </p:sp>
      <p:sp>
        <p:nvSpPr>
          <p:cNvPr id="90"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i="1" lang="ru-RU" sz="2800" spc="-1" strike="noStrike">
                <a:solidFill>
                  <a:srgbClr val="000000"/>
                </a:solidFill>
                <a:latin typeface="Times New Roman"/>
              </a:rPr>
              <a:t>В наше время очень часто молодые люди интересуются модой, что надеть в данный период времени, как украсить себя. Но для моды нет пределов, здесь открывается огромный простор для фантазий неокрепших умов. Подростки придумывают невообразимые вещи, они подражают своим кумирам, копируют поступки других несуразных тинэйджеров. Не всегда эти забавы бесследно проходят, не отражаясь на здоровье подрастающего поколения.</a:t>
            </a:r>
            <a:r>
              <a:rPr b="0" lang="ru-RU" sz="2800" spc="-1" strike="noStrike">
                <a:solidFill>
                  <a:srgbClr val="000000"/>
                </a:solidFill>
                <a:latin typeface="Tahoma"/>
              </a:rPr>
              <a:t> </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62120" y="457200"/>
            <a:ext cx="8229600" cy="6019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1" i="1" lang="ru-RU" sz="2800" spc="-1" strike="noStrike">
                <a:solidFill>
                  <a:srgbClr val="000000"/>
                </a:solidFill>
                <a:latin typeface="Times New Roman"/>
              </a:rPr>
              <a:t>Актуальность темы</a:t>
            </a:r>
            <a:r>
              <a:rPr b="0" i="1" lang="ru-RU" sz="2800" spc="-1" strike="noStrike">
                <a:solidFill>
                  <a:srgbClr val="000000"/>
                </a:solidFill>
                <a:latin typeface="Times New Roman"/>
              </a:rPr>
              <a:t> нашего исследования обусловливается тем, что мода оказывает всё большее влияние на жизнь людей. Этому способствует сильное психологическое воздействие средств массовой информации, в первую очередь, телевидения и печатных изданий. При этом люди становятся восприимчивее к диктату моды и считают, что «красота требует жертв», пренебрегают рисками, стараются не обращать внимание на самочувствие. Важно, что экзотические проявления моды прочно вошли в повседневную жизнь миллионов людей и стали серьёзными факторами, потенциально небезразличными для здоровья.</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1447560"/>
            <a:ext cx="82296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Цель нашей работы:</a:t>
            </a:r>
            <a:r>
              <a:rPr b="0" i="1" lang="ru-RU" sz="3200" spc="-1" strike="noStrike">
                <a:solidFill>
                  <a:srgbClr val="000000"/>
                </a:solidFill>
                <a:latin typeface="Times New Roman"/>
              </a:rPr>
              <a:t> выявление наиболее частых модных атрибутов, связанных с проблемами здоровья молодежи, и попытка предотвратить чрезмерное необдуманное стремление подростков к экзотическим украшениям своих тел.</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Теоретическое изучение влияний модных атрибутов на здоровье человека.</a:t>
            </a:r>
            <a:br>
              <a:rPr sz="2800"/>
            </a:br>
            <a:r>
              <a:rPr b="1" i="1" lang="ru-RU" sz="2800" spc="-1" strike="noStrike">
                <a:solidFill>
                  <a:srgbClr val="000000"/>
                </a:solidFill>
                <a:latin typeface="Times New Roman"/>
              </a:rPr>
              <a:t>Пирсинг.</a:t>
            </a:r>
            <a:endParaRPr b="0" lang="en-US" sz="2800" spc="-1" strike="noStrike">
              <a:solidFill>
                <a:srgbClr val="ffffff"/>
              </a:solidFill>
              <a:latin typeface="Tahoma"/>
            </a:endParaRPr>
          </a:p>
        </p:txBody>
      </p:sp>
      <p:pic>
        <p:nvPicPr>
          <p:cNvPr id="94" name="Picture 3" descr="1201021124_2"/>
          <p:cNvPicPr/>
          <p:nvPr/>
        </p:nvPicPr>
        <p:blipFill>
          <a:blip r:embed="rId1"/>
          <a:stretch/>
        </p:blipFill>
        <p:spPr>
          <a:xfrm>
            <a:off x="2057400" y="1676520"/>
            <a:ext cx="4789440" cy="5181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d0dff"/>
                </a:solidFill>
                <a:latin typeface="Tahoma"/>
              </a:rPr>
              <a:t>	</a:t>
            </a:r>
            <a:r>
              <a:rPr b="0" i="1" lang="ru-RU" sz="3200" spc="-1" strike="noStrike">
                <a:solidFill>
                  <a:srgbClr val="0d0dff"/>
                </a:solidFill>
                <a:latin typeface="Tahoma"/>
              </a:rPr>
              <a:t>Остерегайтесь оригинальности; в женской моде оригинальность может привести к маскараду.</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	</a:t>
            </a:r>
            <a:r>
              <a:rPr b="0" i="1" lang="ru-RU" sz="3200" spc="-1" strike="noStrike">
                <a:solidFill>
                  <a:srgbClr val="0d0dff"/>
                </a:solidFill>
                <a:latin typeface="Tahoma"/>
              </a:rPr>
              <a:t>Коко Шанел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01-27T18:01:19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