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5.xml.rels" ContentType="application/vnd.openxmlformats-package.relationships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0AADD-FDAB-44B3-B64C-11CED53CA6C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этом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определении можно выделить три ключевых аспек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A55E4-F208-4C4B-8C16-AD612FF5025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0A6A6-522C-4773-BDAF-111EDA02E96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6D22E-3CD9-43ED-8C65-1C30AA875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86E6B-EDD0-4A8E-9840-A7C351AF5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CF51E-F627-4C04-9F58-1EE891E72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ED725-6922-4039-924F-14FAAEAC9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F9E10-87B6-4EDC-AEF5-DF0B4AF07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B06FA-0197-4360-8AF2-F17CEB118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6E66B-7849-4896-89F4-D5A94233B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A3D75-F064-414F-B9FB-C79BE6284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B389D-190C-465A-88A2-B3BC9FD5B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05A18-09E0-4666-9035-F163343CA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1F2CB-19AB-4D4C-8A42-E44294BAA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BD6CB-5870-45CF-9D03-6461CC5A9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CEB01-0FFE-4058-8816-F7E3C88F5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4EA00-61AA-4734-9CF9-50E1E2589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FAF26-6AB1-49D7-B0EA-B0E5C62B0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6910F-9E72-4C83-8BA4-6C699D4EA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D428E-A2B2-4F37-B7B1-380714B10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F09233-B0AC-44E1-AF3B-2538FED50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60CE24-0175-4D5C-B0F8-B0FD9F940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E0EE3E-D67A-4832-9A23-A2BAD5938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C5862E-BCBE-457E-8103-2CCB17F17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3984B6-2D49-4096-BDB4-68C8C994D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704A6-6709-469C-B278-1676B80EF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2F8FD4-557E-400F-B8AC-A34DD490E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82BCC0-6FFA-4ED5-9892-AE19E2289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D271B4-EA8D-429E-9278-E3B8FAC01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0FE23E-416D-42A3-B8DF-A000821CC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64B260-449C-426A-B5F7-127071CAA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D3CAA4-FE11-4132-B97F-2BF2EEF3A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B677E4-0829-4621-BD69-B0C5657C2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2B6533-5BDD-41C9-BA93-3B46239F5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CA319D-B6C3-4AA3-8285-234AA4011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A52676-E528-4521-AB05-D1A42157A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00EBA-00C6-4D3B-8A17-5DD9FF387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DB06DD-653A-4AE4-8B98-06566CC6E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E3837B-5E27-47AE-8F74-B32862438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038D32-580A-4F22-A766-3EE2BDBB7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883513-9BD2-4B96-8D27-AF8A94335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057242-7D9D-4CDA-94EE-DCAAFEC58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BBCB58-65EC-43E2-95BF-63CFA339C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5A46EF-E050-4E81-962D-CA016C1B0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ED4269-131E-4DCE-AFDE-108077B99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AA9EAF-8222-4E30-865B-FFEEE3128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2F941F-6D69-45F5-AC52-A59803713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AD8A9-B165-4DBB-A42F-F3CB5D7AA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583940-A03C-4872-A00F-C8C4A6871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213AB4-CB68-44A1-A733-720102AF9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9FF378-19E6-49C2-9C5F-9C12E2B8B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6B94B4-2D37-421A-9382-EE5622507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55600E-CEF7-4039-AB7D-CAB3933C0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D88123-6C02-48ED-BCFD-A8CDC9151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6A675E-8E68-4609-ABB2-EB486C995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6CE900-67B9-47B6-BC16-3CCCAA905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6F34A9-7CEC-4BD9-9E2A-2C587F32F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6F9D9D-6BA7-4A1F-B767-C4A2D0B63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458B8-075B-43E6-8C8C-84A07F302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68C341-927A-4193-A74C-06BA8972B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4DD6DF-AFA5-4022-A129-55DB192B2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917E14-1CF7-48E9-A973-7C1F844ED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04E759-6F67-456C-A7D9-D87C4CC56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F7AFEF-1177-42B4-8056-42B00F1B8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D63AB4-06B7-4226-BC60-54B45868D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05723E-EBD2-4168-8595-FF614A5B5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22F244-A18C-4557-9F1C-5D49788E9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56E903-70B3-400E-8E0A-CCFE3BDE0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4999EA-C0BD-4AD9-8CD7-D247986C9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3EAFD-A2F1-460D-A1E2-C85BC5566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4D023D-5935-4165-9C4D-D6AE3DE95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2E4FDE-F7FB-46A6-A3F9-F66321963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FCA6A8-4877-4106-A965-8119E815A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E5B3AE-5FDE-4BC4-B43B-1C610DF99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9F1572-C05D-48D2-8A9C-B095EB9B8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74D1DF-5C8C-45D4-912F-F6AD7C5A5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877104-08D2-458F-B829-A230BFB14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873BB6-EE18-4FF7-89A8-A4E95045D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B64226-C15C-462A-9E78-E7B327482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923376-7D31-4B3A-9C03-C85BC3729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3E0F2-68EB-439F-B223-E53E33CA4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B78F57-CF35-4DA0-9DB2-DF9B8DACB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7D5995-9410-4190-852B-DFF3C35FD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AD0DDD-A20E-43DB-87BC-44053EDAF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7277C8-CFD5-4054-80DD-27B8AC139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E1CBC1-9F95-4D09-8EFD-63C19790C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06213-7D2E-40D4-A80D-4A80DA1F4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3760"/>
              <a:ext cx="2876400" cy="714600"/>
            </a:xfrm>
            <a:custGeom>
              <a:avLst/>
              <a:gdLst>
                <a:gd name="textAreaLeft" fmla="*/ 0 w 2876400"/>
                <a:gd name="textAreaRight" fmla="*/ 2876760 w 2876400"/>
                <a:gd name="textAreaTop" fmla="*/ 0 h 714600"/>
                <a:gd name="textAreaBottom" fmla="*/ 714960 h 71460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9000" y="1696680"/>
              <a:ext cx="5543640" cy="849600"/>
            </a:xfrm>
            <a:custGeom>
              <a:avLst/>
              <a:gdLst>
                <a:gd name="textAreaLeft" fmla="*/ 0 w 5543640"/>
                <a:gd name="textAreaRight" fmla="*/ 5544000 w 5543640"/>
                <a:gd name="textAreaTop" fmla="*/ 0 h 849600"/>
                <a:gd name="textAreaBottom" fmla="*/ 849960 h 84960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880" y="1707840"/>
              <a:ext cx="5467680" cy="774720"/>
            </a:xfrm>
            <a:custGeom>
              <a:avLst/>
              <a:gdLst>
                <a:gd name="textAreaLeft" fmla="*/ 0 w 5467680"/>
                <a:gd name="textAreaRight" fmla="*/ 5468040 w 5467680"/>
                <a:gd name="textAreaTop" fmla="*/ 0 h 774720"/>
                <a:gd name="textAreaBottom" fmla="*/ 775080 h 77472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5240"/>
              <a:ext cx="3308400" cy="650880"/>
            </a:xfrm>
            <a:custGeom>
              <a:avLst/>
              <a:gdLst>
                <a:gd name="textAreaLeft" fmla="*/ 0 w 3308400"/>
                <a:gd name="textAreaRight" fmla="*/ 3308760 w 330840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>
                <a:gd name="textAreaLeft" fmla="*/ 0 w 8723520"/>
                <a:gd name="textAreaRight" fmla="*/ 8723880 w 8723520"/>
                <a:gd name="textAreaTop" fmla="*/ 0 h 1330560"/>
                <a:gd name="textAreaBottom" fmla="*/ 1330920 h 133056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D5204-67F3-44B1-82F1-E2845735FF08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840" y="5499000"/>
              <a:ext cx="2879640" cy="714240"/>
            </a:xfrm>
            <a:custGeom>
              <a:avLst/>
              <a:gdLst>
                <a:gd name="textAreaLeft" fmla="*/ 0 w 2879640"/>
                <a:gd name="textAreaRight" fmla="*/ 2880000 w 2879640"/>
                <a:gd name="textAreaTop" fmla="*/ 0 h 714240"/>
                <a:gd name="textAreaBottom" fmla="*/ 714600 h 71424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2240" y="5371920"/>
              <a:ext cx="5551560" cy="849240"/>
            </a:xfrm>
            <a:custGeom>
              <a:avLst/>
              <a:gdLst>
                <a:gd name="textAreaLeft" fmla="*/ 0 w 5551560"/>
                <a:gd name="textAreaRight" fmla="*/ 5551920 w 555156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760" y="5383080"/>
              <a:ext cx="5473800" cy="774720"/>
            </a:xfrm>
            <a:custGeom>
              <a:avLst/>
              <a:gdLst>
                <a:gd name="textAreaLeft" fmla="*/ 0 w 5473800"/>
                <a:gd name="textAreaRight" fmla="*/ 5474160 w 5473800"/>
                <a:gd name="textAreaTop" fmla="*/ 0 h 774720"/>
                <a:gd name="textAreaBottom" fmla="*/ 775080 h 77472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720" y="5370480"/>
              <a:ext cx="3311640" cy="650880"/>
            </a:xfrm>
            <a:custGeom>
              <a:avLst/>
              <a:gdLst>
                <a:gd name="textAreaLeft" fmla="*/ 0 w 3311640"/>
                <a:gd name="textAreaRight" fmla="*/ 3312000 w 331164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>
                <a:gd name="textAreaLeft" fmla="*/ 0 w 8723520"/>
                <a:gd name="textAreaRight" fmla="*/ 8723880 w 8723520"/>
                <a:gd name="textAreaTop" fmla="*/ 0 h 1330200"/>
                <a:gd name="textAreaBottom" fmla="*/ 1330560 h 133020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E7C4E-6745-41FF-A2A8-22D30E80ACEF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>
              <a:gd name="textAreaLeft" fmla="*/ 0 w 2876400"/>
              <a:gd name="textAreaRight" fmla="*/ 2876760 w 2876400"/>
              <a:gd name="textAreaTop" fmla="*/ 0 h 714240"/>
              <a:gd name="textAreaBottom" fmla="*/ 714600 h 714240"/>
            </a:gdLst>
            <a:ahLst/>
            <a:rect l="textAreaLeft" t="textAreaTop" r="textAreaRight" b="textAreaBottom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>
              <a:gd name="textAreaLeft" fmla="*/ 0 w 5545080"/>
              <a:gd name="textAreaRight" fmla="*/ 5545440 w 5545080"/>
              <a:gd name="textAreaTop" fmla="*/ 0 h 850680"/>
              <a:gd name="textAreaBottom" fmla="*/ 851040 h 850680"/>
            </a:gdLst>
            <a:ahLst/>
            <a:rect l="textAreaLeft" t="textAreaTop" r="textAreaRight" b="textAreaBottom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>
              <a:gd name="textAreaLeft" fmla="*/ 0 w 5467320"/>
              <a:gd name="textAreaRight" fmla="*/ 5467680 w 5467320"/>
              <a:gd name="textAreaTop" fmla="*/ 0 h 774720"/>
              <a:gd name="textAreaBottom" fmla="*/ 775080 h 774720"/>
            </a:gdLst>
            <a:ahLst/>
            <a:rect l="textAreaLeft" t="textAreaTop" r="textAreaRight" b="textAreaBottom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>
              <a:gd name="textAreaLeft" fmla="*/ 0 w 3306600"/>
              <a:gd name="textAreaRight" fmla="*/ 3306960 w 3306600"/>
              <a:gd name="textAreaTop" fmla="*/ 0 h 652680"/>
              <a:gd name="textAreaBottom" fmla="*/ 653040 h 652680"/>
            </a:gdLst>
            <a:ahLst/>
            <a:rect l="textAreaLeft" t="textAreaTop" r="textAreaRight" b="textAreaBottom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>
              <a:gd name="textAreaLeft" fmla="*/ 0 w 8723520"/>
              <a:gd name="textAreaRight" fmla="*/ 8723880 w 8723520"/>
              <a:gd name="textAreaTop" fmla="*/ 0 h 1328760"/>
              <a:gd name="textAreaBottom" fmla="*/ 1329120 h 1328760"/>
            </a:gdLst>
            <a:ahLst/>
            <a:rect l="textAreaLeft" t="textAreaTop" r="textAreaRight" b="textAreaBottom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837B3-5CF5-4CBA-832E-C5D78AAD5397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8600"/>
              <a:ext cx="2876400" cy="714600"/>
            </a:xfrm>
            <a:custGeom>
              <a:avLst/>
              <a:gdLst>
                <a:gd name="textAreaLeft" fmla="*/ 0 w 2876400"/>
                <a:gd name="textAreaRight" fmla="*/ 2876760 w 2876400"/>
                <a:gd name="textAreaTop" fmla="*/ 0 h 714600"/>
                <a:gd name="textAreaBottom" fmla="*/ 714960 h 71460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9000" y="731520"/>
              <a:ext cx="5543640" cy="849600"/>
            </a:xfrm>
            <a:custGeom>
              <a:avLst/>
              <a:gdLst>
                <a:gd name="textAreaLeft" fmla="*/ 0 w 5543640"/>
                <a:gd name="textAreaRight" fmla="*/ 5544000 w 5543640"/>
                <a:gd name="textAreaTop" fmla="*/ 0 h 849600"/>
                <a:gd name="textAreaBottom" fmla="*/ 849960 h 84960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880" y="742680"/>
              <a:ext cx="5467680" cy="774720"/>
            </a:xfrm>
            <a:custGeom>
              <a:avLst/>
              <a:gdLst>
                <a:gd name="textAreaLeft" fmla="*/ 0 w 5467680"/>
                <a:gd name="textAreaRight" fmla="*/ 5468040 w 5467680"/>
                <a:gd name="textAreaTop" fmla="*/ 0 h 774720"/>
                <a:gd name="textAreaBottom" fmla="*/ 775080 h 77472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30080"/>
              <a:ext cx="3308400" cy="650880"/>
            </a:xfrm>
            <a:custGeom>
              <a:avLst/>
              <a:gdLst>
                <a:gd name="textAreaLeft" fmla="*/ 0 w 3308400"/>
                <a:gd name="textAreaRight" fmla="*/ 3308760 w 330840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>
                <a:gd name="textAreaLeft" fmla="*/ 0 w 8723520"/>
                <a:gd name="textAreaRight" fmla="*/ 8723880 w 8723520"/>
                <a:gd name="textAreaTop" fmla="*/ 0 h 1330560"/>
                <a:gd name="textAreaBottom" fmla="*/ 1330920 h 133056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C3490-4EFE-4D7C-B17C-FEAA26DD5F53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840" y="860040"/>
              <a:ext cx="2879640" cy="714600"/>
            </a:xfrm>
            <a:custGeom>
              <a:avLst/>
              <a:gdLst>
                <a:gd name="textAreaLeft" fmla="*/ 0 w 2879640"/>
                <a:gd name="textAreaRight" fmla="*/ 2880000 w 2879640"/>
                <a:gd name="textAreaTop" fmla="*/ 0 h 714600"/>
                <a:gd name="textAreaBottom" fmla="*/ 714960 h 71460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2240" y="731520"/>
              <a:ext cx="5551560" cy="851040"/>
            </a:xfrm>
            <a:custGeom>
              <a:avLst/>
              <a:gdLst>
                <a:gd name="textAreaLeft" fmla="*/ 0 w 5551560"/>
                <a:gd name="textAreaRight" fmla="*/ 5551920 w 5551560"/>
                <a:gd name="textAreaTop" fmla="*/ 0 h 851040"/>
                <a:gd name="textAreaBottom" fmla="*/ 851400 h 85104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760" y="742680"/>
              <a:ext cx="5473800" cy="776520"/>
            </a:xfrm>
            <a:custGeom>
              <a:avLst/>
              <a:gdLst>
                <a:gd name="textAreaLeft" fmla="*/ 0 w 5473800"/>
                <a:gd name="textAreaRight" fmla="*/ 5474160 w 5473800"/>
                <a:gd name="textAreaTop" fmla="*/ 0 h 776520"/>
                <a:gd name="textAreaBottom" fmla="*/ 776880 h 77652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720" y="730080"/>
              <a:ext cx="3311640" cy="652680"/>
            </a:xfrm>
            <a:custGeom>
              <a:avLst/>
              <a:gdLst>
                <a:gd name="textAreaLeft" fmla="*/ 0 w 3311640"/>
                <a:gd name="textAreaRight" fmla="*/ 3312000 w 3311640"/>
                <a:gd name="textAreaTop" fmla="*/ 0 h 652680"/>
                <a:gd name="textAreaBottom" fmla="*/ 653040 h 65268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>
                <a:gd name="textAreaLeft" fmla="*/ 0 w 8723520"/>
                <a:gd name="textAreaRight" fmla="*/ 8723880 w 8723520"/>
                <a:gd name="textAreaTop" fmla="*/ 0 h 1332000"/>
                <a:gd name="textAreaBottom" fmla="*/ 1332360 h 133200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74D45-8EF2-49D7-B261-4007D68DD926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840" y="5499000"/>
              <a:ext cx="2879640" cy="714240"/>
            </a:xfrm>
            <a:custGeom>
              <a:avLst/>
              <a:gdLst>
                <a:gd name="textAreaLeft" fmla="*/ 0 w 2879640"/>
                <a:gd name="textAreaRight" fmla="*/ 2880000 w 2879640"/>
                <a:gd name="textAreaTop" fmla="*/ 0 h 714240"/>
                <a:gd name="textAreaBottom" fmla="*/ 714600 h 71424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2240" y="5371920"/>
              <a:ext cx="5551560" cy="849240"/>
            </a:xfrm>
            <a:custGeom>
              <a:avLst/>
              <a:gdLst>
                <a:gd name="textAreaLeft" fmla="*/ 0 w 5551560"/>
                <a:gd name="textAreaRight" fmla="*/ 5551920 w 555156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760" y="5383080"/>
              <a:ext cx="5473800" cy="774720"/>
            </a:xfrm>
            <a:custGeom>
              <a:avLst/>
              <a:gdLst>
                <a:gd name="textAreaLeft" fmla="*/ 0 w 5473800"/>
                <a:gd name="textAreaRight" fmla="*/ 5474160 w 5473800"/>
                <a:gd name="textAreaTop" fmla="*/ 0 h 774720"/>
                <a:gd name="textAreaBottom" fmla="*/ 775080 h 77472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720" y="5370480"/>
              <a:ext cx="3311640" cy="650880"/>
            </a:xfrm>
            <a:custGeom>
              <a:avLst/>
              <a:gdLst>
                <a:gd name="textAreaLeft" fmla="*/ 0 w 3311640"/>
                <a:gd name="textAreaRight" fmla="*/ 3312000 w 331164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>
                <a:gd name="textAreaLeft" fmla="*/ 0 w 8723520"/>
                <a:gd name="textAreaRight" fmla="*/ 8723880 w 8723520"/>
                <a:gd name="textAreaTop" fmla="*/ 0 h 1330200"/>
                <a:gd name="textAreaBottom" fmla="*/ 1330560 h 133020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3F17D-BEDC-4670-9413-04621074425D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840" y="860040"/>
              <a:ext cx="2879640" cy="714600"/>
            </a:xfrm>
            <a:custGeom>
              <a:avLst/>
              <a:gdLst>
                <a:gd name="textAreaLeft" fmla="*/ 0 w 2879640"/>
                <a:gd name="textAreaRight" fmla="*/ 2880000 w 2879640"/>
                <a:gd name="textAreaTop" fmla="*/ 0 h 714600"/>
                <a:gd name="textAreaBottom" fmla="*/ 714960 h 71460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2240" y="731520"/>
              <a:ext cx="5551560" cy="851040"/>
            </a:xfrm>
            <a:custGeom>
              <a:avLst/>
              <a:gdLst>
                <a:gd name="textAreaLeft" fmla="*/ 0 w 5551560"/>
                <a:gd name="textAreaRight" fmla="*/ 5551920 w 5551560"/>
                <a:gd name="textAreaTop" fmla="*/ 0 h 851040"/>
                <a:gd name="textAreaBottom" fmla="*/ 851400 h 85104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760" y="742680"/>
              <a:ext cx="5473800" cy="776520"/>
            </a:xfrm>
            <a:custGeom>
              <a:avLst/>
              <a:gdLst>
                <a:gd name="textAreaLeft" fmla="*/ 0 w 5473800"/>
                <a:gd name="textAreaRight" fmla="*/ 5474160 w 5473800"/>
                <a:gd name="textAreaTop" fmla="*/ 0 h 776520"/>
                <a:gd name="textAreaBottom" fmla="*/ 776880 h 77652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720" y="730080"/>
              <a:ext cx="3311640" cy="652680"/>
            </a:xfrm>
            <a:custGeom>
              <a:avLst/>
              <a:gdLst>
                <a:gd name="textAreaLeft" fmla="*/ 0 w 3311640"/>
                <a:gd name="textAreaRight" fmla="*/ 3312000 w 3311640"/>
                <a:gd name="textAreaTop" fmla="*/ 0 h 652680"/>
                <a:gd name="textAreaBottom" fmla="*/ 653040 h 65268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>
                <a:gd name="textAreaLeft" fmla="*/ 0 w 8723520"/>
                <a:gd name="textAreaRight" fmla="*/ 8723880 w 8723520"/>
                <a:gd name="textAreaTop" fmla="*/ 0 h 1332000"/>
                <a:gd name="textAreaBottom" fmla="*/ 1332360 h 133200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2F6B5-0F15-4DA4-AE13-24C2BDE9621F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4360" y="907920"/>
            <a:ext cx="7772400" cy="1657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d6f0ff"/>
                </a:solidFill>
                <a:latin typeface="Candara"/>
              </a:rPr>
              <a:t>Педагогический  совет</a:t>
            </a:r>
            <a:br>
              <a:rPr sz="4000"/>
            </a:br>
            <a:r>
              <a:rPr b="1" lang="ru-RU" sz="4000" spc="-1" strike="noStrike">
                <a:solidFill>
                  <a:srgbClr val="d6f0ff"/>
                </a:solidFill>
                <a:latin typeface="Candara"/>
              </a:rPr>
              <a:t> </a:t>
            </a:r>
            <a:r>
              <a:rPr b="0" lang="ru-RU" sz="3200" spc="-1" strike="noStrike">
                <a:solidFill>
                  <a:srgbClr val="d6f0ff"/>
                </a:solidFill>
                <a:latin typeface="Times New Roman"/>
                <a:ea typeface="Times New Roman"/>
              </a:rPr>
              <a:t>«Сущность мониторинга качества образования и его влияние на учебно-воспитательный процесс»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755640" y="3284280"/>
            <a:ext cx="7561440" cy="23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indent="0" algn="ctr">
              <a:lnSpc>
                <a:spcPct val="80000"/>
              </a:lnSpc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100" spc="-1" strike="noStrike">
                <a:solidFill>
                  <a:srgbClr val="031f43"/>
                </a:solidFill>
                <a:latin typeface="Times New Roman"/>
                <a:ea typeface="Times New Roman"/>
              </a:rPr>
              <a:t>Современные подходы к организации системы мониторинга в образовании  </a:t>
            </a:r>
            <a:endParaRPr b="0" lang="en-US" sz="4100" spc="-1" strike="noStrike">
              <a:solidFill>
                <a:srgbClr val="073e87"/>
              </a:solidFill>
              <a:latin typeface="Candara"/>
            </a:endParaRPr>
          </a:p>
          <a:p>
            <a:pPr lvl="1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31f43"/>
                </a:solidFill>
                <a:latin typeface="Times New Roman"/>
                <a:ea typeface="Times New Roman"/>
              </a:rPr>
              <a:t>                                                      </a:t>
            </a: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 lvl="1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31f43"/>
                </a:solidFill>
                <a:latin typeface="Times New Roman"/>
                <a:ea typeface="Times New Roman"/>
              </a:rPr>
              <a:t>                                                                </a:t>
            </a:r>
            <a:r>
              <a:rPr b="1" lang="ru-RU" sz="1600" spc="-1" strike="noStrike">
                <a:solidFill>
                  <a:srgbClr val="031f43"/>
                </a:solidFill>
                <a:latin typeface="Times New Roman"/>
                <a:ea typeface="Times New Roman"/>
              </a:rPr>
              <a:t>Подготовила:   Шувалова И.А.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1"/>
          <p:cNvSpPr/>
          <p:nvPr/>
        </p:nvSpPr>
        <p:spPr>
          <a:xfrm>
            <a:off x="971640" y="481680"/>
            <a:ext cx="7200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31f43"/>
                </a:solidFill>
                <a:latin typeface="Times New Roman"/>
                <a:ea typeface="Times New Roman"/>
              </a:rPr>
              <a:t>мониторинг обладает следующими особенностям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2"/>
          <p:cNvSpPr/>
          <p:nvPr/>
        </p:nvSpPr>
        <p:spPr>
          <a:xfrm>
            <a:off x="395280" y="2221200"/>
            <a:ext cx="84978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031f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31f43"/>
                </a:solidFill>
                <a:latin typeface="Times New Roman"/>
                <a:ea typeface="Times New Roman"/>
              </a:rPr>
              <a:t> </a:t>
            </a:r>
            <a:r>
              <a:rPr b="0" lang="ru-RU" sz="4400" spc="-1" strike="noStrike">
                <a:solidFill>
                  <a:srgbClr val="031f43"/>
                </a:solidFill>
                <a:latin typeface="Times New Roman"/>
                <a:ea typeface="Times New Roman"/>
              </a:rPr>
              <a:t>Непрерывность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31f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31f43"/>
                </a:solidFill>
                <a:latin typeface="Times New Roman"/>
                <a:ea typeface="Times New Roman"/>
              </a:rPr>
              <a:t> </a:t>
            </a:r>
            <a:r>
              <a:rPr b="0" lang="ru-RU" sz="4400" spc="-1" strike="noStrike">
                <a:solidFill>
                  <a:srgbClr val="031f43"/>
                </a:solidFill>
                <a:latin typeface="Times New Roman"/>
                <a:ea typeface="Times New Roman"/>
              </a:rPr>
              <a:t>Диагностичность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31f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31f43"/>
                </a:solidFill>
                <a:latin typeface="Times New Roman"/>
                <a:ea typeface="Times New Roman"/>
              </a:rPr>
              <a:t> </a:t>
            </a:r>
            <a:r>
              <a:rPr b="0" lang="ru-RU" sz="4400" spc="-1" strike="noStrike">
                <a:solidFill>
                  <a:srgbClr val="031f43"/>
                </a:solidFill>
                <a:latin typeface="Times New Roman"/>
                <a:ea typeface="Times New Roman"/>
              </a:rPr>
              <a:t>Информативность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31f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31f43"/>
                </a:solidFill>
                <a:latin typeface="Times New Roman"/>
                <a:ea typeface="Times New Roman"/>
              </a:rPr>
              <a:t> </a:t>
            </a:r>
            <a:r>
              <a:rPr b="0" lang="ru-RU" sz="4400" spc="-1" strike="noStrike">
                <a:solidFill>
                  <a:srgbClr val="031f43"/>
                </a:solidFill>
                <a:latin typeface="Times New Roman"/>
                <a:ea typeface="Times New Roman"/>
              </a:rPr>
              <a:t>Обратной связь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31f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31f43"/>
                </a:solidFill>
                <a:latin typeface="Times New Roman"/>
                <a:ea typeface="Times New Roman"/>
              </a:rPr>
              <a:t> </a:t>
            </a:r>
            <a:r>
              <a:rPr b="0" lang="ru-RU" sz="4400" spc="-1" strike="noStrike">
                <a:solidFill>
                  <a:srgbClr val="031f43"/>
                </a:solidFill>
                <a:latin typeface="Times New Roman"/>
                <a:ea typeface="Times New Roman"/>
              </a:rPr>
              <a:t>Научность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1"/>
          <p:cNvSpPr/>
          <p:nvPr/>
        </p:nvSpPr>
        <p:spPr>
          <a:xfrm>
            <a:off x="324000" y="1431360"/>
            <a:ext cx="8416800" cy="39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31f43"/>
                </a:solidFill>
                <a:latin typeface="Times New Roman"/>
                <a:ea typeface="Times New Roman"/>
              </a:rPr>
              <a:t>Цель мониторинга  </a:t>
            </a:r>
            <a:r>
              <a:rPr b="0" i="1" lang="ru-RU" sz="4000" spc="-1" strike="noStrike">
                <a:solidFill>
                  <a:srgbClr val="031f43"/>
                </a:solidFill>
                <a:latin typeface="Times New Roman"/>
                <a:ea typeface="Times New Roman"/>
              </a:rPr>
              <a:t>-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31f43"/>
                </a:solidFill>
                <a:latin typeface="Times New Roman"/>
                <a:ea typeface="Times New Roman"/>
              </a:rPr>
              <a:t>оперативно и своевременно выявлять все изменения, происходящие в сфере образовательного учреждения. Полученные объективные данные являются основанием для принятия управленческих решений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12"/>
          <p:cNvSpPr/>
          <p:nvPr/>
        </p:nvSpPr>
        <p:spPr>
          <a:xfrm>
            <a:off x="4456440" y="7488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Group 1"/>
          <p:cNvGrpSpPr/>
          <p:nvPr/>
        </p:nvGrpSpPr>
        <p:grpSpPr>
          <a:xfrm>
            <a:off x="324000" y="404640"/>
            <a:ext cx="8597520" cy="5491080"/>
            <a:chOff x="324000" y="404640"/>
            <a:chExt cx="8597520" cy="5491080"/>
          </a:xfrm>
        </p:grpSpPr>
        <p:sp>
          <p:nvSpPr>
            <p:cNvPr id="363" name="Rectangle 11"/>
            <p:cNvSpPr/>
            <p:nvPr/>
          </p:nvSpPr>
          <p:spPr>
            <a:xfrm>
              <a:off x="324000" y="475920"/>
              <a:ext cx="8244720" cy="541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Oval 10"/>
            <p:cNvSpPr/>
            <p:nvPr/>
          </p:nvSpPr>
          <p:spPr>
            <a:xfrm>
              <a:off x="2484360" y="404640"/>
              <a:ext cx="4032720" cy="1359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52e65"/>
                  </a:solidFill>
                  <a:latin typeface="Times New Roman"/>
                  <a:ea typeface="Times New Roman"/>
                </a:rPr>
                <a:t>мониторинг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Text Box 9"/>
            <p:cNvSpPr/>
            <p:nvPr/>
          </p:nvSpPr>
          <p:spPr>
            <a:xfrm>
              <a:off x="483840" y="2541960"/>
              <a:ext cx="2503440" cy="2543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31f43"/>
                  </a:solidFill>
                  <a:latin typeface="Times New Roman"/>
                  <a:ea typeface="Times New Roman"/>
                </a:rPr>
                <a:t>Это система сбора, обработки, хранения и распространения информаци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Text Box 8"/>
            <p:cNvSpPr/>
            <p:nvPr/>
          </p:nvSpPr>
          <p:spPr>
            <a:xfrm>
              <a:off x="3347640" y="2565000"/>
              <a:ext cx="2311200" cy="2320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31f43"/>
                  </a:solidFill>
                  <a:latin typeface="Times New Roman"/>
                  <a:ea typeface="Times New Roman"/>
                </a:rPr>
                <a:t>Предназначен для информационного обеспечения управления образовательным процессом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Text Box 7"/>
            <p:cNvSpPr/>
            <p:nvPr/>
          </p:nvSpPr>
          <p:spPr>
            <a:xfrm>
              <a:off x="6013800" y="2565000"/>
              <a:ext cx="2907720" cy="3095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31f43"/>
                  </a:solidFill>
                  <a:latin typeface="Times New Roman"/>
                  <a:ea typeface="Times New Roman"/>
                </a:rPr>
                <a:t>Данные мониторинга позволяют выносить обоснованные суждения о состоянии объекта наблюдения в любой момент времени и прогнозировать его развит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Line 6"/>
            <p:cNvSpPr/>
            <p:nvPr/>
          </p:nvSpPr>
          <p:spPr>
            <a:xfrm>
              <a:off x="1616760" y="2282400"/>
              <a:ext cx="5335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Line 5"/>
            <p:cNvSpPr/>
            <p:nvPr/>
          </p:nvSpPr>
          <p:spPr>
            <a:xfrm>
              <a:off x="1616760" y="2282400"/>
              <a:ext cx="0" cy="25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Line 4"/>
            <p:cNvSpPr/>
            <p:nvPr/>
          </p:nvSpPr>
          <p:spPr>
            <a:xfrm>
              <a:off x="4042080" y="2282400"/>
              <a:ext cx="0" cy="25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Line 3"/>
            <p:cNvSpPr/>
            <p:nvPr/>
          </p:nvSpPr>
          <p:spPr>
            <a:xfrm>
              <a:off x="6952680" y="2282400"/>
              <a:ext cx="0" cy="25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Line 2"/>
            <p:cNvSpPr/>
            <p:nvPr/>
          </p:nvSpPr>
          <p:spPr>
            <a:xfrm>
              <a:off x="4528080" y="1767240"/>
              <a:ext cx="0" cy="51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1"/>
          <p:cNvSpPr/>
          <p:nvPr/>
        </p:nvSpPr>
        <p:spPr>
          <a:xfrm>
            <a:off x="324000" y="977760"/>
            <a:ext cx="8351640" cy="46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31f43"/>
                </a:solidFill>
                <a:latin typeface="Times New Roman"/>
                <a:ea typeface="Times New Roman"/>
              </a:rPr>
              <a:t>Субъектами мониторинга </a:t>
            </a:r>
            <a:r>
              <a:rPr b="0" lang="ru-RU" sz="2800" spc="-1" strike="noStrike">
                <a:solidFill>
                  <a:srgbClr val="031f43"/>
                </a:solidFill>
                <a:latin typeface="Times New Roman"/>
                <a:ea typeface="Times New Roman"/>
              </a:rPr>
              <a:t>выступают все участники образовательного процесса. Степень их участия различна, но все они (и учителя, и ученики, и родители, и общественность) получают информацию, анализируют е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31f43"/>
                </a:solidFill>
                <a:latin typeface="Times New Roman"/>
                <a:ea typeface="Times New Roman"/>
              </a:rPr>
              <a:t>Объектами мониторинга </a:t>
            </a:r>
            <a:r>
              <a:rPr b="0" lang="ru-RU" sz="2800" spc="-1" strike="noStrike">
                <a:solidFill>
                  <a:srgbClr val="031f43"/>
                </a:solidFill>
                <a:latin typeface="Times New Roman"/>
                <a:ea typeface="Times New Roman"/>
              </a:rPr>
              <a:t>являются образовательный процесс и его результаты, личностные характеристики всех участников образовательного процесса, их потребности и отношение к образовательному учреждени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1"/>
          <p:cNvSpPr/>
          <p:nvPr/>
        </p:nvSpPr>
        <p:spPr>
          <a:xfrm>
            <a:off x="1258920" y="-1362240"/>
            <a:ext cx="6408720" cy="740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036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36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36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36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36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36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36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36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036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  <a:ea typeface="Calibri"/>
              </a:rPr>
              <a:t>Виды мониторинг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036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  <a:ea typeface="Calibri"/>
              </a:rPr>
              <a:t>в образовани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36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181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036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Педагогическ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181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036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Социологическ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181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036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Психологическ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181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036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Медицинск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181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036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Экономическ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181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036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Демографический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3"/>
          <p:cNvSpPr/>
          <p:nvPr/>
        </p:nvSpPr>
        <p:spPr>
          <a:xfrm>
            <a:off x="468360" y="563400"/>
            <a:ext cx="8351640" cy="53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собы и  технологии осуществления мониторинга сводятся к следующим группам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блюдение  за изменениям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 тестовых ситуаций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спликация (развертывание содержания учебной деятельности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1"/>
          <p:cNvSpPr/>
          <p:nvPr/>
        </p:nvSpPr>
        <p:spPr>
          <a:xfrm>
            <a:off x="179280" y="360720"/>
            <a:ext cx="8640720" cy="55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ы мониторинга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осны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из результатов учебной  деятель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стиров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1"/>
          <p:cNvSpPr/>
          <p:nvPr/>
        </p:nvSpPr>
        <p:spPr>
          <a:xfrm>
            <a:off x="250920" y="480960"/>
            <a:ext cx="8713800" cy="50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Литерату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1. Майоров А.Н. Мониторинг в образовании. СПб., 199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2.  Иванова Т.П. Мониторинг результативности воспитательной деятельности классного руководителя// Классный руководитель. – 2007. - №8. – С 65 – 7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3. Концепция общероссийской системы оценки качества образования (извлечения)//     Справочник заместителя директора школы. – 2008. – «8. – С. 10 – 2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4.  Коротаева Е. Как организовать мониторинг// Директор школы. – 2004. - №6. – С 35 – 4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5. Мониторинг качества учебного процесса: принципы, анализ, планирование/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авт. –     сот. Г. П. Папова  и др., - Волгоград: Учитель, 2007. – 124 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6. Петрова О. В., Солодова О. В., Жилина С. В., Рогозина Е. А. Рекомендации к проведению мониторинга деятельности классных руководителей// Классный руководитель. – 2007. - №8. – С. 43 – 56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7.  Управление инновационными процессами в образовании: проблемы и подходы к их решению/ Под ред. Г.Н. Прозументовой. Томск, 2000. – 320 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8. Чивина Н. П. Мониторинг качества воспитания// Классный руководитель. – 2007. - №8. – С. 6 – 1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50560" y="1052280"/>
            <a:ext cx="849780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Середина 80-х гг.</a:t>
            </a:r>
            <a:r>
              <a:rPr b="1" i="1" lang="en-US" sz="32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XX</a:t>
            </a:r>
            <a:r>
              <a:rPr b="1" i="1" lang="ru-RU" sz="32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 века.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67120" indent="-2671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Международная ассоциация по оценке учебных достижений ( IAE) провела сравнительное исследование уровня знаний и умений по </a:t>
            </a:r>
            <a:r>
              <a:rPr b="0" i="1" lang="ru-RU" sz="28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математике</a:t>
            </a:r>
            <a:r>
              <a:rPr b="0" lang="ru-RU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 и </a:t>
            </a:r>
            <a:r>
              <a:rPr b="0" i="1" lang="ru-RU" sz="28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естествознанию</a:t>
            </a:r>
            <a:r>
              <a:rPr b="0" lang="ru-RU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 13-летних школьников из 6 стран (</a:t>
            </a:r>
            <a:r>
              <a:rPr b="0" lang="ru-RU" sz="3200" spc="-1" strike="noStrike" u="sng">
                <a:solidFill>
                  <a:srgbClr val="073e87"/>
                </a:solidFill>
                <a:uFillTx/>
                <a:latin typeface="Times New Roman"/>
                <a:ea typeface="Times New Roman"/>
              </a:rPr>
              <a:t>Великобритании, Ирландии, Испании, Канады, Республики Корея и США).  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67120" indent="-2671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Результаты :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67120" indent="-2671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1 место   </a:t>
            </a:r>
            <a:r>
              <a:rPr b="1" lang="ru-RU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-     </a:t>
            </a:r>
            <a:r>
              <a:rPr b="1" lang="ru-RU" sz="32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Корея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67120" indent="-2671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6 место   </a:t>
            </a:r>
            <a:r>
              <a:rPr b="1" lang="ru-RU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-     </a:t>
            </a:r>
            <a:r>
              <a:rPr b="1" lang="ru-RU" sz="32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США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Рейтинги.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250560" y="1773000"/>
            <a:ext cx="849780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Британская компания </a:t>
            </a:r>
            <a:r>
              <a:rPr b="0" lang="ru-RU" sz="2400" spc="-1" strike="noStrike">
                <a:solidFill>
                  <a:srgbClr val="031f43"/>
                </a:solidFill>
                <a:latin typeface="Times New Roman"/>
                <a:ea typeface="Times New Roman"/>
              </a:rPr>
              <a:t>Economist Intelligence Unit </a:t>
            </a:r>
            <a:r>
              <a:rPr b="0" lang="ru-RU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 попыталась выяснить, </a:t>
            </a:r>
            <a:r>
              <a:rPr b="0" lang="ru-RU" sz="2400" spc="-1" strike="noStrike" u="sng">
                <a:solidFill>
                  <a:srgbClr val="073e87"/>
                </a:solidFill>
                <a:uFillTx/>
                <a:latin typeface="Times New Roman"/>
                <a:ea typeface="Times New Roman"/>
              </a:rPr>
              <a:t>какие факторы в наибольшей степени влияют на образование, и в каких странах мира лучше всего работает система образования</a:t>
            </a:r>
            <a:r>
              <a:rPr b="0" lang="ru-RU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Результаты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1 место  -   Финляндия,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2 место  -   Южная Корея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17 место -  США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20 место - Россия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143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ndara"/>
              </a:rPr>
              <a:t>Мировой рейтинг уровня образования</a:t>
            </a:r>
            <a:br>
              <a:rPr sz="4000"/>
            </a:br>
            <a:r>
              <a:rPr b="0" lang="ru-RU" sz="2800" spc="-1" strike="noStrike">
                <a:solidFill>
                  <a:srgbClr val="ffffff"/>
                </a:solidFill>
                <a:latin typeface="Candara"/>
              </a:rPr>
              <a:t>Учетный период - 2006-2010гг.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250560" y="1557000"/>
            <a:ext cx="84978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Индекс стандартизируется в виде числовых значений от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0 (минимальное) </a:t>
            </a:r>
            <a:r>
              <a:rPr b="0" lang="ru-RU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до </a:t>
            </a:r>
            <a:r>
              <a:rPr b="0" lang="ru-RU" sz="2400" spc="-1" strike="noStrike" u="sng">
                <a:solidFill>
                  <a:srgbClr val="073e87"/>
                </a:solidFill>
                <a:uFillTx/>
                <a:latin typeface="Times New Roman"/>
                <a:ea typeface="Times New Roman"/>
              </a:rPr>
              <a:t>1 (максимальное).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  </a:t>
            </a:r>
            <a:r>
              <a:rPr b="1" i="1" lang="ru-RU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Развитые страны должны обладать минимальным показателем </a:t>
            </a:r>
            <a:r>
              <a:rPr b="1" i="1" lang="ru-RU" sz="36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0,8</a:t>
            </a:r>
            <a:endParaRPr b="0" lang="en-US" sz="36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1.         Новая Зеландия  - 1.00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5.         США                   -  0,94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21.       Финляндия         -  0.88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49.       Россия                 -  0,78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188.     Нигер                  -  0.18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декс уровня образования </a:t>
            </a:r>
            <a:br>
              <a:rPr sz="4000"/>
            </a:br>
            <a:r>
              <a:rPr b="0" lang="ru-RU" sz="3200" spc="-1" strike="noStrike">
                <a:solidFill>
                  <a:srgbClr val="ffffff"/>
                </a:solidFill>
                <a:latin typeface="Candara"/>
              </a:rPr>
              <a:t>(Education Index) 2011г.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 txBox="1"/>
          <p:nvPr/>
        </p:nvSpPr>
        <p:spPr>
          <a:xfrm>
            <a:off x="250920" y="1341360"/>
            <a:ext cx="864216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   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1 место –  Южная Корея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   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2 место – Япония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   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3 место – Сингапур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    </a:t>
            </a: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13 место 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– </a:t>
            </a: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Россия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   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США, Франция, Швейцария и Израиль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Европейский рейтинг качества образования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1 1 место   - Финляндия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    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2 место  - Великобритания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    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3 место  - Голландия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    </a:t>
            </a: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8 место – Россия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59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ировой рейтинг качества образования</a:t>
            </a:r>
            <a:br>
              <a:rPr sz="4000"/>
            </a:b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14 г.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 txBox="1"/>
          <p:nvPr/>
        </p:nvSpPr>
        <p:spPr>
          <a:xfrm>
            <a:off x="539640" y="2349000"/>
            <a:ext cx="8353440" cy="475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31f43"/>
                </a:solidFill>
                <a:latin typeface="Times New Roman"/>
                <a:ea typeface="Times New Roman"/>
              </a:rPr>
              <a:t>  </a:t>
            </a:r>
            <a:r>
              <a:rPr b="0" lang="ru-RU" sz="3600" spc="-1" strike="noStrike">
                <a:solidFill>
                  <a:srgbClr val="031f43"/>
                </a:solidFill>
                <a:latin typeface="Times New Roman"/>
                <a:ea typeface="Times New Roman"/>
              </a:rPr>
              <a:t>Переход от традиционных способов сбора сведений о школе — к педагогическому  </a:t>
            </a:r>
            <a:r>
              <a:rPr b="1" lang="ru-RU" sz="3600" spc="-1" strike="noStrike">
                <a:solidFill>
                  <a:srgbClr val="031f43"/>
                </a:solidFill>
                <a:latin typeface="Times New Roman"/>
                <a:ea typeface="Times New Roman"/>
              </a:rPr>
              <a:t>мониторингу</a:t>
            </a:r>
            <a:r>
              <a:rPr b="0" lang="ru-RU" sz="3600" spc="-1" strike="noStrike">
                <a:solidFill>
                  <a:srgbClr val="031f43"/>
                </a:solidFill>
                <a:latin typeface="Times New Roman"/>
                <a:ea typeface="Times New Roman"/>
              </a:rPr>
              <a:t>, предполагающему длительное системное слежение за состоянием системы образования.  </a:t>
            </a:r>
            <a:endParaRPr b="0" lang="en-US" sz="36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31f43"/>
                </a:solidFill>
                <a:latin typeface="Times New Roman"/>
                <a:ea typeface="Times New Roman"/>
              </a:rPr>
              <a:t>Перед современной педагогической наукой и практикой поставлена задача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 txBox="1"/>
          <p:nvPr/>
        </p:nvSpPr>
        <p:spPr>
          <a:xfrm>
            <a:off x="358560" y="1989000"/>
            <a:ext cx="86058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31f43"/>
                </a:solidFill>
                <a:latin typeface="Candara"/>
              </a:rPr>
              <a:t>    </a:t>
            </a:r>
            <a:r>
              <a:rPr b="0" lang="ru-RU" sz="3600" spc="-1" strike="noStrike">
                <a:solidFill>
                  <a:srgbClr val="031f43"/>
                </a:solidFill>
                <a:latin typeface="Times New Roman"/>
                <a:ea typeface="Times New Roman"/>
              </a:rPr>
              <a:t>Во второй половине ХХ века в почвоведении процесс постоянного наблюдения за состоянием плодородного слоя земли  стал называться специальным термином – </a:t>
            </a:r>
            <a:r>
              <a:rPr b="1" lang="ru-RU" sz="4000" spc="-1" strike="noStrike">
                <a:solidFill>
                  <a:srgbClr val="031f43"/>
                </a:solidFill>
                <a:latin typeface="Times New Roman"/>
                <a:ea typeface="Times New Roman"/>
              </a:rPr>
              <a:t>мониторинг</a:t>
            </a:r>
            <a:r>
              <a:rPr b="0" lang="ru-RU" sz="4000" spc="-1" strike="noStrike">
                <a:solidFill>
                  <a:srgbClr val="031f43"/>
                </a:solidFill>
                <a:latin typeface="Times New Roman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031f43"/>
                </a:solidFill>
                <a:latin typeface="Times New Roman"/>
                <a:ea typeface="Times New Roman"/>
              </a:rPr>
              <a:t>(с английского «следить», «вести наблюдение»)</a:t>
            </a:r>
            <a:endParaRPr b="0" lang="en-US" sz="3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539640" y="692280"/>
            <a:ext cx="8229600" cy="93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31f43"/>
                </a:solidFill>
                <a:latin typeface="Times New Roman"/>
                <a:ea typeface="Times New Roman"/>
              </a:rPr>
              <a:t>История возникновения термина </a:t>
            </a:r>
            <a:r>
              <a:rPr b="1" i="1" lang="ru-RU" sz="4400" spc="-1" strike="noStrike">
                <a:solidFill>
                  <a:srgbClr val="031f43"/>
                </a:solidFill>
                <a:latin typeface="Times New Roman"/>
                <a:ea typeface="Times New Roman"/>
              </a:rPr>
              <a:t>«мониторинг». 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Прямоугольник 1"/>
          <p:cNvSpPr/>
          <p:nvPr/>
        </p:nvSpPr>
        <p:spPr>
          <a:xfrm>
            <a:off x="611280" y="1197000"/>
            <a:ext cx="7993080" cy="49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31f43"/>
                </a:solidFill>
                <a:latin typeface="Times New Roman"/>
                <a:ea typeface="Times New Roman"/>
              </a:rPr>
              <a:t>Мониторинг в образовании  </a:t>
            </a:r>
            <a:r>
              <a:rPr b="0" lang="ru-RU" sz="2800" spc="-1" strike="noStrike">
                <a:solidFill>
                  <a:srgbClr val="031f43"/>
                </a:solidFill>
                <a:latin typeface="Times New Roman"/>
                <a:ea typeface="Times New Roman"/>
              </a:rPr>
              <a:t>-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31f43"/>
                </a:solidFill>
                <a:latin typeface="Times New Roman"/>
                <a:ea typeface="Times New Roman"/>
              </a:rPr>
              <a:t>это система отбора, обработки, хранения и распространения информации об образовательной системе или отдельных её элементах, ориентированных на информационное обеспечение управления, которая позволяет судить о состоянии объекта  в любой момент времени и может обеспечить прогноз его развития.               </a:t>
            </a:r>
            <a:r>
              <a:rPr b="0" lang="ru-RU" sz="2400" spc="-1" strike="noStrike">
                <a:solidFill>
                  <a:srgbClr val="031f43"/>
                </a:solidFill>
                <a:latin typeface="Times New Roman"/>
                <a:ea typeface="Times New Roman"/>
              </a:rPr>
              <a:t>(А.Н.Майоров)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1"/>
          <p:cNvSpPr/>
          <p:nvPr/>
        </p:nvSpPr>
        <p:spPr>
          <a:xfrm>
            <a:off x="539640" y="1130040"/>
            <a:ext cx="820908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31f43"/>
                </a:solidFill>
                <a:latin typeface="Times New Roman"/>
                <a:ea typeface="Times New Roman"/>
              </a:rPr>
              <a:t>Понятие «</a:t>
            </a:r>
            <a:r>
              <a:rPr b="1" i="1" lang="ru-RU" sz="4800" spc="-1" strike="noStrike">
                <a:solidFill>
                  <a:srgbClr val="031f43"/>
                </a:solidFill>
                <a:latin typeface="Times New Roman"/>
                <a:ea typeface="Times New Roman"/>
              </a:rPr>
              <a:t>мониторинг</a:t>
            </a:r>
            <a:r>
              <a:rPr b="0" lang="ru-RU" sz="4800" spc="-1" strike="noStrike">
                <a:solidFill>
                  <a:srgbClr val="031f43"/>
                </a:solidFill>
                <a:latin typeface="Times New Roman"/>
                <a:ea typeface="Times New Roman"/>
              </a:rPr>
              <a:t>» близко к таким общенаучным педагогическим и психологическим понятиям, как «</a:t>
            </a:r>
            <a:r>
              <a:rPr b="1" i="1" lang="ru-RU" sz="4800" spc="-1" strike="noStrike">
                <a:solidFill>
                  <a:srgbClr val="031f43"/>
                </a:solidFill>
                <a:latin typeface="Times New Roman"/>
                <a:ea typeface="Times New Roman"/>
              </a:rPr>
              <a:t>обратная связь</a:t>
            </a:r>
            <a:r>
              <a:rPr b="0" lang="ru-RU" sz="4800" spc="-1" strike="noStrike">
                <a:solidFill>
                  <a:srgbClr val="031f43"/>
                </a:solidFill>
                <a:latin typeface="Times New Roman"/>
                <a:ea typeface="Times New Roman"/>
              </a:rPr>
              <a:t>», «</a:t>
            </a:r>
            <a:r>
              <a:rPr b="1" i="1" lang="ru-RU" sz="4800" spc="-1" strike="noStrike">
                <a:solidFill>
                  <a:srgbClr val="031f43"/>
                </a:solidFill>
                <a:latin typeface="Times New Roman"/>
                <a:ea typeface="Times New Roman"/>
              </a:rPr>
              <a:t>рефлексия</a:t>
            </a:r>
            <a:r>
              <a:rPr b="0" lang="ru-RU" sz="4800" spc="-1" strike="noStrike">
                <a:solidFill>
                  <a:srgbClr val="031f43"/>
                </a:solidFill>
                <a:latin typeface="Times New Roman"/>
                <a:ea typeface="Times New Roman"/>
              </a:rPr>
              <a:t>», «</a:t>
            </a:r>
            <a:r>
              <a:rPr b="1" i="1" lang="ru-RU" sz="4800" spc="-1" strike="noStrike">
                <a:solidFill>
                  <a:srgbClr val="031f43"/>
                </a:solidFill>
                <a:latin typeface="Times New Roman"/>
                <a:ea typeface="Times New Roman"/>
              </a:rPr>
              <a:t>контроль</a:t>
            </a:r>
            <a:r>
              <a:rPr b="0" lang="ru-RU" sz="4800" spc="-1" strike="noStrike">
                <a:solidFill>
                  <a:srgbClr val="031f43"/>
                </a:solidFill>
                <a:latin typeface="Times New Roman"/>
                <a:ea typeface="Times New Roman"/>
              </a:rPr>
              <a:t>», «</a:t>
            </a:r>
            <a:r>
              <a:rPr b="1" i="1" lang="ru-RU" sz="4800" spc="-1" strike="noStrike">
                <a:solidFill>
                  <a:srgbClr val="031f43"/>
                </a:solidFill>
                <a:latin typeface="Times New Roman"/>
                <a:ea typeface="Times New Roman"/>
              </a:rPr>
              <a:t>аттестация</a:t>
            </a:r>
            <a:r>
              <a:rPr b="0" lang="ru-RU" sz="4800" spc="-1" strike="noStrike">
                <a:solidFill>
                  <a:srgbClr val="031f43"/>
                </a:solidFill>
                <a:latin typeface="Times New Roman"/>
                <a:ea typeface="Times New Roman"/>
              </a:rPr>
              <a:t>»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2T15:12:00Z</dcterms:created>
  <dc:creator>Анна</dc:creator>
  <dc:description/>
  <dc:language>en-US</dc:language>
  <cp:lastModifiedBy>Ирина</cp:lastModifiedBy>
  <dcterms:modified xsi:type="dcterms:W3CDTF">2014-11-06T19:40:54Z</dcterms:modified>
  <cp:revision>87</cp:revision>
  <dc:subject/>
  <dc:title>Слайд 1</dc:title>
</cp:coreProperties>
</file>