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B642-F0C4-4C3F-8953-66934B0313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и можно выделить три ключевых асп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25E6-C1CD-420D-9954-9CD19334E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D2EC-34B7-48A4-B639-4B828A8EB6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1E9-1AD7-4B63-B12F-0027F108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A75-B5EF-4E7B-A970-17F06592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21C-D3DA-482B-94CF-CA844D2A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B9B-C530-4613-995B-9ED0CB3F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D7C1-5A21-40AE-BF20-AD8BD9C5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B54B-60C5-47DE-9BDC-85F834C7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FF42-B012-42AC-902A-B47203B5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4223-E8D5-4DDB-AA2D-2ADF8AA5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7CAB-906F-4502-8E2B-939037EC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3724-F105-48D5-B449-FEA146AB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FBBC-CB5F-4D37-986D-C80C769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6FD-9041-4AA4-983A-C4B06291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FC01-F2F3-43FC-BDBB-BC84C8DA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75AB-3C8B-4575-BCFD-3176F65D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D486-04AF-460A-91EA-65F7928F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91FD-8A5F-4A83-A29E-9FA10BA5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BB66-D4CE-4232-8B0A-6A9ADC36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04AC-67BD-47E5-9D2C-7D9D0EE7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E191-9F77-4A91-98B5-38BF1063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F215A-0D40-4EB6-84B5-A8BB58F3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1DA1-6C48-4995-AAE6-F3C9F095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A2A1-C9C3-4B07-9770-9B4D027D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068-F79F-4CE0-AD07-C9539D19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0B42-EEAC-44A3-9211-0619C016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CF06A-C2AD-4B22-9BDA-77C6BB2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1A43-4B35-442F-A06C-7FB0CCB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A5D8-FB95-4BBA-9B99-6DFAD67F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15B3-BCAD-4046-9AEE-961CA175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02BC-C23B-4C33-92AE-53267B74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B7EB-5743-4F06-B473-00A41A17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4DF6-CFF2-4C98-B80F-C647E26C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1351-40B0-49EF-808E-9CB4E53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1295-FA87-470C-901B-17C1AE2D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200-AAA7-4EE5-8A8F-F42E16B4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D686-87C5-4668-8398-EBD8FBC9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D70F-4194-41CC-96E2-F05D0D8B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CDA5-4686-45EC-8F0F-1826428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3D84-EC28-4B38-AFA8-DCCE322E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33D4B-F269-4BD4-AAFE-8266B28E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853B9-F8F9-444C-997A-54A28EA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CF3B-1E15-418C-810C-8EEB106A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0040-E8B2-4BC2-8C5D-9823E635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39310-967C-42CE-914E-5E6A729E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561F-9EF7-4056-B442-909D09CC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6DA-D9EE-4B40-9CCC-15F650EE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FE646-823C-4FDF-885A-9109B400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41980-2C98-4990-8AF7-CB6C043A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879C-054E-41A0-8653-3DE004A4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702FB-BF4C-49B8-B536-147EF3F7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D3773-7D2D-4976-A94D-7AEA7E6B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4192-997B-4115-8880-E371AFA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3F050-1FED-48AC-B2BF-C3D1F9D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7C74D-0588-47CF-8CE5-FF035B1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C1CFD-8FEA-4C4D-A828-0B2147C7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2831-2821-485A-B894-75052E2F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265-5880-477D-A4DA-03AA0A89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3FCF9-BF8C-437D-8EC7-E600C7E4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C1DED-5BB7-4BFD-8225-CA4F71C9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8AFDF-0A84-4CF9-B26D-02BB809E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55D7F-BF30-422F-B55E-B7DF889F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2D855-908E-40E8-B72E-9B1EB3AF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2D973-75E1-481B-AA18-9E333C53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1EE12-2E9C-4048-AA2C-A9D13603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7C641-9592-4B00-A320-25E32DDD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B203-43E9-4C61-8AF9-76A2E47E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46A60-E30A-4BD7-B728-683557B2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513-E845-44DE-9E2B-AD73BC30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EA952-F030-4CB7-994A-DD48BCEF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AD396-4CD1-41BD-A63F-31755554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00D7A-9195-4F0B-B4B2-7D10E4F1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7F09A-B0ED-4832-A761-F747DC4D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18580-D9AF-4D53-AF0C-62756DD7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48E3E-7B3A-4A0C-AD52-54A68C5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0E529-D529-4019-9052-D15B2A51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D0492-674D-4410-A6C8-FD7919CC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40486-F17B-474D-A6FA-8098B797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1256D-CCD2-423A-986F-4E1DCE02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2DC-D76D-400C-81BF-E11B0829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60E0B-6BB7-4746-AF2B-B66F4B23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83FD9-EEA7-4F9B-BD8E-BE462503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5D400-EEA2-4970-A4DD-E94013A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D061-92C8-40C5-B06A-24B33D1C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11CB7-047F-46DD-9EE9-7C787E57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908-86A0-4873-8BF5-08F9FEAC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2744-4F7E-4D9E-A6AF-BF541844869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4F14-758F-4730-9544-FBCD21C35AD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4FAA-15E1-40AE-B723-23AF3B2AC8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45A4-B680-4137-873A-A66F780E85A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017E-4E07-4663-B41B-CB1B257FC6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20AA-8F91-4F09-B673-4B70CF2570A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242C-D71B-4F7A-AB7F-7C5EFF9389A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6f0ff"/>
                </a:solidFill>
                <a:latin typeface="Candara"/>
              </a:rPr>
              <a:t>Педагогический  совет</a:t>
            </a:r>
            <a:br>
              <a:rPr sz="4000"/>
            </a:br>
            <a:r>
              <a:rPr b="1" lang="ru-RU" sz="4000" spc="-1" strike="noStrike">
                <a:solidFill>
                  <a:srgbClr val="d6f0ff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d6f0ff"/>
                </a:solidFill>
                <a:latin typeface="Times New Roman"/>
                <a:ea typeface="Times New Roman"/>
              </a:rPr>
              <a:t>«Сущность мониторинга качества образования и его влияние на учебно-воспитательный процесс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640" y="3284280"/>
            <a:ext cx="7561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овременные подходы к организации системы мониторинга в образовании  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lvl="1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                                                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lvl="1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ru-RU" sz="1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дготовила:   Шувалова И.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971640" y="481680"/>
            <a:ext cx="72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ониторинг обладает следующими особенност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95280" y="2221200"/>
            <a:ext cx="849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31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Непрерыв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31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Диагностич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31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нформатив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31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ратной связ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31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Науч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"/>
          <p:cNvSpPr/>
          <p:nvPr/>
        </p:nvSpPr>
        <p:spPr>
          <a:xfrm>
            <a:off x="324000" y="1431360"/>
            <a:ext cx="84168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Цель мониторинга  </a:t>
            </a:r>
            <a:r>
              <a:rPr b="0" i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перативно и своевременно выявлять все изменения, происходящие в сфере образовательного учреждения. Полученные объективные данные являются основанием для принятия управленческих реше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"/>
          <p:cNvGrpSpPr/>
          <p:nvPr/>
        </p:nvGrpSpPr>
        <p:grpSpPr>
          <a:xfrm>
            <a:off x="324000" y="404640"/>
            <a:ext cx="8597520" cy="5491080"/>
            <a:chOff x="324000" y="404640"/>
            <a:chExt cx="8597520" cy="5491080"/>
          </a:xfrm>
        </p:grpSpPr>
        <p:sp>
          <p:nvSpPr>
            <p:cNvPr id="363" name="Rectangle 11"/>
            <p:cNvSpPr/>
            <p:nvPr/>
          </p:nvSpPr>
          <p:spPr>
            <a:xfrm>
              <a:off x="324000" y="475920"/>
              <a:ext cx="8244720" cy="54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2484360" y="404640"/>
              <a:ext cx="4032720" cy="135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мониторин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483840" y="2541960"/>
              <a:ext cx="2503440" cy="254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31f43"/>
                  </a:solidFill>
                  <a:latin typeface="Times New Roman"/>
                  <a:ea typeface="Times New Roman"/>
                </a:rPr>
                <a:t>Это система сбора, обработки, хранения и распространения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3347640" y="2565000"/>
              <a:ext cx="2311200" cy="23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31f43"/>
                  </a:solidFill>
                  <a:latin typeface="Times New Roman"/>
                  <a:ea typeface="Times New Roman"/>
                </a:rPr>
                <a:t>Предназначен для информационного обеспечения управления образовательным процесс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"/>
            <p:cNvSpPr/>
            <p:nvPr/>
          </p:nvSpPr>
          <p:spPr>
            <a:xfrm>
              <a:off x="6013800" y="2565000"/>
              <a:ext cx="2907720" cy="30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31f43"/>
                  </a:solidFill>
                  <a:latin typeface="Times New Roman"/>
                  <a:ea typeface="Times New Roman"/>
                </a:rPr>
                <a:t>Данные мониторинга позволяют выносить обоснованные суждения о состоянии объекта наблюдения в любой момент времени и прогнозировать его развит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1616760" y="2282400"/>
              <a:ext cx="53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>
              <a:off x="1616760" y="228240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"/>
            <p:cNvSpPr/>
            <p:nvPr/>
          </p:nvSpPr>
          <p:spPr>
            <a:xfrm>
              <a:off x="4042080" y="228240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"/>
            <p:cNvSpPr/>
            <p:nvPr/>
          </p:nvSpPr>
          <p:spPr>
            <a:xfrm>
              <a:off x="6952680" y="228240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"/>
            <p:cNvSpPr/>
            <p:nvPr/>
          </p:nvSpPr>
          <p:spPr>
            <a:xfrm>
              <a:off x="4528080" y="1767240"/>
              <a:ext cx="0" cy="51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24000" y="977760"/>
            <a:ext cx="835164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убъектами мониторинга </a:t>
            </a:r>
            <a:r>
              <a:rPr b="0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ыступают все участники образовательного процесса. Степень их участия различна, но все они (и учителя, и ученики, и родители, и общественность) получают информацию, анализируют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ъектами мониторинга </a:t>
            </a:r>
            <a:r>
              <a:rPr b="0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являются образовательный процесс и его результаты, личностные характеристики всех участников образовательного процесса, их потребности и отношение к образовательному учреж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1258920" y="-1362240"/>
            <a:ext cx="6408720" cy="74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ы мониторинг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бразова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олог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иц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оном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мографиче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468360" y="563400"/>
            <a:ext cx="83516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и  технологии осуществления мониторинга сводятся к следующим групп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 за измен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тестовых ситуац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икация (развертывание содержания учебной деятельности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179280" y="360720"/>
            <a:ext cx="864072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мониторинг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учебной 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250920" y="480960"/>
            <a:ext cx="8713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Майоров А.Н. Мониторинг в образовании. СПб.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 Иванова Т.П. Мониторинг результативности воспитательной деятельности классного руководителя// Классный руководитель. – 2007. - №8. – С 65 – 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 Концепция общероссийской системы оценки качества образования (извлечения)//     Справочник заместителя директора школы. – 2008. – «8. – С. 10 – 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  Коротаева Е. Как организовать мониторинг// Директор школы. – 2004. - №6. – С 35 – 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Мониторинг качества учебного процесса: принципы, анализ, планирование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. –     сот. Г. П. Папова  и др., - Волгоград: Учитель, 2007. – 12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етрова О. В., Солодова О. В., Жилина С. В., Рогозина Е. А. Рекомендации к проведению мониторинга деятельности классных руководителей// Классный руководитель. – 2007. - №8. – С. 43 – 56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.  Управление инновационными процессами в образовании: проблемы и подходы к их решению/ Под ред. Г.Н. Прозументовой. Томск, 2000. – 32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8. Чивина Н. П. Мониторинг качества воспитания// Классный руководитель. – 2007. - №8. – С. 6 – 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50560" y="1052280"/>
            <a:ext cx="8497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ередина 80-х гг.</a:t>
            </a:r>
            <a:r>
              <a:rPr b="1" i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XX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век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ждународная ассоциация по оценке учебных достижений ( IAE) провела сравнительное исследование уровня знаний и умений по </a:t>
            </a:r>
            <a:r>
              <a:rPr b="0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атематике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естествознанию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13-летних школьников из 6 стран (</a:t>
            </a:r>
            <a:r>
              <a:rPr b="0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Великобритании, Ирландии, Испании, Канады, Республики Корея и США).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зультаты 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 место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    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ре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6 место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    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Ш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йтинги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560" y="1773000"/>
            <a:ext cx="8497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ританская компания </a:t>
            </a:r>
            <a:r>
              <a:rPr b="0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Economist Intelligence Unit 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попыталась выяснить, </a:t>
            </a:r>
            <a:r>
              <a:rPr b="0" lang="ru-RU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какие факторы в наибольшей степени влияют на образование, и в каких странах мира лучше всего работает система образования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зульта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 место  -   Финляндия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 место  -   Южная Коре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7 место -  СШ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0 место - Росс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ировой рейтинг уровня образования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Учетный период - 2006-2010гг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50560" y="1557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ндекс стандартизируется в виде числовых значений о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0 (минимальное)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 </a:t>
            </a:r>
            <a:r>
              <a:rPr b="0" lang="ru-RU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1 (максимальное)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витые страны должны обладать минимальным показателем </a:t>
            </a:r>
            <a:r>
              <a:rPr b="1" i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0,8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        Новая Зеландия  - 1.00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5.         США                   -  0,94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1.       Финляндия         -  0.88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9.       Россия                 -  0,78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88.     Нигер                  -  0.18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 уровня образования 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(Education Index) 2011г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место –  Южная Коре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место – Япо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место – Сингапу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3 место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осс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ША, Франция, Швейцария и Израил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Европейский рейтинг качества образования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 1 место   - Финлянд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 место  - Великобрита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место  - Голланд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8 место – Росс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вой рейтинг качества образования</a:t>
            </a:r>
            <a:br>
              <a:rPr sz="40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4 г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539640" y="2349000"/>
            <a:ext cx="8353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ереход от традиционных способов сбора сведений о школе — к педагогическому  </a:t>
            </a:r>
            <a:r>
              <a:rPr b="1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ониторингу</a:t>
            </a: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, предполагающему длительное системное слежение за состоянием системы образования.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еред современной педагогической наукой и практикой поставлена задач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58560" y="1989000"/>
            <a:ext cx="86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31f43"/>
                </a:solidFill>
                <a:latin typeface="Candara"/>
              </a:rPr>
              <a:t>    </a:t>
            </a: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о второй половине ХХ века в почвоведении процесс постоянного наблюдения за состоянием плодородного слоя земли  стал называться специальным термином – </a:t>
            </a:r>
            <a:r>
              <a:rPr b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ониторинг</a:t>
            </a:r>
            <a:r>
              <a:rPr b="0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(с английского «следить», «вести наблюдение»)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стория возникновения термина </a:t>
            </a:r>
            <a:r>
              <a:rPr b="1" i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«мониторинг»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611280" y="1197000"/>
            <a:ext cx="7993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ониторинг в образовании  </a:t>
            </a:r>
            <a:r>
              <a:rPr b="0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это система отбора, обработки, хранения и распространения информации об образовательной системе или отдельных её элементах, ориентированных на информационное обеспечение управления, которая позволяет судить о состоянии объекта  в любой момент времени и может обеспечить прогноз его развития.               </a:t>
            </a:r>
            <a:r>
              <a:rPr b="0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(А.Н.Майоров)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539640" y="1130040"/>
            <a:ext cx="820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нятие «</a:t>
            </a: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ониторинг</a:t>
            </a: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» близко к таким общенаучным педагогическим и психологическим понятиям, как «</a:t>
            </a: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ратная связь</a:t>
            </a: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», «</a:t>
            </a: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», «</a:t>
            </a: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контроль</a:t>
            </a: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», «</a:t>
            </a: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аттестация</a:t>
            </a:r>
            <a:r>
              <a:rPr b="0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5:12:00Z</dcterms:created>
  <dc:creator>Анна</dc:creator>
  <dc:description/>
  <dc:language>en-US</dc:language>
  <cp:lastModifiedBy>Ирина</cp:lastModifiedBy>
  <dcterms:modified xsi:type="dcterms:W3CDTF">2014-11-06T19:40:54Z</dcterms:modified>
  <cp:revision>87</cp:revision>
  <dc:subject/>
  <dc:title>Слайд 1</dc:title>
</cp:coreProperties>
</file>