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136-DDDF-454C-AD7D-99BADB34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2A0-FF26-45BC-8EB7-17901974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1D4-8D06-4501-8FFF-CB5AF481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0BD-6B0F-4B58-9610-68C7BC0A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449D-9AF4-4532-9692-AD02E236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6AF6-EDF5-49CE-BE41-AE850EA3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05A3-C63B-4E19-932A-C009E2CF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1BD2-335B-4696-A867-EC7FBA96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E7BE-AC65-429D-B65E-9736FB30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F56E-ABE3-404A-B8DF-299C352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1724-EB49-4EEC-8176-F298783F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1E6-C367-45F3-B2CA-C7254572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11C5-5505-452E-B505-3033CDCF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627B-C61F-4F87-A0DD-3B77B02C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C244-7BB2-403B-BBA6-82EC76BB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94D7-81D7-4B4C-92DE-6CE0B543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0B19-884E-4991-9A52-CAD120F3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8AC-5C32-4523-BD23-D40A0930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BDE-AB00-452A-BC2D-9A4681E6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515-12D9-4FFE-AF5C-FB20B9B4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FF2-DD62-419E-BB75-558F742B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D27-B12C-451F-8B01-A61122A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A00-44FA-4B02-BB6E-E14DB25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36E-9A62-46B8-AC48-FA918984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52E7-ACAC-48E9-BD6A-4E73D4D9A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AE51-4902-4128-9827-B55EAE44D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Alina Danisovna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he 21</a:t>
            </a:r>
            <a:r>
              <a:rPr b="1" lang="en-US" sz="4800" spc="-1" strike="noStrike" baseline="30000">
                <a:solidFill>
                  <a:srgbClr val="ffffb7"/>
                </a:solidFill>
                <a:latin typeface="Comic Sans MS"/>
              </a:rPr>
              <a:t>st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of Januar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Homework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4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e an essay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4600" spc="-1" strike="noStrike">
                <a:solidFill>
                  <a:srgbClr val="ffffff"/>
                </a:solidFill>
                <a:latin typeface="Comic Sans MS"/>
              </a:rPr>
              <a:t>What is the music in your life”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50-70 word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zhipova.alina@mail.r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ave a nice day and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let the music play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in your soul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457164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Senti </a:t>
            </a: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___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ental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Spirit ___al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Sen </a:t>
            </a: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__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ational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Enthus </a:t>
            </a: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_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astic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Fas </a:t>
            </a: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__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3049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nti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ent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pirit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n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S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tion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nthus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 I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stic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as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a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usic: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the soundtrack of our live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51040" y="3848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5713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E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t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Positive                Negative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emotions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t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Listening to…. makes me feel...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Match the music to its typ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4100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410080" y="2590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ub mu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avy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p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2514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)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6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8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3341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3341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3341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2578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50886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5284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5477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61333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24777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3800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72303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-360" y="244440"/>
            <a:ext cx="9372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nswer the question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the main idea of the tex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n people live without musi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ere do we listen to musi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music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20T17:53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