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C75-F504-43A1-BB71-E7BED411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234-ED66-4CC6-B1FC-1A18C77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40C-6F0D-4967-B281-213EED16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513-BFBA-4D19-9C28-72ADE6DB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149-C355-4316-83ED-B2F6C9C5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B515-C9E3-41ED-BF6F-E51B7C0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3AAF-3285-4081-A798-44AF5EB6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6DA4-78DA-4683-83EF-6892116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423-7464-48B2-A457-38CCC07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2C0-FE7F-44E6-A5B7-3B8ABBA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319-8EB0-4E99-801E-DC35EE3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525-8C1A-4A2C-8BF1-C96198A5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4A3E-451B-40C4-AB3C-305E46F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B37C-C5F0-4D45-92A1-9EF63E6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57F-4E9B-4ECD-A9D2-5FBF9FFE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9E22-D3A5-44CE-BD56-BC4CB077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9C78-C410-4386-9FB2-E0E9A3C4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67C-A595-45A4-878F-0B3413F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D5D-A130-49F9-A0D6-8AB574D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049-52AA-41D8-B22F-847289A6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D62-B4EF-4C03-9A30-045C129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DA8-7093-41D8-8478-73D63DE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936-9F25-456D-95C9-5C72D99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721-4303-41F7-B02F-3241E71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5BD-42D4-4600-BE7A-5882635FA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33E-AC08-457A-9EC8-58AE77B40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Alina Danisovna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he 21</a:t>
            </a:r>
            <a:r>
              <a:rPr b="1" lang="en-US" sz="4800" spc="-1" strike="noStrike" baseline="30000">
                <a:solidFill>
                  <a:srgbClr val="ffffb7"/>
                </a:solidFill>
                <a:latin typeface="Comic Sans MS"/>
              </a:rPr>
              <a:t>st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of Januar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Homework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4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e an essay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600" spc="-1" strike="noStrike">
                <a:solidFill>
                  <a:srgbClr val="ffffff"/>
                </a:solidFill>
                <a:latin typeface="Comic Sans MS"/>
              </a:rPr>
              <a:t>What is the music in your life”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50-70 word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zhipova.alina@mail.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ave a nice day and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let the music play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in your soul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57164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enti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_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ent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pirit ___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en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ational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nthus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stic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Fas </a:t>
            </a: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__ 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ina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3049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nti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ent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n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S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ion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nthu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 I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stic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a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usic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the soundtrack of our liv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51040" y="3848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13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EMO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Positive                Negative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emotions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Listening to…. makes me feel...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Match the music to its ty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10080" y="2590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ub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vy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2514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6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3341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3341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341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2578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5088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5284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5477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6133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4777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3800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7230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-360" y="244440"/>
            <a:ext cx="9372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nswer the question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the main idea of the tex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n people live without mus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do we listen to mus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usic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0T17:53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