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8886-3C16-4886-8BB2-D424263A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20A3-CB46-43FA-98AC-89FC523E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B09-D165-4461-B757-D6FE69F1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F7B7-19E6-4383-A991-07F0B6FA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51B7-7B44-4AB4-8902-70735386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B5D9-7780-464C-8DF8-E975DED7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CC69-0BEE-493B-8470-46B34456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CAC0-C49B-4694-8254-EB27312B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57FF-DDE0-4CCB-BE5E-61F0B9D1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64A6-EAFE-4886-886B-452328E6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A287-71B4-41DA-B049-78323A1F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195E-9302-4920-AAB7-59067744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592D-E3CC-4056-8570-BC6B2C6B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AF9E-49F6-413C-9706-1A761E9E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8D23-83D6-421F-8BD6-2A38BC56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1F7B-8FF5-4BC5-9AEB-0EE93615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4ED4-3678-4820-8DAE-2E7E627A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C015-F41C-4037-928C-98304DBD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BACA-5B94-49B6-938A-7B07ED12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4BB-D81D-45F8-9F61-FE430D25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BB5C-2E83-4A8E-A0C5-C78474FA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E131-967B-473E-BC0F-34985174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C91C-4AC4-4D1C-8692-E0B41404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3174-2DF9-4BB7-8801-D5044ECF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76BF-55AB-4D22-BE92-E2020626910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D4C8-BAC1-45A7-B0BF-A823EBB49F5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7d47d"/>
                </a:solidFill>
                <a:latin typeface="Monotype Corsiva"/>
              </a:rPr>
              <a:t>Некоторые  приемы запоминания тригонометрических формул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68360" y="4581360"/>
            <a:ext cx="71992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onotype Corsiva"/>
              </a:rPr>
              <a:t>Богданова Ирина , 10-б класс МБОУ ОСОШ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onotype Corsiva"/>
              </a:rPr>
              <a:t>(базовая школа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9995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Monotype Corsiva"/>
              </a:rPr>
              <a:t>Формулы приведения: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907920"/>
            <a:ext cx="74772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f1311"/>
                </a:solidFill>
                <a:latin typeface="Times New Roman"/>
              </a:rPr>
              <a:t>Математику оставалось лишь записывать ответ, указывая знак данной функц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Times New Roman"/>
              </a:rPr>
              <a:t>Например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cos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sin α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;    </a:t>
            </a:r>
            <a:r>
              <a:rPr b="1" lang="de-DE" sz="2800" spc="-1" strike="noStrike">
                <a:solidFill>
                  <a:srgbClr val="2f1311"/>
                </a:solidFill>
                <a:latin typeface="Arial"/>
              </a:rPr>
              <a:t>sin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    = </a:t>
            </a:r>
            <a:r>
              <a:rPr b="1" lang="de-DE" sz="2800" spc="-1" strike="noStrike">
                <a:solidFill>
                  <a:srgbClr val="2f1311"/>
                </a:solidFill>
                <a:latin typeface="Arial"/>
              </a:rPr>
              <a:t>sin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α</a:t>
            </a:r>
            <a:r>
              <a:rPr b="1" lang="de-DE" sz="28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1" lang="de-DE" sz="2800" spc="-1" strike="noStrike">
                <a:solidFill>
                  <a:srgbClr val="2f1311"/>
                </a:solidFill>
                <a:latin typeface="Arial"/>
              </a:rPr>
              <a:t>tg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        </a:t>
            </a: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= </a:t>
            </a:r>
            <a:r>
              <a:rPr b="1" lang="de-DE" sz="2800" spc="-1" strike="noStrike">
                <a:solidFill>
                  <a:srgbClr val="2f1311"/>
                </a:solidFill>
                <a:latin typeface="Arial"/>
              </a:rPr>
              <a:t>-tg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α</a:t>
            </a:r>
            <a:r>
              <a:rPr b="1" lang="de-DE" sz="2800" spc="-1" strike="noStrike">
                <a:solidFill>
                  <a:srgbClr val="2f1311"/>
                </a:solidFill>
                <a:latin typeface="Arial"/>
              </a:rPr>
              <a:t>;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de-DE" sz="2800" spc="-1" strike="noStrike">
                <a:solidFill>
                  <a:srgbClr val="2f1311"/>
                </a:solidFill>
                <a:latin typeface="Arial"/>
              </a:rPr>
              <a:t>tg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      = </a:t>
            </a:r>
            <a:r>
              <a:rPr b="1" lang="de-DE" sz="2800" spc="-1" strike="noStrike">
                <a:solidFill>
                  <a:srgbClr val="2f1311"/>
                </a:solidFill>
                <a:latin typeface="Arial"/>
              </a:rPr>
              <a:t>tg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α</a:t>
            </a: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.</a:t>
            </a: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042920" y="2349360"/>
                <a:ext cx="1081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971640" y="3284640"/>
                <a:ext cx="12240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356000" y="2492280"/>
                <a:ext cx="936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211640" y="3429000"/>
                <a:ext cx="934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684360" y="5589720"/>
            <a:ext cx="914400" cy="91440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5280" y="6021360"/>
            <a:ext cx="151272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116000" y="5444640"/>
            <a:ext cx="0" cy="1413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6000" y="4869000"/>
            <a:ext cx="6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Times New Roman"/>
              </a:rPr>
              <a:t>sin α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74360" y="433404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af7d"/>
                </a:solidFill>
                <a:latin typeface="Times New Roman"/>
              </a:rPr>
              <a:t>Знаки тригонометрических функций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03640" y="5661000"/>
            <a:ext cx="914400" cy="8431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59280" y="6093000"/>
            <a:ext cx="122544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635280" y="5445000"/>
            <a:ext cx="0" cy="1224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03640" y="486900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Times New Roman"/>
              </a:rPr>
              <a:t>cos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87280" y="566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09640" y="59691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87280" y="5969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440" y="56610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09440" y="57340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09440" y="6093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49440" y="60930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219640" y="5661000"/>
            <a:ext cx="865080" cy="79236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651640" y="5445000"/>
            <a:ext cx="0" cy="1224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6093000"/>
            <a:ext cx="129564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1640" y="5734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5364000" y="6084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44920" y="5681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05280" y="6040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03640" y="4941720"/>
            <a:ext cx="16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f1311"/>
                </a:solidFill>
                <a:latin typeface="Times New Roman"/>
              </a:rPr>
              <a:t>tg </a:t>
            </a:r>
            <a:r>
              <a:rPr b="1" lang="en-US" sz="2000" spc="-1" strike="noStrike">
                <a:solidFill>
                  <a:srgbClr val="2f1311"/>
                </a:solidFill>
                <a:latin typeface="Times New Roman"/>
              </a:rPr>
              <a:t>α</a:t>
            </a:r>
            <a:r>
              <a:rPr b="1" lang="ru-RU" sz="2000" spc="-1" strike="noStrike">
                <a:solidFill>
                  <a:srgbClr val="2f1311"/>
                </a:solidFill>
                <a:latin typeface="Times New Roman"/>
              </a:rPr>
              <a:t>  и  с</a:t>
            </a:r>
            <a:r>
              <a:rPr b="1" lang="de-DE" sz="2000" spc="-1" strike="noStrike">
                <a:solidFill>
                  <a:srgbClr val="2f1311"/>
                </a:solidFill>
                <a:latin typeface="Times New Roman"/>
              </a:rPr>
              <a:t>tg </a:t>
            </a:r>
            <a:r>
              <a:rPr b="1" lang="en-US" sz="2000" spc="-1" strike="noStrike">
                <a:solidFill>
                  <a:srgbClr val="2f1311"/>
                </a:solidFill>
                <a:latin typeface="Times New Roman"/>
              </a:rPr>
              <a:t>α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7440" y="522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888920" y="5824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36720" y="530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86160" y="587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653080" y="530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52920" y="589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566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30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КОНКРЕТНО-ОБРАЗНОЕ МЫШЛЕ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Основное тригонометрическое тождество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619452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осинус квадрат очень рад:                   К нему едет брат- синус квадра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огда встретятся они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кружность удивитс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ыйдет целая сем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То есть единиц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ЗАПОМИНАНИЕ ФОРМУЛ С ИСПОЛЬЗОВАНИЕМ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ЗРИТЕЛЬНОЙ ПАМЯТ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55640" y="2154240"/>
            <a:ext cx="61927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ИСПОЛЬЗОВАНИЕ МНЕМОТЕХНИЧЕСКИХ СТИМУЛЯТОР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пример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ссоциации </a:t>
            </a: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«синус – синий, косинус – косяк (дверной)»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способствует запоминанию множества математических фактов из различных разделов спецификации экзаменационной работы, что может помочь выпускнику во время сдачи ЕГЭ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ля запоминания определения синуса (косинуса) острого угла прямоугольного треугольника (отношение противолежащего (прилежащего) катета к гипотенузе)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строим логическую вереницу: </a:t>
            </a: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«косинус – косяк – дверь – дверь приложена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(прилежащий катет)</a:t>
            </a: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 к косяку»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ывод: косинус – отношение прилежащего катета к гипотенуз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7d47d"/>
                </a:solidFill>
                <a:latin typeface="Monotype Corsiva"/>
              </a:rPr>
              <a:t>Цель работы: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знакомиться с мнемоническими правилами для запоминания формул приведения и значений тригонометрических функций некоторых углов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7d47d"/>
                </a:solidFill>
                <a:latin typeface="Times New Roman"/>
              </a:rPr>
              <a:t>способствовать развитию логического мышления и устной математической речи при поиске решения поставленной проблемы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ДИАГНОСТИ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92240" y="1460880"/>
            <a:ext cx="6288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В опросе приняло участ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23 ученик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У большинства учащихся лучш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развита слуховая (70%) 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двигательная   (74%)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и словесно - образная память (87%)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У большинства учащихся плохо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развита оперативная память  (78%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ВЫВОД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собенность развития памяти учащихся подтверждает необходимость в поиске логических и ассоциативных приемов запоминания форму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ВЕБРАЛЬНО-ЛОГИЧЕСКОЕ МЫШЛЕНИЕ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Monotype Corsiva"/>
              </a:rPr>
              <a:t>1. Притча о трех дамах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50920" y="3141720"/>
          <a:ext cx="7386480" cy="3322440"/>
        </p:xfrm>
        <a:graphic>
          <a:graphicData uri="http://schemas.openxmlformats.org/drawingml/2006/table">
            <a:tbl>
              <a:tblPr/>
              <a:tblGrid>
                <a:gridCol w="1846080"/>
                <a:gridCol w="1847880"/>
                <a:gridCol w="1846440"/>
                <a:gridCol w="1846080"/>
              </a:tblGrid>
              <a:tr h="11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α</a:t>
                      </a: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30º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45º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60º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36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sin</a:t>
                      </a:r>
                      <a:r>
                        <a:rPr b="0" lang="ru-RU" sz="36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8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cos</a:t>
                      </a:r>
                      <a:r>
                        <a:rPr b="0" lang="ru-RU" sz="32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771480" y="2122560"/>
            <a:ext cx="610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31840" y="215280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700280"/>
            <a:ext cx="7489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1341360"/>
            <a:ext cx="787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Пошли три дамы гулять. Первая дама, вторая дама  и третья дам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Monotype Corsiva"/>
              </a:rPr>
              <a:t>Притча о трех дамах:</a:t>
            </a:r>
            <a:r>
              <a:rPr b="0" lang="en-US" sz="4400" spc="-1" strike="noStrike">
                <a:solidFill>
                  <a:srgbClr val="f7d47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63520" y="3213000"/>
          <a:ext cx="7404120" cy="3311640"/>
        </p:xfrm>
        <a:graphic>
          <a:graphicData uri="http://schemas.openxmlformats.org/drawingml/2006/table">
            <a:tbl>
              <a:tblPr/>
              <a:tblGrid>
                <a:gridCol w="1849320"/>
                <a:gridCol w="1852560"/>
                <a:gridCol w="1852920"/>
                <a:gridCol w="1849320"/>
              </a:tblGrid>
              <a:tr h="117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α</a:t>
                      </a: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30º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45º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60º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sin</a:t>
                      </a:r>
                      <a:r>
                        <a:rPr b="0" lang="ru-RU" sz="36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6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cos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771640" y="4437000"/>
                <a:ext cx="7257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771480" y="2122560"/>
            <a:ext cx="610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31840" y="215280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26828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И неожиданно пошел дождь. Все дамы открыли зонтики, и одели по паре калош.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500720" y="4437000"/>
                <a:ext cx="8650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443640" y="4437000"/>
                <a:ext cx="6350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Monotype Corsiva"/>
              </a:rPr>
              <a:t>Притча о трех дамах: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50920" y="3429000"/>
          <a:ext cx="7404120" cy="3095280"/>
        </p:xfrm>
        <a:graphic>
          <a:graphicData uri="http://schemas.openxmlformats.org/drawingml/2006/table">
            <a:tbl>
              <a:tblPr/>
              <a:tblGrid>
                <a:gridCol w="1849320"/>
                <a:gridCol w="1852560"/>
                <a:gridCol w="1852920"/>
                <a:gridCol w="1849320"/>
              </a:tblGrid>
              <a:tr h="12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α</a:t>
                      </a: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30º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45º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60º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sin</a:t>
                      </a:r>
                      <a:r>
                        <a:rPr b="0" lang="ru-RU" sz="36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01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cos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372360" y="5589720"/>
                <a:ext cx="514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427640" y="5589720"/>
                <a:ext cx="7207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771480" y="2122560"/>
            <a:ext cx="610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31840" y="215280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20" y="148428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Прогулка была закончена. Первая дама, вторая дама и третья дама пошли домо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484360" y="5589720"/>
                <a:ext cx="7192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Monotype Corsiva"/>
              </a:rPr>
              <a:t>Значения синуса и косинуса для углов в  </a:t>
            </a:r>
            <a:r>
              <a:rPr b="1" lang="en-US" sz="4000" spc="-1" strike="noStrike">
                <a:solidFill>
                  <a:srgbClr val="f7d47d"/>
                </a:solidFill>
                <a:latin typeface="Monotype Corsiva"/>
              </a:rPr>
              <a:t>30º, 45º </a:t>
            </a:r>
            <a:r>
              <a:rPr b="0" lang="en-US" sz="4000" spc="-1" strike="noStrike">
                <a:solidFill>
                  <a:srgbClr val="f7d47d"/>
                </a:solidFill>
                <a:latin typeface="Monotype Corsiva"/>
              </a:rPr>
              <a:t>и</a:t>
            </a:r>
            <a:r>
              <a:rPr b="1" lang="en-US" sz="4000" spc="-1" strike="noStrike">
                <a:solidFill>
                  <a:srgbClr val="f7d47d"/>
                </a:solidFill>
                <a:latin typeface="Monotype Corsiva"/>
              </a:rPr>
              <a:t> 60º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2276640"/>
          <a:ext cx="7404120" cy="3060360"/>
        </p:xfrm>
        <a:graphic>
          <a:graphicData uri="http://schemas.openxmlformats.org/drawingml/2006/table">
            <a:tbl>
              <a:tblPr/>
              <a:tblGrid>
                <a:gridCol w="1849320"/>
                <a:gridCol w="1852560"/>
                <a:gridCol w="1852920"/>
                <a:gridCol w="1849320"/>
              </a:tblGrid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α</a:t>
                      </a: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30º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45º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60º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sin</a:t>
                      </a:r>
                      <a:r>
                        <a:rPr b="0" lang="ru-RU" sz="36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cos</a:t>
                      </a:r>
                      <a:r>
                        <a:rPr b="0" lang="ru-RU" sz="3200" spc="-1" strike="noStrike">
                          <a:solidFill>
                            <a:srgbClr val="f7d47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372360" y="4437000"/>
                <a:ext cx="5871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427640" y="3500280"/>
                <a:ext cx="7207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771480" y="2122560"/>
            <a:ext cx="610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31840" y="215280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627280" y="4437000"/>
                <a:ext cx="7192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427640" y="4437000"/>
                <a:ext cx="7207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700360" y="3500280"/>
                <a:ext cx="587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372360" y="3500280"/>
                <a:ext cx="7189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549720"/>
            <a:ext cx="7335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Чтобы указать значения </a:t>
            </a:r>
            <a:r>
              <a:rPr b="0" lang="ru-RU" sz="36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тангенса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котангенса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тех же углов достаточно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спомнить ОТТ, т.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tg α 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=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           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635280" y="2565360"/>
                <a:ext cx="1081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25440" y="3933000"/>
            <a:ext cx="679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а котангенс взаимно обратная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функция для тангенса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Monotype Corsiva"/>
              </a:rPr>
              <a:t>2. Формулы приведения: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907920"/>
            <a:ext cx="77644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-Жил рассеянный математик, и каждый раз преобразовывая тригонометрические функции углов вида            ,         ,          ,         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он спрашивал у своей лошади, жующей за окном сено, надо менять функцию на «кофункцию» или нет. А лошадь кивала головой по той оси, которой принадлежала  точка       ,        или       ,      , соответствую 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щая первому слагаемому аргумент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084720" y="1700280"/>
                <a:ext cx="863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±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148360" y="1844640"/>
                <a:ext cx="792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±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995640" y="1773360"/>
                <a:ext cx="10810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±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020000" y="1844640"/>
                <a:ext cx="720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±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763640" y="3645000"/>
                <a:ext cx="4320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556000" y="3645000"/>
                <a:ext cx="431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851280" y="3716280"/>
                <a:ext cx="433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500720" y="3645000"/>
                <a:ext cx="4316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3132000" y="4941720"/>
            <a:ext cx="1511280" cy="151164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3851280" y="4652640"/>
            <a:ext cx="0" cy="2205000"/>
          </a:xfrm>
          <a:prstGeom prst="line">
            <a:avLst/>
          </a:prstGeom>
          <a:ln w="9360">
            <a:solidFill>
              <a:srgbClr val="79af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00360" y="5734080"/>
            <a:ext cx="2376360" cy="0"/>
          </a:xfrm>
          <a:prstGeom prst="line">
            <a:avLst/>
          </a:prstGeom>
          <a:ln w="9360">
            <a:solidFill>
              <a:srgbClr val="79af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851280" y="4869000"/>
                <a:ext cx="3603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419640" y="5950080"/>
                <a:ext cx="431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132000" y="5373720"/>
                <a:ext cx="433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284720" y="5734080"/>
                <a:ext cx="4316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5202000" y="5538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eb3d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64000" y="458136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eb3d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5:15:33Z</dcterms:created>
  <dc:creator>persnal</dc:creator>
  <dc:description/>
  <dc:language>en-US</dc:language>
  <cp:lastModifiedBy>Х</cp:lastModifiedBy>
  <dcterms:modified xsi:type="dcterms:W3CDTF">2012-11-16T03:58:39Z</dcterms:modified>
  <cp:revision>11</cp:revision>
  <dc:subject/>
  <dc:title>Тригонометрические формулы и приемы их запомин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