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3B7-1BAF-4687-93CA-46B370B2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CDE-9ED7-4AAE-8258-EE8095A0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F0E-C8F7-4500-9361-791F86A8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8B1-41CE-48B7-8B5B-822D2015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F28-8C83-4435-AC32-2C75476E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0DEB-D7F0-4ABD-8925-FED4FB5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E3E8-B062-4C3A-9B14-CF30A49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5A67-5BA5-4D43-96CB-293A4401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E89-1024-4B73-8EF6-EBE586B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DEE-7429-4C14-9D58-FD1F052A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AC0F-E559-4A16-AFAA-D62DCAC0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A7A-C2CE-4252-A07A-81897DA1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2DAD-CFD4-422C-9904-8217AC9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120F-F2D4-46AA-B56A-EB50815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3269-23C6-4874-B992-0D212A4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206F-8EE0-4857-A5BB-34B14CE8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F0D-9457-472D-AF99-7DD7679A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135-D8C5-4B4F-873C-305D7D5E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864-690B-4DA4-8AEC-2DB5535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974-B5BA-4BE0-A156-79D9F7C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8F0-B9AE-4DE4-AE32-546977F6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AF6-39F8-4C88-A2B3-7323F3B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D99-700F-4A3D-B00A-0CA3E93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5CF-6D5F-4B48-A5AB-777D1F7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77D9-84AD-4D78-8A0E-8C4B6482265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4CAA-C61B-47F0-BD87-62FE9C75DC1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Monotype Corsiva"/>
              </a:rPr>
              <a:t>Некоторые  приемы запоминания тригонометрических формул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4581360"/>
            <a:ext cx="71992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Богданова Ирина , 10-б класс МБОУ ОСО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(базовая школ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999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Monotype Corsiva"/>
              </a:rPr>
              <a:t>Формулы приведения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4772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Математику оставалось лишь записывать ответ, указывая знак данной функ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Например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s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in α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;   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sin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=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sin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α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tg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=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-tg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α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tg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=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tg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α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42920" y="2349360"/>
                <a:ext cx="108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71640" y="3284640"/>
                <a:ext cx="1224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356000" y="2492280"/>
                <a:ext cx="936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11640" y="3429000"/>
                <a:ext cx="934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84360" y="5589720"/>
            <a:ext cx="91440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021360"/>
            <a:ext cx="1512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116000" y="5444640"/>
            <a:ext cx="0" cy="1413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6000" y="486900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sin α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4360" y="433404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Times New Roman"/>
              </a:rPr>
              <a:t>Знаки тригонометрических функций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3640" y="5661000"/>
            <a:ext cx="914400" cy="843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6093000"/>
            <a:ext cx="12254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635280" y="5445000"/>
            <a:ext cx="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3640" y="4869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cos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09640" y="5969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969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440" y="5661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9440" y="609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9440" y="6093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5661000"/>
            <a:ext cx="865080" cy="792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651640" y="5445000"/>
            <a:ext cx="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6093000"/>
            <a:ext cx="1295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5734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64000" y="6084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4920" y="56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05280" y="6040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494172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f1311"/>
                </a:solidFill>
                <a:latin typeface="Times New Roman"/>
              </a:rPr>
              <a:t>tg </a:t>
            </a: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α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  и  с</a:t>
            </a:r>
            <a:r>
              <a:rPr b="1" lang="de-DE" sz="2000" spc="-1" strike="noStrike">
                <a:solidFill>
                  <a:srgbClr val="2f1311"/>
                </a:solidFill>
                <a:latin typeface="Times New Roman"/>
              </a:rPr>
              <a:t>tg </a:t>
            </a: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7440" y="522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889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6720" y="530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6160" y="587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530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52920" y="589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566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КОНКРЕТНО-ОБРАЗНОЕ МЫШ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сновное тригонометрическое тождеств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6194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синус квадрат очень рад:                   К нему едет брат- синус квадра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гда встретятся он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кружность удивит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йдет целая сем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о есть единиц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ПОМИНАНИЕ ФОРМУЛ С ИСПОЛЬЗОВАНИЕ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РИТЕЛЬНОЙ ПАМЯ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5640" y="2154240"/>
            <a:ext cx="6192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ИСПОЛЬЗОВАНИЕ МНЕМОТЕХНИЧЕСКИХ СТИМУЛЯТОР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ссоциации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инус – синий, косинус – косяк (дверной)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пособствует запоминанию множества математических фактов из различных разделов спецификации экзаменационной работы, что может помочь выпускнику во время сдачи ЕГЭ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ля запоминания определения синуса (косинуса) острого угла прямоугольного треугольника (отношение противолежащего (прилежащего) катета к гипотенузе)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роим логическую вереницу: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косинус – косяк – дверь – дверь приложена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(прилежащий катет)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 к косяку»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вод: косинус – отношение прилежащего катета к гипотенуз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Monotype Corsiva"/>
              </a:rPr>
              <a:t>Цель работы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знакомиться с мнемоническими правилами для запоминания формул приведения и значений тригонометрических функций некоторых угл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7d47d"/>
                </a:solidFill>
                <a:latin typeface="Times New Roman"/>
              </a:rPr>
              <a:t>способствовать развитию логического мышления и устной математической речи при поиске решения поставленной проблем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92240" y="1460880"/>
            <a:ext cx="628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В опросе приняло участ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23 учени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У большинства учащихся лучш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развита слуховая (70%) 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двигательная   (74%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и словесно - образная память (87%)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У большинства учащихся плох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развита оперативная память  (78%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обенность развития памяти учащихся подтверждает необходимость в поиске логических и ассоциативных приемов запоминания форму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ЕБРАЛЬНО-ЛОГИЧЕСКОЕ МЫШЛЕ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1. Притча о трех дамах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3141720"/>
          <a:ext cx="7386480" cy="3322440"/>
        </p:xfrm>
        <a:graphic>
          <a:graphicData uri="http://schemas.openxmlformats.org/drawingml/2006/table">
            <a:tbl>
              <a:tblPr/>
              <a:tblGrid>
                <a:gridCol w="1846080"/>
                <a:gridCol w="1847880"/>
                <a:gridCol w="1846440"/>
                <a:gridCol w="184608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700280"/>
            <a:ext cx="748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341360"/>
            <a:ext cx="787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Пошли три дамы гулять. Первая дама, вторая дама  и третья дам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Притча о трех дамах:</a:t>
            </a:r>
            <a:r>
              <a:rPr b="0" lang="en-US" sz="4400" spc="-1" strike="noStrike">
                <a:solidFill>
                  <a:srgbClr val="f7d47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3520" y="3213000"/>
          <a:ext cx="7404120" cy="3311640"/>
        </p:xfrm>
        <a:graphic>
          <a:graphicData uri="http://schemas.openxmlformats.org/drawingml/2006/table">
            <a:tbl>
              <a:tblPr/>
              <a:tblGrid>
                <a:gridCol w="1849320"/>
                <a:gridCol w="1852560"/>
                <a:gridCol w="1852920"/>
                <a:gridCol w="1849320"/>
              </a:tblGrid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71640" y="4437000"/>
                <a:ext cx="725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268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И неожиданно пошел дождь. Все дамы открыли зонтики, и одели по паре калош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500720" y="4437000"/>
                <a:ext cx="865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443640" y="4437000"/>
                <a:ext cx="635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Monotype Corsiva"/>
              </a:rPr>
              <a:t>Притча о трех дамах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3429000"/>
          <a:ext cx="7404120" cy="3095280"/>
        </p:xfrm>
        <a:graphic>
          <a:graphicData uri="http://schemas.openxmlformats.org/drawingml/2006/table">
            <a:tbl>
              <a:tblPr/>
              <a:tblGrid>
                <a:gridCol w="1849320"/>
                <a:gridCol w="1852560"/>
                <a:gridCol w="1852920"/>
                <a:gridCol w="1849320"/>
              </a:tblGrid>
              <a:tr h="12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5589720"/>
                <a:ext cx="514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427640" y="5589720"/>
                <a:ext cx="720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484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Прогулка была закончена. Первая дама, вторая дама и третья дама пошли дом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84360" y="5589720"/>
                <a:ext cx="719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Значения синуса и косинуса для углов в  </a:t>
            </a:r>
            <a:r>
              <a:rPr b="1" lang="en-US" sz="4000" spc="-1" strike="noStrike">
                <a:solidFill>
                  <a:srgbClr val="f7d47d"/>
                </a:solidFill>
                <a:latin typeface="Monotype Corsiva"/>
              </a:rPr>
              <a:t>30º, 45º </a:t>
            </a: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и</a:t>
            </a:r>
            <a:r>
              <a:rPr b="1" lang="en-US" sz="4000" spc="-1" strike="noStrike">
                <a:solidFill>
                  <a:srgbClr val="f7d47d"/>
                </a:solidFill>
                <a:latin typeface="Monotype Corsiva"/>
              </a:rPr>
              <a:t> 60º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2276640"/>
          <a:ext cx="7404120" cy="3060360"/>
        </p:xfrm>
        <a:graphic>
          <a:graphicData uri="http://schemas.openxmlformats.org/drawingml/2006/table">
            <a:tbl>
              <a:tblPr/>
              <a:tblGrid>
                <a:gridCol w="1849320"/>
                <a:gridCol w="1852560"/>
                <a:gridCol w="1852920"/>
                <a:gridCol w="184932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372360" y="4437000"/>
                <a:ext cx="58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427640" y="3500280"/>
                <a:ext cx="72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27280" y="4437000"/>
                <a:ext cx="719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427640" y="4437000"/>
                <a:ext cx="72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00360" y="3500280"/>
                <a:ext cx="587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72360" y="3500280"/>
                <a:ext cx="7189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49720"/>
            <a:ext cx="733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тобы указать значения </a:t>
            </a: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тангенса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котангенса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ех же углов достаточн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спомнить ОТТ, т.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tg α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          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256536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5440" y="3933000"/>
            <a:ext cx="679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 котангенс взаимно обратна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функция для тангенса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Monotype Corsiva"/>
              </a:rPr>
              <a:t>2. Формулы приведения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7644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-Жил рассеянный математик, и каждый раз преобразовывая тригонометрические функции углов вида            ,         ,          ,         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он спрашивал у своей лошади, жующей за окном сено, надо менять функцию на «кофункцию» или нет. А лошадь кивала головой по той оси, которой принадлежала  точка       ,        или       ,      , соответствую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щая первому слагаемому аргумен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84720" y="1700280"/>
                <a:ext cx="8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148360" y="1844640"/>
                <a:ext cx="79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1773360"/>
                <a:ext cx="108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20000" y="184464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763640" y="3645000"/>
                <a:ext cx="432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556000" y="3645000"/>
                <a:ext cx="431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51280" y="371628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00720" y="3645000"/>
                <a:ext cx="431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3132000" y="4941720"/>
            <a:ext cx="1511280" cy="151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51280" y="4652640"/>
            <a:ext cx="0" cy="2205000"/>
          </a:xfrm>
          <a:prstGeom prst="line">
            <a:avLst/>
          </a:prstGeom>
          <a:ln w="936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5734080"/>
            <a:ext cx="2376360" cy="0"/>
          </a:xfrm>
          <a:prstGeom prst="line">
            <a:avLst/>
          </a:prstGeom>
          <a:ln w="936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51280" y="4869000"/>
                <a:ext cx="36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19640" y="5950080"/>
                <a:ext cx="431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132000" y="537372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84720" y="5734080"/>
                <a:ext cx="431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202000" y="553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eb3d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64000" y="4581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eb3d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5:33Z</dcterms:created>
  <dc:creator>persnal</dc:creator>
  <dc:description/>
  <dc:language>en-US</dc:language>
  <cp:lastModifiedBy>Х</cp:lastModifiedBy>
  <dcterms:modified xsi:type="dcterms:W3CDTF">2012-11-16T03:58:39Z</dcterms:modified>
  <cp:revision>11</cp:revision>
  <dc:subject/>
  <dc:title>Тригонометрические формулы и приемы их запомин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