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C0F-A194-45B1-87D5-7F355E5B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4AF-981B-4127-B1F2-EC71D56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0BF-26B0-43A4-8202-03EBE7F8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6FB-3F8C-4172-90E8-0F555780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077E-9CCD-4DD6-8EC2-A4401669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B8B-82D4-483C-90F4-44BCD29F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4DB7-2FD6-4F42-BC27-ECB3E03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B189-DA11-4131-BD9B-5FC1555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8B4-7A37-41F1-BE08-85671FA9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2A8-FFF1-4E89-AB7A-6B224376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1AB9-BE9E-4D21-A3B5-8C7FC7C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DFA-938B-4723-AA7C-5C419E43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BDB-0DDD-4032-8D02-DB483A2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8606-B182-44F9-A457-1ECF0EC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3A4-B3B3-4D53-9903-4723A7F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6DE-99E6-456D-BA79-76F5D559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90A-8917-445E-864B-97FC53A6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8C2-5F50-495B-9052-6CC7816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3D3-7EED-4DAB-9D2C-C697D44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6E5-4363-407B-A1EC-B44A875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D75-1ECE-42B2-849B-2A11F6B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840-3FE9-4092-A2DA-CF6A34C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B1F-DB71-445C-BC38-747EC75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04A-1A2A-4635-A6E9-C256DF2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8AF-73D0-4E70-B5A1-2DC6E9F7AA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5771-344D-45A6-A123-FC34CE597F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1/Coat_of_arms_Nizhny_Novgorod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upload.wikimedia.org/wikipedia/commons/7/73/Coat_of_arms_of_Nizhny_Novgorod_Region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/index.php?title=&#1060;&#1072;&#1081;&#1083;:Nizhni_Novgorod_sky_view.jpg&amp;filetimestamp=20091214201446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upload.wikimedia.org/wikipedia/ru/6/61/Vid_na_Ivanovskuyu_bashnyu_Nizhegorodskogo_Kremlya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world/ker/24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cosystema.ru/08nature/world/ker/19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ecosystema.ru/08nature/world/ker/29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-dialog.ru/media/tour/large/546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pletnik.ru/img/__post/b7/biggerb_072049da8ae27a64cb3efc098b7cfe0c_349_b72e6194bc701607ba730cd141cff7e9_900.gif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niznov-nekropol.ucoz.ru/_si/0/s06540605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b-nn.ru/content/image/basharina/kr_sor-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kobarss.com/photos/ships&amp;buildings/rl_shipb2_big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sdelanounas.ru/images/img/www.krsormovo.nnov.ru/up_chips_jeyhun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azregionaldevelopment.az/rus/uploads/posts/2009-11/1257408234_182830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nta-nn.ru/upload/iblock/9c0/DSCF1975.jpg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upi-polet.ru/files/imagecache/tour_image_full/image/tour_image/sokol_airbase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276640"/>
            <a:ext cx="7920360" cy="175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9efee"/>
                </a:solidFill>
                <a:latin typeface="Garamond"/>
              </a:rPr>
              <a:t>Тема: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Нижний Новгород и Нижегородская область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: ученик 4 «в» класс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У СОШ №3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мофеев Евген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ила: Машкова С.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Файл:Coat of arms Nizhny Novgoro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4804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Файл:Coat of arms of Nizhny Novgorod Region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92840" y="0"/>
            <a:ext cx="235116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Нижний Новгород (Нижегородская область)"/>
          <p:cNvPicPr/>
          <p:nvPr/>
        </p:nvPicPr>
        <p:blipFill>
          <a:blip r:embed="rId1"/>
          <a:stretch/>
        </p:blipFill>
        <p:spPr>
          <a:xfrm>
            <a:off x="5724360" y="260280"/>
            <a:ext cx="3248280" cy="34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Red pog.png"/>
          <p:cNvPicPr/>
          <p:nvPr/>
        </p:nvPicPr>
        <p:blipFill>
          <a:blip r:embed="rId2"/>
          <a:stretch/>
        </p:blipFill>
        <p:spPr>
          <a:xfrm>
            <a:off x="6877080" y="191628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0" y="7200"/>
            <a:ext cx="5545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.    Ни́жний Но́вгоро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административный центр Нижегородской области, центр и крупнейший город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Приволжского федерального округ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ижний Новгород расположен при слиянии двух крупнейших водных путей Европейской части России — рек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и Оки. Город разделяется Окой на две части: восточную возвышенную «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нагор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», расположенную по правым берегам Оки и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а северо-западной оконечности Приволжской возвышенности — Дятловых горах, и западную (по левому берегу Оки и правому берегу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 низинную «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зареч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». Устье Оки — географический центр Восточно-Европейской равни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щадь города — 46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Протяжённость города вдоль Оки 20 км, вдоль Волги — около 30 км. На территории города находится 33 озера и 12 ре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3" descr="300px-Nizhni_Novgorod_sky_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Файл:Vid na Ivanovskuyu bashnyu Nizhegorodskogo Kremly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3860640"/>
            <a:ext cx="4308480" cy="28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11280" y="404640"/>
            <a:ext cx="772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 Нижегородск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положена в зонах южно-таёжных, смешанных и широколиственных лесов, а также лесостепи. Южно-таёжные и подтаёжные (смешанные) зоны находятся в Левобережье, а широколиственные леса и лесостепи в Правобережье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чв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имущественно дерново-подзолистые, подзолистые, серые лесны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Картинка 40 из 26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05000"/>
            <a:ext cx="267660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артинка 33 из 2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2205000"/>
            <a:ext cx="25524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Картинка 36 из 265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22050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611280" y="-360"/>
            <a:ext cx="78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 В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жегородской област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4888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елённых пун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города областного значения; 24 города районного знач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0 рабочих посёлков; 1 курортный посёлок; 464 сельских посёлк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42 села; 3365 деревень; 2 слободы; 1 выселок; 2 кордона; 23 почин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267920"/>
            <a:ext cx="88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ами областного значения в области явля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замас, Дзержинск, Нижний Новгород и Са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79280" y="5445000"/>
            <a:ext cx="87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ами районного значения являются Балахна, Богородск, Бор, Ветлуга, Володарск, Ворсма, Выкса, Горбатов, Городец, Заволжье, Княгинино, Кстово, Кулебаки, Лукоянов, Лысково, Навашино, Павлово, Первомайск, Перевоз, Семёнов, Сергач, Урень, Чкаловск и Шахунь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8" descr="Картинка 16 из 848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421000"/>
            <a:ext cx="3348000" cy="2179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Картинка 27 из 262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276640"/>
            <a:ext cx="3095640" cy="2595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Картинка 194 из 392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1989000"/>
            <a:ext cx="1976400" cy="316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191880"/>
            <a:ext cx="8494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Нижний Новгоро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один из крупнейших промышленных центров России, ведущая роль в котором принадлежит предприятиям отрасли машиностроения, металлообработки и информационных технолог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ой объём промышленного производства приходится н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втомобилестро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судостроение и производство вооруж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пнейшими заводами этой сферы являются: Горьковский автозавод, судостроительный завод «Красное Сормово»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6" descr="x_ce0115a5"/>
          <p:cNvPicPr/>
          <p:nvPr/>
        </p:nvPicPr>
        <p:blipFill>
          <a:blip r:embed="rId1"/>
          <a:stretch/>
        </p:blipFill>
        <p:spPr>
          <a:xfrm>
            <a:off x="324000" y="2133720"/>
            <a:ext cx="3371760" cy="450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а 3 из 23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781360"/>
            <a:ext cx="5003640" cy="333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Картинка 8 из 2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32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Картинка 17 из 23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357336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Картинка 3 из 904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537080" cy="290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Картинка 15 из 904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573360"/>
            <a:ext cx="4033800" cy="3019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971640" y="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я предприят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11280" y="333360"/>
            <a:ext cx="80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иастроительный завод «Сокол», Нижегородский машиностроительный завод, заводы авиационного оборудования «Гидромаш» и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плообмен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«Красная Этна», дизелестроительный завод «РУМО», «Красный якорь»,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рма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ИТЕ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аппаратуры связи им. А. С. Попова, НПО «Салют» и Нижегородский завод им. Г. И. Петровско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Картинка 8 из 7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844640"/>
            <a:ext cx="3492360" cy="248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Картинка 20 из 727"/>
          <p:cNvPicPr/>
          <p:nvPr/>
        </p:nvPicPr>
        <p:blipFill>
          <a:blip r:embed="rId3"/>
          <a:stretch/>
        </p:blipFill>
        <p:spPr>
          <a:xfrm>
            <a:off x="250920" y="2276640"/>
            <a:ext cx="5076720" cy="380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Картинка 34 из 727"/>
          <p:cNvPicPr/>
          <p:nvPr/>
        </p:nvPicPr>
        <p:blipFill>
          <a:blip r:embed="rId4"/>
          <a:stretch/>
        </p:blipFill>
        <p:spPr>
          <a:xfrm>
            <a:off x="5508720" y="4437000"/>
            <a:ext cx="3436920" cy="22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95280" y="189360"/>
            <a:ext cx="847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Охрана природы и окружающей сред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м Законодательного собрания с 1996 года учрежде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ая книга Нижегородской обла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территории области располага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рженский заповедник и заказник «Ичалковский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в Нижегородской области насчитывается 388 особо охраняемых природных территории и 102 охранные зоны площадью 72622 га, которые занимают 7,5 % площади обл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7" descr="Файл:Ichalki forest.jpg"/>
          <p:cNvPicPr/>
          <p:nvPr/>
        </p:nvPicPr>
        <p:blipFill>
          <a:blip r:embed="rId1"/>
          <a:stretch/>
        </p:blipFill>
        <p:spPr>
          <a:xfrm>
            <a:off x="6156360" y="2637000"/>
            <a:ext cx="2774880" cy="369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220px-Ichalki_warm"/>
          <p:cNvPicPr/>
          <p:nvPr/>
        </p:nvPicPr>
        <p:blipFill>
          <a:blip r:embed="rId2"/>
          <a:stretch/>
        </p:blipFill>
        <p:spPr>
          <a:xfrm>
            <a:off x="395280" y="256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>
            <a:off x="436320" y="458064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ёплая пещера Ичалковского б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16" descr="220px-Ichalki_cold"/>
          <p:cNvPicPr/>
          <p:nvPr/>
        </p:nvPicPr>
        <p:blipFill>
          <a:blip r:embed="rId3"/>
          <a:stretch/>
        </p:blipFill>
        <p:spPr>
          <a:xfrm>
            <a:off x="3276720" y="256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"/>
          <p:cNvSpPr/>
          <p:nvPr/>
        </p:nvSpPr>
        <p:spPr>
          <a:xfrm>
            <a:off x="3132000" y="465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ёплая пещера Ичалковского бор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153840" y="630792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ий вид Ичалковского б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5057640"/>
            <a:ext cx="598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ча́лковский бо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храняемая природная территор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сного массива Перевозского лесничества Бутурлинского лесхоза возле села Ичалки 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евозском райо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ижегородской обла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ый правовой статус Ичалковского бора определяется богатством его флоры и фауны, а также уникальностью ландшафт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2302200" y="2780640"/>
            <a:ext cx="48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7:01:08Z</dcterms:created>
  <dc:creator>User</dc:creator>
  <dc:description/>
  <dc:language>en-US</dc:language>
  <cp:lastModifiedBy>Машкова</cp:lastModifiedBy>
  <dcterms:modified xsi:type="dcterms:W3CDTF">2015-01-27T12:38:34Z</dcterms:modified>
  <cp:revision>4</cp:revision>
  <dc:subject/>
  <dc:title>Тема: Нижний Новгород.</dc:title>
</cp:coreProperties>
</file>