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C17-E921-4629-8ADA-80F9B7C9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FA7-B2C1-4AA1-8AC1-B52044A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C0C-AE5C-4858-949E-1E289B95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518-1F2A-4CA0-9572-66CF6A3D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375-B3E4-437D-BF9B-16530352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50EF-C5AB-4669-907D-F2E37FDD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38C0-8678-4971-981A-55CAE410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4E13-6490-4E29-88AB-F0DA53A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836A-1563-4E89-BEA2-64FA166A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1FAB-FE01-435E-B860-6141C2AA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C587-3167-4310-BA4A-5FA12C6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188-9C57-46FC-BFE4-9D37570A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DCB6-FF67-4AB1-BE7B-9A83915B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9356-DD7F-43BF-9FF1-6E7B59E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BADD-9A57-4B5D-A7B9-AE57B9CC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4F92-4AB0-4A22-85F5-97F447DC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E7E3-E2AD-4D2B-9554-B60682B7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AFB-D700-4C28-B6CF-681B8D0C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72D-EF46-46FA-B9A0-0A526038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3FD-396A-4FF6-A413-8EB36E9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BAF-61DE-4FF7-AADE-462F3D1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E8D-49E3-4F4D-BEAD-C93FA210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32F-A7B1-4856-B63C-DE02B1B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3C4-CB3D-4C30-A533-04CFCDE5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E23-C720-4AE5-8E9E-A44CB80FEA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613-B421-42BC-932E-A710B75C5C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1/Coat_of_arms_Nizhny_Novgorod.gif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upload.wikimedia.org/wikipedia/commons/7/73/Coat_of_arms_of_Nizhny_Novgorod_Region.sv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ru.wikipedia.org/w/index.php?title=&#1060;&#1072;&#1081;&#1083;:Nizhni_Novgorod_sky_view.jpg&amp;filetimestamp=20091214201446" TargetMode="External"/><Relationship Id="rId4" Type="http://schemas.openxmlformats.org/officeDocument/2006/relationships/image" Target="../media/image6.jpeg"/><Relationship Id="rId5" Type="http://schemas.openxmlformats.org/officeDocument/2006/relationships/hyperlink" Target="file://upload.wikimedia.org/wikipedia/ru/6/61/Vid_na_Ivanovskuyu_bashnyu_Nizhegorodskogo_Kremlya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osystema.ru/08nature/world/ker/24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cosystema.ru/08nature/world/ker/19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ecosystema.ru/08nature/world/ker/29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-dialog.ru/media/tour/large/546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spletnik.ru/img/__post/b7/biggerb_072049da8ae27a64cb3efc098b7cfe0c_349_b72e6194bc701607ba730cd141cff7e9_900.gif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niznov-nekropol.ucoz.ru/_si/0/s06540605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b-nn.ru/content/image/basharina/kr_sor-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kobarss.com/photos/ships&amp;buildings/rl_shipb2_big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sdelanounas.ru/images/img/www.krsormovo.nnov.ru/up_chips_jeyhun4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www.azregionaldevelopment.az/rus/uploads/posts/2009-11/1257408234_182830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nta-nn.ru/upload/iblock/9c0/DSCF1975.jpg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upi-polet.ru/files/imagecache/tour_image_full/image/tour_image/sokol_airbase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276640"/>
            <a:ext cx="7920360" cy="175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9efee"/>
                </a:solidFill>
                <a:latin typeface="Garamond"/>
              </a:rPr>
              <a:t>Тема: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Нижний Новгород и Нижегородская область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полнил: ученик 4 «в» класс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У СОШ №3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мофеев Евген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ила: Машкова С.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Файл:Coat of arms Nizhny Novgoro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4804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Файл:Coat of arms of Nizhny Novgorod Region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92840" y="0"/>
            <a:ext cx="235116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Нижний Новгород (Нижегородская область)"/>
          <p:cNvPicPr/>
          <p:nvPr/>
        </p:nvPicPr>
        <p:blipFill>
          <a:blip r:embed="rId1"/>
          <a:stretch/>
        </p:blipFill>
        <p:spPr>
          <a:xfrm>
            <a:off x="5724360" y="260280"/>
            <a:ext cx="3248280" cy="345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Red pog.png"/>
          <p:cNvPicPr/>
          <p:nvPr/>
        </p:nvPicPr>
        <p:blipFill>
          <a:blip r:embed="rId2"/>
          <a:stretch/>
        </p:blipFill>
        <p:spPr>
          <a:xfrm>
            <a:off x="6877080" y="191628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0" y="7200"/>
            <a:ext cx="5545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.    Ни́жний Но́вгоро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— административный центр Нижегородской области, центр и крупнейший город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Приволжского федерального округ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ижний Новгород расположен при слиянии двух крупнейших водных путей Европейской части России — рек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л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и Оки. Город разделяется Окой на две части: восточную возвышенную «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нагорную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», расположенную по правым берегам Оки и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л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а северо-западной оконечности Приволжской возвышенности — Дятловых горах, и западную (по левому берегу Оки и правому берегу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олг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 низинную «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заречную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». Устье Оки — географический центр Восточно-Европейской равни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щадь города — 46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Протяжённость города вдоль Оки 20 км, вдоль Волги — около 30 км. На территории города находится 33 озера и 12 ре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3" descr="300px-Nizhni_Novgorod_sky_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Файл:Vid na Ivanovskuyu bashnyu Nizhegorodskogo Kremly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3860640"/>
            <a:ext cx="4308480" cy="2865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11280" y="404640"/>
            <a:ext cx="772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 Нижегородская обла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сположена в зонах южно-таёжных, смешанных и широколиственных лесов, а также лесостепи. Южно-таёжные и подтаёжные (смешанные) зоны находятся в Левобережье, а широколиственные леса и лесостепи в Правобережье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очв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имущественно дерново-подзолистые, подзолистые, серые лесны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6" descr="Картинка 40 из 26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05000"/>
            <a:ext cx="267660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Картинка 33 из 2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2205000"/>
            <a:ext cx="25524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Картинка 36 из 265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22050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611280" y="-360"/>
            <a:ext cx="78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 В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жегородской област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4888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селённых пун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 города областного значения; 24 города районного знач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0 рабочих посёлков; 1 курортный посёлок; 464 сельских посёлк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42 села; 3365 деревень; 2 слободы; 1 выселок; 2 кордона; 23 почин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1267920"/>
            <a:ext cx="88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ами областного значения в области являю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замас, Дзержинск, Нижний Новгород и Сар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79280" y="5445000"/>
            <a:ext cx="87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ами районного значения являются Балахна, Богородск, Бор, Ветлуга, Володарск, Ворсма, Выкса, Горбатов, Городец, Заволжье, Княгинино, Кстово, Кулебаки, Лукоянов, Лысково, Навашино, Павлово, Первомайск, Перевоз, Семёнов, Сергач, Урень, Чкаловск и Шахунь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8" descr="Картинка 16 из 848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421000"/>
            <a:ext cx="3348000" cy="2179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Картинка 27 из 262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276640"/>
            <a:ext cx="3095640" cy="2595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Картинка 194 из 392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1989000"/>
            <a:ext cx="1976400" cy="316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24000" y="191880"/>
            <a:ext cx="8494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 Нижний Новгоро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один из крупнейших промышленных центров России, ведущая роль в котором принадлежит предприятиям отрасли машиностроения, металлообработки и информационных технолог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новной объём промышленного производства приходится на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втомобилестро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судостроение и производство вооружен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упнейшими заводами этой сферы являются: Горьковский автозавод, судостроительный завод «Красное Сормово»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6" descr="x_ce0115a5"/>
          <p:cNvPicPr/>
          <p:nvPr/>
        </p:nvPicPr>
        <p:blipFill>
          <a:blip r:embed="rId1"/>
          <a:stretch/>
        </p:blipFill>
        <p:spPr>
          <a:xfrm>
            <a:off x="324000" y="2133720"/>
            <a:ext cx="3371760" cy="450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артинка 3 из 23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781360"/>
            <a:ext cx="5003640" cy="333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Картинка 8 из 23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89000"/>
            <a:ext cx="4105440" cy="32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Картинка 17 из 23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357336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Картинка 3 из 904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537080" cy="2906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Картинка 15 из 904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3573360"/>
            <a:ext cx="4033800" cy="3019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971640" y="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я предприят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11280" y="333360"/>
            <a:ext cx="80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иастроительный завод «Сокол», Нижегородский машиностроительный завод, заводы авиационного оборудования «Гидромаш» и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плообмен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завод «Красная Этна», дизелестроительный завод «РУМО», «Красный якорь»,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рма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завод 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ИТЕ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Завод аппаратуры связи им. А. С. Попова, НПО «Салют» и Нижегородский завод им. Г. И. Петровско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Картинка 8 из 7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844640"/>
            <a:ext cx="3492360" cy="248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Картинка 20 из 727"/>
          <p:cNvPicPr/>
          <p:nvPr/>
        </p:nvPicPr>
        <p:blipFill>
          <a:blip r:embed="rId3"/>
          <a:stretch/>
        </p:blipFill>
        <p:spPr>
          <a:xfrm>
            <a:off x="250920" y="2276640"/>
            <a:ext cx="5076720" cy="380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Картинка 34 из 727"/>
          <p:cNvPicPr/>
          <p:nvPr/>
        </p:nvPicPr>
        <p:blipFill>
          <a:blip r:embed="rId4"/>
          <a:stretch/>
        </p:blipFill>
        <p:spPr>
          <a:xfrm>
            <a:off x="5508720" y="4437000"/>
            <a:ext cx="3436920" cy="22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95280" y="189360"/>
            <a:ext cx="847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Охрана природы и окружающей сред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м Законодательного собрания с 1996 года учрежде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сная книга Нижегородской обла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территории области располагаю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рженский заповедник и заказник «Ичалковский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в Нижегородской области насчитывается 388 особо охраняемых природных территории и 102 охранные зоны площадью 72622 га, которые занимают 7,5 % площади обла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7" descr="Файл:Ichalki forest.jpg"/>
          <p:cNvPicPr/>
          <p:nvPr/>
        </p:nvPicPr>
        <p:blipFill>
          <a:blip r:embed="rId1"/>
          <a:stretch/>
        </p:blipFill>
        <p:spPr>
          <a:xfrm>
            <a:off x="6156360" y="2637000"/>
            <a:ext cx="2774880" cy="369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220px-Ichalki_warm"/>
          <p:cNvPicPr/>
          <p:nvPr/>
        </p:nvPicPr>
        <p:blipFill>
          <a:blip r:embed="rId2"/>
          <a:stretch/>
        </p:blipFill>
        <p:spPr>
          <a:xfrm>
            <a:off x="395280" y="256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4"/>
          <p:cNvSpPr/>
          <p:nvPr/>
        </p:nvSpPr>
        <p:spPr>
          <a:xfrm>
            <a:off x="436320" y="458064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ёплая пещера Ичалковского бо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16" descr="220px-Ichalki_cold"/>
          <p:cNvPicPr/>
          <p:nvPr/>
        </p:nvPicPr>
        <p:blipFill>
          <a:blip r:embed="rId3"/>
          <a:stretch/>
        </p:blipFill>
        <p:spPr>
          <a:xfrm>
            <a:off x="3276720" y="2565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"/>
          <p:cNvSpPr/>
          <p:nvPr/>
        </p:nvSpPr>
        <p:spPr>
          <a:xfrm>
            <a:off x="3132000" y="46522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ёплая пещера Ичалковского бор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153840" y="630792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щий вид Ичалковского бо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5057640"/>
            <a:ext cx="5983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ча́лковский бо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храняемая природная территор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сного массива Перевозского лесничества Бутурлинского лесхоза возле села Ичалки 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евозском райо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ижегородской обла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ый правовой статус Ичалковского бора определяется богатством его флоры и фауны, а также уникальностью ландшафт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2302200" y="2780640"/>
            <a:ext cx="48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7:01:08Z</dcterms:created>
  <dc:creator>User</dc:creator>
  <dc:description/>
  <dc:language>en-US</dc:language>
  <cp:lastModifiedBy>Машкова</cp:lastModifiedBy>
  <dcterms:modified xsi:type="dcterms:W3CDTF">2015-01-27T12:38:34Z</dcterms:modified>
  <cp:revision>4</cp:revision>
  <dc:subject/>
  <dc:title>Тема: Нижний Новгород.</dc:title>
</cp:coreProperties>
</file>