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A2E9-0B0B-412A-A7F9-BDB93CA96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1331-52C4-43C3-A8A5-98F6AA0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107CC-29DE-4135-8084-95D5824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1367-F9E2-4183-8B6E-F4E8ACA3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2DAA-22A6-4BBF-B5A4-65A038B9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E742-C13B-47A8-A134-E18FC1A9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6BAF-0EA0-4EE4-957A-1415514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7197-4F50-4E71-9DEB-3E3B78D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857F-90FD-45E7-B3ED-E7D58E67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497C8-2EFF-4678-83A4-1CCE07CE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6E70-171A-43F5-A51B-4E1763E8B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F4B1-240A-4E4B-9BE8-13FB944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3F2D-2C99-4AF5-91EE-BE98862FC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13F0A-CBC3-46C9-8C4E-C5691DBA3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4463-A028-4A64-A92F-8DF5769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F9494-A8E3-4706-AEAF-2585BA1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EF9F7-28AF-4054-BE72-4E27659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2DCC2-7A66-4512-9381-218DC0B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1039-57C1-44B1-8738-C1BB160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7C229-0EB5-45EA-8E71-997F96E6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8D0F-63F2-4428-84C4-1580BB4A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72AA4-8A84-4F68-AED5-40CCFDA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F872-3A0A-43F2-8B0C-94F5A3D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8192B-6CFE-471F-9A3B-775AC13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60E77-07C5-4754-989A-E231DCDD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DE8B9-A1F5-4C80-8C04-D1EB494FF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B14-E05C-4B01-B499-F97D7EF64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8128-E86A-4D7A-BFAE-B0D17C4C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4DC-9BF4-43DF-92F9-47DC6C1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3DEC-5B63-44F0-9051-F01CA609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C2F-3118-4287-8955-F6BF7FF8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F164-EE93-4D9B-838D-592E3D2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D74-5F23-4017-A9F2-6428AD48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ADF-1B3C-4001-84C6-63D7DD93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7538-6A9F-4EC8-8B02-46688CB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8236-757C-43D2-A4D4-196321D6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03A-C14C-4605-B53C-2D7F1D8D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F9DC-BE1D-459D-8304-616B860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2DD-9E9C-451C-B4CF-F8C7AD76D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BE022-19D7-4589-922C-0A8E6557F4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EB75C-6C6C-4BC9-AEC6-1AC266E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84B77-0E5E-4E73-8849-F1E18F42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012C-F468-4A72-B475-5B64ECA5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D17F1-7BF2-4BAD-8B01-EB36AC72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DBDF4-3551-4525-8443-2E7B5EB4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44C03-65E9-472F-97D3-B4C3AEB6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63739-94B0-4B30-B553-672AF1C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83057-A0BE-4832-B52F-25C7CA7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00364-D88E-446D-AE78-71CFDF4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5384C-8569-43BD-B5BB-3524F7EF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CA0C7-6431-4FB5-8B0D-D24BE58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E52CF-A04C-4FD0-8EB6-B2BA20BB9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7272C-FC5D-4B0F-A481-58383351A1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50C1-CE36-4325-9171-2FC8CF4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FD091-E1CF-45A6-8141-FD2C65C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76397-0A31-4640-8848-DE1E302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9A9BF-8187-40EB-8068-6BCA9E7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C1074-CD14-4DEC-AA02-2DF6EC04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1405E-4193-4609-A675-31A51377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1AE1C-53BB-440D-9111-49820C28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35811-55AE-40D7-849B-685120F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E535F-0BB8-4226-A922-07E09D5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64819-796F-4C67-A467-016DA0EE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2E8AF-04A1-4BE8-82B2-8D77F51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96AE-E6AD-420B-A781-46048966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060DA-906D-476D-9ADE-A793AE485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C9A2-29D2-4530-9F65-50B3EF855C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EDB6-65F1-4F64-8822-76F8E41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BB4B-0116-441C-B15F-B8409170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31E7-86DD-4C73-AF7D-E74F0EB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C8C6-6926-4B44-8FD0-86FC7FA3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4B97-BDCE-4C2D-B156-8D2369F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6F38-B5AA-4D66-A89A-9925EB0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B2B9-F3B2-45D1-8C73-A06F7C33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D03A-3E40-472C-ADBF-56A46377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A46B-0D93-4146-8F44-8065938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C742-D677-4A89-9B34-D7455B5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E76A-557E-4D86-8816-93E71EF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D834-B716-4F4D-8EDE-868F13D54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6C3CE-3F68-4D55-B67E-B56C5F2B6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62E70-38E2-4DD2-9384-20AFDAF6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AEAAF-75E2-420C-B90E-D30FEA3C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1C673-7044-4B0C-848C-FAED8BF4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4CE36-1304-4C83-B72F-A5D1C805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625E0-50D0-4FF4-BF7D-ADA266FA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82D18-B5DE-4FE3-BB6A-FE547D7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2A6B-A8C7-46FC-84D6-884134C2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3B6F1-6DD9-4FED-8079-9165945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29F23-5771-4810-9A4C-161D4BA2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4E65F-918B-4D0A-A9BE-55B81BBD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D6C81-F055-4BC1-BA0B-9A19BBF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F5305-DC37-4120-BFAC-546AE91F0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CF46D-F391-4E07-88B7-099BE2E4C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0B20C-2B22-4F87-ADBF-20B21A6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EBC85-68A0-47DB-8A75-FFA2982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80086-963C-47D8-9F23-61DD64E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925F0-562E-4E61-8018-AA2F770C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EDED-6DD5-4795-B344-E8C3559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33E696-7530-428E-AB43-CC0615A1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5D0D1-D2E4-463C-BB11-246EF3D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A5C22-9939-40B0-84DD-3A416121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C599E-5D9E-430A-9219-500E41F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6E288-8E3B-43A6-9114-C92626F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BEAB3-E835-4F0A-883E-517FB0A2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5CF34-F166-42CF-ABDA-86B07AFC9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32D7-30C0-4984-AE69-623B36927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1FD5C-E0CE-43C7-B55F-784FF6C5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5218-C1E9-43C3-B23E-23B84175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E221FD-BB77-403B-B04B-3859C3AB9FF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61B95C-196F-4EBF-AAE0-B080E9241152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7C44F7-9A8D-410E-95EC-7530DD171849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41E8DD9-2179-4A95-9A2F-F481233F8F1C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3C3A3A2-14EA-4857-8EC1-A65642EF8409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A2A894-5EC7-4360-8349-244711F46C1F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F9E8FB-08F0-476D-ABC7-2701DDC7B9DF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B50D38-FB9B-4706-B54D-6E93B6A0B938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626E07A-1D12-4AD3-A144-95A8B15B5297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53880" y="262080"/>
            <a:ext cx="846612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57120" y="5500800"/>
            <a:ext cx="8458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  <a:ea typeface="Microsoft YaHei"/>
              </a:rPr>
              <a:t>Иванов 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540540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429080" cy="30718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214960" y="1285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тела до 45см,     вес до 3кг. Обычно цвет спины тёмно-золотистый, бока тёмно-зелёные, брюхо свет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основном в местах с заросшей водной растительностью, слабым течением и илистым гру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рослые особи всея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5214600" cy="2857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929200" y="1285920"/>
            <a:ext cx="321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тела до 50см, вес до 1.5кг. Спина                тёмно-зелёная, бока зеленовато-жёлтые, брюхо желтоватое, на боках 5-9 п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унь живёт в реках, озёрах, прудах,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рослые особи питаются насекомыми, икрой других рыб, и ра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8001000" cy="2928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7120" y="428616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до 1.5м, вес от 24кг. Спина серо-зеленоватая, бока более светлые с буроватыми пятнами брюхо беловатое с серыми крапинками. Рот с многочисленными острыми зу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реках и озёрах, предпочитает места со стоячей или медленно текуще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едает рыб, птенцов и крупных 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929120" cy="287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500800" y="1285920"/>
            <a:ext cx="364320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 до 6 кг, длина тела до 82см. Спина серая или коричневая, бока золотисто-коричневые, брюхо желтоватое, все плавники с темными краями. У молодых особей серебристая окр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4286160"/>
            <a:ext cx="49291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озерах, прудах, реках и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личинками насекомых, ракушками и улитками. Так же могут употреблять в пищу водо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795312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71680" y="4500720"/>
            <a:ext cx="79293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 до 60 грамм, длина до 20 см. Спинка темная или серовато-голубая, а брюшко и бока серебрист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реках, озерах и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планктоном, а так же подбирает с поверхности воды упавших насекомых и пыль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5238720" cy="5072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786280" y="1285920"/>
            <a:ext cx="3357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аска тела коричнево-бурая, брюшко светло-оранжевое с темными пятнышками. Длина тела от 7 до 11 см включая хвост, который составляет половину длин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местах с повышенной влажностью у неглубоких водоемов со стоячей или чуть проточн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насеко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643280" cy="3284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286240" y="1285920"/>
            <a:ext cx="385776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ас от светло-песочного до светло-коричневого цвета. Длина 16-18см, но иногда достигает 2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медленно текущих реках в иле. Если в реке есть подходящий крутой берег, то он роет нору прямо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68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рыбками, червями, улитками, личинками и и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5:25:52Z</dcterms:created>
  <dc:creator>mr11kirill11@hotmail.com</dc:creator>
  <dc:description/>
  <dc:language>en-US</dc:language>
  <cp:lastModifiedBy>kirill batyrin</cp:lastModifiedBy>
  <dcterms:modified xsi:type="dcterms:W3CDTF">2014-12-01T19:35:30Z</dcterms:modified>
  <cp:revision>53</cp:revision>
  <dc:subject/>
  <dc:title>Слайд 1</dc:title>
</cp:coreProperties>
</file>