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597C-A86F-4460-9E22-34011FBC83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DF31-2787-4C31-A12E-07C82ED5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10D84-ED07-426F-A3C7-E08A70D8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0D5FB-5883-4FC0-8693-5CABF4C3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DFFC2-B7CF-4FEE-AEEB-7BAD338B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88EC-BD03-4BFE-9219-C0FCE93E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C21B5-CA30-472A-AA0A-E589D3E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1A8D-C41D-42CE-BA22-4372E314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1EE4-7882-47AB-BA2C-953E99C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C8235-6074-4003-990A-5E85D51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302D-B962-416E-B123-8A88ED1947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155A-DCAB-48A1-AD9D-BD978E1C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AE6C-EBF3-41CD-B062-1D09A8B906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9F80E-774C-41C1-A853-B56AA85B4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3FC00-6EEF-401A-82C2-B9739E41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7111-4A87-4D43-B82D-9A9383F4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60906-E73B-44B2-BCA0-5DE1B181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C8D7D-18DA-49FE-A181-CC0F2DF6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25E4D-550B-4C0F-9FF1-C90861A6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4F606-0911-41E4-A4F8-D8DB305E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0CCD-18FA-498A-B173-0CB6912A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57F6-31C5-44FE-8A57-190B54BB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520EA-92BE-4F43-8B20-E6AFB990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82BDE-D7F1-4B66-94A5-AAB8EFC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865B3-5F63-4B14-9296-5DCA82F4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E3D01-BCC6-4C04-8B28-77CFDC0CE5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5CDE-25B7-4C58-8E18-FA30C5EE83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6130-080B-4CAA-95FC-5C08B7BE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3470-6C21-41D6-8CE7-95FEABC7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AE55-F1FE-4B42-B813-4C509816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90F6-E70F-4B97-8DFA-56EFA0AB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56F4-D515-4956-9AE6-D28705F4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906D-5A5E-4990-A2B4-FA4F2731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E3D6-1CF1-412A-B391-0995214F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6CA5-266E-423B-A545-CCD53884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6B15-2027-472C-B204-EFC2F281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8C52-346F-4FD7-98C8-C5451998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FF45-F78C-4969-BB7C-D55440DA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F574-DC38-4943-AC35-681353459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B751D-4AEC-4C3B-BE9F-AF4CCF012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E2EAC-1573-4F17-87EC-E04EA030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9C0E0-2C33-472F-B631-7AF52B55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A48F-9E9B-4C6C-9CFD-818C567A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035BE-E20F-42EE-9F5A-4CA68A53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5C486-57EB-4C56-9CDB-432AB69A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CF9AB-DE2F-4E3F-A2A9-3063204C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9386F-4B61-46EC-BFD4-AFE96FC3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3DFC7-0C33-4250-98C2-D61E5D2C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3C3D7-344F-4677-845E-830F00FF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74958-0365-4CE2-ADDC-508D1FE1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D92A7-0A5A-49E3-A80A-B504798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F6C04-AD10-4B0E-A0E0-13F3C3AA71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CD07D-F185-4D03-BE0A-E883BE8174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80F3-0A72-46C8-94C5-B389AA86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B9005-C1B0-4E33-900A-87EBD8EC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28794-78B8-474F-9F17-0CC8D777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BEDB22-C15E-4E2B-8472-E8FDF604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F12DE-754C-4264-BB1A-360DAE67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4DCEE-B905-419C-AC3B-5AB598B1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0F847-9A45-460B-B607-AA0A15F7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F01E4-E9CA-49B4-BFA9-C0B6B672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CB7C4-1AFF-455A-987D-E78EAB2A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5034B-157D-4538-AEAD-316A65A3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35167-472D-4E16-A707-AC2947B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CCBA-FF12-493A-A9BA-9C903EBE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4D296-1127-4276-836D-1B203C3695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5A7C-3FC7-4091-9EB2-AAFCDD3E9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1967-2494-4DD3-B776-020935B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9579-FF40-4DF3-A3C6-A9BA42C8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4F6CF-DD0C-4132-B3A1-8DDA5B79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37815-F4E4-4D00-AF34-78D92F2A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D88B-A1BF-4FF3-BA05-FBF7CE04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84B2-7AC1-4A36-A49B-C3525286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C81E-38A7-4CC6-8C35-8F42A81A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7FF94-68CB-4AF8-A494-C3D52752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FCEE-7C8B-40AA-AF5E-7242BDE4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FD27-FEF9-45A3-90DD-283E6A5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9346-0F53-4BF3-8CE5-46593C1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C964-D18F-41DC-A23B-9FCB88B334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96CFA-3237-49F8-ABFD-2B0B38210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350BE-119F-44F5-98E5-BE89961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8971D-55DE-4C6B-BF89-AD335864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19F7B-4AB8-47DC-86FA-F3773D53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BA0E5-E43D-40A1-ADBA-7098FD67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9A7F9-86F9-48B5-9F95-C04CCD62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41123-4AAA-4717-9287-F4071509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2311-1924-4745-B390-76D79589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A3409-D88A-4E11-8FF0-0D37F3FC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9E8C8-B8F3-420F-9108-3FDF910D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E9FE4-7012-4825-8A42-3F662E17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FE6B0-ADCB-4549-B7E6-40F7D28A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B2741-77CC-4FE0-B55F-A623718364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92F2E-AC1D-4928-BF1A-B6E0D4676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60313C-F651-4A7C-8BA6-D9ACDF0F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A5AF23-4348-4CB3-8B31-F8BF01AD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C700B-16E2-4CFD-9F44-47949F77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EB41A1-9A2D-463E-8AED-E5981594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D0EB-808B-4C0B-AAFF-815D9CA0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8825AE-3F0B-4F29-96E9-4E33052C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E0A894-FD51-4D9F-965B-96D9A1A9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8ACF4-F5BC-492A-A46A-F67FC753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EC2FD-836B-4B68-BC4C-852BDA10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34850B-6E86-44AB-877A-30EFB57B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608B10-67C7-4BC5-B260-C807841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C4A04-F783-4EB3-B48A-54A041FAC2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B2E2-28E6-4FC7-8773-D23E1D8A4D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DB787-A022-4F7D-91CB-094B9ACF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8067-AD4D-41B9-8FA9-B15C8AEF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72DBF8-209E-4922-BD05-9BFEEC5E2E4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C144762-8CB2-4E8D-A146-AEB2AC9AC320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5CE942A-2119-42AA-ACD5-B6C7437836FB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BB0513-CE43-46A5-BF97-848E818B94AC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7A7CC00-CF67-4B28-A2FE-2DE6EF7AD542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4439A47-9402-4E6F-AC52-2222537B7623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6CCDE96-F130-44F8-A0E0-A93C5E2A16D4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5D7973B-6B23-4864-844D-9B64E41C40A0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F033511-8460-4048-A5A3-DD8CBC89A7D8}" type="slidenum">
              <a:rPr b="0" lang="ru-RU" sz="1200" spc="-1" strike="noStrike">
                <a:solidFill>
                  <a:srgbClr val="4471a6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53880" y="262080"/>
            <a:ext cx="846612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57120" y="5500800"/>
            <a:ext cx="8458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Franklin Gothic Book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1a3f6d"/>
                </a:solidFill>
                <a:latin typeface="Franklin Gothic Book"/>
                <a:ea typeface="Microsoft YaHei"/>
              </a:rPr>
              <a:t>Иванов Ол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1857240" y="1143000"/>
            <a:ext cx="540540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4429080" cy="30718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214960" y="1285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 тела до 45см,     вес до 3кг. Обычно цвет спины тёмно-золотистый, бока тёмно-зелёные, брюхо свет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ёт в основном в местах с заросшей водной растительностью, слабым течением и илистым гру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рослые особи всеяд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5214600" cy="2857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929200" y="1285920"/>
            <a:ext cx="321480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 тела до 50см, вес до 1.5кг. Спина                тёмно-зелёная, бока зеленовато-жёлтые, брюхо желтоватое, на боках 5-9 п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унь живёт в реках, озёрах, прудах, водохранилищ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рослые особи питаются насекомыми, икрой других рыб, и ра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8001000" cy="2928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57120" y="428616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ина до 1.5м, вес от 24кг. Спина серо-зеленоватая, бока более светлые с буроватыми пятнами брюхо беловатое с серыми крапинками. Рот с многочисленными острыми зу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ёт в реках и озёрах, предпочитает места со стоячей или медленно текуще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едает рыб, птенцов и крупных насе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4929120" cy="2871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500800" y="1285920"/>
            <a:ext cx="364320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а до 6 кг, длина тела до 82см. Спина серая или коричневая, бока золотисто-коричневые, брюхо желтоватое, все плавники с темными краями. У молодых особей серебристая окр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1680" y="4286160"/>
            <a:ext cx="49291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озерах, прудах, реках и водохранилищ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ается личинками насекомых, ракушками и улитками. Так же могут употреблять в пищу водоро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7953120" cy="30718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71680" y="4500720"/>
            <a:ext cx="792936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 до 60 грамм, длина до 20 см. Спинка темная или серовато-голубая, а брюшко и бока серебрист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реках, озерах и водохранилищ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ается планктоном, а так же подбирает с поверхности воды упавших насекомых и пыль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5238720" cy="50720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786280" y="1285920"/>
            <a:ext cx="3357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аска тела коричнево-бурая, брюшко светло-оранжевое с темными пятнышками. Длина тела от 7 до 11 см включая хвост, который составляет половину длин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местах с повышенной влажностью у неглубоких водоемов со стоячей или чуть проточно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ается насеко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4643280" cy="3284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286240" y="1285920"/>
            <a:ext cx="385776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ас от светло-песочного до светло-коричневого цвета. Длина 16-18см, но иногда достигает 25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ёт в медленно текущих реках в иле. Если в реке есть подходящий крутой берег, то он роет нору прямо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1680" y="4643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тается рыбками, червями, улитками, личинками и ик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5:25:52Z</dcterms:created>
  <dc:creator>mr11kirill11@hotmail.com</dc:creator>
  <dc:description/>
  <dc:language>en-US</dc:language>
  <cp:lastModifiedBy>kirill batyrin</cp:lastModifiedBy>
  <dcterms:modified xsi:type="dcterms:W3CDTF">2014-12-01T19:35:30Z</dcterms:modified>
  <cp:revision>53</cp:revision>
  <dc:subject/>
  <dc:title>Слайд 1</dc:title>
</cp:coreProperties>
</file>