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0B9-B88B-48F8-842F-0709DC46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9EE-5D35-4DB4-BDE3-EFACD2C3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81C-4C35-4571-9361-42B3157B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EB1-6FF4-40E0-80B2-1398F172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B55D-07D6-4AC9-A818-5EAF7E85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E051-82FB-4ED7-AB13-F46CDDA2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0720-1DAE-4945-A13A-DAB5C60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C5CA-7C6D-4C45-BE30-0D0D13F1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D848-D9EB-4792-920C-D69BF09D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30FC-8B5F-4490-B050-C678A5B2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C1E2-EC85-4D82-8AB3-897DEFF6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406-E9C4-4EC6-8EC6-AC2E908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516B-77C9-4FF7-994E-6E0AC7B6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53C9-7F3B-42BE-8E86-F905A97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670D-CE36-4974-B063-7633DCEA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0502-7B82-4CA0-9AB8-0E4B50CA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B35E-7ABD-41B2-AAD6-B6C7CD1C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95850-9054-48D9-8AF9-C7AC092F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FFC9D9-712B-4851-8A84-EC41F25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36D83-78DB-41FA-AAF7-CE5771B4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BBB61-F6ED-49BC-A45F-2DC3BD13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ED9DA-0171-47D2-94BB-BDD6C3D5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8BF-C0B9-479B-B38C-E7DA1343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8391B-93C1-4470-8885-74208D33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760C1-B5F4-47A1-AE09-AF488AE7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62A303-3D41-49B7-9568-A0DB9C1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46235-3BA9-4BFD-827B-D2CFE47D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677DE-CFB5-444D-848D-245EA4E3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5FE2D-93AB-4C94-B364-287CE80A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A558A-FA14-4F56-B77B-429462D5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E22E3-049A-4489-96C1-64384447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26611-C0EF-4DE3-BCCD-06D9FF610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B3B73-821B-491E-94D1-F207E784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3AB-FF39-484A-9ADA-E67FE4A8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DBF6-8981-405A-83E0-906300D5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72293-5F04-4402-BBC3-8857F3F0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CEAC-8BD3-4FB6-BD15-C4482D1D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BBCD9-2DAB-4B7A-A207-38447F3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59A84-9581-4CBC-8680-76B38B6D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66133-EBB2-44DB-B160-C9FA5F08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A9606-F682-443D-B97A-F8F0ABA8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128B-4FF1-4268-86F0-174E40CA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D876C-B1FE-41BB-BF94-9AA5DDC4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8EC2C-370C-4E00-8929-FFC08C6C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31F-3C84-4656-8706-C2301971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DDBD92-B262-472F-99A2-0C73D3DA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1A05C9-134F-4D33-ADCC-08BC1A7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F206A-A6C3-4700-8F2B-D5E35E2F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CD4F42-86D8-4C41-9E6C-F34D5CAE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84F34-B4F9-4082-89A4-B57F8A75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1F634F-C528-4DBF-B311-E1CBC116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27B782-1EB8-454E-BCEC-AC016F8F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D3E0EC-DBC9-401C-8B2A-8F5F52A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E0202-410E-4F83-91DC-985460C4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90748-0653-4D9E-B147-D7B48964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8B9-EFB3-40C0-BC59-4C5D68D0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880EE-F9A4-43A8-9193-73FBD87B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9E68E-DA61-4D2C-8423-E9BC9298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ED553-C024-4C15-B5C0-D4A3C4CA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C59BB-C7FE-4E72-BAB3-B3207937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C3E5F-3676-45DA-BD26-B54895DB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04901A-49A1-439D-835B-D0424DDD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9508A-8A69-4470-84D2-F6006FEC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18035-E564-40C6-B339-F7FE26B1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FD20D-F33A-496C-9980-8638DC4E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CFD23-4147-48A6-B1B0-EACD3BD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831A-9824-495D-B61C-AC00FD9A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898EC-8D94-4640-A183-CB10D463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A2AD7C-0D9C-4EC8-AA07-7813F1B8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0DE377-C323-47BC-94B7-763EEC2D4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146AFB-B574-426C-A659-5332EF4D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6055C6-76F3-4B7C-94C7-C96CA846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B5E93F-CD9D-4F25-AF30-79871DE5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7A1F7-AEFC-4381-88E3-71899E5B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507CA7-67C2-4F95-B5CA-2FEC4938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A1D107-94D9-4D0A-808B-8CCE5B54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BA34B4-EB04-4D4B-AF11-32B8C551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5694-0643-4BD7-B34E-33135CCC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1F363-2BDD-4B41-BA3A-A2D7BC9A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297CFC-20C4-450D-8D63-A7B9B09C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C3A820-8AE5-490F-8A08-AA13D048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C430DF-CCBD-4511-961B-7EB2CFF5C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44BE9D-337F-423A-8776-464BC9E7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66E1-F59F-4863-92DE-2F81BD7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8196-61ED-45DA-88A6-B273821AEF1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18D3-6480-41C0-B59A-2E90400AA5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FC59-00D1-47A3-8B5B-EDFACF2874F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D48D-1DA1-4E1F-95E0-A3417A7D719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E7D7-1CED-4AB2-AC52-43C7AF48C57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4B39-2E2B-4335-AB35-E01EA344490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6346-EECE-4CED-960C-509FEFC860E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_Ushakov.jp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28520" y="714240"/>
            <a:ext cx="671508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ЛАССНЫЙ ЧАС: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«ОБРАЗОВАНИЕ И НАУКА – ВЫБОР ПОКОЛЕНИЯ </a:t>
            </a:r>
            <a:r>
              <a:rPr b="1" lang="en-US" sz="3200" spc="-1" strike="noStrike">
                <a:solidFill>
                  <a:srgbClr val="575f6d"/>
                </a:solidFill>
                <a:latin typeface="Century Schoolbook"/>
              </a:rPr>
              <a:t>XXI </a:t>
            </a:r>
            <a:r>
              <a:rPr b="1" lang="ru-RU" sz="3200" spc="-1" strike="noStrike">
                <a:solidFill>
                  <a:srgbClr val="575f6d"/>
                </a:solidFill>
                <a:latin typeface="Century Schoolbook"/>
              </a:rPr>
              <a:t>ВЕКА»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1.09.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20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10</a:t>
            </a: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203640" y="3927600"/>
            <a:ext cx="324000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57200" y="274680"/>
          <a:ext cx="7467480" cy="6437160"/>
        </p:xfrm>
        <a:graphic>
          <a:graphicData uri="http://schemas.openxmlformats.org/drawingml/2006/table">
            <a:tbl>
              <a:tblPr/>
              <a:tblGrid>
                <a:gridCol w="2687760"/>
                <a:gridCol w="2157120"/>
                <a:gridCol w="2622600"/>
              </a:tblGrid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и гуманитар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роп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р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эронав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(экономическ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(физическа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нгвистика (языкозн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мех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физ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е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берн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абле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ые технологии и Кулин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т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"/>
          <p:cNvGraphicFramePr/>
          <p:nvPr/>
        </p:nvGraphicFramePr>
        <p:xfrm>
          <a:off x="457200" y="274680"/>
          <a:ext cx="7467480" cy="6198840"/>
        </p:xfrm>
        <a:graphic>
          <a:graphicData uri="http://schemas.openxmlformats.org/drawingml/2006/table">
            <a:tbl>
              <a:tblPr/>
              <a:tblGrid>
                <a:gridCol w="2687760"/>
                <a:gridCol w="2188080"/>
                <a:gridCol w="2591640"/>
              </a:tblGrid>
              <a:tr h="78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ственные и гуманитар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ественны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нау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пт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шино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х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лософия и история философ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нотехн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бот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нограф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спруд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и Архитек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к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иболо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иг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ктротех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кументове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е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500040"/>
            <a:ext cx="7467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1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Интересоваться наукой или нет?» (причины отсутствия интереса к науке у современной молодёжи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2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Так ли важно хорошо учиться или можно кое-как?» (причины нежелания учиться у современных школьников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3 групп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«Диплом за деньги, лишь бы был или диплом как показатель твоих реальных знаний» (причины желания «купить» документ о высшем образовании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285560"/>
            <a:ext cx="7467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кова роль образования и науки в жизни современного человек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колько времени нужно посвятить получению образования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564000" y="3141720"/>
            <a:ext cx="2057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28400" y="1071720"/>
            <a:ext cx="7467480" cy="53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345600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1" name="Содержимое 3" descr="1_september.jpg"/>
          <p:cNvPicPr/>
          <p:nvPr/>
        </p:nvPicPr>
        <p:blipFill>
          <a:blip r:embed="rId1"/>
          <a:stretch/>
        </p:blipFill>
        <p:spPr>
          <a:xfrm>
            <a:off x="299880" y="0"/>
            <a:ext cx="82728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ЦЕЛИ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мочь учащимся осознать своё отношение к проблеме развития образования и нау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повысить престиж образования и науки среди будущих выпускник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развивать навыки конструктивного взаимодействия друг с другом, взаимопонимания, социальной восприимчивости, довер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митрий Медведев и Ангела Меркель объявили о проведении в 2011 году российско-германского года науки и образования и о подготовке совместного учебника истории.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Ирина Граник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16 июля 2010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18040" indent="-1767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Century Schoolbook"/>
              </a:rPr>
              <a:t>КоммерсантЪ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Picture 2" descr="C:\Documents and Settings\Admin\Мои документы\Мои рисунки\360831.jpg"/>
          <p:cNvPicPr/>
          <p:nvPr/>
        </p:nvPicPr>
        <p:blipFill>
          <a:blip r:embed="rId1"/>
          <a:stretch/>
        </p:blipFill>
        <p:spPr>
          <a:xfrm>
            <a:off x="1979640" y="692280"/>
            <a:ext cx="457200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75f6d"/>
                </a:solidFill>
                <a:latin typeface="Century Schoolbook"/>
              </a:rPr>
              <a:t>Дмитрий Николаевич Ушаков</a:t>
            </a:r>
            <a:br>
              <a:rPr sz="2600"/>
            </a:br>
            <a:r>
              <a:rPr b="0" lang="en-US" sz="2600" spc="-1" strike="noStrike">
                <a:solidFill>
                  <a:srgbClr val="575f6d"/>
                </a:solidFill>
                <a:latin typeface="Century Schoolbook"/>
              </a:rPr>
              <a:t>русский филолог</a:t>
            </a:r>
            <a:endParaRPr b="0" lang="en-US" sz="2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Рисунок 3" descr="Портре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484280"/>
            <a:ext cx="4334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Schoolbook"/>
              </a:rPr>
              <a:t>Большая Российская Энциклопедия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ОБРАЗОВАНИ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– процесс развития и саморазвития личности, связанный с овладением социально значимым опытом человечества, воплощё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Основной путь получения образования – обучение и саморазвитие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Д.Н. Ушак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Century Schoolbook"/>
              </a:rPr>
              <a:t>Википеди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94920" y="836280"/>
            <a:ext cx="746748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целенаправленный процесс воспитания и обучения в интересах человека, общества, государства, сопровождающийся констатацией достижения гражданином (обучающимся) установленных государством образовательных уровней. Уровень общего и специального образования обуславливается требованиями производства, состоянием науки, техники и культуры, а также общественными отношениям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процесс и результат усвоения систематизированных знаний, умений и навыков. В процессе образования происходит передача от поколения к поколению знания всех тех духовных богатств, которые выработало человечество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целенаправленная познавательная деятельность людей по получению знаний, умений, либо по их совершенствовани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Образование 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— развитие жизненного опыта человека. Как процесс и как результат. В соответствии с иерархической структурой личности образование включает в себя три компонента: воспитание, обучение, развитие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467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575f6d"/>
                </a:solidFill>
                <a:latin typeface="Century Schoolbook"/>
              </a:rPr>
              <a:t>Большая Российская Энциклопедия: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197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НАУКА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– сфера человеческой деятельности, функция которой – выработка и теоретическая систематизация объективных знаний о действительности; одна из форм общественного сознания; включает как деятельность по получению нового знания, так и её результат – сумму знаний, лежащих в основе научной картины мира; обозначение отдельных отраслей научного знания. Непосредственные цели – описание, объяснение и предсказание процессов и явлений действительности, составляющих предмет её изучения, на основе открываемых его закон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Д.Н. Ушаков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285480"/>
            <a:ext cx="7467480" cy="61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entury Schoolbook"/>
              </a:rPr>
              <a:t>Википедия: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Schoolbook"/>
              </a:rPr>
              <a:t>Наука 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— особый вид познавательно деятельности, направленный на получение, уточнение и производство объективных, системно-организованных и обоснованных знаний о природе, обществе и мышлении. Основой этой деятельности является сбор научных фактов, их постоянное обновление и систематизация, критический анализ и, на этой базе, синтез новых научных знаний или обобщений, которые не только описывают наблюдаемые природные или общественные явления, но и позволяют построить причинно-следственные связи и, как следствие — прогнозировать те естественнонаучные теории и гипотезы, которые подтверждаются фактами или опытами, формулируются в виде законов природы или общества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 Schoolbook"/>
              </a:rPr>
              <a:t>Наука</a:t>
            </a:r>
            <a:r>
              <a:rPr b="0" lang="ru-RU" sz="2100" spc="-1" strike="noStrike">
                <a:solidFill>
                  <a:srgbClr val="000000"/>
                </a:solidFill>
                <a:latin typeface="Century Schoolbook"/>
              </a:rPr>
              <a:t> в широком смысле включает в себя все условия и компоненты познавательной деятельности.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13840"/>
            <a:ext cx="7467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75f6d"/>
                </a:solidFill>
                <a:latin typeface="Century Schoolbook"/>
              </a:rPr>
              <a:t>СИСТЕМА НАУК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28400" y="1455840"/>
            <a:ext cx="790092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естестве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обществе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технически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гуманитарные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49:00Z</dcterms:created>
  <dc:creator>Admin</dc:creator>
  <dc:description/>
  <dc:language>en-US</dc:language>
  <cp:lastModifiedBy>школа</cp:lastModifiedBy>
  <dcterms:modified xsi:type="dcterms:W3CDTF">2010-08-31T09:27:12Z</dcterms:modified>
  <cp:revision>42</cp:revision>
  <dc:subject/>
  <dc:title>Слайд 1</dc:title>
</cp:coreProperties>
</file>