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4BC-10A9-4034-9EAB-BD365868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3EE-4C4E-4D9C-AF17-D426CDD4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5BC-B43A-4903-89E5-4BD7A274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7FF-FDA1-4685-8A93-975299DD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7BB7-7592-47B3-AF59-75BCFD47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777A-F7D9-49DD-8377-9DB0E97F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E27F-3930-449E-83CE-C1DB28A7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0ED1-D7F9-493C-9FB2-5632C849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6C78-56A6-4E3C-8A9D-4BFEA35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3B14-66C5-4797-B92E-E7D0E649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5BBD-99F8-4452-B1AF-062BE6F5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DF7-70A1-4EBB-8222-E62396C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309B-7F6C-4ECF-8BB1-0AD8B09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78DF-CB54-4D95-9DFE-CCAF2199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F4DB-0E99-4717-BD01-42E667FE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0BAD-5037-4EB1-9BF6-8FA55CB6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0A6D-472B-495B-90FB-2B151902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E426F-7E07-41E3-BBC0-85A073EA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8D503-91F6-4BAE-A625-9C6CB97D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6EFFE-7F25-4DFB-BDC7-2EE8112F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D4DF4-FA78-4D55-898B-4CDEBE98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704C0-3F87-4A26-A3D6-B12DAD8C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427-877D-47A1-A7FE-D011DEF3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9C5B8-8D77-4B35-BCB9-7CDC3EB2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6675E-B6B4-4E77-A822-40F78976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CF3CB-1DA9-4135-A627-C51303FB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ABA0E-3989-4F99-89D6-C5C55AB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2C3A1-694C-41DD-820D-58DAFE91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12451-F594-4412-8978-63CC534B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18A97-659F-418C-9636-9A7D444A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A5F0-0392-46DE-BF83-F2B97C16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6E47F-44D6-4BD9-A72D-B83C98A0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B01F-6199-4CA4-94BD-71983A2B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FEE-4BE0-4816-94D6-51B05075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3CECE-4576-43B5-BCA6-8C06DF7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557B-129B-48B5-9534-3E88BC79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1E10-5FD3-43DA-A618-BC4F5D88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6BD6D-51A2-435A-8334-92A8AAB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34603-7DD7-4271-AB48-0C09479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FD08-B414-4B9D-B0A9-E1232FE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9B6CE-A5A1-45CC-9CB7-2F96E660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7044-451A-4D2C-8C06-74C4B13D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D75E-5508-46B6-B042-0015FE7B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4D732-CB29-4BFD-9418-F2A17101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086-ED2F-4109-A671-EC13C2EB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490E2-BDC8-45CB-B95B-B2B4E5EE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F6E1D-610A-404F-B49C-3A3239AC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4E15A-B148-49CB-B299-B0BBB751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7338C-DAA2-4673-948F-0DE2A898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40181-CC25-405A-A67C-7E68F290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5E92A-ECEB-496F-A352-0A61D94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4D15D-4953-4EB8-9ECF-D7FD4E6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784F8-F19A-453A-86CB-F6F84A66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14066-6816-4ECD-AAD1-6E6407F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4EA35-24D9-4D28-B96E-D6F868E3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2D5-C504-4E07-8ED4-E1F1B9B9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08B27-E678-437C-81EC-BFC8FD4E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C8556-C56B-4BD3-A6B3-EB982EAD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EDA7A-6C69-4566-92A1-AFF280E7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F4B10-EC0D-4FFA-9761-12C3926A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252A6-4959-4D66-BF10-B815211C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1B31D-47F7-40A6-AC4B-EA13479D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80933-1066-4551-80FB-B00EC92D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7D4303-04E9-411B-BDFE-FC8A3506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4DC3FC-F717-4828-B234-A08B4843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0D886C-2D64-49B0-ACDC-A23347D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C50-61C9-47C4-B576-1B5B1C4A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8C818-5D6A-4C78-A4C8-93B0D554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D1685-632A-4242-BDA8-EC5F4289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6BA51-E05F-42FF-BB41-423AE984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E2EFA-80E6-42B6-8E42-F8B6F89E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7CF9E-4CBE-4E5C-B8E0-7FCEBC9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3208F-A24E-470A-B760-736FAA96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5BE16-841B-4821-9A41-731F43BC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4147D-F37C-4688-811A-CE18100E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7BA3F-7BBC-4775-9C21-1A51028C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6A878-8D95-4647-ACEF-42A4088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5FF-FFC5-4BD5-8808-017BC997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DD895-D10A-430D-B092-D4467DA8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92458-AD0A-4262-949C-BAD84DC2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D6A97-66F1-437A-BD6D-6EE36C5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C6796-B483-41AE-8A1E-3E86C07A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295C8-A466-40E0-8004-B32C111A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150-5068-4F30-9ED5-11CD381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3DBF-B8FC-446F-9934-C1DF3163C1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26E1-D5D0-4961-A668-C61C38E1A7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339C-472A-4D1E-B637-16149F3023E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9AE5-2270-4DF5-B97A-C1956D37D6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9132-DCDF-45E3-B27D-7720BC2EB68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2287-731B-4B6C-8BD0-9ACF87B0B45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0039-8863-460A-8D58-55B85BBF989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_Ushakov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28520" y="714240"/>
            <a:ext cx="67150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ЛАССНЫЙ ЧАС: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«ОБРАЗОВАНИЕ И НАУКА – ВЫБОР ПОКОЛЕНИЯ 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XXI 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ВЕКА»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1.09.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20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10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203640" y="3927600"/>
            <a:ext cx="32400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57200" y="274680"/>
          <a:ext cx="7467480" cy="6437160"/>
        </p:xfrm>
        <a:graphic>
          <a:graphicData uri="http://schemas.openxmlformats.org/drawingml/2006/table">
            <a:tbl>
              <a:tblPr/>
              <a:tblGrid>
                <a:gridCol w="2687760"/>
                <a:gridCol w="2157120"/>
                <a:gridCol w="262260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е и гуманитарны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роп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оно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оно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е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нав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 (экономическ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 (физическ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гвистика (языкозн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х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берн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абле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ые технологии и Кулин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457200" y="274680"/>
          <a:ext cx="7467480" cy="6198840"/>
        </p:xfrm>
        <a:graphic>
          <a:graphicData uri="http://schemas.openxmlformats.org/drawingml/2006/table">
            <a:tbl>
              <a:tblPr/>
              <a:tblGrid>
                <a:gridCol w="2687760"/>
                <a:gridCol w="2188080"/>
                <a:gridCol w="2591640"/>
              </a:tblGrid>
              <a:tr h="78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е и гуманитарны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п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о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 и история философ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но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бото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н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о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спруд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и Архите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к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б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 групп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«Интересоваться наукой или нет?» (причины отсутствия интереса к науке у современной молодёжи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 групп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«Так ли важно хорошо учиться или можно кое-как?» (причины нежелания учиться у современных школьников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 групп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«Диплом за деньги, лишь бы был или диплом как показатель твоих реальных знаний» (причины желания «купить» документ о высшем образовании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акова роль образования и науки в жизни современного челове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колько времени нужно посвятить получению образовани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2057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8400" y="1071720"/>
            <a:ext cx="7467480" cy="53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45600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Содержимое 3" descr="1_september.jpg"/>
          <p:cNvPicPr/>
          <p:nvPr/>
        </p:nvPicPr>
        <p:blipFill>
          <a:blip r:embed="rId1"/>
          <a:stretch/>
        </p:blipFill>
        <p:spPr>
          <a:xfrm>
            <a:off x="299880" y="0"/>
            <a:ext cx="82728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ЦЕЛ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очь учащимся осознать своё отношение к проблеме развития образования и нау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высить престиж образования и науки среди будущих выпуск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азвивать навыки конструктивного взаимодействия друг с другом, взаимопонимания, социальной восприимчивости, довер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митрий Медведев и Ангела Меркель объявили о проведении в 2011 году российско-германского года науки и образования и о подготовке совместного учебника истории.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18040" indent="-176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рина Граник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18040" indent="-176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16 июля 2010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18040" indent="-176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КоммерсантЪ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C:\Documents and Settings\Admin\Мои документы\Мои рисунки\360831.jpg"/>
          <p:cNvPicPr/>
          <p:nvPr/>
        </p:nvPicPr>
        <p:blipFill>
          <a:blip r:embed="rId1"/>
          <a:stretch/>
        </p:blipFill>
        <p:spPr>
          <a:xfrm>
            <a:off x="1979640" y="692280"/>
            <a:ext cx="457200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Дмитрий Николаевич Ушаков</a:t>
            </a:r>
            <a:br>
              <a:rPr sz="2600"/>
            </a:br>
            <a:r>
              <a:rPr b="0" lang="en-US" sz="2600" spc="-1" strike="noStrike">
                <a:solidFill>
                  <a:srgbClr val="575f6d"/>
                </a:solidFill>
                <a:latin typeface="Century Schoolbook"/>
              </a:rPr>
              <a:t>русский филолог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Рисунок 3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484280"/>
            <a:ext cx="4334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Большая Российская Энциклопед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ОБРАЗОВАНИ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процесс развития и саморазвития личности, связанный с овладением социально значимым опытом человечества, воплощё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Основной путь получения образования – обучение и саморазвити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Д.Н. Ушак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Википед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4920" y="836280"/>
            <a:ext cx="746748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Образование 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— целенаправленный процесс воспитания и обучения в интересах человека, общества, государства, сопровождающийся констатацией достижения гражданином (обучающимся) установленных государством образовательных уровней. Уровень общего и специального образования обуславливается требованиями производства, состоянием науки, техники и культуры, а также общественными отношения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Образование 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— процесс и результат усвоения систематизированных знаний, умений и навыков. В процессе образования происходит передача от поколения к поколению знания всех тех духовных богатств, которые выработало человечеств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Образование 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— целенаправленная познавательная деятельность людей по получению знаний, умений, либо по их совершенствовани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Образование 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— развитие жизненного опыта человека. Как процесс и как результат. В соответствии с иерархической структурой личности образование включает в себя три компонента: воспитание, обучение, развити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Большая Российская Энциклопедия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НАУК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сфера человеческой деятельности, функция которой – выработка и теоретическая систематизация объективных знаний о действительности; одна из форм общественного сознания; включает как деятельность по получению нового знания, так и её результат – сумму знаний, лежащих в основе научной картины мира; обозначение отдельных отраслей научного знания. Непосредственные цели – описание, объяснение и предсказание процессов и явлений действительности, составляющих предмет её изучения, на основе открываемых его закон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Д.Н. Уша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Википедия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Schoolbook"/>
              </a:rPr>
              <a:t>Наука 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— особый вид познавательно деятельности, направленный на получение, уточнение и производство объективных, системно-организованных и обоснованных знаний о природе, обществе и мышлении. Основой этой деятельности является сбор научных фактов, их постоянное обновление и систематизация, критический анализ и, на этой базе, синтез новых научных знаний или обобщений, которые не только описывают наблюдаемые природные или общественные явления, но и позволяют построить причинно-следственные связи и, как следствие — прогнозировать те естественнонаучные теории и гипотезы, которые подтверждаются фактами или опытами, формулируются в виде законов природы или общества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Schoolbook"/>
              </a:rPr>
              <a:t>Наука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 в широком смысле включает в себя все условия и компоненты познавательной деятельности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СИСТЕМА НАУК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8400" y="1455840"/>
            <a:ext cx="790092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естестве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обществе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технически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гуманитарны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49:00Z</dcterms:created>
  <dc:creator>Admin</dc:creator>
  <dc:description/>
  <dc:language>en-US</dc:language>
  <cp:lastModifiedBy>школа</cp:lastModifiedBy>
  <dcterms:modified xsi:type="dcterms:W3CDTF">2010-08-31T09:27:12Z</dcterms:modified>
  <cp:revision>42</cp:revision>
  <dc:subject/>
  <dc:title>Слайд 1</dc:title>
</cp:coreProperties>
</file>