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C05-CBE8-4549-950E-95A89E4E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025-2AE2-43F5-ACFE-D998CD90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D53-143C-462F-9268-1C51593C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EEC-E8F8-4E6E-BE21-30BCEADB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54EC-D060-42B8-A373-262C1352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5C4E-606F-4A08-872C-9DC9A9F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DEF4-BD76-4415-91E3-2E03FE01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2485-5E50-4F74-BE78-5FD371D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7EE4-82F6-4CFB-97A9-D5933E44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DA60-E294-44F5-923D-D645536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6FB-40F5-4511-9C2F-DF8172B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0BD-9825-4060-AD64-9CBE5B1D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5D01-B71A-425D-9D8B-A55429DC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97EA-1B7A-4578-ACD5-5513FEA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A3F5-F9D8-4C03-9B08-A3F83FBF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7DE7-64D7-46A2-AAE5-F70CF70D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59A0-D53F-4FD4-9F56-26FBD7EC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B821-D646-4A4A-B4C7-7574A46D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13EE-6A88-412E-B5C8-33305DE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59F5-9444-444C-91E5-227ABFB9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9BEF-83DE-4236-B76B-41C709AA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DF4C-664D-4461-95E6-744256B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774-F412-43D3-B101-0A5157E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B59C-155B-41E7-BA10-AC805723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48F2-B1BC-4437-A7A8-570DF79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A702-797B-432B-88EA-A93F0F43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8D02-8728-4EE2-82D1-AA6DCFDC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1088-D09B-43CF-8805-3693DA0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0AF6-2634-4EA8-9413-967CAB16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8B92-8839-44CD-AE93-13044F01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319-201B-44C6-B61C-E72C3F6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25A-B635-4107-A762-FED803FF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C99-70BB-4BAF-8488-29570204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E87-519E-4912-A905-1C4F99D3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D24-C190-4BB1-BD95-658A925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61D-8DD5-4684-86EB-318C04E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E21C7C-8A2F-45E1-B3E3-D49D8DF2AB91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A38F16-2399-40D5-B146-C4EF779FBA3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5B92C7-57E7-41DF-9FBF-FB3FA7E3FE43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50e0ea"/>
                </a:solidFill>
                <a:latin typeface="Calibri"/>
              </a:rPr>
              <a:t>Педагогический совет</a:t>
            </a:r>
            <a:endParaRPr b="0" lang="ru-RU" sz="8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81000"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09.01.2015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4200" y="1052640"/>
            <a:ext cx="8500680" cy="55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фессиональный стандарт педагога-      документ, включающий </a:t>
            </a:r>
            <a:br>
              <a:rPr sz="2600"/>
            </a:b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еречень профессиональных и личностных требований к учителю, действующий на всей территории Российской Федерации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Квалификация педагог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отражает уровень профессиональной подготовки учителя и его готовность к труду в сфере образования. Квалификация учителя складывается из его профессиональных компетенций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офессиональная компетенция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способность успешно действовать на основе практического опыта, умения и знаний при решении профессиональных задач. 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576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</a:rPr>
              <a:t>Содержание профессионального стандарта педагога 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1143000"/>
            <a:ext cx="828648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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ервая: обучение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дагог должен: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Иметь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высшее образование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Демонстрировать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знание предмета и программы обуч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Уметь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планировать, проводить уро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нализировать их эффективность (самоанализ урока)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Владеть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формами и методами обуч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выходящими за рамки уроков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5640" y="1124640"/>
            <a:ext cx="8280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 Использовать специальные подходы к обучен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меть объективно оценивать знания учен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используя разные формы и методы контроля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ладеть ИКТ- компетенция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1640" y="285840"/>
            <a:ext cx="8106480" cy="61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"/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третья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:   развитие                                                            (Личностные качества и профессиональные компетенции, необходимые педагогу для осуществления развивающей деятельности)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Готовность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инять разных де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не зависимости от их реальных учебных возможностей, особенностей в поведении, состояния психического и физического здоровья. Профессиональная установка на оказание помощи любому ребенку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Способность в ходе наблюдения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выявлять разнообразные проблемы детей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язанные с особенностями их развития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составля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совместно с другими специалистами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ограмму индивидуального развития ребен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 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539640" y="908640"/>
            <a:ext cx="8280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Ум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итать документацию специалист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сихологов, дефектологов, логопедов и т.д.)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Ум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тслеживать динам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вития ребенка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Ум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щит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х, кого в детском коллективе не принимают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нание общих закономерностей развития лич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оявления личностных свойств, психологических законов период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кризи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1640" y="285840"/>
            <a:ext cx="8249040" cy="61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8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использов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практике своей работы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сихологические подход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культурно-исторический, деятельностный и развивающий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9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роектировать психологически безопасную и комфортную образовательную сред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знать и уметь проводить профилактику различных форм насилия в школе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0. Умение (совместно с психологом и другими специалистами)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составить психолого-педагогическую характеристику (портрет) личности учащегос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1. Умени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разрабатывать и реализовывать индивидуальн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развития с учетом личностных и возрастных особенностей учащихся. 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395640" y="889920"/>
            <a:ext cx="8352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. Умени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формировать и развивать универсальные учебны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бразцы и ценности социального поведения, навыки поведения в мире виртуальной реальности и социальных сетях, навыки поликультурного общения и толерантность, ключевые компетенции (по международным нормам) и т.д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ладение психолого-педагогическими технология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 том числе инклюзивными), необходимыми для работы с различными учащимися: одаренные дети, социально уязвимые дети, попавшие в трудные жизненные ситуации, дети-мигранты, дети-сироты, дети с особыми образовательными потребностями (аутисты, СДВГ и др.), дети с ОВЗ, дети с девиациями поведения, дети с зависим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1640" y="285840"/>
            <a:ext cx="8496720" cy="61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 стандарте  неоднократно повторяются требования к любому учителю: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ботать в условиях реализации программ инклюзивного образования;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обучать на русском языке учащихся, для которых он не является родным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ботать с учащимися, имеющими проблемы в развитии;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работать с девиантными (хулиганами), зависимыми (наркоманами), социально запущенными и социально уязвимыми учащимися, имеющими серьёзные отклонения в поведении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640" y="1143000"/>
            <a:ext cx="774684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дагог – ключевая фигу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формирования образования. Готовность к переменам, мобильность, способность к нестандартным трудовым действиям, ответственность и самостоятельность в принятии решений – все это характеристика деятельности успешного педагога- профессионала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1365397662_fgos.jpg"/>
          <p:cNvPicPr/>
          <p:nvPr/>
        </p:nvPicPr>
        <p:blipFill>
          <a:blip r:embed="rId1"/>
          <a:stretch/>
        </p:blipFill>
        <p:spPr>
          <a:xfrm>
            <a:off x="251640" y="188640"/>
            <a:ext cx="8892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60640"/>
            <a:ext cx="7851240" cy="2939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«Требования к учителю – предметнику и классному руководителю при переходе на ФГОСы»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1" name="Рисунок 8" descr="fgos_znak.jpg"/>
          <p:cNvPicPr/>
          <p:nvPr/>
        </p:nvPicPr>
        <p:blipFill>
          <a:blip r:embed="rId1"/>
          <a:stretch/>
        </p:blipFill>
        <p:spPr>
          <a:xfrm>
            <a:off x="6300360" y="3429000"/>
            <a:ext cx="2485080" cy="25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1" descr="0007-007-.-Nuzhno-chtoby-deti-po-vozmozhnosti-uchilis-samostojatelno-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692640"/>
            <a:ext cx="79056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й учитель - это человек, способный создавать условия для развития творческих способностей, развивать у учеников стремление к творческому восприятию знаний, учить их самостоятельно мыслить, самостоятельно формулировать вопросы для себя в процессе изучения материала, полнее реализовывать их потребности, повышать мотивацию к изучению предметов, поощрять их индивидуальные склонности и дарования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ременный учитель находится в постоянном творческом поиске, а также в поиске ответа на актуальный проблемный вопрос «чему учить школьников?»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Рисунок 3" descr="i (4).jpg"/>
          <p:cNvPicPr/>
          <p:nvPr/>
        </p:nvPicPr>
        <p:blipFill>
          <a:blip r:embed="rId1"/>
          <a:stretch/>
        </p:blipFill>
        <p:spPr>
          <a:xfrm>
            <a:off x="3492000" y="5229360"/>
            <a:ext cx="2592000" cy="13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ременный учитель соединяет в себе любовь к делу и к ученикам, умеет не только учить детей, но и сам способен учиться у своих учеников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Рисунок 3" descr="i (5).jpg"/>
          <p:cNvPicPr/>
          <p:nvPr/>
        </p:nvPicPr>
        <p:blipFill>
          <a:blip r:embed="rId1"/>
          <a:stretch/>
        </p:blipFill>
        <p:spPr>
          <a:xfrm>
            <a:off x="5148000" y="4437000"/>
            <a:ext cx="3645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ременный педагог должен выявлять самые лучшие качества, заложенные в душе каждого ребенка, поощрять детей, чтобы они получали радость от приобретенных знани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Рисунок 4" descr="i (21).jpg"/>
          <p:cNvPicPr/>
          <p:nvPr/>
        </p:nvPicPr>
        <p:blipFill>
          <a:blip r:embed="rId1"/>
          <a:stretch/>
        </p:blipFill>
        <p:spPr>
          <a:xfrm>
            <a:off x="6804360" y="4869000"/>
            <a:ext cx="1495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фессионализм педагога определяется его профессиональной пригодностью; профессиональным самоопределением; саморазвитием.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Рисунок 4" descr="i (13).jpg"/>
          <p:cNvPicPr/>
          <p:nvPr/>
        </p:nvPicPr>
        <p:blipFill>
          <a:blip r:embed="rId1"/>
          <a:stretch/>
        </p:blipFill>
        <p:spPr>
          <a:xfrm>
            <a:off x="5508000" y="4421160"/>
            <a:ext cx="3312000" cy="217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ля современного учителя очень важно никогда не останавливаться на достигнутом, а обязательно идти вперед, ведь труд учителя – это великолепный источник для безграничного творчества. 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вые требования к современному учителю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7640" y="1935360"/>
            <a:ext cx="821880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82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временный учитель – человек, способный улыбаться и интересоваться всем тем, что его окружает, ведь школа жива, пока учитель в ней интересен ребенку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Рисунок 3" descr="i (16).jpg"/>
          <p:cNvPicPr/>
          <p:nvPr/>
        </p:nvPicPr>
        <p:blipFill>
          <a:blip r:embed="rId1"/>
          <a:stretch/>
        </p:blipFill>
        <p:spPr>
          <a:xfrm>
            <a:off x="7092360" y="5229360"/>
            <a:ext cx="13618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746712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ложительный характер отношений стимулирует познавательную деятельность обучающихся, повышает её результативность. Учитель на уроке должен сочетать  требовательность  к обучающимся с проявлением  педагогического такта, уважения и чуткости к детям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5" descr="09bfbd5693297aaea56e8ca5a66404b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ча педсовета: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32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Знакомство с основными требованиями, предъявляемыми к учителю – предметнику и классному руководителю основного общего образования в условиях перехода на ФГОС второго поколения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учиться вместе с учениками, самостоятельно закрывая свои «образовательные дыры»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41920" indent="-2419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планировать и организовывать самостоятельную деятельность обучающихся  (помогать обучающемуся  определять цели и образовательные результаты на языке умений/компетенций)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41920" indent="-2419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мотивировать обучающихся, включая их в разнообразные виды деятельности, позволяющие наработать им требуемые компетенции;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32932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</a:pP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21"/>
              </a:spcBef>
              <a:buNone/>
            </a:pP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marL="234000" indent="-234000">
              <a:lnSpc>
                <a:spcPct val="100000"/>
              </a:lnSpc>
              <a:spcBef>
                <a:spcPts val="92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marL="234000" indent="-234000">
              <a:lnSpc>
                <a:spcPct val="100000"/>
              </a:lnSpc>
              <a:spcBef>
                <a:spcPts val="92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marL="234000" indent="-234000">
              <a:lnSpc>
                <a:spcPct val="100000"/>
              </a:lnSpc>
              <a:spcBef>
                <a:spcPts val="92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.</a:t>
            </a:r>
            <a:endParaRPr b="0" lang="ru-RU" sz="4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ладеть исследовательским мышлением, умея организовать исследовательскую работу обучающихся и руководить ею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ользовать систему оценивания, позволяющую обучающимся  адекватно оценивать свои достижения и совершенствовать их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вести занятия в режиме диалога и дискуссии, создавая атмосферу, в которой обучающиеся  хотели бы высказывать свои сомнения, мнения и точки зрения на обсуждаемый предмет, дискутируя не только между собой, но и с учителем, принимая то, что собственная точка зрения может быть также подвергнута сомнению и критике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сновные компетенции современного учителя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43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осуществлять рефлексию своей деятельности и своего поведения и уметь организовать ее у  обучающихся  в процессе учебных занятий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меть организовать понятийную работу обучающихся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ладеть компьютерными технологиями и использовать их в учебном процессе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71320" y="571320"/>
            <a:ext cx="792936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итель, 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овые  требования   ФГОС  к организации учебно-воспитательного процесса в основной школе не могут существовать. 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br>
              <a:rPr sz="2600"/>
            </a:b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186400" cy="62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Много зависит от желания и характера учителя и от уровня его профессиональной подготовки. Если человек сам по себе открыт для нового и не боится перемен, то начать делать первые уверенные шаги в новых  условиях   он сможет в более сжатые сроки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         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Учителя смогут реализовать новый стандарт без проблем, в основном за счет своего умения быстро перестраиваться</a:t>
            </a:r>
            <a:r>
              <a:rPr b="0" i="1" lang="ru-RU" sz="32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chemeClr val="accent1">
                    <a:lumMod val="75000"/>
                  </a:schemeClr>
                </a:solidFill>
                <a:latin typeface="Constantia"/>
              </a:rPr>
              <a:t>Спасибо за внимание!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авовой основой деятельности педагога на Федеральном уровне является: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валификационная характеристика (приказ Минздравсоцразвития РФ от 26.08.2010.года №761 н «Об утверждении Единого квалификационного справочника должностей руководителей, специалистов, служащих, раздел «Квалификационная характеристика должностей работников образования».                         Зарегистрирован в Минюсте РФ 06.10.2010 г. Регистрационный номер 18638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овой статус педагогических работников (Федеральный закон от 29.12.2012 года №273 – ФЗ «Об образовании в РФ». Ст. 47, 48, 49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фессиональный стандарт педагога ( Приказ Министерства труда и социальной защиты РФ от 18.10.2013 года № 544 н « Об утверждении профессионального стандарта «Педагог(педагогическая деятельность в дошкольном, начальном общем, основном общем, среднем общем образовании ) ( воспитатель, учитель)». Зарегистрирован в Минюсте РФ 06.12.2013 Регистрационный номер 30550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овой кодекс РФ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2000"/>
          </a:bodyPr>
          <a:p>
            <a:pPr marL="5511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татья №48 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«Об образовании в Российской Федерации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 от 29.12.2012 г. №273-ФЗ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.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едагогические работники обязаны: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Осуществлять свою деятельность на высоком профессиональном уровн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 Обеспечивать в полном объеме реализацию преподаваемых учебных предмета, курса, дисциплины (модуля), в соответствии с утвержденной рабочей программой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блюдать правовые, нравственные и эстетические н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следовать требованиям профессиональной этики;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Уважать честь и достоинство обучающихс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других участников образовательных отношений;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1514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атья №48 Федеральный закон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Об образовании в Российской Федерации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от 29.12.2012 г. №273-ФЗ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вивать у обучающихся познавательную активность, самостоятельность, инициативу, творческие способности, формировать гражданскую позицию, способность к труду и жизни в условиях современного мира, формировать у обучающихся культуру здорового  и безопасного образа жизни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Применять педагогически обоснованные и обеспечивающие высокое качество образования формы, методы обучения и воспитания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атья №48 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Об образовании в Российской Федерации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от 29.12.2012 г. №273-ФЗ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читывать особенности психофизического развития обучающихся и состояние их здоровь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соблюдать специальные условия, необходимые для получения образования лицами с ограниченными возможностями здоровья…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Систематически повышать свой профессиональный уровень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)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ходить аттестацию на соответствие занимаемой должности в порядк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установленном законодательством об образовани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08640"/>
            <a:ext cx="8229240" cy="541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С 01.01.2015 года в силу вступил Профессиональный стандарт «Педагог(педагогическая деятельность в дошкольном, начальном общем, основном общем, среднем общем образовании)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( воспитатель, учитель)»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5" descr="i (13).jpg"/>
          <p:cNvPicPr/>
          <p:nvPr/>
        </p:nvPicPr>
        <p:blipFill>
          <a:blip r:embed="rId1"/>
          <a:stretch/>
        </p:blipFill>
        <p:spPr>
          <a:xfrm>
            <a:off x="2915640" y="3717000"/>
            <a:ext cx="381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76</TotalTime>
  <Application>LibreOffice/7.4.7.2$Linux_X86_64 LibreOffice_project/40$Build-2</Application>
  <AppVersion>15.0000</AppVersion>
  <Words>1191</Words>
  <Paragraphs>82</Paragraphs>
  <Company>Ctrl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5:49:14Z</dcterms:created>
  <dc:creator>Василий</dc:creator>
  <dc:description/>
  <dc:language>en-US</dc:language>
  <cp:lastModifiedBy>Володина Т.О.</cp:lastModifiedBy>
  <dcterms:modified xsi:type="dcterms:W3CDTF">2015-01-03T10:10:22Z</dcterms:modified>
  <cp:revision>39</cp:revision>
  <dc:subject/>
  <dc:title>«Формирование  методической компетентности учителя при переходе на ФГО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7</vt:r8>
  </property>
</Properties>
</file>