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4B7-EEC3-435A-B468-76729766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F8A-EF88-46D8-825E-E0F3A3D7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E3F-EB61-4C92-B3BC-E9740D81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70F-93BD-457E-B1F8-75ACEB73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C609-9BA1-43D7-900B-D1788D5F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86D6-9E79-49E0-9B70-0F298C4E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22F9-3A2F-46E8-83A7-07E37BAA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1BD9-0BEC-40CB-8933-96366C29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9A7D-E18D-43A2-A9A1-41A27A6D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C03C-7890-443F-AC10-A6F24017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D242-90F1-405E-98E8-F1092428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717-4072-4B7A-8A9B-C2A17C43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E7DE-D0F2-4452-8355-1A29FBB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3D0B-4A00-4B6C-83FC-8C23219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9ECD-7A61-4C5D-9203-C2DDF2DE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7764-E133-4EB4-970F-CBFFAC3B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2A6C-AB23-4720-AC66-CFC766A8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72F0-BB0F-4A89-AFFE-0D57231D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B81B-0639-434F-A6E9-156357AC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761C-5D06-4FDB-B5DB-E7FA71C6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9578-86E5-4EAC-97EF-7CED7BEE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CE0F-B889-491A-A6D6-CAA5E726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9E1-FE6E-4529-A104-11D49309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1D01-B2B5-476B-B5CE-3DF37D65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97FC-E45C-434F-AA67-FF2B036D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81A7F-8252-461F-AC71-4BC80FBA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0A01-D69F-4AD5-8B6C-EE888D94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2BC99-18B9-4D8F-9229-DA06FC26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97A19-D640-46D7-A16C-12A87AD0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16441-A5FF-495A-A322-908F6D91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E94-602C-4D5D-93BA-8F3551BE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249-0541-4E5E-ABDD-42CB1AA3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CDE-2615-4ED6-813C-80C51B54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A86-E60A-49E5-A6BE-137FE8F3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DFE-A1C1-47D6-85A7-1E68242E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32A-8415-4138-B5C1-C1295DD4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694689-45C4-4C6F-A3DC-BEB453926A6D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A047B1-958F-44CF-8334-AE7CFAFEF7E0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F5D2B4-9BD9-44B9-ADF0-829CE814365D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000" spc="-1" strike="noStrike">
                <a:solidFill>
                  <a:srgbClr val="50e0ea"/>
                </a:solidFill>
                <a:latin typeface="Calibri"/>
              </a:rPr>
              <a:t>Педагогический совет</a:t>
            </a:r>
            <a:endParaRPr b="0" lang="ru-RU" sz="8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81000"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09.01.2015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14200" y="1052640"/>
            <a:ext cx="8500680" cy="55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1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.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фессиональный стандарт педагога-      документ, включающий </a:t>
            </a:r>
            <a:br>
              <a:rPr sz="2600"/>
            </a:b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еречень профессиональных и личностных требований к учителю, действующий на всей территории Российской Федерации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Квалификация педагог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отражает уровень профессиональной подготовки учителя и его готовность к труду в сфере образования. Квалификация учителя складывается из его профессиональных компетенций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рофессиональная компетенция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способность успешно действовать на основе практического опыта, умения и знаний при решении профессиональных задач. </a:t>
            </a: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5768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</a:rPr>
              <a:t>Содержание профессионального стандарта педагога 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286480" cy="53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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ервая: обучение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дагог должен: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Иметь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высшее образование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Демонстрировать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знание предмета и программы обучен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Уметь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 планировать, проводить уро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нализировать их эффективность (самоанализ урока)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Владеть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 формами и методами обучен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выходящими за рамки уроков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5640" y="1124640"/>
            <a:ext cx="82807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 Использовать специальные подходы к обучени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для того чтобы включить в образовательный процесс всех учеников: со специальными потребностями в образовании; одаренных учеников; учеников, для которых русский язык не является родным; учеников с ограниченными возможностями и т.д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меть объективно оценивать знания учени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используя разные формы и методы контроля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ладеть ИКТ- компетенция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1640" y="285840"/>
            <a:ext cx="8106480" cy="61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-2692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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третья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:   развитие                                                            (Личностные качества и профессиональные компетенции, необходимые педагогу для осуществления развивающей деятельности)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Готовность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ринять разных де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не зависимости от их реальных учебных возможностей, особенностей в поведении, состояния психического и физического здоровья. Профессиональная установка на оказание помощи любому ребенку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Способность в ходе наблюдения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выявлять разнообразные проблемы детей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язанные с особенностями их развития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Умение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составля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совместно с другими специалистами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рограмму индивидуального развития ребен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 </a:t>
            </a: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539640" y="908640"/>
            <a:ext cx="82807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Уме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читать документацию специалист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сихологов, дефектологов, логопедов и т.д.)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Уме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тслеживать динами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звития ребенка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Уме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ащит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ех, кого в детском коллективе не принимают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нание общих закономерностей развития лич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роявления личностных свойств, психологических законов периодизац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кризи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1640" y="285840"/>
            <a:ext cx="8249040" cy="61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8. Умение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использова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 практике своей работы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сихологические подход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культурно-исторический, деятельностный и развивающий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9. Умение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роектировать психологически безопасную и комфортную образовательную сред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знать и уметь проводить профилактику различных форм насилия в школе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0. Умение (совместно с психологом и другими специалистами)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составить психолого-педагогическую характеристику (портрет) личности учащегос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1. Умение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разрабатывать и реализовывать индивидуальные программ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развития с учетом личностных и возрастных особенностей учащихся. </a:t>
            </a: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395640" y="889920"/>
            <a:ext cx="83527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. Умени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формировать и развивать универсальные учебны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бразцы и ценности социального поведения, навыки поведения в мире виртуальной реальности и социальных сетях, навыки поликультурного общения и толерантность, ключевые компетенции (по международным нормам) и т.д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ладение психолого-педагогическими технология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 том числе инклюзивными), необходимыми для работы с различными учащимися: одаренные дети, социально уязвимые дети, попавшие в трудные жизненные ситуации, дети-мигранты, дети-сироты, дети с особыми образовательными потребностями (аутисты, СДВГ и др.), дети с ОВЗ, дети с девиациями поведения, дети с зависимостью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1640" y="285840"/>
            <a:ext cx="8496720" cy="61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 стандарте  неоднократно повторяются требования к любому учителю: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работать в условиях реализации программ инклюзивного образования;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обучать на русском языке учащихся, для которых он не является родным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работать с учащимися, имеющими проблемы в развитии;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работать с девиантными (хулиганами), зависимыми (наркоманами), социально запущенными и социально уязвимыми учащимися, имеющими серьёзные отклонения в поведении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9640" y="1143000"/>
            <a:ext cx="7746840" cy="53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дагог – ключевая фигур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формирования образования. Готовность к переменам, мобильность, способность к нестандартным трудовым действиям, ответственность и самостоятельность в принятии решений – все это характеристика деятельности успешного педагога- профессионала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1365397662_fgos.jpg"/>
          <p:cNvPicPr/>
          <p:nvPr/>
        </p:nvPicPr>
        <p:blipFill>
          <a:blip r:embed="rId1"/>
          <a:stretch/>
        </p:blipFill>
        <p:spPr>
          <a:xfrm>
            <a:off x="251640" y="188640"/>
            <a:ext cx="8892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60640"/>
            <a:ext cx="7851240" cy="2939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«Требования к учителю – предметнику и классному руководителю при переходе на ФГОСы»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1" name="Рисунок 8" descr="fgos_znak.jpg"/>
          <p:cNvPicPr/>
          <p:nvPr/>
        </p:nvPicPr>
        <p:blipFill>
          <a:blip r:embed="rId1"/>
          <a:stretch/>
        </p:blipFill>
        <p:spPr>
          <a:xfrm>
            <a:off x="6300360" y="3429000"/>
            <a:ext cx="2485080" cy="25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" descr="0007-007-.-Nuzhno-chtoby-deti-po-vozmozhnosti-uchilis-samostojatelno-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692640"/>
            <a:ext cx="79056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ременный учитель - это человек, способный создавать условия для развития творческих способностей, развивать у учеников стремление к творческому восприятию знаний, учить их самостоятельно мыслить, самостоятельно формулировать вопросы для себя в процессе изучения материала, полнее реализовывать их потребности, повышать мотивацию к изучению предметов, поощрять их индивидуальные склонности и дарования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овременный учитель находится в постоянном творческом поиске, а также в поиске ответа на актуальный проблемный вопрос «чему учить школьников?».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Рисунок 3" descr="i (4).jpg"/>
          <p:cNvPicPr/>
          <p:nvPr/>
        </p:nvPicPr>
        <p:blipFill>
          <a:blip r:embed="rId1"/>
          <a:stretch/>
        </p:blipFill>
        <p:spPr>
          <a:xfrm>
            <a:off x="3492000" y="5229360"/>
            <a:ext cx="2592000" cy="13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овременный учитель соединяет в себе любовь к делу и к ученикам, умеет не только учить детей, но и сам способен учиться у своих учеников.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" name="Рисунок 3" descr="i (5).jpg"/>
          <p:cNvPicPr/>
          <p:nvPr/>
        </p:nvPicPr>
        <p:blipFill>
          <a:blip r:embed="rId1"/>
          <a:stretch/>
        </p:blipFill>
        <p:spPr>
          <a:xfrm>
            <a:off x="5148000" y="4437000"/>
            <a:ext cx="36453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овременный педагог должен выявлять самые лучшие качества, заложенные в душе каждого ребенка, поощрять детей, чтобы они получали радость от приобретенных знани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" name="Рисунок 4" descr="i (21).jpg"/>
          <p:cNvPicPr/>
          <p:nvPr/>
        </p:nvPicPr>
        <p:blipFill>
          <a:blip r:embed="rId1"/>
          <a:stretch/>
        </p:blipFill>
        <p:spPr>
          <a:xfrm>
            <a:off x="6804360" y="4869000"/>
            <a:ext cx="1495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рофессионализм педагога определяется его профессиональной пригодностью; профессиональным самоопределением; саморазвитием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0" name="Рисунок 4" descr="i (13).jpg"/>
          <p:cNvPicPr/>
          <p:nvPr/>
        </p:nvPicPr>
        <p:blipFill>
          <a:blip r:embed="rId1"/>
          <a:stretch/>
        </p:blipFill>
        <p:spPr>
          <a:xfrm>
            <a:off x="5508000" y="4421160"/>
            <a:ext cx="3312000" cy="217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ля современного учителя очень важно никогда не останавливаться на достигнутом, а обязательно идти вперед, ведь труд учителя – это великолепный источник для безграничного творчества. 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7640" y="1935360"/>
            <a:ext cx="821880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82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овременный учитель – человек, способный улыбаться и интересоваться всем тем, что его окружает, ведь школа жива, пока учитель в ней интересен ребенку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Рисунок 3" descr="i (16).jpg"/>
          <p:cNvPicPr/>
          <p:nvPr/>
        </p:nvPicPr>
        <p:blipFill>
          <a:blip r:embed="rId1"/>
          <a:stretch/>
        </p:blipFill>
        <p:spPr>
          <a:xfrm>
            <a:off x="7092360" y="5229360"/>
            <a:ext cx="13618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746712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оложительный характер отношений стимулирует познавательную деятельность обучающихся, повышает её результативность. Учитель на уроке должен сочетать  требовательность  к обучающимся с проявлением  педагогического такта, уважения и чуткости к детям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5" descr="09bfbd5693297aaea56e8ca5a66404b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Задача педсовета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32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Знакомство с основными требованиями, предъявляемыми к учителю – предметнику и классному руководителю основного общего образования в условиях перехода на ФГОС второго поколения.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Основные компетенции современного учител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учиться вместе с учениками, самостоятельно закрывая свои «образовательные дыры»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41920" indent="-2419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планировать и организовывать самостоятельную деятельность обучающихся  (помогать обучающемуся  определять цели и образовательные результаты на языке умений/компетенций)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41920" indent="-2419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мотивировать обучающихся, включая их в разнообразные виды деятельности, позволяющие наработать им требуемые компетенции;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сновные компетенции современного учител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32932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indent="0">
              <a:lnSpc>
                <a:spcPct val="100000"/>
              </a:lnSpc>
              <a:spcBef>
                <a:spcPts val="921"/>
              </a:spcBef>
              <a:buNone/>
            </a:pP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921"/>
              </a:spcBef>
              <a:buNone/>
            </a:pP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marL="234000" indent="-234000">
              <a:lnSpc>
                <a:spcPct val="100000"/>
              </a:lnSpc>
              <a:spcBef>
                <a:spcPts val="92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600" spc="-1" strike="noStrike">
                <a:solidFill>
                  <a:srgbClr val="000000"/>
                </a:solidFill>
                <a:latin typeface="Constantia"/>
              </a:rPr>
              <a:t>Уметь «сценировать» учебный процесс, используя разнообразные формы организации деятельности и включая разных учащихся в разные виды работы и деятельности, с учетом их склонностей, индивидуальных особенностей и интересов.</a:t>
            </a: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marL="234000" indent="-234000">
              <a:lnSpc>
                <a:spcPct val="100000"/>
              </a:lnSpc>
              <a:spcBef>
                <a:spcPts val="92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600" spc="-1" strike="noStrike">
                <a:solidFill>
                  <a:srgbClr val="000000"/>
                </a:solidFill>
                <a:latin typeface="Constantia"/>
              </a:rPr>
              <a:t>Уметь занимать позицию эксперта в отношении демонстрируемых учащимся компетенций в разных видах деятельности и оценивать их при помощи соответствующих критериев.</a:t>
            </a: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marL="234000" indent="-234000">
              <a:lnSpc>
                <a:spcPct val="100000"/>
              </a:lnSpc>
              <a:spcBef>
                <a:spcPts val="92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600" spc="-1" strike="noStrike">
                <a:solidFill>
                  <a:srgbClr val="000000"/>
                </a:solidFill>
                <a:latin typeface="Constantia"/>
              </a:rPr>
              <a:t>Уметь подмечать склонности учащегося и в соответствии с ними определять наиболее подходящий для него учебный материал или деятельность.</a:t>
            </a: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ные компетенции современного учител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880" indent="-22788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ладеть проектным мышлением и уметь организовать групповую проектную деятельность учащихся и руководить ею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27880" indent="-22788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ладеть исследовательским мышлением, умея организовать исследовательскую работу обучающихся и руководить ею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27880" indent="-22788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спользовать систему оценивания, позволяющую обучающимся  адекватно оценивать свои достижения и совершенствовать их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ные компетенции современного учител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вести занятия в режиме диалога и дискуссии, создавая атмосферу, в которой обучающиеся  хотели бы высказывать свои сомнения, мнения и точки зрения на обсуждаемый предмет, дискутируя не только между собой, но и с учителем, принимая то, что собственная точка зрения может быть также подвергнута сомнению и критике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ные компетенции современного учител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43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осуществлять рефлексию своей деятельности и своего поведения и уметь организовать ее у  обучающихся  в процессе учебных занятий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организовать понятийную работу обучающихся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ладеть компьютерными технологиями и использовать их в учебном процессе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71320" y="571320"/>
            <a:ext cx="792936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Учитель, его отношение к учебному процессу, его творчество и профессионализм, его желание раскрыть способности каждого ребенка – вот это всё и есть главный ресурс, без которого новые  требования   ФГОС  к организации учебно-воспитательного процесса в основной школе не могут существовать. 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          </a:t>
            </a:r>
            <a:br>
              <a:rPr sz="2600"/>
            </a:b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186400" cy="62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Много зависит от желания и характера учителя и от уровня его профессиональной подготовки. Если человек сам по себе открыт для нового и не боится перемен, то начать делать первые уверенные шаги в новых  условиях   он сможет в более сжатые сроки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          </a:t>
            </a: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Учителя смогут реализовать новый стандарт без проблем, в основном за счет своего умения быстро перестраиваться</a:t>
            </a:r>
            <a:r>
              <a:rPr b="0" i="1" lang="ru-RU" sz="32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chemeClr val="accent1">
                    <a:lumMod val="75000"/>
                  </a:schemeClr>
                </a:solidFill>
                <a:latin typeface="Constantia"/>
              </a:rPr>
              <a:t>Спасибо за внимание!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586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авовой основой деятельности педагога на Федеральном уровне является: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валификационная характеристика (приказ Минздравсоцразвития РФ от 26.08.2010.года №761 н «Об утверждении Единого квалификационного справочника должностей руководителей, специалистов, служащих, раздел «Квалификационная характеристика должностей работников образования».                         Зарегистрирован в Минюсте РФ 06.10.2010 г. Регистрационный номер 18638)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24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овой статус педагогических работников (Федеральный закон от 29.12.2012 года №273 – ФЗ «Об образовании в РФ». Ст. 47, 48, 49)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фессиональный стандарт педагога ( Приказ Министерства труда и социальной защиты РФ от 18.10.2013 года № 544 н « Об утверждении профессионального стандарта «Педагог(педагогическая деятельность в дошкольном, начальном общем, основном общем, среднем общем образовании ) ( воспитатель, учитель)». Зарегистрирован в Минюсте РФ 06.12.2013 Регистрационный номер 30550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удовой кодекс РФ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62000"/>
          </a:bodyPr>
          <a:p>
            <a:pPr marL="55116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Статья №48 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«Об образовании в Российской Федерации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 от 29.12.2012 г. №273-ФЗ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I.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едагогические работники обязаны:</a:t>
            </a:r>
            <a:br>
              <a:rPr sz="20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 Осуществлять свою деятельность на высоком профессиональном уровн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 Обеспечивать в полном объеме реализацию преподаваемых учебных предмета, курса, дисциплины (модуля), в соответствии с утвержденной рабочей программой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блюдать правовые, нравственные и эстетические н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следовать требованиям профессиональной этики;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 Уважать честь и достоинство обучающихс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других участников образовательных отношений;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1514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атья №48 Федеральный закон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Об образовании в Российской Федерации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от 29.12.2012 г. №273-ФЗ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вивать у обучающихся познавательную активность, самостоятельность, инициативу, творческие способности, формировать гражданскую позицию, способность к труду и жизни в условиях современного мира, формировать у обучающихся культуру здорового  и безопасного образа жизни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 Применять педагогически обоснованные и обеспечивающие высокое качество образования формы, методы обучения и воспитания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367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атья №48 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Об образовании в Российской Федерации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от 29.12.2012 г. №273-ФЗ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)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читывать особенности психофизического развития обучающихся и состояние их здоровь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соблюдать специальные условия, необходимые для получения образования лицами с ограниченными возможностями здоровья…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 Систематически повышать свой профессиональный уровень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8)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ходить аттестацию на соответствие занимаемой должности в порядк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установленном законодательством об образовани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08640"/>
            <a:ext cx="8229240" cy="541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С 01.01.2015 года в силу вступил Профессиональный стандарт «Педагог(педагогическая деятельность в дошкольном, начальном общем, основном общем, среднем общем образовании)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( воспитатель, учитель)»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Рисунок 5" descr="i (13).jpg"/>
          <p:cNvPicPr/>
          <p:nvPr/>
        </p:nvPicPr>
        <p:blipFill>
          <a:blip r:embed="rId1"/>
          <a:stretch/>
        </p:blipFill>
        <p:spPr>
          <a:xfrm>
            <a:off x="2915640" y="3717000"/>
            <a:ext cx="381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376</TotalTime>
  <Application>LibreOffice/7.4.7.2$Linux_X86_64 LibreOffice_project/40$Build-2</Application>
  <AppVersion>15.0000</AppVersion>
  <Words>1191</Words>
  <Paragraphs>82</Paragraphs>
  <Company>Ctrl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5:49:14Z</dcterms:created>
  <dc:creator>Василий</dc:creator>
  <dc:description/>
  <dc:language>en-US</dc:language>
  <cp:lastModifiedBy>Володина Т.О.</cp:lastModifiedBy>
  <dcterms:modified xsi:type="dcterms:W3CDTF">2015-01-03T10:10:22Z</dcterms:modified>
  <cp:revision>39</cp:revision>
  <dc:subject/>
  <dc:title>«Формирование  методической компетентности учителя при переходе на ФГОС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7</vt:r8>
  </property>
</Properties>
</file>