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02E-86DB-4150-85BA-D2F1D9F9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480-03F2-438A-B949-51BA6579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185-D324-4298-978B-AEE32633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A8B-26A3-4277-A0C1-93C7A966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017-6DCD-43BD-A0D3-92FFFFB6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11E-008C-4962-B8E8-51D3A793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ABE-EDED-4A34-8347-F9B3747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2F7-97A1-483E-823B-42136E1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36B-AD0A-4C41-B357-2D601FF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98F-A9B7-4812-A323-CDB00DB7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12A-0527-4953-8791-E0EDE2E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7E0-C2A1-4DDE-8903-A170A18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6E1-AEEC-44CA-BE8B-3B95B0195F02}" type="slidenum">
              <a:rPr b="0" lang="ru-RU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-923760" y="0"/>
            <a:ext cx="109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-900000" y="0"/>
            <a:ext cx="10991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71000" cy="660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547640" y="-236520"/>
            <a:ext cx="6048720" cy="733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-923760" y="0"/>
            <a:ext cx="1099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47520"/>
            <a:ext cx="9209160" cy="6810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692360" y="1440"/>
            <a:ext cx="576108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042920" y="-28440"/>
            <a:ext cx="712944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-122400" y="189000"/>
            <a:ext cx="93888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29240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763640" y="-61920"/>
            <a:ext cx="556596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3:55:29Z</dcterms:created>
  <dc:creator>Светлана</dc:creator>
  <dc:description/>
  <dc:language>en-US</dc:language>
  <cp:lastModifiedBy>home</cp:lastModifiedBy>
  <dcterms:modified xsi:type="dcterms:W3CDTF">2014-11-05T13:49:34Z</dcterms:modified>
  <cp:revision>23</cp:revision>
  <dc:subject/>
  <dc:title>Слайд 1</dc:title>
</cp:coreProperties>
</file>