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C364-A097-4854-B7D9-3FAC7538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29CE-FB09-42D8-A16C-396CC664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8CA9-A243-4188-914F-0B5CF5B9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97C1-92D4-45CB-B2D5-1812560B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644C-2A10-47F8-8DB6-EEABABE4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B6F3-119B-468C-AF5F-82C5EB90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56F3-00A6-4A6E-A2B9-77C25AE9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41B6-AC52-4136-9A6C-1B3C384F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89AF-C32D-4719-B447-B56C4C81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E895-D8A3-4675-9127-CD0678C6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2A10-481E-4AF7-A676-45214285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C383-D683-4884-AAD4-AE0A9532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71AE-95A0-4F3C-9420-A714375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9125-EB07-4B86-95D0-A574E80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C2D7-EB23-4445-B51D-E27B812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78E7-1742-4CD3-9F74-02182A41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B8C9-07FC-4085-8E88-A2EABB47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B73D-2649-42BC-A40A-C0F4AE10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5131-7778-4F1F-B9BE-A1DCCB98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DA78-A024-4F04-84E4-94B36E38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D9F6-62FD-4542-826B-E76E7F25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97CD-529E-421A-98A1-DBE17DC4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4F08-AB85-4C68-81DB-B3F1AAD6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31DC-21F6-4A6C-89A5-549BF305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A6A1-0B42-4270-8BCE-889CA36DDC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A474-AD93-4125-A72A-C7C354C7C3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akubani.ru/photoview/viewPhoto/?mediaid=2187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ономаренко Григорий Федоро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тский композитор, народный артист СССР, родился 2 февраля 1921 года в селе Моровск Остерского района Черниговской области Украинской ССР, в крестьянской семь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_Ath_Slide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30085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шести лет будущий композитор играл на баяне на всех поселковых праздниках. Начал свою профессиональную деятельность в ансамбле погранвойск УССР, совмещая выступления с учебой в Киевской консерватор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_Ath_Slide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948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1941 по 1947 г.г., был музыкантом в ансамбле погранвойск МВД СССР. В 1949-1950 г.г. работал в Русском народном оркестре им. Н. Осипо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_Ath_Slide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6782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1952 года был музыкальным руководителем Волжского русского хора. В 1963-1973 г.г. руководил народным хором Волгоградского тракторного заво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_Ath_Slide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782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Г.Ф.Пономаренко на Кубан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38480" y="1142640"/>
            <a:ext cx="46483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72 году Г.Ф. Пономаренко переезжает на Кубань. На Кубани Григорий Федорович много гастролирует, пишет песни на стихи кубанских поэтов: «Казак ехал на Кубань», «Краснодарская весна», «Ой станица, родная, станица» (стихи Ивана Варавы), «Кубаночка», «Трудовые руки», «Посадила я сады» (стихи Николая Доризо) и многие друг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3033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амятник композитору Григорию Пономаренк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040" y="137124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ник композитору Григорию Пономаренко, работы скульптора Ольги Яковлевой и архитектора Юрия Субботина, был открыт 14 сентября 2002 года в сквере на улице Красной недалеко от кинотеатра "Аврора". Проект изначально предусматривал установку памятника прямо у здания Филармонии. Однако в силу различных обстоятельств реализовать эту идею удалось лишь в 2005 г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cimag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09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44" name="_Ath_Slide" descr=""/>
          <p:cNvPicPr/>
          <p:nvPr/>
        </p:nvPicPr>
        <p:blipFill>
          <a:blip r:embed="rId2"/>
          <a:stretch/>
        </p:blipFill>
        <p:spPr>
          <a:xfrm>
            <a:off x="228600" y="0"/>
            <a:ext cx="863748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га александровна</cp:lastModifiedBy>
  <dcterms:modified xsi:type="dcterms:W3CDTF">2009-02-02T08:12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