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003F-0B53-45D3-BC10-30E76BFA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17F2-7180-4386-9D7C-8408BC8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AB59-4F15-4296-AEC5-5946153A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A43D-EAE9-4C2D-B65F-8DE3FE1C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694A-B7E3-4ACA-BBC4-3CAFB4E2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8A3-E629-4BC1-92B8-FAE8A216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FE0F-A56E-4167-8B7C-35397DE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5FC4-A5DA-4C7A-BBF8-B74896B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BB7-CDB0-4FB8-AA63-ECA3C6A4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6BE6-4163-45BD-972C-9D46112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518D-CFF7-4FAF-868D-033C08EB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4140-9328-4D10-8043-1DFB7B05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68A-A637-46BC-8906-C2D038A2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DD7C-4760-4CA0-B4ED-3C6BE568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20E9-3AA4-4AB7-BD26-DE1F15BB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DA1D-52C0-474C-BDCD-6AFB827F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4CC2-B327-49B5-A196-FC41BE9D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1C76-BAC5-43CA-BCAF-A296953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F1D5-472B-447A-9091-A62DD864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2729-E508-4B5A-AA86-A2923C5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1B2F-46A6-434E-B874-CE7A087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4EEF-358D-4718-9932-BF74E85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9844-C9FD-4C51-B75B-B80B5EF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9C7B-EDB1-4FA7-BB89-ABC63F1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605-E23B-4651-9B1D-8DC1B4A717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BCB-629D-42B0-B7B5-75EAC93357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akubani.ru/photoview/viewPhoto/?mediaid=2187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ономаренко Григорий Федор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ский композитор, народный артист СССР, родился 2 февраля 1921 года в селе Моровск Остерского района Черниговской области Украинской ССР, в крестьянской семь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_Ath_Slide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0085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шести лет будущий композитор играл на баяне на всех поселковых праздниках. Начал свою профессиональную деятельность в ансамбле погранвойск УССР, совмещая выступления с учебой в Киевской консерват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_Ath_Slide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948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941 по 1947 г.г., был музыкантом в ансамбле погранвойск МВД СССР. В 1949-1950 г.г. работал в Русском народном оркестре им. Н. Осип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_Ath_Slide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6782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952 года был музыкальным руководителем Волжского русского хора. В 1963-1973 г.г. руководил народным хором Волгоградского тракторного зав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_Ath_Slide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782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.Ф.Пономаренко на Кубан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38480" y="1142640"/>
            <a:ext cx="46483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72 году Г.Ф. Пономаренко переезжает на Кубань. На Кубани Григорий Федорович много гастролирует, пишет песни на стихи кубанских поэтов: «Казак ехал на Кубань», «Краснодарская весна», «Ой станица, родная, станица» (стихи Ивана Варавы), «Кубаночка», «Трудовые руки», «Посадила я сады» (стихи Николая Доризо) и многие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303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амятник композитору Григорию Пономаре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4304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ник композитору Григорию Пономаренко, работы скульптора Ольги Яковлевой и архитектора Юрия Субботина, был открыт 14 сентября 2002 года в сквере на улице Красной недалеко от кинотеатра "Аврора". Проект изначально предусматривал установку памятника прямо у здания Филармонии. Однако в силу различных обстоятельств реализовать эту идею удалось лишь в 2005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cimag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09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44" name="_Ath_Slide" descr=""/>
          <p:cNvPicPr/>
          <p:nvPr/>
        </p:nvPicPr>
        <p:blipFill>
          <a:blip r:embed="rId2"/>
          <a:stretch/>
        </p:blipFill>
        <p:spPr>
          <a:xfrm>
            <a:off x="228600" y="0"/>
            <a:ext cx="8637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га александровна</cp:lastModifiedBy>
  <dcterms:modified xsi:type="dcterms:W3CDTF">2009-02-02T08:12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