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E20F-88F6-4F02-9ECE-442085FC0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430D-58FE-4D46-8D8B-2000BDFD6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FEB2-D71D-4E25-9437-34122A48D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0CDA-C845-457F-B800-708FAADD3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AD985A-CF6C-4585-B029-2D4B1EABA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63A2D7-48B9-485C-B1CC-2A8222BE0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2C530B-C89A-4E65-B88F-F578645F1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2F2F79-E73F-482F-845C-61053A2B1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9CAA6D-BF75-4508-A9F4-57E6FDAD1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4115D5-DA93-433C-B9C2-42C9C4696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A64A46-1789-4BED-B7C6-4B263E47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4E4E-96FE-414B-9948-FF00BED24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A2C9AA-B7F4-45E1-82E9-5D45ACF57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D07602-3852-42A3-B5E3-CF785B761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1E32DC-8EEB-4C3F-875D-9AF13F6E9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EA6DF1-5F35-4C9B-8EF6-3AB51ADEC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D6A444-3BD1-4216-AF03-30A9B4E6F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8E5F-2675-4234-B9FB-5FDFEF793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9F0B-EE54-4955-B15C-65323E630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B747-D29B-4069-9EA0-EEF3E076D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FAAF-79AD-4C50-BE1E-F9B90FFEA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244C-A1DF-438C-BDC7-52D06261D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C984-DE34-43BA-BE04-3298D3BA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31DE-30F4-4CCA-97B6-4AA5FC54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011E4-0E49-4D55-884E-BCA56439920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E414D-6121-4D36-B404-0DDBD57DF75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76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imes New Roman"/>
              </a:rPr>
              <a:t>Проектное   обучение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79280" y="1700280"/>
            <a:ext cx="3552840" cy="3552840"/>
          </a:xfrm>
          <a:prstGeom prst="rect">
            <a:avLst/>
          </a:prstGeom>
          <a:ln w="9360">
            <a:solidFill>
              <a:srgbClr val="cc6600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468360" y="553716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Соловьева Галина Дмитри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школа №8 г.Рославл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3280" y="1700280"/>
            <a:ext cx="4500720" cy="374472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6600"/>
              </a:gs>
              <a:gs pos="100000">
                <a:srgbClr val="ffba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992920" y="1700280"/>
            <a:ext cx="22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Карта презент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076720" y="2131920"/>
            <a:ext cx="38023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3300"/>
                </a:solidFill>
                <a:uFillTx/>
                <a:latin typeface="Arial"/>
              </a:rPr>
              <a:t>История возникнов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3300"/>
                </a:solidFill>
                <a:uFillTx/>
                <a:latin typeface="Arial"/>
              </a:rPr>
              <a:t> (слайды</a:t>
            </a:r>
            <a:r>
              <a:rPr b="0" lang="en-US" sz="1800" spc="-1" strike="noStrike" u="sng">
                <a:solidFill>
                  <a:srgbClr val="663300"/>
                </a:solidFill>
                <a:uFillTx/>
                <a:latin typeface="Arial"/>
              </a:rPr>
              <a:t>2</a:t>
            </a:r>
            <a:r>
              <a:rPr b="0" lang="ru-RU" sz="1800" spc="-1" strike="noStrike" u="sng">
                <a:solidFill>
                  <a:srgbClr val="663300"/>
                </a:solidFill>
                <a:uFillTx/>
                <a:latin typeface="Arial"/>
              </a:rPr>
              <a:t>-</a:t>
            </a:r>
            <a:r>
              <a:rPr b="0" lang="en-US" sz="1800" spc="-1" strike="noStrike" u="sng">
                <a:solidFill>
                  <a:srgbClr val="663300"/>
                </a:solidFill>
                <a:uFillTx/>
                <a:latin typeface="Arial"/>
              </a:rPr>
              <a:t>7</a:t>
            </a:r>
            <a:r>
              <a:rPr b="0" lang="ru-RU" sz="1800" spc="-1" strike="noStrike" u="sng">
                <a:solidFill>
                  <a:srgbClr val="663300"/>
                </a:solidFill>
                <a:uFillTx/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3300"/>
                </a:solidFill>
                <a:uFillTx/>
                <a:latin typeface="Arial"/>
              </a:rPr>
              <a:t>Классификация (слайды 8-1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3300"/>
                </a:solidFill>
                <a:uFillTx/>
                <a:latin typeface="Arial"/>
              </a:rPr>
              <a:t>Этапы работы (слайды 13-16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3300"/>
                </a:solidFill>
                <a:uFillTx/>
                <a:latin typeface="Arial"/>
              </a:rPr>
              <a:t>Формы (слайд 17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3300"/>
                </a:solidFill>
                <a:uFillTx/>
                <a:latin typeface="Arial"/>
              </a:rPr>
              <a:t>Работа учителя. Оформле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3300"/>
                </a:solidFill>
                <a:uFillTx/>
                <a:latin typeface="Arial"/>
              </a:rPr>
              <a:t>Система оценок.(слайды 18-2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По комплексности: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МОНОПРОЕКТЫ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800000"/>
                </a:solidFill>
                <a:latin typeface="Times New Roman"/>
              </a:rPr>
              <a:t>реализуются, как правило, в рамках одного учебного предмета или одной области знания, хотя могут использовать информацию из других областей знаний и деятельности. Руководителем такого проекта выступает учитель-предметник, консультантом – учитель другой дисциплин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МЕЖПРЕДМЕТНЫЕ ПРОЕКТЫ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800000"/>
                </a:solidFill>
                <a:latin typeface="Times New Roman"/>
              </a:rPr>
              <a:t>выполняются исключительно во внеурочное время и под руководством нескольких специалистов в различных областях знания. Они требуют глубокой содержательной интеграции уже на этапе постановки проблем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ПО ХАРАКТЕРУ КОНТАКТОВ</a:t>
            </a:r>
            <a:r>
              <a:rPr b="0" lang="en-US" sz="4000" spc="-1" strike="noStrike">
                <a:solidFill>
                  <a:srgbClr val="a50021"/>
                </a:solidFill>
                <a:latin typeface="Tahoma"/>
              </a:rPr>
              <a:t>:</a:t>
            </a:r>
            <a:endParaRPr b="0" lang="en-US" sz="40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ВНУТРИКЛАССНЫ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ВНУТРИШКОЛЬНЫ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РЕГИОНАЛЬНЫ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МЕЖДУНАРОДНЫ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4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ПО ПРОДОЛЖИТЕЛЬНОСТИ</a:t>
            </a:r>
            <a:endParaRPr b="0" lang="en-US" sz="40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МИНИ-ПРОЕКТЫ</a:t>
            </a: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800000"/>
                </a:solidFill>
                <a:latin typeface="Times New Roman"/>
              </a:rPr>
              <a:t>могут укладываться в один урок или часть урок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КРАТКОСРОЧНЫЕ ПРОЕКТЫ</a:t>
            </a: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800000"/>
                </a:solidFill>
                <a:latin typeface="Times New Roman"/>
              </a:rPr>
              <a:t>требуют выделения 4-6 уроков, которые используются для координации деятельности проектных групп. Основная работа по сбору информации, изготовлению продукта и подготовке презентации выполняются в рамках внеклассной деятельности и дом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СРЕДНЕСРОЧНЫЕ ПРОЕКТЫ </a:t>
            </a:r>
            <a:r>
              <a:rPr b="1" i="1" lang="en-US" sz="2000" spc="-1" strike="noStrike">
                <a:solidFill>
                  <a:srgbClr val="800000"/>
                </a:solidFill>
                <a:latin typeface="Times New Roman"/>
              </a:rPr>
              <a:t>выполняются в течение 30-40 часов. При осуществлении такого проекта возможно сочетание классных и внеклассных форм работы. Желательно проведение проектной недел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ДОЛГОСРОЧНЫЕ (ГОДИЧНЫЕ) ПРОЕКТЫ </a:t>
            </a:r>
            <a:r>
              <a:rPr b="1" i="1" lang="en-US" sz="2000" spc="-1" strike="noStrike">
                <a:solidFill>
                  <a:srgbClr val="800000"/>
                </a:solidFill>
                <a:latin typeface="Times New Roman"/>
              </a:rPr>
              <a:t>могут выполняться как в группах, так и индивидуально. Желательно осуществлять их в рамках ученического научного общества. Весь цикл реализации годичного проекта выполняется во внеурочное врем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>
            <a:hlinkClick r:id="" action="ppaction://hlinkshowjump?jump=firstslide"/>
          </p:cNvPr>
          <p:cNvSpPr/>
          <p:nvPr/>
        </p:nvSpPr>
        <p:spPr>
          <a:xfrm>
            <a:off x="8459640" y="6165720"/>
            <a:ext cx="684360" cy="69228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692280"/>
              <a:gd name="textAreaBottom" fmla="*/ 648000 h 692280"/>
            </a:gdLst>
            <a:ahLst/>
            <a:rect l="textAreaLeft" t="textAreaTop" r="textAreaRight" b="textAreaBottom"/>
            <a:pathLst>
              <a:path w="21600" h="21850">
                <a:moveTo>
                  <a:pt x="0" y="0"/>
                </a:moveTo>
                <a:lnTo>
                  <a:pt x="21600" y="0"/>
                </a:lnTo>
                <a:lnTo>
                  <a:pt x="21600" y="21850"/>
                </a:lnTo>
                <a:lnTo>
                  <a:pt x="0" y="21850"/>
                </a:lnTo>
                <a:close/>
              </a:path>
              <a:path fill="lightenLess" w="21600" h="2185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50">
                <a:moveTo>
                  <a:pt x="21600" y="0"/>
                </a:moveTo>
                <a:lnTo>
                  <a:pt x="21600" y="21850"/>
                </a:lnTo>
                <a:lnTo>
                  <a:pt x="20200" y="20450"/>
                </a:lnTo>
                <a:lnTo>
                  <a:pt x="20200" y="1400"/>
                </a:lnTo>
                <a:close/>
              </a:path>
              <a:path fill="darkenLess" w="21600" h="21850">
                <a:moveTo>
                  <a:pt x="21600" y="21850"/>
                </a:moveTo>
                <a:lnTo>
                  <a:pt x="0" y="21850"/>
                </a:lnTo>
                <a:lnTo>
                  <a:pt x="1400" y="20450"/>
                </a:lnTo>
                <a:lnTo>
                  <a:pt x="20200" y="20450"/>
                </a:lnTo>
                <a:close/>
              </a:path>
              <a:path fill="lighten" w="21600" h="21850">
                <a:moveTo>
                  <a:pt x="0" y="2185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50"/>
                </a:lnTo>
                <a:close/>
              </a:path>
              <a:path fill="darken" w="21600" h="21850">
                <a:moveTo>
                  <a:pt x="10800" y="3962"/>
                </a:moveTo>
                <a:lnTo>
                  <a:pt x="13376" y="6573"/>
                </a:lnTo>
                <a:lnTo>
                  <a:pt x="13376" y="4832"/>
                </a:lnTo>
                <a:lnTo>
                  <a:pt x="15152" y="4832"/>
                </a:lnTo>
                <a:lnTo>
                  <a:pt x="15152" y="8349"/>
                </a:lnTo>
                <a:lnTo>
                  <a:pt x="17763" y="10925"/>
                </a:lnTo>
                <a:lnTo>
                  <a:pt x="16109" y="10925"/>
                </a:lnTo>
                <a:lnTo>
                  <a:pt x="16109" y="18114"/>
                </a:lnTo>
                <a:lnTo>
                  <a:pt x="5491" y="18114"/>
                </a:lnTo>
                <a:lnTo>
                  <a:pt x="5491" y="10925"/>
                </a:lnTo>
                <a:lnTo>
                  <a:pt x="3837" y="10925"/>
                </a:lnTo>
                <a:close/>
              </a:path>
              <a:path fill="darkenLess" w="21600" h="21850">
                <a:moveTo>
                  <a:pt x="13376" y="6573"/>
                </a:moveTo>
                <a:lnTo>
                  <a:pt x="13376" y="4832"/>
                </a:lnTo>
                <a:lnTo>
                  <a:pt x="15152" y="4832"/>
                </a:lnTo>
                <a:lnTo>
                  <a:pt x="15152" y="8349"/>
                </a:lnTo>
                <a:close/>
              </a:path>
              <a:path fill="darkenLess" w="21600" h="21850">
                <a:moveTo>
                  <a:pt x="9877" y="14424"/>
                </a:moveTo>
                <a:lnTo>
                  <a:pt x="11723" y="14424"/>
                </a:lnTo>
                <a:lnTo>
                  <a:pt x="11723" y="18114"/>
                </a:lnTo>
                <a:lnTo>
                  <a:pt x="16109" y="18114"/>
                </a:lnTo>
                <a:lnTo>
                  <a:pt x="16109" y="10925"/>
                </a:lnTo>
                <a:lnTo>
                  <a:pt x="5491" y="10925"/>
                </a:lnTo>
                <a:lnTo>
                  <a:pt x="5491" y="18114"/>
                </a:lnTo>
                <a:lnTo>
                  <a:pt x="9877" y="18114"/>
                </a:lnTo>
                <a:close/>
              </a:path>
            </a:pathLst>
          </a:custGeom>
          <a:solidFill>
            <a:srgbClr val="ffba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8532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imes New Roman"/>
              </a:rPr>
              <a:t>Этапы работы над проектом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76720" y="1197000"/>
            <a:ext cx="541008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1-й этап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 – погружение в проек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Учитель формулирует проблемную ситуацию, проблему проекта, цель и задач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Ученики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осуществляют личностное присвоение проблемы, вживание в ситуацию, принятие, уточнение и конкретизацию цели и задач</a:t>
            </a:r>
            <a:r>
              <a:rPr b="1" lang="en-US" sz="2800" spc="-1" strike="noStrike">
                <a:solidFill>
                  <a:srgbClr val="8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50920" y="1268280"/>
            <a:ext cx="2881080" cy="30974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686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2 этап</a:t>
            </a: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 – организация деятельности</a:t>
            </a:r>
            <a:endParaRPr b="0" lang="en-US" sz="40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492000" y="1197000"/>
            <a:ext cx="5194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Учитель организует деятельность – предлагает организовать группы, распределить роли в группах, спланировать деятельность по решению задач проекта, возможные формы презентации материал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Ученики осуществляют разбивку на группы, распределение ролей в группе, планирование работы, выбор формы и способа презентации предполагаемых результат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24000" y="1628640"/>
            <a:ext cx="2952720" cy="30672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3 этап</a:t>
            </a: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 – осуществление деятельности</a:t>
            </a:r>
            <a:endParaRPr b="0" lang="en-US" sz="40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69796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Учитель не участвует, но консультирует учащихся                                                                             по необходимости, ненавязчиво контролирует, дает новые знания, когда у учащихся возникает в этом необходимость, репетирует с учениками предстоящую презентацию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Ученики работают активно и самостоятельно каждый в соответствии со своим амплуа и сообща, консультируются по необходимости, «добывают» недостающие знания, подготавливают презентацию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376200" y="1355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2556000" y="4724280"/>
            <a:ext cx="3457440" cy="193356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</p:spTree>
  </p:cSld>
  <p:transition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4 этап</a:t>
            </a: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 – презентация</a:t>
            </a:r>
            <a:endParaRPr b="0" lang="en-US" sz="40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03640" y="1125360"/>
            <a:ext cx="541008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Учитель принимает отчет: обобщает и резюмирует полученные результаты, подводит итоги обучения, оценивает умения общаться, слушать, обосновывать свое мнение, толерантность и др., акцентирует внимание на воспитательных момента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Ученики демонстрируют понимание проблемы, цели и задач, умение планировать и осуществлять работу, найденный способ решения проблемы, рефлексию деятельности и результата, дают взаимооценку деятельности и ее результативн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50920" y="1197000"/>
            <a:ext cx="2808360" cy="3024000"/>
          </a:xfrm>
          <a:prstGeom prst="rect">
            <a:avLst/>
          </a:prstGeom>
          <a:ln w="9360">
            <a:solidFill>
              <a:srgbClr val="ff9966"/>
            </a:solidFill>
            <a:miter/>
          </a:ln>
        </p:spPr>
      </p:pic>
      <p:sp>
        <p:nvSpPr>
          <p:cNvPr id="141" name="">
            <a:hlinkClick r:id="" action="ppaction://hlinkshowjump?jump=firstslide"/>
          </p:cNvPr>
          <p:cNvSpPr/>
          <p:nvPr/>
        </p:nvSpPr>
        <p:spPr>
          <a:xfrm>
            <a:off x="8532720" y="6237360"/>
            <a:ext cx="611280" cy="62064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20640"/>
              <a:gd name="textAreaBottom" fmla="*/ 581040 h 620640"/>
            </a:gdLst>
            <a:ahLst/>
            <a:rect l="textAreaLeft" t="textAreaTop" r="textAreaRight" b="textAreaBottom"/>
            <a:pathLst>
              <a:path w="21600" h="21931">
                <a:moveTo>
                  <a:pt x="0" y="0"/>
                </a:moveTo>
                <a:lnTo>
                  <a:pt x="21600" y="0"/>
                </a:lnTo>
                <a:lnTo>
                  <a:pt x="21600" y="21931"/>
                </a:lnTo>
                <a:lnTo>
                  <a:pt x="0" y="21931"/>
                </a:lnTo>
                <a:close/>
              </a:path>
              <a:path fill="lightenLess" w="21600" h="219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31">
                <a:moveTo>
                  <a:pt x="21600" y="0"/>
                </a:moveTo>
                <a:lnTo>
                  <a:pt x="21600" y="21931"/>
                </a:lnTo>
                <a:lnTo>
                  <a:pt x="20200" y="20531"/>
                </a:lnTo>
                <a:lnTo>
                  <a:pt x="20200" y="1400"/>
                </a:lnTo>
                <a:close/>
              </a:path>
              <a:path fill="darkenLess" w="21600" h="21931">
                <a:moveTo>
                  <a:pt x="21600" y="21931"/>
                </a:moveTo>
                <a:lnTo>
                  <a:pt x="0" y="21931"/>
                </a:lnTo>
                <a:lnTo>
                  <a:pt x="1400" y="20531"/>
                </a:lnTo>
                <a:lnTo>
                  <a:pt x="20200" y="20531"/>
                </a:lnTo>
                <a:close/>
              </a:path>
              <a:path fill="lighten" w="21600" h="21931">
                <a:moveTo>
                  <a:pt x="0" y="219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31"/>
                </a:lnTo>
                <a:close/>
              </a:path>
              <a:path fill="darken" w="21600" h="21931">
                <a:moveTo>
                  <a:pt x="10800" y="4002"/>
                </a:moveTo>
                <a:lnTo>
                  <a:pt x="13376" y="6613"/>
                </a:lnTo>
                <a:lnTo>
                  <a:pt x="13376" y="4873"/>
                </a:lnTo>
                <a:lnTo>
                  <a:pt x="15152" y="4873"/>
                </a:lnTo>
                <a:lnTo>
                  <a:pt x="15152" y="8389"/>
                </a:lnTo>
                <a:lnTo>
                  <a:pt x="17763" y="10965"/>
                </a:lnTo>
                <a:lnTo>
                  <a:pt x="16109" y="10965"/>
                </a:lnTo>
                <a:lnTo>
                  <a:pt x="16109" y="18155"/>
                </a:lnTo>
                <a:lnTo>
                  <a:pt x="5491" y="18155"/>
                </a:lnTo>
                <a:lnTo>
                  <a:pt x="5491" y="10965"/>
                </a:lnTo>
                <a:lnTo>
                  <a:pt x="3837" y="10965"/>
                </a:lnTo>
                <a:close/>
              </a:path>
              <a:path fill="darkenLess" w="21600" h="21931">
                <a:moveTo>
                  <a:pt x="13376" y="6613"/>
                </a:moveTo>
                <a:lnTo>
                  <a:pt x="13376" y="4873"/>
                </a:lnTo>
                <a:lnTo>
                  <a:pt x="15152" y="4873"/>
                </a:lnTo>
                <a:lnTo>
                  <a:pt x="15152" y="8389"/>
                </a:lnTo>
                <a:close/>
              </a:path>
              <a:path fill="darkenLess" w="21600" h="21931">
                <a:moveTo>
                  <a:pt x="9877" y="14464"/>
                </a:moveTo>
                <a:lnTo>
                  <a:pt x="11723" y="14464"/>
                </a:lnTo>
                <a:lnTo>
                  <a:pt x="11723" y="18155"/>
                </a:lnTo>
                <a:lnTo>
                  <a:pt x="16109" y="18155"/>
                </a:lnTo>
                <a:lnTo>
                  <a:pt x="16109" y="10965"/>
                </a:lnTo>
                <a:lnTo>
                  <a:pt x="5491" y="10965"/>
                </a:lnTo>
                <a:lnTo>
                  <a:pt x="5491" y="18155"/>
                </a:lnTo>
                <a:lnTo>
                  <a:pt x="9877" y="18155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ФОРМЫ ПРОДУКТОВ ПРОЕКТНОЙ ДЕЯТЕЛЬНОСТИ</a:t>
            </a:r>
            <a:endParaRPr b="0" lang="en-US" sz="40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Times New Roman"/>
              </a:rPr>
              <a:t>WEB-</a:t>
            </a: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САЙТ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Анализ данных социологического опрос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АТЛАС, КАРТ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ВИДЕОФИЛЬМ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ВЫСТАВК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ГАЗЕТА, ЖУРНАЛ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ДЕЙСТВУЮЩАЯ ФИРМ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ЗАКОНОПРОЕКТ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ИГР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КОЛЛЕКЦ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КОСТЮМ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МОДЕЛЬ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Музыкальное произведение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Мультимедийный продукт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ОФОРМЛЕНИЕ КАБИНЕТ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ПОСТАНОВК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ПРАЗДНИК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ПРОГНОЗ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Система школьного самоуправлен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СПРАВОЧНИК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Сравнительно-сопоставительный анализ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УЧЕБНОЕ ПОСОБИЕ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ЭКСКУРС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">
            <a:hlinkClick r:id="" action="ppaction://hlinkshowjump?jump=firstslide"/>
          </p:cNvPr>
          <p:cNvSpPr/>
          <p:nvPr/>
        </p:nvSpPr>
        <p:spPr>
          <a:xfrm>
            <a:off x="8532720" y="6237360"/>
            <a:ext cx="611280" cy="62064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20640"/>
              <a:gd name="textAreaBottom" fmla="*/ 581040 h 620640"/>
            </a:gdLst>
            <a:ahLst/>
            <a:rect l="textAreaLeft" t="textAreaTop" r="textAreaRight" b="textAreaBottom"/>
            <a:pathLst>
              <a:path w="21600" h="21931">
                <a:moveTo>
                  <a:pt x="0" y="0"/>
                </a:moveTo>
                <a:lnTo>
                  <a:pt x="21600" y="0"/>
                </a:lnTo>
                <a:lnTo>
                  <a:pt x="21600" y="21931"/>
                </a:lnTo>
                <a:lnTo>
                  <a:pt x="0" y="21931"/>
                </a:lnTo>
                <a:close/>
              </a:path>
              <a:path fill="lightenLess" w="21600" h="219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31">
                <a:moveTo>
                  <a:pt x="21600" y="0"/>
                </a:moveTo>
                <a:lnTo>
                  <a:pt x="21600" y="21931"/>
                </a:lnTo>
                <a:lnTo>
                  <a:pt x="20200" y="20531"/>
                </a:lnTo>
                <a:lnTo>
                  <a:pt x="20200" y="1400"/>
                </a:lnTo>
                <a:close/>
              </a:path>
              <a:path fill="darkenLess" w="21600" h="21931">
                <a:moveTo>
                  <a:pt x="21600" y="21931"/>
                </a:moveTo>
                <a:lnTo>
                  <a:pt x="0" y="21931"/>
                </a:lnTo>
                <a:lnTo>
                  <a:pt x="1400" y="20531"/>
                </a:lnTo>
                <a:lnTo>
                  <a:pt x="20200" y="20531"/>
                </a:lnTo>
                <a:close/>
              </a:path>
              <a:path fill="lighten" w="21600" h="21931">
                <a:moveTo>
                  <a:pt x="0" y="219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31"/>
                </a:lnTo>
                <a:close/>
              </a:path>
              <a:path fill="darken" w="21600" h="21931">
                <a:moveTo>
                  <a:pt x="10800" y="4002"/>
                </a:moveTo>
                <a:lnTo>
                  <a:pt x="13376" y="6613"/>
                </a:lnTo>
                <a:lnTo>
                  <a:pt x="13376" y="4873"/>
                </a:lnTo>
                <a:lnTo>
                  <a:pt x="15152" y="4873"/>
                </a:lnTo>
                <a:lnTo>
                  <a:pt x="15152" y="8389"/>
                </a:lnTo>
                <a:lnTo>
                  <a:pt x="17763" y="10965"/>
                </a:lnTo>
                <a:lnTo>
                  <a:pt x="16109" y="10965"/>
                </a:lnTo>
                <a:lnTo>
                  <a:pt x="16109" y="18155"/>
                </a:lnTo>
                <a:lnTo>
                  <a:pt x="5491" y="18155"/>
                </a:lnTo>
                <a:lnTo>
                  <a:pt x="5491" y="10965"/>
                </a:lnTo>
                <a:lnTo>
                  <a:pt x="3837" y="10965"/>
                </a:lnTo>
                <a:close/>
              </a:path>
              <a:path fill="darkenLess" w="21600" h="21931">
                <a:moveTo>
                  <a:pt x="13376" y="6613"/>
                </a:moveTo>
                <a:lnTo>
                  <a:pt x="13376" y="4873"/>
                </a:lnTo>
                <a:lnTo>
                  <a:pt x="15152" y="4873"/>
                </a:lnTo>
                <a:lnTo>
                  <a:pt x="15152" y="8389"/>
                </a:lnTo>
                <a:close/>
              </a:path>
              <a:path fill="darkenLess" w="21600" h="21931">
                <a:moveTo>
                  <a:pt x="9877" y="14464"/>
                </a:moveTo>
                <a:lnTo>
                  <a:pt x="11723" y="14464"/>
                </a:lnTo>
                <a:lnTo>
                  <a:pt x="11723" y="18155"/>
                </a:lnTo>
                <a:lnTo>
                  <a:pt x="16109" y="18155"/>
                </a:lnTo>
                <a:lnTo>
                  <a:pt x="16109" y="10965"/>
                </a:lnTo>
                <a:lnTo>
                  <a:pt x="5491" y="10965"/>
                </a:lnTo>
                <a:lnTo>
                  <a:pt x="5491" y="18155"/>
                </a:lnTo>
                <a:lnTo>
                  <a:pt x="9877" y="18155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ОФОРМЛЕНИЕ ПРОЕКТНОЙ ПАПКИ (ПОРТФОЛИО)</a:t>
            </a:r>
            <a:endParaRPr b="0" lang="en-US" sz="2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Tahoma"/>
              </a:rPr>
              <a:t>В НЕЕ ВХОДЯТ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6633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00000"/>
                </a:solidFill>
                <a:latin typeface="Times New Roman"/>
              </a:rPr>
              <a:t>Паспорт проекта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6633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00000"/>
                </a:solidFill>
                <a:latin typeface="Times New Roman"/>
              </a:rPr>
              <a:t>Планы выполнения проекта и отдельных его этапов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6633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00000"/>
                </a:solidFill>
                <a:latin typeface="Times New Roman"/>
              </a:rPr>
              <a:t>Промежуточные отчеты группы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6633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00000"/>
                </a:solidFill>
                <a:latin typeface="Times New Roman"/>
              </a:rPr>
              <a:t>Вся собранная информация по теме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6633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00000"/>
                </a:solidFill>
                <a:latin typeface="Times New Roman"/>
              </a:rPr>
              <a:t>Результаты исследования и анализа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6633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00000"/>
                </a:solidFill>
                <a:latin typeface="Times New Roman"/>
              </a:rPr>
              <a:t>Записи всех идей, гипотез и решений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6633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00000"/>
                </a:solidFill>
                <a:latin typeface="Times New Roman"/>
              </a:rPr>
              <a:t>Отчеты о совещаниях группы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6633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00000"/>
                </a:solidFill>
                <a:latin typeface="Times New Roman"/>
              </a:rPr>
              <a:t>Краткое описание всех проблем, с которыми сталкивались проектанты, и способов их решения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6633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00000"/>
                </a:solidFill>
                <a:latin typeface="Times New Roman"/>
              </a:rPr>
              <a:t>Эскизы, чертежи, наброски продукта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6633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00000"/>
                </a:solidFill>
                <a:latin typeface="Times New Roman"/>
              </a:rPr>
              <a:t>Материалы к презентации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6633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00000"/>
                </a:solidFill>
                <a:latin typeface="Times New Roman"/>
              </a:rPr>
              <a:t>Другие рабочие материалы и черновик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Tahoma"/>
              </a:rPr>
              <a:t>ОНА ПОЗВОЛЯЕТ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6633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00000"/>
                </a:solidFill>
                <a:latin typeface="Times New Roman"/>
              </a:rPr>
              <a:t>Организовать работу каждого участника проектной группы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6633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00000"/>
                </a:solidFill>
                <a:latin typeface="Times New Roman"/>
              </a:rPr>
              <a:t>Создать справочник для работы над проектом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6633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00000"/>
                </a:solidFill>
                <a:latin typeface="Times New Roman"/>
              </a:rPr>
              <a:t>Объективно оценить ход работы над завершенным проектом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6633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00000"/>
                </a:solidFill>
                <a:latin typeface="Times New Roman"/>
              </a:rPr>
              <a:t>Судить о личных достижениях и развитии каждого участника проекта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6633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00000"/>
                </a:solidFill>
                <a:latin typeface="Times New Roman"/>
              </a:rPr>
              <a:t>Сократить время поиска информации при работе над другими проектами</a:t>
            </a:r>
            <a:r>
              <a:rPr b="1" i="1" lang="en-US" sz="16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ВИДЫ ПРЕЗЕНТАЦИЙ ПРОЕКТА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38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Деловая игр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Демонстрация видеофильм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Диалог исторических или литературных персонаже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Защита на Ученом Совет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Игра с зало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Иллюстрированное сопоставление фактов, документов, событий, эпох, цивилизац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Инсценировки реального или вымышленного исторического событ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Научная конференц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Научный доклад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8320" y="1412640"/>
            <a:ext cx="40384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Отчет исследовательской экспедиц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Пресс-конференц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Путешеств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Реклам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Ролевая игр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Соревнова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Спектакл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Спортивная игр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Театрализац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Телепередач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Экскурс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imes New Roman"/>
              </a:rPr>
              <a:t>История возникновения метода   проектов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908000" y="1628640"/>
            <a:ext cx="723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Мы привыкаем к цепям и жалеем об их отсутствии, когда их с нас снимаю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cc0000"/>
                </a:solidFill>
                <a:latin typeface="Times New Roman"/>
              </a:rPr>
              <a:t>              </a:t>
            </a:r>
            <a:r>
              <a:rPr b="1" i="1" lang="ru-RU" sz="1600" spc="-1" strike="noStrike">
                <a:solidFill>
                  <a:srgbClr val="cc0000"/>
                </a:solidFill>
                <a:latin typeface="Times New Roman"/>
              </a:rPr>
              <a:t>Д</a:t>
            </a:r>
            <a:r>
              <a:rPr b="1" i="1" lang="en-US" sz="1600" spc="-1" strike="noStrike">
                <a:solidFill>
                  <a:srgbClr val="cc0000"/>
                </a:solidFill>
                <a:latin typeface="Times New Roman"/>
              </a:rPr>
              <a:t>.</a:t>
            </a:r>
            <a:r>
              <a:rPr b="1" i="1" lang="ru-RU" sz="1600" spc="-1" strike="noStrike">
                <a:solidFill>
                  <a:srgbClr val="cc0000"/>
                </a:solidFill>
                <a:latin typeface="Times New Roman"/>
              </a:rPr>
              <a:t>Дью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Лобовые атаки в обучении приносят еще большие потери, чем на войн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Times New Roman"/>
              </a:rPr>
              <a:t>                                           </a:t>
            </a:r>
            <a:r>
              <a:rPr b="1" lang="ru-RU" sz="16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cc0000"/>
                </a:solidFill>
                <a:latin typeface="Times New Roman"/>
              </a:rPr>
              <a:t>             </a:t>
            </a:r>
            <a:r>
              <a:rPr b="1" i="1" lang="ru-RU" sz="1600" spc="-1" strike="noStrike">
                <a:solidFill>
                  <a:srgbClr val="cc0000"/>
                </a:solidFill>
                <a:latin typeface="Times New Roman"/>
              </a:rPr>
              <a:t>Д</a:t>
            </a:r>
            <a:r>
              <a:rPr b="1" i="1" lang="en-US" sz="1600" spc="-1" strike="noStrike">
                <a:solidFill>
                  <a:srgbClr val="cc0000"/>
                </a:solidFill>
                <a:latin typeface="Times New Roman"/>
              </a:rPr>
              <a:t>.</a:t>
            </a:r>
            <a:r>
              <a:rPr b="1" i="1" lang="ru-RU" sz="1600" spc="-1" strike="noStrike">
                <a:solidFill>
                  <a:srgbClr val="cc0000"/>
                </a:solidFill>
                <a:latin typeface="Times New Roman"/>
              </a:rPr>
              <a:t>Дью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Различные предметы преподавания суть не что иное, как опыт поколени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0000"/>
                </a:solidFill>
                <a:latin typeface="Times New Roman"/>
              </a:rPr>
              <a:t>                                                                                                            </a:t>
            </a:r>
            <a:r>
              <a:rPr b="1" i="1" lang="ru-RU" sz="1600" spc="-1" strike="noStrike">
                <a:solidFill>
                  <a:srgbClr val="cc0000"/>
                </a:solidFill>
                <a:latin typeface="Times New Roman"/>
              </a:rPr>
              <a:t>Д. Дью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Проект – достояние свободного человека. Целевой установке нет места в жизни раба или крепостног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0000"/>
                </a:solidFill>
                <a:latin typeface="Times New Roman"/>
              </a:rPr>
              <a:t>Уильям Херд Килпатри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В школе, в которой работают по методу проектов, первое слово – за ребенком, последнее – за учителе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0000"/>
                </a:solidFill>
                <a:latin typeface="Times New Roman"/>
              </a:rPr>
              <a:t>Коллингс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Единственный путь, ведущий к познанию, - это деятельност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0000"/>
                </a:solidFill>
                <a:latin typeface="Times New Roman"/>
              </a:rPr>
              <a:t>Бернард Шоу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50920" y="1413000"/>
            <a:ext cx="1631880" cy="208908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91" name=""/>
          <p:cNvSpPr/>
          <p:nvPr/>
        </p:nvSpPr>
        <p:spPr>
          <a:xfrm>
            <a:off x="179280" y="3592440"/>
            <a:ext cx="176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Д.Дью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1859-195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512200" y="6256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СИСТЕМА ОЦЕНКИ проектных работ</a:t>
            </a:r>
            <a:endParaRPr b="0" lang="en-US" sz="40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0" y="1484280"/>
            <a:ext cx="449568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Times New Roman"/>
              </a:rPr>
              <a:t>Для выработки системы оценки проектных работ необходимо ответить на следующие вопросы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Будут ли включаться самооценки участников проектных групп в общую оценку проекта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Предполагается ли присуждение мест или номинаций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Как будет происходить оценка проектов: по предметным секциям  или единым списком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642920" y="1412640"/>
            <a:ext cx="4038840" cy="23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Times New Roman"/>
              </a:rPr>
              <a:t>Проблемными местами являются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Предметная компетентность жюр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Разрешение ситуации «Все приложили усилия, но не все получили места и номинац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643280" y="3789000"/>
            <a:ext cx="450072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Times New Roman"/>
              </a:rPr>
              <a:t>Критерии оцен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Times New Roman"/>
              </a:rPr>
              <a:t>должны быть выбраны, исходя из оптимального их числа (не более 7-10) и доступности для учащихся каждого возраста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Times New Roman"/>
              </a:rPr>
              <a:t>оцениваться должна не столько презентация, сколько качество проекта в целом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Times New Roman"/>
              </a:rPr>
              <a:t>критерии должны быть известны задолго до защит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amond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imes New Roman"/>
              </a:rPr>
              <a:t>РОЛЬ УЧИТЕЛЯ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ahoma"/>
              </a:rPr>
              <a:t>ЭНТУЗИАСТ,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000" spc="-1" strike="noStrike">
                <a:solidFill>
                  <a:srgbClr val="ff6600"/>
                </a:solidFill>
                <a:latin typeface="Tahoma"/>
              </a:rPr>
              <a:t>вдохновляющий и мотивирующий учащихся на достижение цел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ahoma"/>
              </a:rPr>
              <a:t>СПЕЦИАЛИСТ, </a:t>
            </a:r>
            <a:r>
              <a:rPr b="0" i="1" lang="ru-RU" sz="2000" spc="-1" strike="noStrike">
                <a:solidFill>
                  <a:srgbClr val="ff6600"/>
                </a:solidFill>
                <a:latin typeface="Tahoma"/>
              </a:rPr>
              <a:t>обладающий знаниями и умениями в нескольких областях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ahoma"/>
              </a:rPr>
              <a:t>КОНСУЛЬТАНТ,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000" spc="-1" strike="noStrike">
                <a:solidFill>
                  <a:srgbClr val="ff6600"/>
                </a:solidFill>
                <a:latin typeface="Tahoma"/>
              </a:rPr>
              <a:t>организующий доступ к информационным ресурсам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ahoma"/>
              </a:rPr>
              <a:t>РУКОВОДИТЕЛЬ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ahoma"/>
              </a:rPr>
              <a:t>«ЧЕЛОВЕК, КОТОРЫЙ ЗАДАЕТ ВОПРОСЫ»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000" spc="-1" strike="noStrike">
                <a:solidFill>
                  <a:srgbClr val="ff6600"/>
                </a:solidFill>
                <a:latin typeface="Tahoma"/>
              </a:rPr>
              <a:t>(по Дж. Питту) - организатор обсуждения различных способов преодоления возникающих трудносте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ahoma"/>
              </a:rPr>
              <a:t>КООРДИНАТОР </a:t>
            </a:r>
            <a:r>
              <a:rPr b="0" i="1" lang="ru-RU" sz="2000" spc="-1" strike="noStrike">
                <a:solidFill>
                  <a:srgbClr val="ff6600"/>
                </a:solidFill>
                <a:latin typeface="Tahoma"/>
              </a:rPr>
              <a:t>группового процесс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ahoma"/>
              </a:rPr>
              <a:t>ЭКСПЕРТ,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000" spc="-1" strike="noStrike">
                <a:solidFill>
                  <a:srgbClr val="ff6600"/>
                </a:solidFill>
                <a:latin typeface="Tahoma"/>
              </a:rPr>
              <a:t>анализирующий результаты выполненного проек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">
            <a:hlinkClick r:id="" action="ppaction://hlinkshowjump?jump=firstslide"/>
          </p:cNvPr>
          <p:cNvSpPr/>
          <p:nvPr/>
        </p:nvSpPr>
        <p:spPr>
          <a:xfrm>
            <a:off x="8459640" y="6165720"/>
            <a:ext cx="684360" cy="69228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692280"/>
              <a:gd name="textAreaBottom" fmla="*/ 648000 h 692280"/>
            </a:gdLst>
            <a:ahLst/>
            <a:rect l="textAreaLeft" t="textAreaTop" r="textAreaRight" b="textAreaBottom"/>
            <a:pathLst>
              <a:path w="21600" h="21850">
                <a:moveTo>
                  <a:pt x="0" y="0"/>
                </a:moveTo>
                <a:lnTo>
                  <a:pt x="21600" y="0"/>
                </a:lnTo>
                <a:lnTo>
                  <a:pt x="21600" y="21850"/>
                </a:lnTo>
                <a:lnTo>
                  <a:pt x="0" y="21850"/>
                </a:lnTo>
                <a:close/>
              </a:path>
              <a:path fill="lightenLess" w="21600" h="2185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50">
                <a:moveTo>
                  <a:pt x="21600" y="0"/>
                </a:moveTo>
                <a:lnTo>
                  <a:pt x="21600" y="21850"/>
                </a:lnTo>
                <a:lnTo>
                  <a:pt x="20200" y="20450"/>
                </a:lnTo>
                <a:lnTo>
                  <a:pt x="20200" y="1400"/>
                </a:lnTo>
                <a:close/>
              </a:path>
              <a:path fill="darkenLess" w="21600" h="21850">
                <a:moveTo>
                  <a:pt x="21600" y="21850"/>
                </a:moveTo>
                <a:lnTo>
                  <a:pt x="0" y="21850"/>
                </a:lnTo>
                <a:lnTo>
                  <a:pt x="1400" y="20450"/>
                </a:lnTo>
                <a:lnTo>
                  <a:pt x="20200" y="20450"/>
                </a:lnTo>
                <a:close/>
              </a:path>
              <a:path fill="lighten" w="21600" h="21850">
                <a:moveTo>
                  <a:pt x="0" y="2185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50"/>
                </a:lnTo>
                <a:close/>
              </a:path>
              <a:path fill="darken" w="21600" h="21850">
                <a:moveTo>
                  <a:pt x="10800" y="3962"/>
                </a:moveTo>
                <a:lnTo>
                  <a:pt x="13376" y="6573"/>
                </a:lnTo>
                <a:lnTo>
                  <a:pt x="13376" y="4832"/>
                </a:lnTo>
                <a:lnTo>
                  <a:pt x="15152" y="4832"/>
                </a:lnTo>
                <a:lnTo>
                  <a:pt x="15152" y="8349"/>
                </a:lnTo>
                <a:lnTo>
                  <a:pt x="17763" y="10925"/>
                </a:lnTo>
                <a:lnTo>
                  <a:pt x="16109" y="10925"/>
                </a:lnTo>
                <a:lnTo>
                  <a:pt x="16109" y="18114"/>
                </a:lnTo>
                <a:lnTo>
                  <a:pt x="5491" y="18114"/>
                </a:lnTo>
                <a:lnTo>
                  <a:pt x="5491" y="10925"/>
                </a:lnTo>
                <a:lnTo>
                  <a:pt x="3837" y="10925"/>
                </a:lnTo>
                <a:close/>
              </a:path>
              <a:path fill="darkenLess" w="21600" h="21850">
                <a:moveTo>
                  <a:pt x="13376" y="6573"/>
                </a:moveTo>
                <a:lnTo>
                  <a:pt x="13376" y="4832"/>
                </a:lnTo>
                <a:lnTo>
                  <a:pt x="15152" y="4832"/>
                </a:lnTo>
                <a:lnTo>
                  <a:pt x="15152" y="8349"/>
                </a:lnTo>
                <a:close/>
              </a:path>
              <a:path fill="darkenLess" w="21600" h="21850">
                <a:moveTo>
                  <a:pt x="9877" y="14424"/>
                </a:moveTo>
                <a:lnTo>
                  <a:pt x="11723" y="14424"/>
                </a:lnTo>
                <a:lnTo>
                  <a:pt x="11723" y="18114"/>
                </a:lnTo>
                <a:lnTo>
                  <a:pt x="16109" y="18114"/>
                </a:lnTo>
                <a:lnTo>
                  <a:pt x="16109" y="10925"/>
                </a:lnTo>
                <a:lnTo>
                  <a:pt x="5491" y="10925"/>
                </a:lnTo>
                <a:lnTo>
                  <a:pt x="5491" y="18114"/>
                </a:lnTo>
                <a:lnTo>
                  <a:pt x="9877" y="18114"/>
                </a:lnTo>
                <a:close/>
              </a:path>
            </a:pathLst>
          </a:custGeom>
          <a:solidFill>
            <a:srgbClr val="ffba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Концептуальные положения теории Джона Дьюи</a:t>
            </a:r>
            <a:endParaRPr b="0" lang="en-US" sz="40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Ребенок в онтогенезе повторяет путь человечества в познан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Усвоение знаний есть спонтанный неуправляемый процесс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Ребенок усваивает материал благодаря возникшей у него потребности в знаниях и являясь активным субъектом своего обуч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8872560" y="6256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Условия успешности обучения </a:t>
            </a:r>
            <a:br>
              <a:rPr sz="4000"/>
            </a:b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по Дьюи</a:t>
            </a:r>
            <a:endParaRPr b="0" lang="en-US" sz="40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Проблематизация учебного материал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Активность ребен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Связь обучения с жизнью ребенка, игрой, труд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8728200" y="6400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imes New Roman"/>
              </a:rPr>
              <a:t>недостатки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Недооценка теоретических знаний и дедуктивного метода в познан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ереоценка роли спонтанного интереса и систематизирующих способностей у ребен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8801280" y="6400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imes New Roman"/>
              </a:rPr>
              <a:t>последователи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Уильям Килпатрик: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 проектом является любая деятельность, выполненная «от всего сердца», с высокой степенью самостоятельности группой детей, объединенных в данный момент общим интересо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Недостатки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: выполнение проектов по интересам не всегда связано с приобретением новых знаний и умений, следовательно, построение учебного процесса с учетом </a:t>
            </a: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только 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интересов ребенка нецелесообразн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8801280" y="6329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728200" y="6396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imes New Roman"/>
              </a:rPr>
              <a:t>последователи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195640" y="1483920"/>
            <a:ext cx="647352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«</a:t>
            </a: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Дальтон –план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С.Т.Шацкий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В.Н.Сорока-Росинский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А.С.Макаренко и д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3300"/>
                </a:solidFill>
                <a:uFillTx/>
                <a:latin typeface="Times New Roman"/>
              </a:rPr>
              <a:t>Недостатки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: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сокращение объема общеобразовательных знаний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отсутствие необходимого объема систематических знаний для поступления в вуз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1440000" cy="190044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109" name=""/>
          <p:cNvSpPr/>
          <p:nvPr/>
        </p:nvSpPr>
        <p:spPr>
          <a:xfrm>
            <a:off x="250920" y="220500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С.Т.Шацки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440560" y="640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79280" y="2492280"/>
            <a:ext cx="1368360" cy="172728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112" name=""/>
          <p:cNvSpPr/>
          <p:nvPr/>
        </p:nvSpPr>
        <p:spPr>
          <a:xfrm>
            <a:off x="108000" y="4221000"/>
            <a:ext cx="23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В.Н.Сорока-Росински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179280" y="4581360"/>
            <a:ext cx="1440000" cy="194472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87480" y="6524640"/>
            <a:ext cx="1423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А.С.Макаренк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>
            <a:hlinkClick r:id="" action="ppaction://hlinkshowjump?jump=firstslide"/>
          </p:cNvPr>
          <p:cNvSpPr/>
          <p:nvPr/>
        </p:nvSpPr>
        <p:spPr>
          <a:xfrm>
            <a:off x="860436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10800" y="4031"/>
                </a:moveTo>
                <a:lnTo>
                  <a:pt x="13376" y="6643"/>
                </a:lnTo>
                <a:lnTo>
                  <a:pt x="13376" y="4902"/>
                </a:lnTo>
                <a:lnTo>
                  <a:pt x="15152" y="4902"/>
                </a:lnTo>
                <a:lnTo>
                  <a:pt x="15152" y="8418"/>
                </a:lnTo>
                <a:lnTo>
                  <a:pt x="17763" y="10994"/>
                </a:lnTo>
                <a:lnTo>
                  <a:pt x="16109" y="10994"/>
                </a:lnTo>
                <a:lnTo>
                  <a:pt x="16109" y="18184"/>
                </a:lnTo>
                <a:lnTo>
                  <a:pt x="5491" y="18184"/>
                </a:lnTo>
                <a:lnTo>
                  <a:pt x="5491" y="10994"/>
                </a:lnTo>
                <a:lnTo>
                  <a:pt x="3837" y="10994"/>
                </a:lnTo>
                <a:close/>
              </a:path>
              <a:path fill="darkenLess" w="21600" h="21989">
                <a:moveTo>
                  <a:pt x="13376" y="6643"/>
                </a:moveTo>
                <a:lnTo>
                  <a:pt x="13376" y="4902"/>
                </a:lnTo>
                <a:lnTo>
                  <a:pt x="15152" y="4902"/>
                </a:lnTo>
                <a:lnTo>
                  <a:pt x="15152" y="8418"/>
                </a:lnTo>
                <a:close/>
              </a:path>
              <a:path fill="darkenLess" w="21600" h="21989">
                <a:moveTo>
                  <a:pt x="9877" y="14493"/>
                </a:moveTo>
                <a:lnTo>
                  <a:pt x="11723" y="14493"/>
                </a:lnTo>
                <a:lnTo>
                  <a:pt x="11723" y="18184"/>
                </a:lnTo>
                <a:lnTo>
                  <a:pt x="16109" y="18184"/>
                </a:lnTo>
                <a:lnTo>
                  <a:pt x="16109" y="10994"/>
                </a:lnTo>
                <a:lnTo>
                  <a:pt x="5491" y="10994"/>
                </a:lnTo>
                <a:lnTo>
                  <a:pt x="5491" y="18184"/>
                </a:lnTo>
                <a:lnTo>
                  <a:pt x="9877" y="18184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206028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imes New Roman"/>
              </a:rPr>
              <a:t>КЛАССИФИКАЦИЯ ПРОЕКТОВ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8728200" y="6400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По доминирующей деятельности учащихся: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100000"/>
              </a:lnSpc>
              <a:spcBef>
                <a:spcPts val="451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Times New Roman"/>
              </a:rPr>
              <a:t>Практико-ориентированный проект</a:t>
            </a: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800000"/>
                </a:solidFill>
                <a:latin typeface="Times New Roman"/>
              </a:rPr>
              <a:t>нацелен на решение социальных задач, отражающих интересы участников проекта или внешнего заказчик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lnSpc>
                <a:spcPct val="100000"/>
              </a:lnSpc>
              <a:spcBef>
                <a:spcPts val="451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Times New Roman"/>
              </a:rPr>
              <a:t>Исследовательский проект</a:t>
            </a:r>
            <a:r>
              <a:rPr b="1" i="1" lang="en-US" sz="1800" spc="-1" strike="noStrike">
                <a:solidFill>
                  <a:srgbClr val="800000"/>
                </a:solidFill>
                <a:latin typeface="Times New Roman"/>
              </a:rPr>
              <a:t> по структуре напоминает научное исследование. Он включает в себя обоснование актуальности выбранной темы, постановку задач исследования, обязательное выдвижение гипотезы с последующей ее проверкой, обсуждение и анализ полученных результато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lnSpc>
                <a:spcPct val="100000"/>
              </a:lnSpc>
              <a:spcBef>
                <a:spcPts val="451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Times New Roman"/>
              </a:rPr>
              <a:t>Информационный проект</a:t>
            </a: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800000"/>
                </a:solidFill>
                <a:latin typeface="Times New Roman"/>
              </a:rPr>
              <a:t>направлен на сбор информации о каком-либо объекте или явлении с целью анализа, обобщения и представления информации для широкой аудитори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lnSpc>
                <a:spcPct val="100000"/>
              </a:lnSpc>
              <a:spcBef>
                <a:spcPts val="451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Times New Roman"/>
              </a:rPr>
              <a:t>Творческий проект</a:t>
            </a:r>
            <a:r>
              <a:rPr b="1" i="1" lang="en-US" sz="1800" spc="-1" strike="noStrike">
                <a:solidFill>
                  <a:srgbClr val="800000"/>
                </a:solidFill>
                <a:latin typeface="Times New Roman"/>
              </a:rPr>
              <a:t> предполагает максимально свободный и нетрадиционный подход к его выполнению и презентации результато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lnSpc>
                <a:spcPct val="100000"/>
              </a:lnSpc>
              <a:spcBef>
                <a:spcPts val="400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Times New Roman"/>
              </a:rPr>
              <a:t>Ролевой проект</a:t>
            </a: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800000"/>
                </a:solidFill>
                <a:latin typeface="Times New Roman"/>
              </a:rPr>
              <a:t>участвуя в нем, проектанты берут на себя роли литературных или исторических персонажей, выдуманных героев с целью воссоздания различных социальных или деловых отношений через игровые ситуации</a:t>
            </a:r>
            <a:r>
              <a:rPr b="1" i="1" lang="en-US" sz="16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8872560" y="64738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9T05:22:53Z</dcterms:created>
  <dc:creator>Admin</dc:creator>
  <dc:description/>
  <dc:language>en-US</dc:language>
  <cp:lastModifiedBy>Admin</cp:lastModifiedBy>
  <dcterms:modified xsi:type="dcterms:W3CDTF">2010-05-22T06:53:13Z</dcterms:modified>
  <cp:revision>18</cp:revision>
  <dc:subject/>
  <dc:title>Проектное обучение</dc:title>
</cp:coreProperties>
</file>