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68D-E401-4048-B73C-35CAC54F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730-01C5-4243-8F6C-08F3931C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BCE-1714-4BEE-89DD-3AC5BAB5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C50-DCAA-40E1-841B-E096D992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61F17-9130-4345-8BEE-8DD4E67D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855FA-C77D-452A-BBD1-25E7836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A0A39-AD56-467B-ABC1-56E1DE18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EB30A-7FDB-4CE1-BC1E-064E9531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8A184-266C-41C0-8492-280F3121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AEE0A-F2C1-4A51-834B-4A75F830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DC248-1895-48FD-8238-98387CE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F47-C226-42C0-A6FD-FE10588D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F0438-DF41-4A2B-9AAB-46303A6E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4F442-F476-4535-86CC-BF0B0A6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107DC-EC88-4392-9AC7-DB603CED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9A3E2-8D22-4643-9F41-14887C6C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C2A8C-3849-47FE-831B-BAEA2915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2BA-2F5D-4033-91A7-7527093F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F55-67F2-4985-9310-FB2D11AA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35C-B6F5-434E-AC81-27CD91C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2C0-26DA-4A03-AC1B-AFC133EF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655-BDDA-45E8-9F9D-8F708C9C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7FA-4B60-460A-B500-42658702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31D-2218-4394-94B5-02692FC2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50D1-8682-4AFF-9168-5953D6B546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5A8D-D527-4443-A0FD-D40542C9BD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76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Проектное   обучение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552840" cy="355284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68360" y="55371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Соловьева Галина Дмитри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школа №8 г.Рослав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700280"/>
            <a:ext cx="4500720" cy="3744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6600"/>
              </a:gs>
              <a:gs pos="100000">
                <a:srgbClr val="ffba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92920" y="170028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Карта презен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2131920"/>
            <a:ext cx="380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История возникнов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 (слайды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2</a:t>
            </a: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7</a:t>
            </a: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лассификация (слайды 8-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апы работы (слайды 13-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Формы (слайд 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Работа учителя. Оформ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Система оценок.(слайды 18-2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По комплексности: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МОНОПРОЕКТЫ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реализуются, как правило, в рамках одного учебного предмета или одной области знания, хотя могут использовать информацию из других областей знаний и деятельности. Руководителем такого проекта выступает учитель-предметник, консультантом – учитель другой дисципли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МЕЖПРЕДМЕТНЫЕ ПРОЕКТ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выполняются исключительно во внеурочное время и под руководством нескольких специалистов в различных областях знания. Они требуют глубокой содержательной интеграции уже на этапе постановки пробл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ПО ХАРАКТЕРУ КОНТАКТОВ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ВНУТРИКЛАСС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ВНУТРИШКОЛЬ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РЕГИОНАЛЬ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МЕЖДУНАРОД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ПО ПРОДОЛЖИТЕЛЬНОСТ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МИНИ-ПРОЕКТЫ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могут укладываться в один урок или часть уро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КРАТКОСРОЧНЫЕ ПРОЕКТЫ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требуют выделения 4-6 уроков, которые используются для координации деятельности проектных групп. Основная работа по сбору информации, изготовлению продукта и подготовке презентации выполняются в рамках внеклассной деятельности и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РЕДНЕСРОЧНЫЕ ПРОЕКТЫ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выполняются в течение 30-40 часов. При осуществлении такого проекта возможно сочетание классных и внеклассных форм работы. Желательно проведение проектной нед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ДОЛГОСРОЧНЫЕ (ГОДИЧНЫЕ) ПРОЕКТЫ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могут выполняться как в группах, так и индивидуально. Желательно осуществлять их в рамках ученического научного общества. Весь цикл реализации годичного проекта выполняется во внеурочное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solidFill>
            <a:srgbClr val="ffba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53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Этапы работы над проектом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1-й этап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– погружение в проек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Учитель формулирует проблемную ситуацию, проблему проекта, цель и зада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Ученики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осуществляют личностное присвоение проблемы, вживание в ситуацию, принятие, уточнение и конкретизацию цели и задач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2881080" cy="3097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686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2 этап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– организация деятельност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92000" y="1197000"/>
            <a:ext cx="5194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читель организует деятельность – предлагает организовать группы, распределить роли в группах, спланировать деятельность по решению задач проекта, возможные формы презентации матери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ченики осуществляют разбивку на группы, распределение ролей в группе, планирование работы, выбор формы и способа презентации предполагаемых результа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952720" cy="3067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3 этап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– осуществление деятельност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6979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читель не участвует, но консультирует учащихся                                                                             по необходимости, ненавязчиво контролирует, дает новые знания, когда у учащихся возникает в этом необходимость, репетирует с учениками предстоящую презентац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Ученики работают активно и самостоятельно каждый в соответствии со своим амплуа и сообща, консультируются по необходимости, «добывают» недостающие знания, подготавливают презентац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76200" y="13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56000" y="4724280"/>
            <a:ext cx="3457440" cy="1933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4 этап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– презентация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03640" y="1125360"/>
            <a:ext cx="5410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читель принимает отчет: обобщает и резюмирует полученные результаты, подводит итоги обучения, оценивает умения общаться, слушать, обосновывать свое мнение, толерантность и др., акцентирует внимание на воспитательных момент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ченики демонстрируют понимание проблемы, цели и задач, умение планировать и осуществлять работу, найденный способ решения проблемы, рефлексию деятельности и результата, дают взаимооценку деятельности и ее результатив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808360" cy="302400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ФОРМЫ ПРОДУКТОВ ПРОЕКТНОЙ ДЕЯТЕЛЬНОСТ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WEB-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АЙ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Анализ данных социологического опро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АТЛАС, КАР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ИДЕОФИЛЬ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ЫСТАВ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ГАЗЕТА, ЖУРНА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ДЕЙСТВУЮЩАЯ ФИРМ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ЗАКОНОПРОЕК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ИГ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КОЛЛЕКЦ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КОСТЮ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ОДЕЛ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узыкальное произведе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ультимедийный продук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ОФОРМЛЕНИЕ КАБИН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ОСТАНОВ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РАЗДНИ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РОГНОЗ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истема школьного самоуправ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ПРАВОЧНИ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равнительно-сопоставительный анализ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УЧЕБНОЕ ПОСОБ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ЭКСКУРС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ОФОРМЛЕНИЕ ПРОЕКТНОЙ ПАПКИ (ПОРТФОЛИО)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ahoma"/>
              </a:rPr>
              <a:t>В НЕЕ ВХОДЯ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Паспорт проек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Планы выполнения проекта и отдельных его этап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Промежуточные отчеты групп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Вся собранная информация по тем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Результаты исследования и анализ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Записи всех идей, гипотез и реш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Отчеты о совещаниях групп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Краткое описание всех проблем, с которыми сталкивались проектанты, и способов их реш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Эскизы, чертежи, наброски продук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Материалы к презента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Другие рабочие материалы и чернов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ОНА ПОЗВОЛЯ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Организовать работу каждого участника проектной групп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Создать справочник для работы над проекто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Объективно оценить ход работы над завершенным проекто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Судить о личных достижениях и развитии каждого участника проек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Сократить время поиска информации при работе над другими проектами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ВИДЫ ПРЕЗЕНТАЦИЙ ПРОЕКТА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Деловая иг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Демонстрация видеофиль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Диалог исторических или литературных персонаж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Защита на Ученом Сове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Игра с за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Иллюстрированное сопоставление фактов, документов, событий, эпох, цивилиза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Инсценировки реального или вымышленного исторического собы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Научная кон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Научный докл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Отчет исследовательской экспеди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ресс-кон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утешеств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екл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оревн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пектак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портивная иг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Театрал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Телепередач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Экску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История возникновения метода   проектов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8000" y="1628640"/>
            <a:ext cx="72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Мы привыкаем к цепям и жалеем об их отсутствии, когда их с нас снима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             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ью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Лобовые атаки в обучении приносят еще большие потери, чем на вой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            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ью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Различные предметы преподавания суть не что иное, как опыт покол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Д. Дью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ект – достояние свободного человека. Целевой установке нет места в жизни раба или крепостн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Уильям Херд Килпатр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В школе, в которой работают по методу проектов, первое слово – за ребенком, последнее – за учител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Коллинг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Единственный путь, ведущий к познанию, - это 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Бернард Шо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1631880" cy="2089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79280" y="359244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.Дью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1859-19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1220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СИСТЕМА ОЦЕНКИ проектных работ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84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Для выработки системы оценки проектных работ необходимо ответить на следующи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Будут ли включаться самооценки участников проектных групп в общую оценку проект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Предполагается ли присуждение мест или номинаци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Как будет происходить оценка проектов: по предметным секциям  или единым списк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2920" y="1412640"/>
            <a:ext cx="403884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Проблемными местами являю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редметная компетентность жю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азрешение ситуации «Все приложили усилия, но не все получили места и номин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3280" y="3789000"/>
            <a:ext cx="4500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Критерии оце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должны быть выбраны, исходя из оптимального их числа (не более 7-10) и доступности для учащихся каждого возрас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оцениваться должна не столько презентация, сколько качество проекта в цел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критерии должны быть известны задолго до защи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РОЛЬ УЧИТЕЛЯ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ЭНТУЗИАСТ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вдохновляющий и мотивирующий учащихся на достижение цел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СПЕЦИАЛИСТ,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обладающий знаниями и умениями в нескольких областя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КОНСУЛЬТАНТ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организующий доступ к информационным ресурса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РУКОВОДИТЕЛ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«ЧЕЛОВЕК, КОТОРЫЙ ЗАДАЕТ ВОПРОСЫ»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(по Дж. Питту) - организатор обсуждения различных способов преодоления возникающих труднос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КООРДИНАТОР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группового процес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ЭКСПЕРТ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анализирующий результаты выполненного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solidFill>
            <a:srgbClr val="ffba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Концептуальные положения теории Джона Дью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Ребенок в онтогенезе повторяет путь человечества в позн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Усвоение знаний есть спонтанный неуправляемый проц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Ребенок усваивает материал благодаря возникшей у него потребности в знаниях и являясь активным субъектом своего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87256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Условия успешности обучения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по Дьюи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облематизация учебного матер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Активность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вязь обучения с жизнью ребенка, игрой, тру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72820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Недооценка теоретических знаний и дедуктивного метода в позна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ереоценка роли спонтанного интереса и систематизирующих способностей у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80128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последователи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Уильям Килпатрик: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проектом является любая деятельность, выполненная «от всего сердца», с высокой степенью самостоятельности группой детей, объединенных в данный момент общим интерес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Недостатки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 выполнение проектов по интересам не всегда связано с приобретением новых знаний и умений, следовательно, построение учебного процесса с учетом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только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интересов ребенка нецелесообраз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80128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28200" y="6396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последователи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483920"/>
            <a:ext cx="6473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Дальтон –план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.Т.Шацки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В.Н.Сорока-Росински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А.С.Макаренко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Недостатки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окращение объема общеобразовательных знани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отсутствие необходимого объема систематических знаний для поступления в ву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440000" cy="1900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50920" y="22050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С.Т.Шац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4056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1368360" cy="17272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08000" y="4221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В.Н.Сорока-Росин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9280" y="4581360"/>
            <a:ext cx="1440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87480" y="6524640"/>
            <a:ext cx="142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А.С.Макаренк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КЛАССИФИКАЦИЯ ПРОЕКТОВ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872820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По доминирующей деятельности учащихся: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Практико-ориентированный проект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нацелен на решение социальных задач, отражающих интересы участников проекта или внешнего заказч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Исследовательский проект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 по структуре напоминает научное исследование. Он включает в себя обоснование актуальности выбранной темы, постановку задач исследования, обязательное выдвижение гипотезы с последующей ее проверкой, обсуждение и анализ полученных результа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Информационный проект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направлен на сбор информации о каком-либо объекте или явлении с целью анализа, обобщения и представления информации для широкой аудитор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Творческий проект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 предполагает максимально свободный и нетрадиционный подход к его выполнению и презентации результа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Ролевой проект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участвуя в нем, проектанты берут на себя роли литературных или исторических персонажей, выдуманных героев с целью воссоздания различных социальных или деловых отношений через игровые ситуации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872560" y="6473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5:22:53Z</dcterms:created>
  <dc:creator>Admin</dc:creator>
  <dc:description/>
  <dc:language>en-US</dc:language>
  <cp:lastModifiedBy>Admin</cp:lastModifiedBy>
  <dcterms:modified xsi:type="dcterms:W3CDTF">2010-05-22T06:53:13Z</dcterms:modified>
  <cp:revision>18</cp:revision>
  <dc:subject/>
  <dc:title>Проектное обучение</dc:title>
</cp:coreProperties>
</file>