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9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wmf" ContentType="image/x-wmf"/>
  <Override PartName="/ppt/media/image22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EC6-8E75-45BD-993A-417D3A1D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041-D60A-48A1-8D64-7FD06E0E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4876-40D4-4267-8A47-B0EA196A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061-0B5F-432F-A399-79462BF6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C6ED-89AF-4FCA-9B6C-0D091E7D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3D1C-D745-4EAC-AEBD-F28EAC04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C8DE-72B4-4C2F-9C2A-1E1E8864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6E60-3375-4C5A-B28F-8BE78755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0D2C-5B59-4500-BE59-CB096C46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7CFE-547F-40F9-A46C-9A5674C9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53F2-B53D-4122-9994-E4F2DAAD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C7A-3563-4A6F-A621-758FE5E2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C3FB-4D28-4FAA-B1BC-3A70C52D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D629-467C-4AD5-82A4-80CB2A76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D07D-0DFF-4983-81D2-0D19E41C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14CD-190C-4ACE-A565-5D53C770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40A9-A5B0-4B5E-AF19-16A619E0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E1B-8E28-47B4-AF92-ACAECE0B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F0D-5ECE-4C47-8999-141C2E06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1AED-74EA-48B4-80E5-72DB398C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F46D-21A3-40EC-A038-B94650D9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3C5-9A3A-4D64-81DD-9C581321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91B-D310-402E-8D64-749A8EAD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19B2-4CBD-48DF-9585-9325E21B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92DC-5A7B-4084-BF1F-1D31F502E6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B12D-B723-4932-ACF4-D91E177317E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727200" y="1352520"/>
            <a:ext cx="7688160" cy="2508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8000" y="5013000"/>
            <a:ext cx="360036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резентацию подготовила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МБОУ Гимназия № 6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Быкова Ирина Владиславовн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6" name="Picture 4" descr="кондор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4" descr="барс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Picture 4" descr="гриф"/>
          <p:cNvPicPr/>
          <p:nvPr/>
        </p:nvPicPr>
        <p:blipFill>
          <a:blip r:embed="rId1"/>
          <a:stretch/>
        </p:blipFill>
        <p:spPr>
          <a:xfrm>
            <a:off x="0" y="0"/>
            <a:ext cx="9144000" cy="74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Picture 4" descr="ла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8" name="Picture 4" descr="архар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Picture 4" descr="серна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4" name="Picture 4" descr="як"/>
          <p:cNvPicPr/>
          <p:nvPr/>
        </p:nvPicPr>
        <p:blipFill>
          <a:blip r:embed="rId1"/>
          <a:stretch/>
        </p:blipFill>
        <p:spPr>
          <a:xfrm>
            <a:off x="0" y="0"/>
            <a:ext cx="10333080" cy="82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11280" y="260280"/>
            <a:ext cx="7772400" cy="61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Times New Roman"/>
              </a:rPr>
              <a:t>При подъеме в горы экосистемы сменяют друг друга в определенном порядке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9" name="Picture 4" descr="камнепад"/>
          <p:cNvPicPr/>
          <p:nvPr/>
        </p:nvPicPr>
        <p:blipFill>
          <a:blip r:embed="rId1"/>
          <a:stretch/>
        </p:blipFill>
        <p:spPr>
          <a:xfrm>
            <a:off x="0" y="0"/>
            <a:ext cx="9144000" cy="7164360"/>
          </a:xfrm>
          <a:prstGeom prst="rect">
            <a:avLst/>
          </a:prstGeom>
          <a:ln w="0">
            <a:noFill/>
          </a:ln>
        </p:spPr>
      </p:pic>
      <p:sp>
        <p:nvSpPr>
          <p:cNvPr id="170" name="WordArt 5"/>
          <p:cNvSpPr txBox="1"/>
          <p:nvPr/>
        </p:nvSpPr>
        <p:spPr>
          <a:xfrm>
            <a:off x="6156360" y="40464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мнепад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3" name="Picture 4" descr="оползень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5"/>
          <p:cNvSpPr txBox="1"/>
          <p:nvPr/>
        </p:nvSpPr>
        <p:spPr>
          <a:xfrm>
            <a:off x="395280" y="33336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ползень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20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7" name="Picture 4" descr="лавина"/>
          <p:cNvPicPr/>
          <p:nvPr/>
        </p:nvPicPr>
        <p:blipFill>
          <a:blip r:embed="rId1"/>
          <a:stretch/>
        </p:blipFill>
        <p:spPr>
          <a:xfrm>
            <a:off x="0" y="0"/>
            <a:ext cx="975672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WordArt 5"/>
          <p:cNvSpPr txBox="1"/>
          <p:nvPr/>
        </p:nvSpPr>
        <p:spPr>
          <a:xfrm>
            <a:off x="468360" y="404640"/>
            <a:ext cx="2374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авин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1" name="Picture 4" descr="сель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182" name="WordArt 5"/>
          <p:cNvSpPr txBox="1"/>
          <p:nvPr/>
        </p:nvSpPr>
        <p:spPr>
          <a:xfrm>
            <a:off x="611280" y="549360"/>
            <a:ext cx="223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ль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Picture 4" descr="наводн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WordArt 5"/>
          <p:cNvSpPr txBox="1"/>
          <p:nvPr/>
        </p:nvSpPr>
        <p:spPr>
          <a:xfrm>
            <a:off x="4932360" y="404640"/>
            <a:ext cx="381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воднени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9" name="Picture 4" descr="землятресение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WordArt 5"/>
          <p:cNvSpPr txBox="1"/>
          <p:nvPr/>
        </p:nvSpPr>
        <p:spPr>
          <a:xfrm>
            <a:off x="5508720" y="333360"/>
            <a:ext cx="3635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емлетрясени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С. 48-51, пересказ,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С. 55 № 11 (т)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Picture 4" descr="пля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Picture 4" descr="в самолете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5"/>
          <p:cNvSpPr txBox="1"/>
          <p:nvPr/>
        </p:nvSpPr>
        <p:spPr>
          <a:xfrm>
            <a:off x="611280" y="189000"/>
            <a:ext cx="4419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пература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бортом - 54 градус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Picture 4" descr="горы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395280" y="6283440"/>
            <a:ext cx="295272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плый воздух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6191280" y="6283440"/>
            <a:ext cx="295272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епи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6191280" y="3429000"/>
            <a:ext cx="295272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ные лес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250920" y="3357720"/>
            <a:ext cx="295272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хладный воздух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6191280" y="1916280"/>
            <a:ext cx="295272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ные тундры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179280" y="1844640"/>
            <a:ext cx="295272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олодный воздух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6191280" y="333360"/>
            <a:ext cx="295272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ные ледники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179280" y="260280"/>
            <a:ext cx="2952720" cy="5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чень холодный воздух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Picture 4" descr="горы2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WALKERS"/>
          <p:cNvPicPr/>
          <p:nvPr/>
        </p:nvPicPr>
        <p:blipFill>
          <a:blip r:embed="rId2"/>
          <a:stretch/>
        </p:blipFill>
        <p:spPr>
          <a:xfrm>
            <a:off x="6443640" y="3429000"/>
            <a:ext cx="2284560" cy="3168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WALKERS"/>
          <p:cNvPicPr/>
          <p:nvPr/>
        </p:nvPicPr>
        <p:blipFill>
          <a:blip r:embed="rId3"/>
          <a:stretch/>
        </p:blipFill>
        <p:spPr>
          <a:xfrm>
            <a:off x="250920" y="1413000"/>
            <a:ext cx="882720" cy="12240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7"/>
          <p:cNvSpPr txBox="1"/>
          <p:nvPr/>
        </p:nvSpPr>
        <p:spPr>
          <a:xfrm>
            <a:off x="5435640" y="333360"/>
            <a:ext cx="3390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сотные пояс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Picture 4" descr="горы3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33" name="WordArt 5"/>
          <p:cNvSpPr txBox="1"/>
          <p:nvPr/>
        </p:nvSpPr>
        <p:spPr>
          <a:xfrm>
            <a:off x="5292720" y="189000"/>
            <a:ext cx="3381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ьпийские луг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Picture 4" descr="эд"/>
          <p:cNvPicPr/>
          <p:nvPr/>
        </p:nvPicPr>
        <p:blipFill>
          <a:blip r:embed="rId1"/>
          <a:stretch/>
        </p:blipFill>
        <p:spPr>
          <a:xfrm>
            <a:off x="0" y="0"/>
            <a:ext cx="4716360" cy="3716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горечавка"/>
          <p:cNvPicPr/>
          <p:nvPr/>
        </p:nvPicPr>
        <p:blipFill>
          <a:blip r:embed="rId2"/>
          <a:stretch/>
        </p:blipFill>
        <p:spPr>
          <a:xfrm>
            <a:off x="4643280" y="0"/>
            <a:ext cx="4716720" cy="3789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сосна"/>
          <p:cNvPicPr/>
          <p:nvPr/>
        </p:nvPicPr>
        <p:blipFill>
          <a:blip r:embed="rId3"/>
          <a:stretch/>
        </p:blipFill>
        <p:spPr>
          <a:xfrm>
            <a:off x="0" y="3573360"/>
            <a:ext cx="4643280" cy="3540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лиш"/>
          <p:cNvPicPr/>
          <p:nvPr/>
        </p:nvPicPr>
        <p:blipFill>
          <a:blip r:embed="rId4"/>
          <a:stretch/>
        </p:blipFill>
        <p:spPr>
          <a:xfrm>
            <a:off x="4572000" y="3284640"/>
            <a:ext cx="478152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горы2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5"/>
          <p:cNvSpPr/>
          <p:nvPr/>
        </p:nvSpPr>
        <p:spPr>
          <a:xfrm>
            <a:off x="4859280" y="981000"/>
            <a:ext cx="3240000" cy="792360"/>
          </a:xfrm>
          <a:prstGeom prst="leftArrow">
            <a:avLst>
              <a:gd name="adj1" fmla="val 50000"/>
              <a:gd name="adj2" fmla="val 102226"/>
            </a:avLst>
          </a:pr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вете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Picture 6" descr="RAIN"/>
          <p:cNvPicPr/>
          <p:nvPr/>
        </p:nvPicPr>
        <p:blipFill>
          <a:blip r:embed="rId2"/>
          <a:stretch/>
        </p:blipFill>
        <p:spPr>
          <a:xfrm>
            <a:off x="3203640" y="184464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RAIN"/>
          <p:cNvPicPr/>
          <p:nvPr/>
        </p:nvPicPr>
        <p:blipFill>
          <a:blip r:embed="rId3"/>
          <a:stretch/>
        </p:blipFill>
        <p:spPr>
          <a:xfrm>
            <a:off x="4140360" y="2852640"/>
            <a:ext cx="1180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7:17:05Z</dcterms:created>
  <dc:creator>РТА</dc:creator>
  <dc:description/>
  <dc:language>en-US</dc:language>
  <cp:lastModifiedBy>ADMIN</cp:lastModifiedBy>
  <dcterms:modified xsi:type="dcterms:W3CDTF">2012-11-11T04:38:34Z</dcterms:modified>
  <cp:revision>3</cp:revision>
  <dc:subject/>
  <dc:title>Слайд 1</dc:title>
</cp:coreProperties>
</file>