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756-9A4D-4F6A-B5F6-38494FF3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507-DFE4-486D-ABBE-18308267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5BE-75B9-42AE-8DB6-56794E3B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EE0-A804-41EA-9DC7-F0FC4445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E9A-C2A5-4668-8952-E1BF569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1D0-EEB5-4FF1-9407-B2A8BCA4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57D-7302-487B-B73F-88CBB10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F44-EB09-47C7-8294-926AD7C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5D7-1636-4551-8F57-97FD93E6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3AB-86D3-4BD1-AD8C-9E64C05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265-4A31-4464-A6F8-8A2B311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8EF-F698-4936-A7E2-DE8F96F6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39F-9424-4088-BD24-9C9AA6E9B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41;&#1086;&#1083;&#1100;&#1096;&#1080;&#1077;_&#1050;&#1072;&#1081;&#1073;&#1080;&#1094;&#1099;" TargetMode="External"/><Relationship Id="rId4" Type="http://schemas.openxmlformats.org/officeDocument/2006/relationships/hyperlink" Target="http://ru.wikipedia.org/wiki/&#1063;&#1091;&#1074;&#1072;&#1096;&#1080;&#1103;" TargetMode="External"/><Relationship Id="rId5" Type="http://schemas.openxmlformats.org/officeDocument/2006/relationships/hyperlink" Target="http://ru.wikipedia.org/wiki/&#1040;&#1087;&#1072;&#1089;&#1090;&#1086;&#1074;&#1089;&#1082;&#1080;&#1081;_&#1088;&#1072;&#1081;&#1086;&#1085;" TargetMode="External"/><Relationship Id="rId6" Type="http://schemas.openxmlformats.org/officeDocument/2006/relationships/hyperlink" Target="http://ru.wikipedia.org/wiki/&#1042;&#1077;&#1088;&#1093;&#1085;&#1077;&#1091;&#1089;&#1083;&#1086;&#1085;&#1089;&#1082;&#1080;&#1081;_&#1088;&#1072;&#1081;&#1086;&#1085;" TargetMode="External"/><Relationship Id="rId7" Type="http://schemas.openxmlformats.org/officeDocument/2006/relationships/hyperlink" Target="http://ru.wikipedia.org/wiki/&#1047;&#1077;&#1083;&#1077;&#1085;&#1086;&#1076;&#1086;&#1083;&#1100;&#1089;&#1082;&#1080;&#1081;_&#1088;&#1072;&#1081;&#1086;&#1085;" TargetMode="External"/><Relationship Id="rId8" Type="http://schemas.openxmlformats.org/officeDocument/2006/relationships/hyperlink" Target="http://ru.wikipedia.org/wiki/&#1050;&#1091;&#1073;&#1085;&#1103;" TargetMode="External"/><Relationship Id="rId9" Type="http://schemas.openxmlformats.org/officeDocument/2006/relationships/hyperlink" Target="http://ru.wikipedia.org/wiki/&#1057;&#1074;&#1080;&#1103;&#1075;&#1072;" TargetMode="External"/><Relationship Id="rId10" Type="http://schemas.openxmlformats.org/officeDocument/2006/relationships/hyperlink" Target="http://ru.wikipedia.org/wiki/&#1041;&#1077;&#1088;&#1083;&#1103;" TargetMode="External"/><Relationship Id="rId11" Type="http://schemas.openxmlformats.org/officeDocument/2006/relationships/hyperlink" Target="http://ru.wikipedia.org/wiki/&#1057;&#1074;&#1080;&#1103;&#1078;&#1089;&#1082;_(&#1089;&#1090;&#1072;&#1085;&#1094;&#1080;&#1103;)" TargetMode="External"/><Relationship Id="rId12" Type="http://schemas.openxmlformats.org/officeDocument/2006/relationships/hyperlink" Target="http://ru.wikipedia.org/wiki/&#1059;&#1083;&#1100;&#1103;&#1085;&#1086;&#1074;&#1089;&#1082;" TargetMode="External"/><Relationship Id="rId13" Type="http://schemas.openxmlformats.org/officeDocument/2006/relationships/hyperlink" Target="http://ru.wikipedia.org/wiki/&#1050;&#1091;&#1083;&#1072;&#1085;&#1075;&#1072;_(&#1089;&#1090;&#1072;&#1085;&#1094;&#1080;&#1103;)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ffffcc"/>
            </a:gs>
            <a:gs pos="100000">
              <a:srgbClr val="33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3880" y="685800"/>
            <a:ext cx="640080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чего начинается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 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307160" y="3124080"/>
            <a:ext cx="675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Segoe Script"/>
              </a:rPr>
              <a:t>Презента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Segoe Script"/>
              </a:rPr>
              <a:t>Кайбицкий рай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88040" y="5486400"/>
            <a:ext cx="61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Куланкинская  основ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ews_103361"/>
          <p:cNvPicPr/>
          <p:nvPr/>
        </p:nvPicPr>
        <p:blipFill>
          <a:blip r:embed="rId1"/>
          <a:stretch/>
        </p:blipFill>
        <p:spPr>
          <a:xfrm>
            <a:off x="3124080" y="762120"/>
            <a:ext cx="2629080" cy="1977840"/>
          </a:xfrm>
          <a:prstGeom prst="rect">
            <a:avLst/>
          </a:prstGeom>
          <a:ln w="0">
            <a:noFill/>
          </a:ln>
        </p:spPr>
      </p:pic>
      <p:pic>
        <p:nvPicPr>
          <p:cNvPr id="75" name="i-main-pic" descr="Картинка 327 из 582"/>
          <p:cNvPicPr/>
          <p:nvPr/>
        </p:nvPicPr>
        <p:blipFill>
          <a:blip r:embed="rId2"/>
          <a:stretch/>
        </p:blipFill>
        <p:spPr>
          <a:xfrm>
            <a:off x="5867280" y="304920"/>
            <a:ext cx="2667240" cy="2028600"/>
          </a:xfrm>
          <a:prstGeom prst="rect">
            <a:avLst/>
          </a:prstGeom>
          <a:ln w="0">
            <a:noFill/>
          </a:ln>
        </p:spPr>
      </p:pic>
      <p:pic>
        <p:nvPicPr>
          <p:cNvPr id="76" name="i-main-pic" descr="Картинка 391 из 582"/>
          <p:cNvPicPr/>
          <p:nvPr/>
        </p:nvPicPr>
        <p:blipFill>
          <a:blip r:embed="rId3"/>
          <a:stretch/>
        </p:blipFill>
        <p:spPr>
          <a:xfrm>
            <a:off x="762120" y="3962520"/>
            <a:ext cx="3378240" cy="2247840"/>
          </a:xfrm>
          <a:prstGeom prst="rect">
            <a:avLst/>
          </a:prstGeom>
          <a:ln w="0">
            <a:noFill/>
          </a:ln>
        </p:spPr>
      </p:pic>
      <p:pic>
        <p:nvPicPr>
          <p:cNvPr id="77" name="i-main-pic" descr="Картинка 498 из 579"/>
          <p:cNvPicPr/>
          <p:nvPr/>
        </p:nvPicPr>
        <p:blipFill>
          <a:blip r:embed="rId4"/>
          <a:srcRect l="0" t="1814" r="0" b="1814"/>
          <a:stretch/>
        </p:blipFill>
        <p:spPr>
          <a:xfrm>
            <a:off x="5105520" y="3048120"/>
            <a:ext cx="3327120" cy="229068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 rot="20586600">
            <a:off x="4572000" y="5410080"/>
            <a:ext cx="38955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овод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i-main-pic" descr="Картинка 156 из 582"/>
          <p:cNvPicPr/>
          <p:nvPr/>
        </p:nvPicPr>
        <p:blipFill>
          <a:blip r:embed="rId7"/>
          <a:stretch/>
        </p:blipFill>
        <p:spPr>
          <a:xfrm>
            <a:off x="228600" y="1600200"/>
            <a:ext cx="2717640" cy="2035080"/>
          </a:xfrm>
          <a:prstGeom prst="rect">
            <a:avLst/>
          </a:prstGeom>
          <a:ln w="0">
            <a:noFill/>
          </a:ln>
        </p:spPr>
      </p:pic>
      <p:sp>
        <p:nvSpPr>
          <p:cNvPr id="80" name="WordArt 11"/>
          <p:cNvSpPr txBox="1"/>
          <p:nvPr/>
        </p:nvSpPr>
        <p:spPr>
          <a:xfrm rot="20550000">
            <a:off x="304560" y="457200"/>
            <a:ext cx="3743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тениевод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457200" y="53352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6633">
                        <a:alpha val="50196"/>
                      </a:srgbClr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фера образова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6633">
                      <a:alpha val="50196"/>
                    </a:srgbClr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486400" y="685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5638680" y="380880"/>
            <a:ext cx="28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дицинско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служив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105880" y="1981080"/>
            <a:ext cx="39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районная боль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Фельдшерские пун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в сельских посе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533520" y="396252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рговля и пит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85800" y="4611600"/>
            <a:ext cx="19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Магаз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Ст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К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3"/>
          <p:cNvSpPr txBox="1"/>
          <p:nvPr/>
        </p:nvSpPr>
        <p:spPr>
          <a:xfrm>
            <a:off x="5486400" y="3962520"/>
            <a:ext cx="23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6600">
                        <a:alpha val="50196"/>
                      </a:srgbClr>
                    </a:gs>
                    <a:gs pos="100000">
                      <a:srgbClr val="996633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нтры связ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6600">
                      <a:alpha val="50196"/>
                    </a:srgbClr>
                  </a:gs>
                  <a:gs pos="100000">
                    <a:srgbClr val="996633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5257800" y="4648320"/>
            <a:ext cx="342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Росте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Татте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- Потовые от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460080" y="1600200"/>
            <a:ext cx="413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Детских садов – 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Начальных школ –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сновных школ –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Средних школ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Всего педагогов – 340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Другие организ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бербанк, Акбарсбанк, Татфондб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Отделение внутренних дел (поли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Татэнер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Нотариальная кон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ировой суд и отделение судебных при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анэпидемста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Б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Земельная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 друг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1676520" y="685800"/>
            <a:ext cx="65815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ffcc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стопримечательности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ffcc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ffcc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йона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ffcc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i-main-pic" descr="Картинка 4 из 44"/>
          <p:cNvPicPr/>
          <p:nvPr/>
        </p:nvPicPr>
        <p:blipFill>
          <a:blip r:embed="rId1"/>
          <a:srcRect l="0" t="0" r="21654" b="0"/>
          <a:stretch/>
        </p:blipFill>
        <p:spPr>
          <a:xfrm>
            <a:off x="3276720" y="3124080"/>
            <a:ext cx="2409840" cy="2038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3507840" y="52578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Муз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Галии Кайби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400800" y="39009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 Rounded MT Bold"/>
                <a:ea typeface="Times New Roman"/>
              </a:rPr>
              <a:t>Вид старой меч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 Rounded MT Bold"/>
                <a:ea typeface="Times New Roman"/>
              </a:rPr>
              <a:t>села Бурунд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-main-pic" descr="Картинка 81 из 516"/>
          <p:cNvPicPr/>
          <p:nvPr/>
        </p:nvPicPr>
        <p:blipFill>
          <a:blip r:embed="rId2"/>
          <a:srcRect l="2646" t="0" r="10205" b="0"/>
          <a:stretch/>
        </p:blipFill>
        <p:spPr>
          <a:xfrm>
            <a:off x="6119640" y="1828800"/>
            <a:ext cx="2686320" cy="2054160"/>
          </a:xfrm>
          <a:prstGeom prst="rect">
            <a:avLst/>
          </a:prstGeom>
          <a:ln w="0">
            <a:noFill/>
          </a:ln>
        </p:spPr>
      </p:pic>
      <p:pic>
        <p:nvPicPr>
          <p:cNvPr id="97" name="i-main-pic" descr="Картинка 21 из 516"/>
          <p:cNvPicPr/>
          <p:nvPr/>
        </p:nvPicPr>
        <p:blipFill>
          <a:blip r:embed="rId3"/>
          <a:stretch/>
        </p:blipFill>
        <p:spPr>
          <a:xfrm>
            <a:off x="762120" y="1523880"/>
            <a:ext cx="1893600" cy="2667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57560" y="4267080"/>
            <a:ext cx="22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Х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Пресвятой Тро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Times New Roman"/>
              </a:rPr>
              <a:t>в селе Турми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-main-pic" descr="Картинка 1 из 3"/>
          <p:cNvPicPr/>
          <p:nvPr/>
        </p:nvPicPr>
        <p:blipFill>
          <a:blip r:embed="rId1"/>
          <a:stretch/>
        </p:blipFill>
        <p:spPr>
          <a:xfrm>
            <a:off x="609480" y="2514600"/>
            <a:ext cx="2998800" cy="3898800"/>
          </a:xfrm>
          <a:prstGeom prst="rect">
            <a:avLst/>
          </a:prstGeom>
          <a:ln w="0">
            <a:noFill/>
          </a:ln>
        </p:spPr>
      </p:pic>
      <p:pic>
        <p:nvPicPr>
          <p:cNvPr id="100" name="i-main-pic" descr="Картинка 339 из 582"/>
          <p:cNvPicPr/>
          <p:nvPr/>
        </p:nvPicPr>
        <p:blipFill>
          <a:blip r:embed="rId2"/>
          <a:stretch/>
        </p:blipFill>
        <p:spPr>
          <a:xfrm>
            <a:off x="5029200" y="33526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101" name="i-main-pic" descr="Картинка 100 из 516"/>
          <p:cNvPicPr/>
          <p:nvPr/>
        </p:nvPicPr>
        <p:blipFill>
          <a:blip r:embed="rId3"/>
          <a:stretch/>
        </p:blipFill>
        <p:spPr>
          <a:xfrm>
            <a:off x="4191120" y="1828800"/>
            <a:ext cx="3174840" cy="21114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9"/>
          <p:cNvSpPr txBox="1"/>
          <p:nvPr/>
        </p:nvSpPr>
        <p:spPr>
          <a:xfrm>
            <a:off x="933480" y="152280"/>
            <a:ext cx="8210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йбицкие дубравы - гордость райо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lus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На природе, 15 июля 2008 год 014"/>
          <p:cNvPicPr/>
          <p:nvPr/>
        </p:nvPicPr>
        <p:blipFill>
          <a:blip r:embed="rId1"/>
          <a:stretch/>
        </p:blipFill>
        <p:spPr>
          <a:xfrm>
            <a:off x="5181480" y="3867120"/>
            <a:ext cx="3262320" cy="244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лед"/>
          <p:cNvPicPr/>
          <p:nvPr/>
        </p:nvPicPr>
        <p:blipFill>
          <a:blip r:embed="rId2"/>
          <a:stretch/>
        </p:blipFill>
        <p:spPr>
          <a:xfrm>
            <a:off x="380880" y="22860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85 из 516"/>
          <p:cNvPicPr/>
          <p:nvPr/>
        </p:nvPicPr>
        <p:blipFill>
          <a:blip r:embed="rId3"/>
          <a:stretch/>
        </p:blipFill>
        <p:spPr>
          <a:xfrm>
            <a:off x="152280" y="40384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i-main-pic" descr="Картинка 143 из 516"/>
          <p:cNvPicPr/>
          <p:nvPr/>
        </p:nvPicPr>
        <p:blipFill>
          <a:blip r:embed="rId4"/>
          <a:stretch/>
        </p:blipFill>
        <p:spPr>
          <a:xfrm>
            <a:off x="5334120" y="228600"/>
            <a:ext cx="3555720" cy="2365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3914"/>
          <p:cNvPicPr/>
          <p:nvPr/>
        </p:nvPicPr>
        <p:blipFill>
          <a:blip r:embed="rId5"/>
          <a:srcRect l="9872" t="17083" r="11282" b="0"/>
          <a:stretch/>
        </p:blipFill>
        <p:spPr>
          <a:xfrm>
            <a:off x="3200400" y="1981080"/>
            <a:ext cx="32767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08" name="WordArt 10"/>
          <p:cNvGrpSpPr/>
          <p:nvPr/>
        </p:nvGrpSpPr>
        <p:grpSpPr>
          <a:xfrm>
            <a:off x="225360" y="2889360"/>
            <a:ext cx="2676600" cy="853920"/>
            <a:chOff x="225360" y="2889360"/>
            <a:chExt cx="2676600" cy="853920"/>
          </a:xfrm>
        </p:grpSpPr>
        <p:pic>
          <p:nvPicPr>
            <p:cNvPr id="109" name="WordArt 10" descr=""/>
            <p:cNvPicPr/>
            <p:nvPr/>
          </p:nvPicPr>
          <p:blipFill>
            <a:blip r:embed="rId6"/>
            <a:stretch/>
          </p:blipFill>
          <p:spPr>
            <a:xfrm>
              <a:off x="225360" y="2889360"/>
              <a:ext cx="26766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28600" y="2895480"/>
              <a:ext cx="26668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андшаф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WordArt 11"/>
          <p:cNvGrpSpPr/>
          <p:nvPr/>
        </p:nvGrpSpPr>
        <p:grpSpPr>
          <a:xfrm>
            <a:off x="6626160" y="3041640"/>
            <a:ext cx="1994040" cy="701640"/>
            <a:chOff x="6626160" y="3041640"/>
            <a:chExt cx="1994040" cy="701640"/>
          </a:xfrm>
        </p:grpSpPr>
        <p:pic>
          <p:nvPicPr>
            <p:cNvPr id="112" name="WordArt 11" descr=""/>
            <p:cNvPicPr/>
            <p:nvPr/>
          </p:nvPicPr>
          <p:blipFill>
            <a:blip r:embed="rId7"/>
            <a:stretch/>
          </p:blipFill>
          <p:spPr>
            <a:xfrm>
              <a:off x="6626160" y="3041640"/>
              <a:ext cx="19940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29400" y="3048120"/>
              <a:ext cx="198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р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ffffcc"/>
            </a:gs>
            <a:gs pos="100000">
              <a:srgbClr val="33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523880" y="685800"/>
            <a:ext cx="640080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чего начинается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 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3160" y="2895480"/>
            <a:ext cx="438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Ах, эти милые просторы,</a:t>
            </a:r>
            <a:br>
              <a:rPr sz="2400"/>
            </a:b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Вода прозрачная до дна.</a:t>
            </a:r>
            <a:br>
              <a:rPr sz="2400"/>
            </a:b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Кругом полей, лесов узо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a29c"/>
                </a:solidFill>
                <a:latin typeface="Arial"/>
              </a:rPr>
              <a:t>Родная сердцу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873680" y="3632040"/>
            <a:ext cx="40168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онечно, есть места и кра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Но дорог мне поселок 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Любой из нас об этом ска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Хорош он летом и з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тоит он  ивы  обним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мыт Берлею он ре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И весь, от края и до кр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ля нас любимый  и   родной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523880" y="38088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йбицкий райо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752480" y="19051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визитная карточка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50240" y="2779560"/>
            <a:ext cx="44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Площадь территории 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95.40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45200" y="3313080"/>
            <a:ext cx="69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Численность населения 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5166 человек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900ff"/>
                </a:solidFill>
                <a:latin typeface="Arial"/>
              </a:rPr>
              <a:t>(на начало 2010 г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4640" y="4800600"/>
            <a:ext cx="32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Населенных пунктов 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50960" y="3846600"/>
            <a:ext cx="46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Национальный состав: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ТАТАР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9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РУССКИЕ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– 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ЧУВАШ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– 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765720" y="5334120"/>
            <a:ext cx="32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Сельских поселений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ff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Файл:Location of Kaybitsky District (Tatarstan).svg"/>
          <p:cNvPicPr/>
          <p:nvPr/>
        </p:nvPicPr>
        <p:blipFill>
          <a:blip r:embed="rId3"/>
          <a:stretch/>
        </p:blipFill>
        <p:spPr>
          <a:xfrm>
            <a:off x="5410080" y="4086360"/>
            <a:ext cx="3353040" cy="2263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533520"/>
            <a:ext cx="716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графическое полож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600200" y="2286000"/>
            <a:ext cx="6127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Кайбицкий муниципальный район</a:t>
            </a:r>
            <a:r>
              <a:rPr b="0" lang="ru-RU" sz="1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расположен в западной части Республики Татарст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Районный центр —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ло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Большие Кайбиц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Граничит 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Чувашской Республикой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Апастовским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Верхнеуслонским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Зеленодольски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муниципальными рай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Через территорию Кайбицкого муниципального района протекают реки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Кубня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Свияг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0"/>
              </a:rPr>
              <a:t>Берля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В восточной части района —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железная доро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1"/>
              </a:rPr>
              <a:t>Свияжск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 — 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2"/>
              </a:rPr>
              <a:t>Ульяновс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9900ff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ff5050"/>
                </a:solidFill>
                <a:uFillTx/>
                <a:latin typeface="Arial"/>
                <a:hlinkClick r:id="rId13"/>
              </a:rPr>
              <a:t>станция Куланга</a:t>
            </a:r>
            <a:r>
              <a:rPr b="0" lang="ru-RU" sz="1600" spc="-1" strike="noStrike">
                <a:solidFill>
                  <a:srgbClr val="9900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ff"/>
                </a:solidFill>
                <a:latin typeface="Arial"/>
              </a:rPr>
              <a:t>Через весь район проходит автодорог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-24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523880" y="228600"/>
            <a:ext cx="6353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образования район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cccc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43000" y="2133720"/>
            <a:ext cx="712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До 1920 года территория района находилась в Свияжском и Тетюшском уез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С 1920 по 1927 год только в Свияжском кант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В феврале 1927 года был образован Ульяновский район с центром в селе Ульянк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В августе 1927 года районный центр перенесен в село Большие Кайбицы и район переименован в Кайбицкий.</a:t>
            </a: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В мае 1956 года был упразднен Подберезинский район, а его территория была причислена к Кайбицкому рай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В январе 1963 года Кайбицкий район был упразднен, а его территорию отнесли к Апастовскому рай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19 апреля 1991 года Кайбицкий район был вновь</a:t>
            </a:r>
            <a:r>
              <a:rPr b="0" lang="ru-RU" sz="18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восстанов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2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971800" y="609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33cccc"/>
                    </a:gs>
                  </a:gsLst>
                  <a:lin ang="5400000"/>
                </a:gradFill>
                <a:latin typeface="Arial"/>
              </a:rPr>
              <a:t>Символик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33cc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0" name="i-main-pic" descr="Картинка 19 из 516"/>
          <p:cNvPicPr/>
          <p:nvPr/>
        </p:nvPicPr>
        <p:blipFill>
          <a:blip r:embed="rId1"/>
          <a:stretch/>
        </p:blipFill>
        <p:spPr>
          <a:xfrm>
            <a:off x="6095880" y="1981080"/>
            <a:ext cx="177192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16kaibisky_f"/>
          <p:cNvPicPr/>
          <p:nvPr/>
        </p:nvPicPr>
        <p:blipFill>
          <a:blip r:embed="rId2"/>
          <a:stretch/>
        </p:blipFill>
        <p:spPr>
          <a:xfrm>
            <a:off x="1066680" y="2058840"/>
            <a:ext cx="2819520" cy="1855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609480" y="4191120"/>
            <a:ext cx="35895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"Флаг Кайбицкого района представляет собой прямоугольное полотнище с отношением ширины к длине 2:3, разделённое по горизонтали на две неравновеликих полосы – белую и зелёную в соотношении 2:1, с изображением стоящего на зеленой полосе дуба с жёлтым  расходящимся натрое стволом и зеленой кроной с желтыми желудям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105520" y="4267080"/>
            <a:ext cx="3733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ahoma"/>
              </a:rPr>
              <a:t>Герб Кайбицкого муниципальн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"В серебряном поле на зелёном холме дуб с золотым расходящимся натрое стволом и зелёной листвой с золотыми желудями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В гербе отражено основное достояние Кайбицкого района – его природа. Кайбицкий район давно известен своими дубравами. Дуб – традиционный символ долголетия, твёрдости, благородства, отваги, стой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afc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-main-pic" descr="Картинка 1 из 41"/>
          <p:cNvPicPr/>
          <p:nvPr/>
        </p:nvPicPr>
        <p:blipFill>
          <a:blip r:embed="rId1"/>
          <a:stretch/>
        </p:blipFill>
        <p:spPr>
          <a:xfrm>
            <a:off x="6172200" y="152280"/>
            <a:ext cx="2201760" cy="160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Альберт Рахматуллин"/>
          <p:cNvPicPr/>
          <p:nvPr/>
        </p:nvPicPr>
        <p:blipFill>
          <a:blip r:embed="rId2"/>
          <a:srcRect l="9842" t="0" r="6550" b="0"/>
          <a:stretch/>
        </p:blipFill>
        <p:spPr>
          <a:xfrm>
            <a:off x="152280" y="2523960"/>
            <a:ext cx="3353040" cy="3206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579320" y="304920"/>
            <a:ext cx="41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"/>
              </a:rPr>
              <a:t>Здание Админи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omic"/>
              </a:rPr>
              <a:t>Кайбиц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505320" y="2133720"/>
            <a:ext cx="508788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a29c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5050"/>
                </a:solidFill>
                <a:latin typeface="Tahoma"/>
              </a:rPr>
              <a:t>Альберт Ильгизович Рахматул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ff"/>
                </a:solidFill>
                <a:latin typeface="Tahoma"/>
              </a:rPr>
              <a:t>19 марта 2012 года избран главой Кайбицкого рай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Родился 20 октября 1976 года в деревне Русские Берлибаши Апастовского района ТА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Окончил в 1998 году Казанскую государственную академию ветеринарной медицины имени Н.Э. Баумана, специальность - ветерин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1998 – 1999 гг. - главный ветеринарный врач совхоза "Кайбицкий" Кайбицк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1999 – 2000 гг.  - ветеринарный врач-эпизоотолог Кайбицкого районного государственного ветеринарного объеди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2000 – 2004 гг. - начальник Кайбицкого районного государственного ветеринарного объеди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В 2004 – 2012 гг. - генеральный директор ООО Агрофирма "Кубня" Кайбицк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С 19 марта 2012 – глава Кайбицкого муниципального района, председатель Совета Кайбицкого муниципального района 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Имеет медаль "В память 1000-летия Казани", почетное звание "Заслуженный работник сельского хозяйства РТ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ahoma"/>
              </a:rPr>
              <a:t>Женат, воспитывает сына (2001 г.р.) и дочь (2006 г.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52280" y="1752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Глава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76000" y="1897200"/>
            <a:ext cx="770580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ГУ «Кайбицкий лесхо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ОАО «Кайбицкий рыбхо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ОАО «Кайбицыагрохимсервис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айбицкое рай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ОАО «Кулангинское хлебоприемное предприят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981080" y="38088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мышленность района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ставлена предприятиями: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стениеводство (яровая пшеница, озимая рожь, ячмень, овёс, гречиха, горо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ясо-молочное скотовод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виновод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вце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a73c6"/>
                </a:solidFill>
                <a:latin typeface="Arial"/>
              </a:rPr>
              <a:t>Крупные сельскохозяйственные организ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ОО Агрофирма «Заволжь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ОО Агрофирма «Кубн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ОО Агрофирма «Золотая ни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295280" y="8380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73c6"/>
                </a:solidFill>
                <a:latin typeface="Tahoma"/>
              </a:rPr>
              <a:t>Отрасли сельского хозяйст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01-23T10:40:4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