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625-9EFE-43CF-B6FE-48838745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74A-9091-46FD-BB32-1D507711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793-3BD8-4B27-AEF4-802540AC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048-6A98-452E-B06C-497A605D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F84-B258-4838-9942-C11DBAF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772-C4BE-4E67-AD05-B89EC377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300-B336-47AD-925B-6511BDE4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8B3-7CEE-4A82-882B-0C148BD5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B2B-BF30-4E91-91D2-CE97BEFA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CE4-BAEB-49CA-B33F-337D87D3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8C1-7456-4E85-8DC5-8A4EFD2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B1B-99A9-4F2A-9D2C-D78E702D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632C-DB15-4517-894D-4635C552B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839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971800" y="4267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Математические ребусы"/>
          <p:cNvPicPr/>
          <p:nvPr/>
        </p:nvPicPr>
        <p:blipFill>
          <a:blip r:embed="rId1"/>
          <a:stretch/>
        </p:blipFill>
        <p:spPr>
          <a:xfrm>
            <a:off x="4724280" y="2666880"/>
            <a:ext cx="4191120" cy="147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ребусы в картинках с ответами"/>
          <p:cNvPicPr/>
          <p:nvPr/>
        </p:nvPicPr>
        <p:blipFill>
          <a:blip r:embed="rId2"/>
          <a:stretch/>
        </p:blipFill>
        <p:spPr>
          <a:xfrm>
            <a:off x="5181480" y="762120"/>
            <a:ext cx="3124440" cy="156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Ребусы по математике"/>
          <p:cNvPicPr/>
          <p:nvPr/>
        </p:nvPicPr>
        <p:blipFill>
          <a:blip r:embed="rId3"/>
          <a:stretch/>
        </p:blipFill>
        <p:spPr>
          <a:xfrm>
            <a:off x="1523880" y="5181480"/>
            <a:ext cx="3733920" cy="134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ребус 3"/>
          <p:cNvPicPr/>
          <p:nvPr/>
        </p:nvPicPr>
        <p:blipFill>
          <a:blip r:embed="rId4"/>
          <a:stretch/>
        </p:blipFill>
        <p:spPr>
          <a:xfrm>
            <a:off x="228600" y="609480"/>
            <a:ext cx="4648320" cy="183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ребус 10"/>
          <p:cNvPicPr/>
          <p:nvPr/>
        </p:nvPicPr>
        <p:blipFill>
          <a:blip r:embed="rId5"/>
          <a:stretch/>
        </p:blipFill>
        <p:spPr>
          <a:xfrm>
            <a:off x="0" y="2590920"/>
            <a:ext cx="46767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img7"/>
          <p:cNvPicPr/>
          <p:nvPr/>
        </p:nvPicPr>
        <p:blipFill>
          <a:blip r:embed="rId1"/>
          <a:stretch/>
        </p:blipFill>
        <p:spPr>
          <a:xfrm>
            <a:off x="2133720" y="1752480"/>
            <a:ext cx="4819680" cy="42292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КАПИТАНОВ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990720" y="152280"/>
            <a:ext cx="701028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Обгон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</p:txBody>
      </p:sp>
      <p:pic>
        <p:nvPicPr>
          <p:cNvPr id="85" name="Picture 6" descr="nu-pogodi-vypusk-4-dogonyalki-f1365448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У человека два плеч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А в сутках день и ночка.</a:t>
            </a: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Углом назвали два луч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Georgia"/>
              </a:rPr>
              <a:t>С началом в общей точк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 rot="337800">
            <a:off x="456840" y="0"/>
            <a:ext cx="845820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ЗМИНК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39079571_w640_h640_ds81"/>
          <p:cNvPicPr/>
          <p:nvPr/>
        </p:nvPicPr>
        <p:blipFill>
          <a:blip r:embed="rId3"/>
          <a:stretch/>
        </p:blipFill>
        <p:spPr>
          <a:xfrm>
            <a:off x="3048120" y="2495520"/>
            <a:ext cx="6095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ПАР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838080" y="457200"/>
            <a:ext cx="777240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ПАРУ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6" descr="Wholesale-12-Pair-Pack-2013-New-Cute-Baby-Socks-Kid-Boys-Slip-resistant-Small-Cartoon-Floor"/>
          <p:cNvPicPr/>
          <p:nvPr/>
        </p:nvPicPr>
        <p:blipFill>
          <a:blip r:embed="rId1"/>
          <a:stretch/>
        </p:blipFill>
        <p:spPr>
          <a:xfrm>
            <a:off x="4191120" y="23623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ultik-88"/>
          <p:cNvPicPr/>
          <p:nvPr/>
        </p:nvPicPr>
        <p:blipFill>
          <a:blip r:embed="rId2"/>
          <a:stretch/>
        </p:blipFill>
        <p:spPr>
          <a:xfrm>
            <a:off x="685800" y="2514600"/>
            <a:ext cx="262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56"/>
          <p:cNvSpPr/>
          <p:nvPr/>
        </p:nvSpPr>
        <p:spPr>
          <a:xfrm>
            <a:off x="68580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09"/>
          <p:cNvSpPr txBox="1"/>
          <p:nvPr/>
        </p:nvSpPr>
        <p:spPr>
          <a:xfrm>
            <a:off x="457200" y="380880"/>
            <a:ext cx="7543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" name="Picture 419" descr="64936289"/>
          <p:cNvPicPr/>
          <p:nvPr/>
        </p:nvPicPr>
        <p:blipFill>
          <a:blip r:embed="rId1"/>
          <a:stretch/>
        </p:blipFill>
        <p:spPr>
          <a:xfrm>
            <a:off x="2514600" y="2286000"/>
            <a:ext cx="6076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1"/>
          <p:cNvSpPr/>
          <p:nvPr/>
        </p:nvSpPr>
        <p:spPr>
          <a:xfrm>
            <a:off x="0" y="1403280"/>
            <a:ext cx="2168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2073240" y="29685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447920"/>
          <a:ext cx="8076960" cy="5476680"/>
        </p:xfrm>
        <a:graphic>
          <a:graphicData uri="http://schemas.openxmlformats.org/drawingml/2006/table">
            <a:tbl>
              <a:tblPr/>
              <a:tblGrid>
                <a:gridCol w="576000"/>
                <a:gridCol w="574920"/>
                <a:gridCol w="576000"/>
                <a:gridCol w="574920"/>
                <a:gridCol w="576000"/>
                <a:gridCol w="578160"/>
                <a:gridCol w="577800"/>
                <a:gridCol w="577800"/>
                <a:gridCol w="576360"/>
                <a:gridCol w="577800"/>
                <a:gridCol w="577800"/>
                <a:gridCol w="577800"/>
                <a:gridCol w="577800"/>
                <a:gridCol w="577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н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п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в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е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ш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н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у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г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л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 gridSpan="5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г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д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у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о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н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л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у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ч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б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е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к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с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м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е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0066"/>
                          </a:solidFill>
                          <a:latin typeface="Georgia"/>
                          <a:ea typeface="Times New Roman"/>
                        </a:rPr>
                        <a:t>т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9999"/>
                          </a:solidFill>
                          <a:latin typeface="Georgia"/>
                          <a:ea typeface="Times New Roman"/>
                        </a:rPr>
                        <a:t>р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525"/>
          <p:cNvSpPr/>
          <p:nvPr/>
        </p:nvSpPr>
        <p:spPr>
          <a:xfrm>
            <a:off x="0" y="54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3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долит  на штати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069597"/>
          <p:cNvPicPr/>
          <p:nvPr/>
        </p:nvPicPr>
        <p:blipFill>
          <a:blip r:embed="rId1"/>
          <a:stretch/>
        </p:blipFill>
        <p:spPr>
          <a:xfrm>
            <a:off x="304920" y="236232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teodolit-na-trenoge-0004319121-preview"/>
          <p:cNvPicPr/>
          <p:nvPr/>
        </p:nvPicPr>
        <p:blipFill>
          <a:blip r:embed="rId2"/>
          <a:stretch/>
        </p:blipFill>
        <p:spPr>
          <a:xfrm>
            <a:off x="5029200" y="1676520"/>
            <a:ext cx="31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мире множество приборов, используемых при строительстве зданий, прокладке дорог и т.п., работают на основе того же принципа, что и транспортир, только позволяют выполнять более сложные действия, часто автоматически. Примером такого прибора является теодолит . Если на улице вы увидите мужчину в форме с прибором, как на фотографии – то это означает, что это инженер, в чьи обязанности входит измерение как вертикальных, так и горизонтальных углов на местности (например, углов, под которым пересекаются дорог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533520" y="380880"/>
            <a:ext cx="807696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ое задание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69" name="Picture 6" descr="treugolnik"/>
          <p:cNvPicPr/>
          <p:nvPr/>
        </p:nvPicPr>
        <p:blipFill>
          <a:blip r:embed="rId1"/>
          <a:stretch/>
        </p:blipFill>
        <p:spPr>
          <a:xfrm>
            <a:off x="4419720" y="19810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transportir"/>
          <p:cNvPicPr/>
          <p:nvPr/>
        </p:nvPicPr>
        <p:blipFill>
          <a:blip r:embed="rId2"/>
          <a:stretch/>
        </p:blipFill>
        <p:spPr>
          <a:xfrm>
            <a:off x="457200" y="1828800"/>
            <a:ext cx="35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Кто в школе смог быть капитаном,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Тому открыты все пути: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Владеть он будет океаном,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Воздушным, водным и земным!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Наш конструктор угловой поработай гол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28600" y="30492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КАПИТАНОВ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2:05:41Z</dcterms:created>
  <dc:creator>Бахтияр</dc:creator>
  <dc:description/>
  <dc:language>en-US</dc:language>
  <cp:lastModifiedBy>Учитель</cp:lastModifiedBy>
  <dcterms:modified xsi:type="dcterms:W3CDTF">2013-10-11T12:31:1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