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2.jpeg" ContentType="image/jpeg"/>
  <Override PartName="/ppt/media/image45.jpeg" ContentType="image/jpeg"/>
  <Override PartName="/ppt/media/image50.png" ContentType="image/png"/>
  <Override PartName="/ppt/media/image13.png" ContentType="image/png"/>
  <Override PartName="/ppt/media/image46.jpeg" ContentType="image/jpeg"/>
  <Override PartName="/ppt/media/image54.png" ContentType="image/png"/>
  <Override PartName="/ppt/media/image51.jpeg" ContentType="image/jpeg"/>
  <Override PartName="/ppt/media/image43.png" ContentType="image/png"/>
  <Override PartName="/ppt/media/image47.jpeg" ContentType="image/jpeg"/>
  <Override PartName="/ppt/media/image52.jpeg" ContentType="image/jpeg"/>
  <Override PartName="/ppt/media/image41.png" ContentType="image/png"/>
  <Override PartName="/ppt/media/image48.jpeg" ContentType="image/jpeg"/>
  <Override PartName="/ppt/media/image53.png" ContentType="image/png"/>
  <Override PartName="/ppt/media/image55.jpeg" ContentType="image/jpeg"/>
  <Override PartName="/ppt/media/image44.png" ContentType="image/png"/>
  <Override PartName="/ppt/media/image40.jpeg" ContentType="image/jpeg"/>
  <Override PartName="/ppt/media/image34.png" ContentType="image/png"/>
  <Override PartName="/ppt/media/image31.png" ContentType="image/png"/>
  <Override PartName="/ppt/media/image37.jpeg" ContentType="image/jpeg"/>
  <Override PartName="/ppt/media/image30.png" ContentType="image/png"/>
  <Override PartName="/ppt/media/image39.jpeg" ContentType="image/jpeg"/>
  <Override PartName="/ppt/media/image8.png" ContentType="image/png"/>
  <Override PartName="/ppt/media/image38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7A6-98D5-41C5-9860-C73448BC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5B9-A0B9-434D-B3F9-7C4BA5AD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1C2-B205-4698-B784-67E8488E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59B-C84C-4E29-8C36-AF55BAF3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431-5670-488E-B838-1AF49C83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CC0B-4DFF-4CD2-8B13-50C6BE94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1F1-8398-4230-8037-D9B918BA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37F-24D8-4B2F-8B01-C2B8BA46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500-5075-4E54-8D18-2C76EB3E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C26C-1B6B-4F35-BE55-F1F33773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44D-3576-4073-AD43-06EE6E61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C5D-5AF8-4006-B29D-CD45F93D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5625-A4F8-49D1-BF35-EEC623095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image" Target="../media/image49.jpeg"/><Relationship Id="rId12" Type="http://schemas.openxmlformats.org/officeDocument/2006/relationships/image" Target="../media/image50.png"/><Relationship Id="rId13" Type="http://schemas.openxmlformats.org/officeDocument/2006/relationships/image" Target="../media/image51.jpeg"/><Relationship Id="rId14" Type="http://schemas.openxmlformats.org/officeDocument/2006/relationships/image" Target="../media/image52.jpe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5.jpeg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143000" y="808200"/>
            <a:ext cx="70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557280" y="1752480"/>
            <a:ext cx="38592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  <a:ea typeface="Arial"/>
              </a:rPr>
              <a:t>Уход 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  <a:ea typeface="Arial"/>
              </a:rPr>
              <a:t>одежд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686480" y="2309760"/>
            <a:ext cx="1519200" cy="20336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866880" y="3197160"/>
            <a:ext cx="1407960" cy="15462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6518160" y="1763640"/>
            <a:ext cx="1711440" cy="35766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2611440" y="3767040"/>
            <a:ext cx="1827360" cy="15732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47" name="TextBox 10"/>
          <p:cNvSpPr/>
          <p:nvPr/>
        </p:nvSpPr>
        <p:spPr>
          <a:xfrm>
            <a:off x="4193280" y="586584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5037120" y="5869080"/>
            <a:ext cx="33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: Левина А.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C:\Users\Наташа\Pictures\909.jpg"/>
          <p:cNvPicPr/>
          <p:nvPr/>
        </p:nvPicPr>
        <p:blipFill>
          <a:blip r:embed="rId1"/>
          <a:stretch/>
        </p:blipFill>
        <p:spPr>
          <a:xfrm>
            <a:off x="2284560" y="4761000"/>
            <a:ext cx="1542960" cy="1542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Наташа\Pictures\105-1.jpg"/>
          <p:cNvPicPr/>
          <p:nvPr/>
        </p:nvPicPr>
        <p:blipFill>
          <a:blip r:embed="rId2"/>
          <a:stretch/>
        </p:blipFill>
        <p:spPr>
          <a:xfrm>
            <a:off x="6400800" y="533520"/>
            <a:ext cx="685800" cy="17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Picture 8" descr="C:\Users\Наташа\Pictures\023726.jpeg"/>
          <p:cNvPicPr/>
          <p:nvPr/>
        </p:nvPicPr>
        <p:blipFill>
          <a:blip r:embed="rId3"/>
          <a:stretch/>
        </p:blipFill>
        <p:spPr>
          <a:xfrm>
            <a:off x="5275440" y="450720"/>
            <a:ext cx="1000080" cy="180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C:\Users\Наташа\Pictures\krahmal_200Big.jpg"/>
          <p:cNvPicPr/>
          <p:nvPr/>
        </p:nvPicPr>
        <p:blipFill>
          <a:blip r:embed="rId4"/>
          <a:stretch/>
        </p:blipFill>
        <p:spPr>
          <a:xfrm>
            <a:off x="3701880" y="4438800"/>
            <a:ext cx="1130400" cy="1585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C:\Users\Наташа\Pictures\Limonnaya_kislota.png"/>
          <p:cNvPicPr/>
          <p:nvPr/>
        </p:nvPicPr>
        <p:blipFill>
          <a:blip r:embed="rId5"/>
          <a:stretch/>
        </p:blipFill>
        <p:spPr>
          <a:xfrm>
            <a:off x="892080" y="4202280"/>
            <a:ext cx="1427400" cy="1895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C:\Users\Наташа\Pictures\semma00112912021202.gif"/>
          <p:cNvPicPr/>
          <p:nvPr/>
        </p:nvPicPr>
        <p:blipFill>
          <a:blip r:embed="rId6"/>
          <a:stretch/>
        </p:blipFill>
        <p:spPr>
          <a:xfrm>
            <a:off x="4718160" y="3956040"/>
            <a:ext cx="1073160" cy="160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C:\Users\Наташа\Pictures\spirt_big_10041.jpg"/>
          <p:cNvPicPr/>
          <p:nvPr/>
        </p:nvPicPr>
        <p:blipFill>
          <a:blip r:embed="rId7"/>
          <a:stretch/>
        </p:blipFill>
        <p:spPr>
          <a:xfrm>
            <a:off x="5791320" y="2666880"/>
            <a:ext cx="533160" cy="165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14" descr="C:\Users\Наташа\Pictures\tumblr_l3jpj3FFQN1qcn53vo5_400.jpg"/>
          <p:cNvPicPr/>
          <p:nvPr/>
        </p:nvPicPr>
        <p:blipFill>
          <a:blip r:embed="rId8"/>
          <a:stretch/>
        </p:blipFill>
        <p:spPr>
          <a:xfrm>
            <a:off x="4419720" y="2209680"/>
            <a:ext cx="1218960" cy="1509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2" name="Picture 16" descr="Картинка 33 из 31930"/>
          <p:cNvPicPr/>
          <p:nvPr/>
        </p:nvPicPr>
        <p:blipFill>
          <a:blip r:embed="rId9"/>
          <a:stretch/>
        </p:blipFill>
        <p:spPr>
          <a:xfrm>
            <a:off x="758880" y="3556080"/>
            <a:ext cx="709560" cy="1523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http://www.myparfume.ru/published/publicdata/NOVOKSHONOVA/attachments/SC/products_pictures/sarma19.jpg"/>
          <p:cNvPicPr/>
          <p:nvPr/>
        </p:nvPicPr>
        <p:blipFill>
          <a:blip r:embed="rId10"/>
          <a:stretch/>
        </p:blipFill>
        <p:spPr>
          <a:xfrm>
            <a:off x="6781680" y="2819520"/>
            <a:ext cx="76212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Картинка 127 из 31933"/>
          <p:cNvPicPr/>
          <p:nvPr/>
        </p:nvPicPr>
        <p:blipFill>
          <a:blip r:embed="rId11"/>
          <a:stretch/>
        </p:blipFill>
        <p:spPr>
          <a:xfrm>
            <a:off x="7454880" y="1498680"/>
            <a:ext cx="762120" cy="21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Picture 22" descr="Картинка 161 из 31932"/>
          <p:cNvPicPr/>
          <p:nvPr/>
        </p:nvPicPr>
        <p:blipFill>
          <a:blip r:embed="rId12"/>
          <a:stretch/>
        </p:blipFill>
        <p:spPr>
          <a:xfrm>
            <a:off x="5854680" y="3994200"/>
            <a:ext cx="2603520" cy="2103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C:\Users\Наташа\Pictures\40933506_stakan_01.jpg"/>
          <p:cNvPicPr/>
          <p:nvPr/>
        </p:nvPicPr>
        <p:blipFill>
          <a:blip r:embed="rId13"/>
          <a:stretch/>
        </p:blipFill>
        <p:spPr>
          <a:xfrm rot="268200">
            <a:off x="5257440" y="5086080"/>
            <a:ext cx="1104840" cy="111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Picture 3" descr="C:\Users\Наташа\Pictures\008_chalk_1.jpg"/>
          <p:cNvPicPr/>
          <p:nvPr/>
        </p:nvPicPr>
        <p:blipFill>
          <a:blip r:embed="rId14"/>
          <a:stretch/>
        </p:blipFill>
        <p:spPr>
          <a:xfrm rot="19996200">
            <a:off x="1359000" y="3276360"/>
            <a:ext cx="1233360" cy="914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8" name="Picture 2" descr="C:\Users\Наташа\Pictures\7-0070.gif"/>
          <p:cNvPicPr/>
          <p:nvPr/>
        </p:nvPicPr>
        <p:blipFill>
          <a:blip r:embed="rId15"/>
          <a:stretch/>
        </p:blipFill>
        <p:spPr>
          <a:xfrm>
            <a:off x="758880" y="890640"/>
            <a:ext cx="1100160" cy="2538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Наташа\Pictures\29d377ab997f4c7ca16efdc6da6f6aa9_XL.jpg"/>
          <p:cNvPicPr/>
          <p:nvPr/>
        </p:nvPicPr>
        <p:blipFill>
          <a:blip r:embed="rId16"/>
          <a:stretch/>
        </p:blipFill>
        <p:spPr>
          <a:xfrm>
            <a:off x="1951200" y="685800"/>
            <a:ext cx="2468520" cy="185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Наташа\Pictures\14179.jpg"/>
          <p:cNvPicPr/>
          <p:nvPr/>
        </p:nvPicPr>
        <p:blipFill>
          <a:blip r:embed="rId17"/>
          <a:stretch/>
        </p:blipFill>
        <p:spPr>
          <a:xfrm>
            <a:off x="2514600" y="2565360"/>
            <a:ext cx="17524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россворд на тему уход за одежд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400" y="18288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 помывки одеж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м производят очистку одежды от загрязн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 удаления загрязнения с одеж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м фиксируют постиранную одеж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акой жидкости происходит стир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Ёмкость где раньше  стир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й способ стирки для белой одежды был рань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раньше использовали вместо порош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образовывается в месте загряз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07800" y="349200"/>
          <a:ext cx="8209080" cy="6192720"/>
        </p:xfrm>
        <a:graphic>
          <a:graphicData uri="http://schemas.openxmlformats.org/drawingml/2006/table">
            <a:tbl>
              <a:tblPr/>
              <a:tblGrid>
                <a:gridCol w="684360"/>
                <a:gridCol w="684360"/>
                <a:gridCol w="684000"/>
                <a:gridCol w="684360"/>
                <a:gridCol w="684000"/>
                <a:gridCol w="682920"/>
                <a:gridCol w="684000"/>
                <a:gridCol w="684360"/>
                <a:gridCol w="684000"/>
                <a:gridCol w="684360"/>
                <a:gridCol w="684360"/>
                <a:gridCol w="684000"/>
              </a:tblGrid>
              <a:tr h="68760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6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 gridSpan="2"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724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TextBox 2"/>
          <p:cNvSpPr/>
          <p:nvPr/>
        </p:nvSpPr>
        <p:spPr>
          <a:xfrm>
            <a:off x="2304000" y="174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927720" y="246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602360" y="310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602360" y="382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234000" y="512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5049000" y="446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6445800" y="246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7074360" y="29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7811280" y="2444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3"/>
          <p:cNvSpPr/>
          <p:nvPr/>
        </p:nvSpPr>
        <p:spPr>
          <a:xfrm>
            <a:off x="2440440" y="1747800"/>
            <a:ext cx="584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1042920" y="2428920"/>
            <a:ext cx="35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Щ Ё      К 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5"/>
          <p:cNvSpPr/>
          <p:nvPr/>
        </p:nvSpPr>
        <p:spPr>
          <a:xfrm>
            <a:off x="1620720" y="3097080"/>
            <a:ext cx="44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Ч      С  Т  К  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1755720" y="3754440"/>
            <a:ext cx="589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П      И Щ  Е  П К  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149400" y="512604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 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В О  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9"/>
          <p:cNvSpPr/>
          <p:nvPr/>
        </p:nvSpPr>
        <p:spPr>
          <a:xfrm>
            <a:off x="6448320" y="2417760"/>
            <a:ext cx="84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7211880" y="398520"/>
            <a:ext cx="5846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К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И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П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Я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Ч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Е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Н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И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7814160" y="2460600"/>
            <a:ext cx="727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5051520" y="447048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П  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тветы на кроссво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23880" y="18284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ир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Щет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т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щеп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ш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ипя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ят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8080" y="2362320"/>
            <a:ext cx="78487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амое интересное на уроке был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Чему я научилас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Что я узнала новог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Спасибо за работу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208080" cy="29829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29829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12"/>
          <p:cNvSpPr/>
          <p:nvPr/>
        </p:nvSpPr>
        <p:spPr>
          <a:xfrm>
            <a:off x="1800" y="2982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"/>
          <p:cNvPicPr/>
          <p:nvPr/>
        </p:nvPicPr>
        <p:blipFill>
          <a:blip r:embed="rId1"/>
          <a:stretch/>
        </p:blipFill>
        <p:spPr>
          <a:xfrm>
            <a:off x="1033560" y="2446200"/>
            <a:ext cx="990360" cy="14400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53" name="Picture 15" descr=""/>
          <p:cNvPicPr/>
          <p:nvPr/>
        </p:nvPicPr>
        <p:blipFill>
          <a:blip r:embed="rId2"/>
          <a:stretch/>
        </p:blipFill>
        <p:spPr>
          <a:xfrm>
            <a:off x="2549520" y="2479680"/>
            <a:ext cx="1371600" cy="1584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54" name="Picture 16" descr=""/>
          <p:cNvPicPr/>
          <p:nvPr/>
        </p:nvPicPr>
        <p:blipFill>
          <a:blip r:embed="rId3"/>
          <a:stretch/>
        </p:blipFill>
        <p:spPr>
          <a:xfrm>
            <a:off x="4454640" y="2479680"/>
            <a:ext cx="1390680" cy="16095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55" name="Picture 17" descr=""/>
          <p:cNvPicPr/>
          <p:nvPr/>
        </p:nvPicPr>
        <p:blipFill>
          <a:blip r:embed="rId4"/>
          <a:stretch/>
        </p:blipFill>
        <p:spPr>
          <a:xfrm>
            <a:off x="6237360" y="2354400"/>
            <a:ext cx="1685880" cy="18986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56" name="Picture 19" descr=""/>
          <p:cNvPicPr/>
          <p:nvPr/>
        </p:nvPicPr>
        <p:blipFill>
          <a:blip r:embed="rId5">
            <a:lum contrast="24000"/>
          </a:blip>
          <a:stretch/>
        </p:blipFill>
        <p:spPr>
          <a:xfrm>
            <a:off x="3997440" y="816120"/>
            <a:ext cx="1031760" cy="12236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57" name="Picture 20" descr=""/>
          <p:cNvPicPr/>
          <p:nvPr/>
        </p:nvPicPr>
        <p:blipFill>
          <a:blip r:embed="rId6"/>
          <a:stretch/>
        </p:blipFill>
        <p:spPr>
          <a:xfrm>
            <a:off x="3371760" y="4437000"/>
            <a:ext cx="968400" cy="1584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58" name="Picture 21" descr=""/>
          <p:cNvPicPr/>
          <p:nvPr/>
        </p:nvPicPr>
        <p:blipFill>
          <a:blip r:embed="rId7"/>
          <a:stretch/>
        </p:blipFill>
        <p:spPr>
          <a:xfrm>
            <a:off x="1676520" y="746280"/>
            <a:ext cx="1338120" cy="12934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59" name="Picture 22" descr=""/>
          <p:cNvPicPr/>
          <p:nvPr/>
        </p:nvPicPr>
        <p:blipFill>
          <a:blip r:embed="rId8"/>
          <a:stretch/>
        </p:blipFill>
        <p:spPr>
          <a:xfrm>
            <a:off x="1425600" y="4390920"/>
            <a:ext cx="1123920" cy="15130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60" name="Picture 26" descr=""/>
          <p:cNvPicPr/>
          <p:nvPr/>
        </p:nvPicPr>
        <p:blipFill>
          <a:blip r:embed="rId9"/>
          <a:stretch/>
        </p:blipFill>
        <p:spPr>
          <a:xfrm>
            <a:off x="5994360" y="549360"/>
            <a:ext cx="633600" cy="12970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61" name="Picture 27" descr=""/>
          <p:cNvPicPr/>
          <p:nvPr/>
        </p:nvPicPr>
        <p:blipFill>
          <a:blip r:embed="rId10"/>
          <a:stretch/>
        </p:blipFill>
        <p:spPr>
          <a:xfrm>
            <a:off x="7145280" y="4572000"/>
            <a:ext cx="835200" cy="1152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62" name="Picture 84" descr="abimage000d"/>
          <p:cNvPicPr/>
          <p:nvPr/>
        </p:nvPicPr>
        <p:blipFill>
          <a:blip r:embed="rId11"/>
          <a:stretch/>
        </p:blipFill>
        <p:spPr>
          <a:xfrm>
            <a:off x="5030640" y="4494240"/>
            <a:ext cx="14479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9880" y="414000"/>
            <a:ext cx="77724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Уход за одежд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349800" cy="27367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383080" y="4414680"/>
            <a:ext cx="2143080" cy="15195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1676520" y="4438800"/>
            <a:ext cx="2122200" cy="14954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з ис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1828800"/>
            <a:ext cx="7315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разных народов существовали различные способы стирки. Но все они сводились, в основном, к замачиванию белья в холодной или горячей воде, после чего его терли, били, колотили по плоским камням на берегу реки, полоскали, выжимали и суши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История стирки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         в  картинк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6" descr="i.jpg"/>
          <p:cNvPicPr/>
          <p:nvPr/>
        </p:nvPicPr>
        <p:blipFill>
          <a:blip r:embed="rId1"/>
          <a:stretch/>
        </p:blipFill>
        <p:spPr>
          <a:xfrm>
            <a:off x="1143000" y="2789280"/>
            <a:ext cx="2209680" cy="2819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1" name="Рисунок 7" descr="История стирки и первые стиральные машинки"/>
          <p:cNvPicPr/>
          <p:nvPr/>
        </p:nvPicPr>
        <p:blipFill>
          <a:blip r:embed="rId2"/>
          <a:stretch/>
        </p:blipFill>
        <p:spPr>
          <a:xfrm>
            <a:off x="5867280" y="914400"/>
            <a:ext cx="1903680" cy="22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Рисунок 8" descr="История стирки и первые стиральные машинки"/>
          <p:cNvPicPr/>
          <p:nvPr/>
        </p:nvPicPr>
        <p:blipFill>
          <a:blip r:embed="rId3"/>
          <a:stretch/>
        </p:blipFill>
        <p:spPr>
          <a:xfrm>
            <a:off x="5867280" y="3460680"/>
            <a:ext cx="1903680" cy="211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Рисунок 9" descr="История стирки и первые стиральные машинки"/>
          <p:cNvPicPr/>
          <p:nvPr/>
        </p:nvPicPr>
        <p:blipFill>
          <a:blip r:embed="rId4"/>
          <a:stretch/>
        </p:blipFill>
        <p:spPr>
          <a:xfrm>
            <a:off x="3657600" y="2666880"/>
            <a:ext cx="1903320" cy="3062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43080" y="711000"/>
            <a:ext cx="695016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Разнообразие стирального порош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C:\Users\Наташа\Pictures\biolan-300.jpg"/>
          <p:cNvPicPr/>
          <p:nvPr/>
        </p:nvPicPr>
        <p:blipFill>
          <a:blip r:embed="rId1"/>
          <a:stretch/>
        </p:blipFill>
        <p:spPr>
          <a:xfrm>
            <a:off x="5791320" y="2136600"/>
            <a:ext cx="2266920" cy="3273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Наташа\Pictures\getfile.jpg"/>
          <p:cNvPicPr/>
          <p:nvPr/>
        </p:nvPicPr>
        <p:blipFill>
          <a:blip r:embed="rId2"/>
          <a:stretch/>
        </p:blipFill>
        <p:spPr>
          <a:xfrm>
            <a:off x="3205080" y="358128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3" descr="3fa94d90161fffe000610c4a068f3724_original.jpg"/>
          <p:cNvPicPr/>
          <p:nvPr/>
        </p:nvPicPr>
        <p:blipFill>
          <a:blip r:embed="rId3"/>
          <a:stretch/>
        </p:blipFill>
        <p:spPr>
          <a:xfrm>
            <a:off x="754200" y="4229280"/>
            <a:ext cx="3438360" cy="1792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Users\Наташа\Pictures\tolyatti-prodazha_stiralnyh_poroshkov_krupnym_optom_191367.jpeg"/>
          <p:cNvPicPr/>
          <p:nvPr/>
        </p:nvPicPr>
        <p:blipFill>
          <a:blip r:embed="rId4"/>
          <a:stretch/>
        </p:blipFill>
        <p:spPr>
          <a:xfrm>
            <a:off x="2381400" y="3247920"/>
            <a:ext cx="1625400" cy="1878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Наташа\Pictures\62276.jpg"/>
          <p:cNvPicPr/>
          <p:nvPr/>
        </p:nvPicPr>
        <p:blipFill>
          <a:blip r:embed="rId5"/>
          <a:stretch/>
        </p:blipFill>
        <p:spPr>
          <a:xfrm>
            <a:off x="754200" y="2678040"/>
            <a:ext cx="1627200" cy="2411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Users\Наташа\Pictures\stiralniy_poroshok_quot_e_avtomat_quot_color_400gr_cussons_art_77510_4412_-800x800.jpg"/>
          <p:cNvPicPr/>
          <p:nvPr/>
        </p:nvPicPr>
        <p:blipFill>
          <a:blip r:embed="rId6"/>
          <a:stretch/>
        </p:blipFill>
        <p:spPr>
          <a:xfrm>
            <a:off x="3809880" y="169848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Наташа\Pictures\1317456075_51.jpg"/>
          <p:cNvPicPr/>
          <p:nvPr/>
        </p:nvPicPr>
        <p:blipFill>
          <a:blip r:embed="rId7"/>
          <a:stretch/>
        </p:blipFill>
        <p:spPr>
          <a:xfrm>
            <a:off x="2630520" y="1657440"/>
            <a:ext cx="17492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C:\Users\Наташа\Pictures\stirka.jpg"/>
          <p:cNvPicPr/>
          <p:nvPr/>
        </p:nvPicPr>
        <p:blipFill>
          <a:blip r:embed="rId1"/>
          <a:stretch/>
        </p:blipFill>
        <p:spPr>
          <a:xfrm>
            <a:off x="4767120" y="4179960"/>
            <a:ext cx="3419640" cy="3394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Средства для стир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Наташа\Pictures\27_0.jpg"/>
          <p:cNvPicPr/>
          <p:nvPr/>
        </p:nvPicPr>
        <p:blipFill>
          <a:blip r:embed="rId2"/>
          <a:stretch/>
        </p:blipFill>
        <p:spPr>
          <a:xfrm>
            <a:off x="835200" y="1139760"/>
            <a:ext cx="1815840" cy="2444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Наташа\Pictures\dakos_v_kramatorske_2597.jpeg"/>
          <p:cNvPicPr/>
          <p:nvPr/>
        </p:nvPicPr>
        <p:blipFill>
          <a:blip r:embed="rId3"/>
          <a:stretch/>
        </p:blipFill>
        <p:spPr>
          <a:xfrm>
            <a:off x="603360" y="3578400"/>
            <a:ext cx="4163760" cy="229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Наташа\Pictures\persil.jpg"/>
          <p:cNvPicPr/>
          <p:nvPr/>
        </p:nvPicPr>
        <p:blipFill>
          <a:blip r:embed="rId4"/>
          <a:stretch/>
        </p:blipFill>
        <p:spPr>
          <a:xfrm>
            <a:off x="6394320" y="907920"/>
            <a:ext cx="2011320" cy="3140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Наташа\Pictures\i (1).jpg"/>
          <p:cNvPicPr/>
          <p:nvPr/>
        </p:nvPicPr>
        <p:blipFill>
          <a:blip r:embed="rId5"/>
          <a:stretch/>
        </p:blipFill>
        <p:spPr>
          <a:xfrm>
            <a:off x="2432160" y="1292400"/>
            <a:ext cx="1841400" cy="2145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:\Users\Наташа\Pictures\Sredstva-dlya-stirki-Karapuz-Sredstvo-dlya-stirki-Sensetiv-1000-ml.-133438.png"/>
          <p:cNvPicPr/>
          <p:nvPr/>
        </p:nvPicPr>
        <p:blipFill>
          <a:blip r:embed="rId6"/>
          <a:stretch/>
        </p:blipFill>
        <p:spPr>
          <a:xfrm>
            <a:off x="4071960" y="1609560"/>
            <a:ext cx="23353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Два золотых прави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440" y="22856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Белые вещи не стирай с             цветным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Цветные вещи никогда не кипятятс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Символы стирки бел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Наташа\Pictures\stirka_1.jpg"/>
          <p:cNvPicPr/>
          <p:nvPr/>
        </p:nvPicPr>
        <p:blipFill>
          <a:blip r:embed="rId1"/>
          <a:stretch/>
        </p:blipFill>
        <p:spPr>
          <a:xfrm>
            <a:off x="4724280" y="1371600"/>
            <a:ext cx="2895840" cy="469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Users\Наташа\Pictures\stirkaruchnaya.jpg"/>
          <p:cNvPicPr/>
          <p:nvPr/>
        </p:nvPicPr>
        <p:blipFill>
          <a:blip r:embed="rId2"/>
          <a:stretch/>
        </p:blipFill>
        <p:spPr>
          <a:xfrm>
            <a:off x="1143000" y="3429000"/>
            <a:ext cx="279252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User</cp:lastModifiedBy>
  <dcterms:modified xsi:type="dcterms:W3CDTF">2013-11-30T15:37:44Z</dcterms:modified>
  <cp:revision>53</cp:revision>
  <dc:subject/>
  <dc:title>Название презентации</dc:title>
</cp:coreProperties>
</file>