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4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24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38E0A-04D2-4388-8747-F0C81ECA8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E623B-E2D7-43BF-9354-6F69217A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FB869-0AEB-48DA-9873-EF5C2184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81EAC-FF8A-40E6-8290-85167A10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997F85-0C54-4556-8022-BDC2C9D6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CF56AA-8755-411F-9B64-BCCC8049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3ED835-14F9-4CC3-AABF-8041D19F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1DFBB1-CE39-4C9D-97E4-82635168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DE6968-FC03-4E8B-A33A-5656A1F1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246CDC-80AE-49EA-A613-9F57EC0B5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BA7DF6-00FA-432E-B1DF-F70DB3469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2984E5-4791-46DC-8482-2EA10784B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70693-DD0C-49F2-92E3-D0EF84F3D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D50060-BBD5-4C52-9D07-BA3C67DB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6D690D-9086-4D21-A682-9424E725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5C0229-0E33-48D7-9C6A-E5744D4D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F40D84-7BC7-4F6F-9847-34B40046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8987BB-529C-4727-AB86-2492BE7C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508021-B969-42F7-8F76-598A9C60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5E7D28-33A9-4393-A39F-B96970F6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197F17-4F25-4A62-AC58-AAC11C73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024A36-D679-43A3-8C34-D617D35C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E17E66-1529-480B-8725-3C0AD305C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9289A-62F9-4EF4-8264-FC0F2805B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63ED9B-2984-4CCE-87AB-9E638D31E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A9CA6CC-6C81-472F-8B7D-22767DE62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49B91D3-CFC0-4B4B-A27A-1963C1F3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DB97C46-76FB-41F2-A454-02853E6A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558208F-2DFA-4302-BC55-5D74A129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B0AA447-EC3F-48B3-BDFE-A64B3962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4599B9B-570B-4FD5-8DA2-F40DA8E1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8768140-2360-4567-9E24-24729D21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93A194F-E391-4CD1-85B4-48E21F78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1A05662-6EEA-4D4C-9CDB-455B11CF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C0A5-660B-452E-8FF8-C011EE972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12E01F1-4D13-43D6-A36C-65A1F4E4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E81D63F-CFC1-4E02-B8CB-BE302C729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9E814CB-BA9B-46FD-8131-7D4109B9B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6B140E-13B4-4BC8-BC46-39747A5C7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694AB4-9201-4815-8F08-1BDFF6C2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FE3B38-1882-444A-8807-11A041B7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65A053-1152-4DC3-8ADC-5E881AB7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E6A37A-285E-449F-BF82-3FD695BA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F1A8C6-3018-4163-9CCB-8EA6404B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1FA505-03DB-43E5-8145-03AFA0A7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9C3C-1496-4528-84DD-01AAAA46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01BC02-28C0-467F-B437-5C8C0AE1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441450-2E57-4685-8FD8-25D8D626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CC6FC2-827B-49AE-A194-EE9CC338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3890DD-3749-46A2-B370-273D2F4EC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1D168E-3451-4D56-9823-A6C30DDF5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7C129B-DBB3-412A-AAAD-D53B1C80E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F5BE58-692D-4353-83D5-889793E5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A1BD56-D324-41DC-88C9-4AE1339F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3524CF-E18C-4F82-9601-4CB87D35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DA4606-564A-4A7D-B83A-2756F840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5A324-E764-4F7C-A1C4-865DED7E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A89FBC-F1A0-4D9F-A7DD-79F67287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3F74B9-F925-424C-B1B0-953CAF15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54BECA-E225-450D-9D97-F4B08F50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28BB45-E8C3-46C9-8278-7581A4E3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CC84FF-A589-4B4C-B5C0-F0EC5B8D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269AD8-0585-417E-B6FC-AB45A132A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A42772-6CC5-4C04-B38B-5D2C018D8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7DF019-7D8F-4CCF-871F-3F9E52616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21859C-5C67-427D-BE93-0860AB22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DA40DA-68A9-4D14-87F7-E1BEBC00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6881-BE6A-4AB3-81C1-56CA551B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6092EA-F4CA-43B1-B4D2-E7111CC7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76E7C7-432C-4CBF-83DA-4F494285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C5FB68-696F-473C-936C-8AC1492C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0C50FB-5C37-4DBF-BA4E-845E09CD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082FBA-62CA-430D-8129-3C65A98C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0D11B6-6AC8-4393-97FF-F9C81649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415647-28D9-4485-A22B-434C44C5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1321A9-229A-4244-B4FB-CF709C1B7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DF9FE8-383D-41D4-923B-5CA8F92A1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1476EE-D112-4FB7-8090-2B250AC99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16A3-D705-4EF1-94A3-DB65E4A6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C0D24B-79B1-4DAC-950A-97DBB8BE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26E53F-B76D-41DC-9FF9-96465908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0A5504-A837-41D3-9C49-72F6086A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B228D9-8D83-472B-8741-898F9EE9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ABD87A-9D9A-4ED4-BF90-19437B81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6B9AF3-CBDC-4D7B-855A-77A571CA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B78350-E50F-4DC9-BC49-287399A0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BD153D-0260-472E-B65B-4D7D68B7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CF46C2-3B1D-430A-962E-14D99FB5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D951DE-5161-4E92-8496-D95746A52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3B29C-6E37-406E-B9F4-950F5E67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91B9E8-B8A7-45D5-8177-C6677936D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E95046-5EBE-4119-82E3-3AAFA8773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1BBB5F-D7E5-4EC7-A568-42F40EF0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BB3495-094A-4E97-8AFD-7E1AF910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4D144A-D782-4E52-83F0-AAA49E89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6FF2F3-7DC8-4846-9D5B-0EC7D563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0C2FE9-81C0-46A6-8580-EC3D5995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DCFF28-C7AB-412B-8120-6B5F4948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C642AF-2D9C-4822-B7F9-99F8CF65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C4B118-969F-4B8B-BC51-9F968045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AF2E-5710-4980-A9D7-9423C200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23B1D1-2A8B-4146-8D3C-2FEBC85E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E083D2-73EB-415B-A6A9-4BB7EF44E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EE22D8-9929-4932-930F-EA71CF5F1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511003-B457-41A1-9CB4-CFA016C5A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780234-7E05-4A17-9B6D-E34BD683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934AE4-D060-4C80-9AFD-26828D92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8F19ED-0686-4A29-B706-321B5398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031D3F-CE57-4627-A705-435DE303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E79CBA-0557-467E-9437-BDA926A4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C7AF89-C9D8-4F34-A9A7-797008B9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46EEF-3746-4705-9CB0-7F135A14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B02E-14F4-42D2-AD18-0285DE01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02B84B-EBD6-4E4A-A775-2D0ABA03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4A54B3-FDB5-40FB-B235-D94F6C5E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8A4EA1-3B71-447B-99FF-750C4293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516531-43F6-4AE7-9BC7-A7A091765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AFDA59-B9C3-4714-B4B8-2377E1D74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72AEEE-FEA9-4C16-A716-77D5EDAC2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578291-CEF6-4655-AC6D-494F9CB9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C327C0-A13F-403B-A8B2-CB64A11F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E42EE7-5F61-451E-8E9F-5B0FE123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79C780-D63D-4ADC-8BCC-6923832D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BCCE-C95C-44C8-A654-A7EDF834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4FBAE2-9E69-42D9-9FFB-CC99162B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D8CCDB-4B84-49DC-9C9D-A5A4F440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D7DE49-FDC5-47E6-B666-487C20A2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DF857B-980E-487E-BBDF-B153F858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915025-377A-4F8C-8626-33B2A617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7BA65F-BDD2-421D-B59E-70EE2AEBF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F5CD72-7C02-411B-B8F5-D8A8F8CB2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B39521-664C-42D9-86D6-979090A1F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200EC6-7748-462A-8CD2-489D0F34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F215B9-4389-4283-B449-E2F59724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BF21-DE4A-420E-B06C-ABB70164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2939B0-BAA6-45C1-9F9B-18664988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DA8EDD-59F0-4F0B-A9AA-AD2B8AD6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B1DC4A-2700-4B21-BA77-D1BEBD1B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9CB5AB-1458-4027-A5B5-C4B1CD24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689823-27A8-4938-B394-5C49F62D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BF6442-74CC-44E8-8FC5-873AE109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D41DCE-7912-410D-8599-6F6D5325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32A23C-EC4B-4334-B907-FAEDC9834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0EED78-804F-4025-A3A1-DCA548CB2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E27A-E9A3-4981-ACF3-1CE23F668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2452-11FD-4290-809A-EC4A41D63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99F42-1407-4A35-8B6D-45828FA27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C4125-6E7A-49EF-84B4-F12142BC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0E83E-5528-4CB7-A379-BE5C1AE9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61D28-9DF9-4646-87C6-BD81D857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0304E-01B7-4C26-98AF-2A50598D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3E600-BC7D-43CA-80D6-249195CE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CE5D5-8BF3-49C2-A6AC-8541947D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AAC43-CDA6-4FFC-806D-0C00B3C6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586FB-B3DF-4CDB-B3C3-ECDD6B7C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E0CBC-48BB-47EC-95E9-465D6FE9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7B143-94FD-4A51-A30C-0DCAD612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B2FA8-409C-48D3-9537-24C3546A2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06646-182F-42C7-A8FB-6F6FFC317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D5F47-9E7E-4C3E-A534-99FAB5867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19F27-7F72-489B-9BD9-3DC39C0A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C512A-5EBA-4ACD-A2EE-6647182A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411A9-D787-45AD-A03D-ACBB0D02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CFFE3-508D-4111-8F6E-FCE052AC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937A2-153F-4952-B9D9-0E136E3A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8F87E-8EA2-491E-B8AA-2EBDF30A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B2439-16AF-481B-A321-D0BB32C7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D1BB8-C42A-4F52-89E5-5D43AF4D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FE746-3770-4863-B9B8-B5CC6E45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82373-5F4A-46E1-9D09-0447489D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F401A-2D83-49A5-9DD5-59A1CA151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2BCD4-78A5-4DE9-9A4D-8B8D1A4B1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33E96-ECB4-4D0D-965C-50C4E81C7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BF4A4-A18A-427E-A18A-8D4212FC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74616-A2DA-4209-B4C8-FDCECC90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79F8B-17F1-461C-8373-810B46EE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480E3-655E-4167-81DF-C2BEF26A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5D082-4F03-441A-86B9-9FDAE987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1EFB3-99A4-454C-BF80-4C0695E6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C3FDC-A1EC-4C70-A629-8EE0FF02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8A047-D8CA-425E-A392-538BEA7B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736DF-83CD-4F78-8C86-F867C80B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7F252-787C-45FA-B55A-843DC428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22CEB-5D31-483E-8B86-574662FD9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FD03E-E891-4E86-A071-41255C01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58BAF-081E-4CB2-B41B-89A161CD4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F837C-7772-4059-8B4C-052582A52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B2E7D-BA65-48A2-812A-FC86FF15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11707-3760-428D-840A-CB132C26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ACF34-5387-42AE-94E7-407E7E93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9B654-08B1-4DFF-B3A9-80D6B0F6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EF540-6065-4049-97FC-76684B68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C63D4-EB63-471D-83E3-A1D32DFB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4108B-6049-47C8-9FF4-B7E1094D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6E8C3-AFD4-46DD-A7BD-9EF9D934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FA26B-39AD-412F-9EEB-2B858439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621F7-A802-452C-B347-31AE602C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55200-B2E2-458A-818B-943EAE34A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65492-6A7F-4121-A075-2568C3ED2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C957A-11CD-47BC-8131-D1C01BA77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6B349-5EAD-4687-91F2-1BB56346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51E57-D6F3-431B-9694-231A9AA1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F0363-9F2E-4948-8BDB-7A49245B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038D4-4A6C-42F2-B9A2-A0CD4CCB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40D56-0E16-4550-890F-18D98325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957B6-5B8D-4F48-AB88-B8EC1ED3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645BB-E2F9-46FA-835A-BB0E93A9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75E01-8A0E-417D-A72A-01DDEAD1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A7269-4573-40F2-850C-F43F3C4A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21085-C258-4377-B63C-4E9F127D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98612-4F7E-4A7A-AB46-721E02889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C68AD-8868-4B8C-A966-926222E85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F709E-CA87-4D7B-BF6C-A1BCCE03B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88836-7FCF-4AE4-BAD6-191BD478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AE41A-B029-43C3-8FF4-FC12947C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18420-D707-4681-A92E-CF1604E6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3D020-B37E-414B-9ED7-72F95E9F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6DC05-A268-454F-A59B-D037EA18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AD5BE-0FE9-4E7F-92BE-B6486CA2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9331F-7FBE-43CF-A372-7AEBC6B7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8E4F1-8AC3-4099-B020-770D9CC5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1179B-5D94-4806-829F-B25964B7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10104-4653-472D-96C5-F5A55EF2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19B08-7E74-449E-A824-82372D80A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6CD5F-958A-4618-8D5F-D7DAFCAE9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5CDEC0-0D76-433E-A2B6-425F69A84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BDF5E6-FFE7-48EF-BF4A-FB54C92A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A42257-77D5-48ED-ADAC-D5AE33B8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047D-9F47-4D26-9A1A-7F224D0351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f839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4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5E69-F16E-4A53-977B-98CB86DC0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5ABA-BDBA-40E0-B2D4-E15EE9A91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09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c3cc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33E0-2FFB-4268-918D-369680933E3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553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afb7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PlaceHolder 1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3A01-059C-4E98-8F30-1F6DD39CFF9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9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9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1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63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64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98B8-F7E2-495F-AE99-C36447360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70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70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7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7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F2C8-542C-4AED-8EBA-DFD0B73F2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2F5D-0ED7-4106-B780-C5CD8EB10F8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14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3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24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25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8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1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32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40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41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44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45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6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47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5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6E59-A56C-4638-8C57-94FCF3A9677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8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1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02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7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08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1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912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7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5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956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5237-4610-418B-ACB7-9048B899B0C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013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483D-40EB-4ED8-AF1E-D48ACFCB515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f839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A186-6225-4AFB-8C4E-7311B1B90C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b4e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b7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170E-42A7-4357-95CB-A432CA091A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55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56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b7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59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4b4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4eb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c481c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1143-A437-4C4D-8C2D-DEE4213E3A03}" type="slidenum">
              <a:rPr b="0" lang="en-US" sz="14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A1C8-80EF-4BE6-893F-4F0A8B827D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46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3D53-998C-4155-B2EA-31E161C679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95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38D0-496F-4AA4-9B60-91996C50A8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03EA-CCCA-4776-9CA6-EDC90F9429D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3D72-3118-45B1-95CC-F208B1F8338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0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5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/>
          <p:nvPr/>
        </p:nvSpPr>
        <p:spPr>
          <a:xfrm>
            <a:off x="3048120" y="1905120"/>
            <a:ext cx="5827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аучно-практическ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онферен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«Организм челове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2200" y="635040"/>
            <a:ext cx="9048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оги ставить на пол подошв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е упираться грудью в край сто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очувствовав усталость, отдохну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вет должен падать с левой сторон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Держать тяжесть в двух руках или носи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ан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0" name="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3286080" cy="328608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1101" name="" descr=""/>
          <p:cNvPicPr/>
          <p:nvPr/>
        </p:nvPicPr>
        <p:blipFill>
          <a:blip r:embed="rId2"/>
          <a:stretch/>
        </p:blipFill>
        <p:spPr>
          <a:xfrm>
            <a:off x="5334120" y="3733920"/>
            <a:ext cx="2943000" cy="293508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1102" name="" descr=""/>
          <p:cNvPicPr/>
          <p:nvPr/>
        </p:nvPicPr>
        <p:blipFill>
          <a:blip r:embed="rId3"/>
          <a:stretch/>
        </p:blipFill>
        <p:spPr>
          <a:xfrm>
            <a:off x="609480" y="3657600"/>
            <a:ext cx="3598920" cy="298296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1103" name="" descr=""/>
          <p:cNvPicPr/>
          <p:nvPr/>
        </p:nvPicPr>
        <p:blipFill>
          <a:blip r:embed="rId4"/>
          <a:stretch/>
        </p:blipFill>
        <p:spPr>
          <a:xfrm>
            <a:off x="5105520" y="609480"/>
            <a:ext cx="3670200" cy="275292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</p:spTree>
  </p:cSld>
  <p:transition spd="slow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"/>
          <p:cNvSpPr/>
          <p:nvPr/>
        </p:nvSpPr>
        <p:spPr>
          <a:xfrm>
            <a:off x="457200" y="1219320"/>
            <a:ext cx="824076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 Значение кровообращения для орган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2 Влияние физкультуры и спорта на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 Советы спортсме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4 Как и зачем определять пуль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5 Это интере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6 Наш дев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7" name="Picture 4" descr=""/>
          <p:cNvPicPr/>
          <p:nvPr/>
        </p:nvPicPr>
        <p:blipFill>
          <a:blip r:embed="rId1"/>
          <a:stretch/>
        </p:blipFill>
        <p:spPr>
          <a:xfrm>
            <a:off x="2268360" y="189000"/>
            <a:ext cx="4548240" cy="6480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slow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"/>
          <p:cNvSpPr/>
          <p:nvPr/>
        </p:nvSpPr>
        <p:spPr>
          <a:xfrm>
            <a:off x="0" y="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0" y="0"/>
            <a:ext cx="17524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1676520" y="0"/>
            <a:ext cx="746748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7238880" y="533520"/>
            <a:ext cx="1905120" cy="6324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752480" y="6477120"/>
            <a:ext cx="556272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752480" y="457200"/>
            <a:ext cx="5867640" cy="6172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4" name="Picture 5" descr="heart2"/>
          <p:cNvPicPr/>
          <p:nvPr/>
        </p:nvPicPr>
        <p:blipFill>
          <a:blip r:embed="rId1"/>
          <a:stretch/>
        </p:blipFill>
        <p:spPr>
          <a:xfrm>
            <a:off x="1763640" y="404640"/>
            <a:ext cx="5508720" cy="6093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3286080" cy="246384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1116" name="" descr=""/>
          <p:cNvPicPr/>
          <p:nvPr/>
        </p:nvPicPr>
        <p:blipFill>
          <a:blip r:embed="rId2"/>
          <a:stretch/>
        </p:blipFill>
        <p:spPr>
          <a:xfrm>
            <a:off x="609480" y="2819520"/>
            <a:ext cx="2543400" cy="380988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1117" name="" descr=""/>
          <p:cNvPicPr/>
          <p:nvPr/>
        </p:nvPicPr>
        <p:blipFill>
          <a:blip r:embed="rId3"/>
          <a:stretch/>
        </p:blipFill>
        <p:spPr>
          <a:xfrm>
            <a:off x="5029200" y="533520"/>
            <a:ext cx="3809880" cy="571500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</p:spTree>
  </p:cSld>
  <p:transition spd="slow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/>
          <p:nvPr/>
        </p:nvSpPr>
        <p:spPr>
          <a:xfrm>
            <a:off x="1149120" y="990720"/>
            <a:ext cx="74487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Процесс пищева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Значение проце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Советы диетолога по организации п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Меню для школь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 Это интерес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 Наш дев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0" name=""/>
          <p:cNvSpPr/>
          <p:nvPr/>
        </p:nvSpPr>
        <p:spPr>
          <a:xfrm>
            <a:off x="3809880" y="1143000"/>
            <a:ext cx="456264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Процесс пищева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Значение проце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Советы диетолога по организации п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Меню для школь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 Это интерес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 Наш дев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Picture 4" descr="kish"/>
          <p:cNvPicPr/>
          <p:nvPr/>
        </p:nvPicPr>
        <p:blipFill>
          <a:blip r:embed="rId1"/>
          <a:stretch/>
        </p:blipFill>
        <p:spPr>
          <a:xfrm>
            <a:off x="2057400" y="152280"/>
            <a:ext cx="5167440" cy="6500880"/>
          </a:xfrm>
          <a:prstGeom prst="rect">
            <a:avLst/>
          </a:prstGeom>
          <a:ln w="0">
            <a:noFill/>
          </a:ln>
        </p:spPr>
      </p:pic>
      <p:sp>
        <p:nvSpPr>
          <p:cNvPr id="1122" name=""/>
          <p:cNvSpPr/>
          <p:nvPr/>
        </p:nvSpPr>
        <p:spPr>
          <a:xfrm>
            <a:off x="2439720" y="60948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 flipV="1">
            <a:off x="3048120" y="838080"/>
            <a:ext cx="7617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1220400" y="160020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ище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2590920" y="19051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6631560" y="3809880"/>
            <a:ext cx="142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елу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5257800" y="4114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764640" y="5029200"/>
            <a:ext cx="16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ишеч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2362320" y="533412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976560" cy="2982960"/>
          </a:xfrm>
          <a:prstGeom prst="rect">
            <a:avLst/>
          </a:prstGeom>
          <a:ln w="0">
            <a:noFill/>
          </a:ln>
        </p:spPr>
      </p:pic>
      <p:pic>
        <p:nvPicPr>
          <p:cNvPr id="1131" name="" descr=""/>
          <p:cNvPicPr/>
          <p:nvPr/>
        </p:nvPicPr>
        <p:blipFill>
          <a:blip r:embed="rId2"/>
          <a:stretch/>
        </p:blipFill>
        <p:spPr>
          <a:xfrm>
            <a:off x="4724280" y="304920"/>
            <a:ext cx="4164120" cy="2498760"/>
          </a:xfrm>
          <a:prstGeom prst="rect">
            <a:avLst/>
          </a:prstGeom>
          <a:ln w="0">
            <a:noFill/>
          </a:ln>
        </p:spPr>
      </p:pic>
      <p:pic>
        <p:nvPicPr>
          <p:cNvPr id="1132" name="" descr=""/>
          <p:cNvPicPr/>
          <p:nvPr/>
        </p:nvPicPr>
        <p:blipFill>
          <a:blip r:embed="rId3"/>
          <a:stretch/>
        </p:blipFill>
        <p:spPr>
          <a:xfrm>
            <a:off x="4800600" y="3276720"/>
            <a:ext cx="4013280" cy="2674800"/>
          </a:xfrm>
          <a:prstGeom prst="rect">
            <a:avLst/>
          </a:prstGeom>
          <a:ln w="0">
            <a:noFill/>
          </a:ln>
        </p:spPr>
      </p:pic>
      <p:pic>
        <p:nvPicPr>
          <p:cNvPr id="1133" name="" descr=""/>
          <p:cNvPicPr/>
          <p:nvPr/>
        </p:nvPicPr>
        <p:blipFill>
          <a:blip r:embed="rId4"/>
          <a:stretch/>
        </p:blipFill>
        <p:spPr>
          <a:xfrm>
            <a:off x="457200" y="4114800"/>
            <a:ext cx="3936960" cy="25653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/>
          <p:nvPr/>
        </p:nvSpPr>
        <p:spPr>
          <a:xfrm>
            <a:off x="2363400" y="457200"/>
            <a:ext cx="450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Меню для школь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218960" y="1676520"/>
            <a:ext cx="6941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ставить меню на обед, выбрав наибо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езные проду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Чип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Овощной сал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Картофельный су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Яблочный с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 Пепси – 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 Хот д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Паровые котл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 Конф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"/>
          <p:cNvSpPr/>
          <p:nvPr/>
        </p:nvSpPr>
        <p:spPr>
          <a:xfrm>
            <a:off x="990720" y="1066680"/>
            <a:ext cx="7772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«Человек всегда был и будет самым любопытным явлением для самого человека. Его организм – это целостная, очень сложная систем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Это одновременно и храм, и склад, и аптека, и библиотека, и установка для очистки сточных вод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Г.Белински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2000"/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" dur="2000"/>
                                        <p:tgtEl>
                                          <p:spTgt spid="10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" dur="2000"/>
                                        <p:tgtEl>
                                          <p:spTgt spid="10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/>
          <p:nvPr/>
        </p:nvSpPr>
        <p:spPr>
          <a:xfrm>
            <a:off x="2363400" y="685800"/>
            <a:ext cx="450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Меню для школь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1219320" y="1828800"/>
            <a:ext cx="457200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Овощной сал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Картофельный су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Паровые котл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Яблочный 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/>
          <p:nvPr/>
        </p:nvSpPr>
        <p:spPr>
          <a:xfrm>
            <a:off x="228600" y="2362320"/>
            <a:ext cx="411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В здоровом те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 –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здоровый ду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9" name="" descr=""/>
          <p:cNvPicPr/>
          <p:nvPr/>
        </p:nvPicPr>
        <p:blipFill>
          <a:blip r:embed="rId1"/>
          <a:stretch/>
        </p:blipFill>
        <p:spPr>
          <a:xfrm>
            <a:off x="4343400" y="380880"/>
            <a:ext cx="4572000" cy="6096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"/>
          <p:cNvSpPr/>
          <p:nvPr/>
        </p:nvSpPr>
        <p:spPr>
          <a:xfrm>
            <a:off x="228600" y="2362320"/>
            <a:ext cx="411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В здоровом те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 –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здоровый ду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1" name="" descr=""/>
          <p:cNvPicPr/>
          <p:nvPr/>
        </p:nvPicPr>
        <p:blipFill>
          <a:blip r:embed="rId1"/>
          <a:stretch/>
        </p:blipFill>
        <p:spPr>
          <a:xfrm>
            <a:off x="4343400" y="380880"/>
            <a:ext cx="4572000" cy="6096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/>
          <p:nvPr/>
        </p:nvSpPr>
        <p:spPr>
          <a:xfrm>
            <a:off x="1202400" y="789120"/>
            <a:ext cx="6787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ченые – исследова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р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портсме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иетол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/>
          <p:nvPr/>
        </p:nvSpPr>
        <p:spPr>
          <a:xfrm>
            <a:off x="915120" y="990720"/>
            <a:ext cx="775188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Times New Roman"/>
              </a:rPr>
              <a:t>Пла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1 Строение скел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2 Значение скелета для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3 Профессия травматоло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4 Практическ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5 Это интерес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6 Наш деви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4" name="" descr=""/>
          <p:cNvPicPr/>
          <p:nvPr/>
        </p:nvPicPr>
        <p:blipFill>
          <a:blip r:embed="rId1"/>
          <a:stretch/>
        </p:blipFill>
        <p:spPr>
          <a:xfrm>
            <a:off x="2057400" y="152280"/>
            <a:ext cx="5105520" cy="6400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75" name=""/>
          <p:cNvSpPr/>
          <p:nvPr/>
        </p:nvSpPr>
        <p:spPr>
          <a:xfrm>
            <a:off x="5564880" y="22860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Чере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4876920" y="457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5641560" y="2286000"/>
            <a:ext cx="157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звоноч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4724280" y="2514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5870160" y="1447920"/>
            <a:ext cx="11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руд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ле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5029200" y="1676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869080" y="281952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5105520" y="2971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593080" y="2590920"/>
            <a:ext cx="6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 flipH="1">
            <a:off x="3200040" y="2819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5564160" y="49528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502920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0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0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0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10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7" name="" descr=""/>
          <p:cNvPicPr/>
          <p:nvPr/>
        </p:nvPicPr>
        <p:blipFill>
          <a:blip r:embed="rId1"/>
          <a:stretch/>
        </p:blipFill>
        <p:spPr>
          <a:xfrm>
            <a:off x="3060720" y="120600"/>
            <a:ext cx="3022560" cy="6616800"/>
          </a:xfrm>
          <a:prstGeom prst="rect">
            <a:avLst/>
          </a:prstGeom>
          <a:ln w="0">
            <a:noFill/>
          </a:ln>
        </p:spPr>
      </p:pic>
      <p:sp>
        <p:nvSpPr>
          <p:cNvPr id="1088" name=""/>
          <p:cNvSpPr/>
          <p:nvPr/>
        </p:nvSpPr>
        <p:spPr>
          <a:xfrm>
            <a:off x="5947560" y="3049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авильная оса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" descr=""/>
          <p:cNvPicPr/>
          <p:nvPr/>
        </p:nvPicPr>
        <p:blipFill>
          <a:blip r:embed="rId1"/>
          <a:stretch/>
        </p:blipFill>
        <p:spPr>
          <a:xfrm>
            <a:off x="3263760" y="120600"/>
            <a:ext cx="2616480" cy="6616800"/>
          </a:xfrm>
          <a:prstGeom prst="rect">
            <a:avLst/>
          </a:prstGeom>
          <a:ln w="0">
            <a:noFill/>
          </a:ln>
        </p:spPr>
      </p:pic>
      <p:sp>
        <p:nvSpPr>
          <p:cNvPr id="1090" name=""/>
          <p:cNvSpPr/>
          <p:nvPr/>
        </p:nvSpPr>
        <p:spPr>
          <a:xfrm>
            <a:off x="5702760" y="228600"/>
            <a:ext cx="34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анка с наруш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3" name="" descr=""/>
          <p:cNvPicPr/>
          <p:nvPr/>
        </p:nvPicPr>
        <p:blipFill>
          <a:blip r:embed="rId2"/>
          <a:stretch/>
        </p:blipFill>
        <p:spPr>
          <a:xfrm>
            <a:off x="1219320" y="685800"/>
            <a:ext cx="6772320" cy="5433840"/>
          </a:xfrm>
          <a:prstGeom prst="rect">
            <a:avLst/>
          </a:prstGeom>
          <a:ln w="0">
            <a:noFill/>
          </a:ln>
        </p:spPr>
      </p:pic>
      <p:sp>
        <p:nvSpPr>
          <p:cNvPr id="1094" name=""/>
          <p:cNvSpPr/>
          <p:nvPr/>
        </p:nvSpPr>
        <p:spPr>
          <a:xfrm>
            <a:off x="1219320" y="685800"/>
            <a:ext cx="6781680" cy="541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енис</cp:lastModifiedBy>
  <dcterms:modified xsi:type="dcterms:W3CDTF">2009-01-27T11:41:29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