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68E2-B7D0-4731-AE02-F92E0567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6436A-7019-4646-95C2-AE46C056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8664C-4444-48FE-9A22-BE90D1BD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058CA-9DE7-4136-A7D9-AC3A6645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5BA8C-7A15-41DC-BD63-6E852BCE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D632C-089B-44D9-80B6-854D0E80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81B8F-A26E-41E5-BA00-26DCE1BF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D6704-98EA-4E35-942F-0B11B2E0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5A6C7-66E5-4AE9-848B-C3D0F606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725AC-6940-466A-AC45-A0D99DE6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13C2E-8306-4E36-951B-2BA3EE8D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838E5-ECB4-44CE-852E-5F30880A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F405-1606-42DE-91CF-C1A99E03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A286A-CAA9-4BA4-AC96-0A20DE6F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5B5E7-8C8B-456B-B036-40BD8191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32F0F-8FE4-4244-95E2-4114230A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11FC0-0BBE-4381-A2B1-9A0A5407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830D0-7078-4210-AC95-5FAE2242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AF94D-B7CA-4A37-BFBE-0059F4DA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8DA8E-EBBE-40C3-869A-3256D399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EE796-2404-4F62-B570-9140B05A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12952-1423-41B5-9EA6-EFACF368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D9AC0-4A56-47A7-9707-DA261119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D53B-5570-4F82-9638-1FB217D0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5FCC5-6FDF-4862-831C-5463DB23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F8279C-B865-4540-A775-162C849C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597312-5911-4C52-AE9C-FD922B90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141159-EF3B-4447-9D7D-1773990F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5455BA-1F8B-4191-BD3E-944BE82A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58E738-7E97-4512-B507-4C41C9CA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3CF4E5-9B3B-42E5-B06B-8F37740C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6BB3DA-F556-4475-A39D-A2B5FB24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605774-73C5-422A-9E3D-76DCA8FF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BFB80A-4FE7-492B-9DE6-46D82C78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17D3-92A7-49FF-8F77-49F5FEDC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DF4402-0117-4BA9-B650-9F843405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1819A5-ECAE-49FC-A91B-4468E80C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BDA226-9F12-4CEE-9C06-9481EA45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2A5AE-D1B9-4920-8939-5298CAE1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D2FD9-126D-4F1F-AC82-66F28D38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14021-D29A-4CCF-93D3-07A71D95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2D1E0-807C-4188-8A19-0AD0256E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58D0C-9C37-4389-BB41-43F606A6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EEE94-76FD-4E18-BC84-45091094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D0A92-73C0-4B5D-A18A-96761DA8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EFF5-39E5-4DAF-8EBE-F10B4D14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CA59E-462F-40DB-9D7D-6A993576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F7565-3685-464B-9A70-B841C67F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F1A4A-8EC0-4350-9C0D-8DEF063F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D056A-51B1-4195-854D-AEFA7F45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EC6B9-B95B-4A32-B43E-34C2763D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768B5-E5B5-4893-8022-664F640A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BCFE8-5882-4D38-82D3-99825B4A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29D1F-74A2-4AAB-AD3D-04949EF3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CDDEB-DABD-4336-AAE0-E7B33075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54ADD-0D61-4511-818E-52A10FE6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5919-0A52-493C-A681-222F95C2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B1CA3-1196-4A43-8E96-FF659EDA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3F93C-9B97-4362-857F-DA363F74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15098-A53B-4A09-9E19-22E04281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50659-9012-4DA9-AAB2-EB9434AD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DDA3B-29BB-4F72-B676-8A70D59A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0823A-92FA-47F8-8FC6-F38F584C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FE9C7-FF6A-4361-9828-EBAD672D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285F5-A8C3-466C-ACF3-2816D3FF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E18C0-A294-4E49-9A12-394E2196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6BAA1-622D-4552-9D65-83CB483F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C921-1E0A-4C7D-85EF-AB1D3A75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8437D-771A-40B4-9F29-CDC734FE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DDD73-E0C5-465D-A83E-EC9E171F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F1DDA-9AA9-4497-AFFD-9FDAD459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2150A-8308-4AE2-A44F-BC36525E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1DC8B-8EB2-4F78-813B-E526B38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7BD53-E6D2-4257-B088-2D785DD8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F46B5-493E-45EA-A260-211AB555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A63DC-ECCD-468F-B7E2-AF19831D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A6792-5E0E-4719-A02D-D4B1CB6F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47532-95F6-4237-91DC-5E6C7BE9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2BCC-F0D8-4CA1-8A60-3D8AB9E4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841C5E-C322-4FBD-8659-1B6C13EE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8013D-7F0F-42AC-946E-8D5FCDA3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BBDF12-5C77-4BF8-9CB9-F6A3D3FE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DA722-EF6B-4278-9C00-D8E18EAA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A5C88-C1A9-4C33-95BD-24EDD248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79EE88-F66A-42CF-8981-3B8E8FD8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DD26D-D043-461D-8009-67B14A2E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304E3-1D92-4357-BD08-74E04BC2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C4BA9-9009-4E0A-B35F-BDE57662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BDADD-747E-45E4-9A42-43D2596B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1F28-F3FA-4E9D-ADB5-231F191B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1B8DD-44AF-4D59-AED1-FC5F6FC4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DECC2-FBF1-4CD7-BADF-01CADF4F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E142F-09CE-4C0D-B5D5-A020774F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433A2-091D-42B6-87A7-63773654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D3F5D-2E49-4479-A648-485BBFBE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36178-24E4-4584-94C9-6B49D9D0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E7F89B-77CB-4D8E-89E2-A5A13D31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430FB-6097-4720-8A3F-CEE8BC62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6F4A9A-7171-494D-9C3F-DEB77B35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6B8DC-77FC-4509-BCC6-CE890A9B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AEE1-F23A-4A3F-8839-2702C91A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B45390-548C-4D9D-BAE1-B7FCBBAB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0B4CA-0571-45E5-977E-17D5287D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33588-CD8C-4B5F-93FF-40308DF4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304241-0F1C-4E9A-B385-06FF524C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D0E6A-2118-40F0-BC2B-096A343D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3D00D1-B4FE-43B8-9F76-D3B21338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EA1BE-9C56-468C-A360-1C21F96A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C33494-C9A8-497A-9F7E-60DF2CDF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C58DE-2226-441D-BFF1-0E593A3C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F4466E-59CF-4926-B9B1-F79BA5C6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908E-4E92-48AD-84FC-ABE39020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B3E2-DAE0-4D70-8A4B-56383BBB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13102-A76D-4DCB-A670-51534739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2D8F6-34B6-46F7-A9A8-0484D283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6330B-16E6-417A-9714-60931266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52A75-4B37-47C3-A5C5-45147EF7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EAD54-D4E6-4161-8D8E-F10002FF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951E5C-D31A-47AA-9A8E-28FD90B0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D5F560-2A3A-452C-8086-F552CEE7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519355-CCB1-41BE-B164-076DF171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3A6135-B9A8-4CA8-9D05-7268500A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B9F4F6-0FC6-4AF5-8600-50873A12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5CD7-1755-4B78-B909-46E0278E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BA631-A97F-45B5-A18E-235DAA31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98477B-ACB4-47AA-B645-6A5299B9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D1A021-30A5-4ADA-B7B0-57B3C56F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58BC00-EC03-4A6C-AFF4-A0928856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19225B-BC0E-4C09-AF15-8C8BEE08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7E32D0-704A-4B36-8DDC-51239CC6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5B3AA0-4318-4B64-B66C-149F8AF3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44B01A-9F0A-499E-A111-125F03F5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75CF15-538D-45A4-A9B0-780BD629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CA6989-B9DE-484D-BD6B-EC6D8FD7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1455-FE1F-4F40-8EDF-C215A89C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93F141-E253-4A16-9361-E4CD3FFA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15E77-2864-4123-8844-AC9EE6AE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3C3EE-F884-4BD9-8343-B696A836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015A5-B3C8-4BCB-BF9F-95E8F8DD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253BD3-D188-464A-ACE1-F654C658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A141F0-8549-43C7-85CB-FFFD317B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AE2326-0B8A-405E-A70D-AD8DE3E4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B8FFEA-661C-49A6-B2F4-0A548DBB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D3D323-B5EA-4F27-9411-1AAC4A83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4BCF-F4BC-4B84-A271-D4FE2760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C8AD-E148-481F-B531-7376ADB9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ECDC-A8E3-478D-BA89-20A1A9F6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5AC6-A117-4B7B-B980-C2A12D7F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36E1-C7E9-48E4-8D06-E4ECAB84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ADDB-73B2-4B9C-9ABD-9D02D8DB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8B45-1129-45C9-A23C-3D3B08B4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3992-E140-45D4-81A7-0AA7F27D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E9AF-D677-4C81-86B7-1B9D38E2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C84A-7F2B-4AA8-A1E9-2B627170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328BE-DE62-4A99-9DEB-68B4284C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406B8-18F8-4C78-ACE7-BBF4104F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DF18-29C7-44AA-B237-E1500E18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941B3-E639-4178-B89D-83A79B83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6DAE-3D93-4403-A85F-6CC04809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14A30-9D10-4643-9BA0-5DE78C39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C9D4-74EF-43A4-BBBE-B4EFEBF9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C89D4-181B-4E81-A5B0-2B9BD7B6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75A8-194A-49BF-A1C6-DD263678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6564-22EC-4194-92FB-DD36D93B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B8E2B-E873-4433-B4FC-6D755CD3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E80E-8A3B-46B1-A4F5-7B297A6B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F3F2E-7FE4-4D3C-AFDE-01861639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7B414-E5C1-461D-9E01-03C4EDAD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EF29-E691-4A16-B8A3-8A87A289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E66AA-FE46-4AAB-8366-D02E394A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F652-5B57-4B1C-923A-AEDC7EFE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CC736-605A-4A32-8D6F-CCE10F90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F16D8-929F-4FE0-A0BC-567462AD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0F41-067E-48EA-B268-DF78FAAD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F496C-8F2B-4ABA-8C1A-8085E26E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4C858-B7BA-47A5-82E5-DFAB241F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FD655-F851-402D-9F23-B923849A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A655F-8A0A-4E8F-A4C1-C2DA979A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73EA7-367E-42FC-8AF0-F2040055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E03E4-6281-4C58-8F87-42E520F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FEA9B-16A1-442E-A73A-4243DC38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F7E37-280A-4A26-9948-F1D9D02C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DF91D-2753-4D9A-8A79-DACFA753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71559-EF86-4AFE-B14C-E53FD3C1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6732-1A51-4C31-82DD-5888F847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EE40C-25E6-4C7F-B2E4-36F0923F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808FD-8E58-465D-8DA3-6C3EC955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E3476-82D2-4AA2-88B7-CB168846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CA766-D505-4EB4-ACFB-C333233B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6BE5F-626E-48D8-B767-C70034A1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1ECF6-4F72-4892-B61E-D053B5F2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C6D32-4A3E-4EF6-9544-1BDD2F2B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85B86-D3E4-41E3-9BA1-2C4A5989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A8700-54D1-4DA0-AC43-8E945670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68620-35D2-4BE2-8B5D-48A183EE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5E27-2B5E-4390-84D2-FDA32E8C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3A905-D3D3-4811-8DD5-DFAE84DB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56C0F-4011-4717-8B15-1DEA5637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12E9A-D070-4313-8E56-6FBB7ADD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F9274-886E-4D14-A11A-208E540B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2B41E-F474-4316-8FBD-F6DE3BC8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31748-72DA-48E3-A9CA-FDEF2EDE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91745-7708-4295-AB1E-D96F01AF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AA3DD-BEF4-47C8-96CF-4C773E44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189AC-826D-4076-94C3-22E6B40F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BDC35-DA4D-496D-8172-E71E3D64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319C-ACD9-4B1C-A80D-D7264CCB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2A243-1971-4294-B99A-7607A46B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370B2-6A3E-4286-956F-12052CE8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2D025-82EF-42FB-8E1F-2BDE06B9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2909E-7B65-4A56-B6F9-329FD467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7FC0A-784A-46C3-9736-413FE6C9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3DDC8-AC11-45EA-A22C-2D832C5B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9F7F3-8C48-40BF-91D8-F2FD02BE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775C0-0B57-40F6-885D-E72FA06C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6266E-0062-46FF-8F65-68891995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1B6B0-96D9-402F-9F40-70305857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FF13-3E34-4268-AA49-2E1A7037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524E9-F66F-4E00-A048-4BF56ADF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CC66A-FF4D-4AEB-B459-B04BD2B9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11EAB-8465-4C3F-B276-37135A44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1C02B-2F83-4F46-820A-2023557C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02A81-1132-4E7E-8597-D630DF74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EA5E2-11AA-469C-96B5-6239D46B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D6C3D-4576-4F47-9608-FA7CF24E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6CAFB-9F71-4775-8FE9-27C73621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E66FB-9705-401A-B4C4-C5D829DE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4EAFE-DA6F-40AB-9EF2-F9855C2B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7D25-412D-4C26-B83A-70F8790E4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A82D-2B33-440B-9C00-4620D304E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93EA-FE52-4766-842F-7F5859F74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0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4C7D-5D35-4BC0-88A0-ED4F85B522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5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DEB3-FDCD-440A-8146-50BA78EFEA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9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9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1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3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4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9579-E41B-4146-BBC2-66A31F866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0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0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1F9A-D684-458E-AD16-D15798CD2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C249-F1CE-445E-9C34-BDC252A4D6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1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4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4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4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4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4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2525-FC9D-4C21-8E4E-BFF4F8A7C1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0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0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1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5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3246-EBC5-4D19-A3FA-F6D478AC5E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1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84A0-D997-4112-A8F6-06D413C9A76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CF28-358D-4B33-8CC3-6B63D8C3E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1586-FC36-4180-A63B-87D79BBD60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5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A43D-CB30-4334-9E52-24B3D1459838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85E3-BFDF-4316-AE7B-42322C322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EB2C-EC7F-4297-A458-A556264AD1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5A59-AA42-497A-9199-5B21F8C9E2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8691-F483-4F79-BFFC-4643563376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DA22-F10E-4760-947A-99B4F2FB0D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3048120" y="1905120"/>
            <a:ext cx="582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учно-практиче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онфер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«Организм челове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2200" y="635040"/>
            <a:ext cx="9048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оги ставить на пол подош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 упираться грудью в край ст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чувствовав усталость, отдохн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ет должен падать с левой стор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ржать тяжесть в двух руках или нос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286080" cy="32860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101" name="" descr=""/>
          <p:cNvPicPr/>
          <p:nvPr/>
        </p:nvPicPr>
        <p:blipFill>
          <a:blip r:embed="rId2"/>
          <a:stretch/>
        </p:blipFill>
        <p:spPr>
          <a:xfrm>
            <a:off x="5334120" y="3733920"/>
            <a:ext cx="2943000" cy="29350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102" name="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598920" cy="29829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103" name="" descr=""/>
          <p:cNvPicPr/>
          <p:nvPr/>
        </p:nvPicPr>
        <p:blipFill>
          <a:blip r:embed="rId4"/>
          <a:stretch/>
        </p:blipFill>
        <p:spPr>
          <a:xfrm>
            <a:off x="5105520" y="609480"/>
            <a:ext cx="3670200" cy="27529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457200" y="1219320"/>
            <a:ext cx="82407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 Значение кровообращения для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 Влияние физкультуры и спорта на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Советы спортсм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 Как и зачем определять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 Это интер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6 Наш дев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Picture 4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548240" cy="64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0" y="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0"/>
            <a:ext cx="17524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676520" y="0"/>
            <a:ext cx="7467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238880" y="533520"/>
            <a:ext cx="1905120" cy="6324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752480" y="6477120"/>
            <a:ext cx="55627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752480" y="457200"/>
            <a:ext cx="5867640" cy="617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5" descr="heart2"/>
          <p:cNvPicPr/>
          <p:nvPr/>
        </p:nvPicPr>
        <p:blipFill>
          <a:blip r:embed="rId1"/>
          <a:stretch/>
        </p:blipFill>
        <p:spPr>
          <a:xfrm>
            <a:off x="1763640" y="404640"/>
            <a:ext cx="550872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3286080" cy="24638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2543400" cy="38098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117" name="" descr=""/>
          <p:cNvPicPr/>
          <p:nvPr/>
        </p:nvPicPr>
        <p:blipFill>
          <a:blip r:embed="rId3"/>
          <a:stretch/>
        </p:blipFill>
        <p:spPr>
          <a:xfrm>
            <a:off x="5029200" y="533520"/>
            <a:ext cx="3809880" cy="5715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149120" y="990720"/>
            <a:ext cx="7448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Процесс пищева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Значение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Советы диетолога по организации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Меню для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Это интер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Наш дев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3809880" y="1143000"/>
            <a:ext cx="45626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Процесс пищева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Значение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Советы диетолога по организации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Меню для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Это интер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Наш дев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Picture 4" descr="kish"/>
          <p:cNvPicPr/>
          <p:nvPr/>
        </p:nvPicPr>
        <p:blipFill>
          <a:blip r:embed="rId1"/>
          <a:stretch/>
        </p:blipFill>
        <p:spPr>
          <a:xfrm>
            <a:off x="2057400" y="152280"/>
            <a:ext cx="5167440" cy="6500880"/>
          </a:xfrm>
          <a:prstGeom prst="rect">
            <a:avLst/>
          </a:prstGeom>
          <a:ln w="0">
            <a:noFill/>
          </a:ln>
        </p:spPr>
      </p:pic>
      <p:sp>
        <p:nvSpPr>
          <p:cNvPr id="1122" name=""/>
          <p:cNvSpPr/>
          <p:nvPr/>
        </p:nvSpPr>
        <p:spPr>
          <a:xfrm>
            <a:off x="2439720" y="6094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3048120" y="83808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220400" y="16002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59092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631560" y="380988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25780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64640" y="50292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ишеч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362320" y="53341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76560" cy="298296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164120" cy="249876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3"/>
          <a:stretch/>
        </p:blipFill>
        <p:spPr>
          <a:xfrm>
            <a:off x="4800600" y="3276720"/>
            <a:ext cx="4013280" cy="267480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393696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2363400" y="45720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Меню для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218960" y="1676520"/>
            <a:ext cx="694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авить меню на обед, выбрав наи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езные прод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Чип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Овощной са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Картофельный с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Яблочный 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Пепси – 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Хот д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Паровые котл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Конф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990720" y="106668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«Человек всегда был и будет самым любопытным явлением для самого человека. Его организм – это целостная, очень сложная систем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Это одновременно и храм, и склад, и аптека, и библиотека, и установка для очистки сточных вод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Г.Белин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2000"/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2000"/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2363400" y="68580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Меню для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219320" y="1828800"/>
            <a:ext cx="4572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Овощной сал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Картофельный с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Паровые котл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Яблочный 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228600" y="23623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В здоровом те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здоровый ду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457200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228600" y="23623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В здоровом те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здоровый ду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457200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202400" y="789120"/>
            <a:ext cx="6787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ченые – исследов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р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ортсм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ето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915120" y="990720"/>
            <a:ext cx="77518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Пл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 Строение ске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 Значение скелета для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3 Профессия травмато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4 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5 Это интерес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6 Наш дев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5105520" cy="640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75" name=""/>
          <p:cNvSpPr/>
          <p:nvPr/>
        </p:nvSpPr>
        <p:spPr>
          <a:xfrm>
            <a:off x="5564880" y="2286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ере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876920" y="457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641560" y="228600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звон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7242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870160" y="14479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ру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029200" y="1676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69080" y="28195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10552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593080" y="259092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320004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564160" y="49528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0292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3060720" y="120600"/>
            <a:ext cx="3022560" cy="661680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5947560" y="304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вильная ос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3263760" y="120600"/>
            <a:ext cx="2616480" cy="661680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5702760" y="22860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анка с наруш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772320" cy="543384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1219320" y="685800"/>
            <a:ext cx="67816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енис</cp:lastModifiedBy>
  <dcterms:modified xsi:type="dcterms:W3CDTF">2009-01-27T11:41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