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08A-24DC-47FF-B376-1D95CB9E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2770-6EC7-471F-BD1B-5AD5AA98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8B55-A01F-44D3-9439-8D7D1383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6A36-C518-4AF9-9CF6-1C50AF66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431-378B-4DEF-B229-4B828B8B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2C2D-7DB0-4550-9460-1DE7E4A3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8E8-6B6C-4B5C-A0EA-CCFEB7A0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9202-7762-46BD-8DED-43F9D710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281-713C-424B-8BA4-18EC4015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2D24-B09B-41E0-9E63-3A96B959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3C5-31EC-4ADA-9953-B00CE58C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2E0B-225F-4086-AAB7-F43F7901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53B6-23F7-41F0-B0E2-E774B37AE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«Ширингуш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рое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окружающему мир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Школа кулинаро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ца 3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дрюшина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5 год              Т.В. Галы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0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55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РЕЦЕПТ ДОМАШНЕГО ПЕЧЕНЬЯ ИЗ ПЕСОЧНОГО ТЕС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онадобитс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яйца - 3 штук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ргарин - 150 грамм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харный песок - 1 стака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ка - 3+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анилин - 1/2 чайная ложк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а - 1/2 чайная ложк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харная пудра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Как готовить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ргарин порубить с двумя стаканами муки. Яйца взбить с сахарным песк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битую смесь соединить с порубленным маргарином и постепенно подсыпая муку замесить крутое тесто. Крутое тесто раскотать толщиной не меньше одного сантиметра, и положить на протвинь вырезанной печенье. Противень придворительно смазать маслом. Выпекается 10 мину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Приготовлен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печень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6:44:57Z</dcterms:created>
  <dc:creator>Татьяна</dc:creator>
  <dc:description/>
  <dc:language>en-US</dc:language>
  <cp:lastModifiedBy>Татьяна</cp:lastModifiedBy>
  <dcterms:modified xsi:type="dcterms:W3CDTF">2015-01-27T17:15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