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A07-86A8-419F-8303-995E1B89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AA5-1872-42FA-A1DD-6BCE8D53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1DE-F5F9-45B8-BFFC-DDA289B9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939-A9A1-42CE-A039-B2097321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D55-EF2D-4B55-9A40-9F6AEC49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53A-1326-4F87-90AF-6C89C57A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9AD-B03C-442F-BC56-F536199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9A9-AD93-46A2-B1F0-BCF3CD0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E50-A1CA-4B15-BF36-7368FDB8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A10-5A01-4E63-88C3-69BD2AB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686-8385-4B36-AB5D-B31C054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97A-07DF-4F9A-8FF8-F26DA280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375-DEA6-4C6D-AC93-F78F0B9B3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Ширингуш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Школа кулин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3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юшин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5 год              Т.В. Галы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ЦЕПТ ДОМАШНЕГО ПЕЧЕНЬЯ ИЗ ПЕСОЧНОГО ТЕС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надобитс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йца - 3 штук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гарин - 150 грам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ный песок - 1 стака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ка - 3+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нилин - 1/2 чайная ложк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а - 1/2 чайная ложк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ная пудра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готовить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гарин порубить с двумя стаканами муки. Яйца взбить с сахарным песк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битую смесь соединить с порубленным маргарином и постепенно подсыпая муку замесить крутое тесто. Крутое тесто раскотать толщиной не меньше одного сантиметра, и положить на протвинь вырезанной печенье. Противень придворительно смазать маслом. Выпекается 10 ми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риготов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ечень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6:44:57Z</dcterms:created>
  <dc:creator>Татьяна</dc:creator>
  <dc:description/>
  <dc:language>en-US</dc:language>
  <cp:lastModifiedBy>Татьяна</cp:lastModifiedBy>
  <dcterms:modified xsi:type="dcterms:W3CDTF">2015-01-27T17:15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