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0613-14A0-4CCF-9BD7-ED2163C10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0A44-9991-4142-9900-CE9C69BF4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0D0F-EAFB-460B-880F-76D08146A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63D8-304D-4876-BB38-6251F9D3B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55B48-D55C-43BC-ADBA-FB8D5EF76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EE048-32AC-473B-A1DB-268AE2E34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D6EA7-4971-4E66-9760-80A0DC81C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0EB35-B372-4566-BB64-25026B939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B2C0F-F404-46C8-BCD1-F2787927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D503D-D927-4A71-9355-A8481D477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74B5D-2BE9-4997-A14C-5A6AECEE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F92D-AE19-445D-BBB3-8F4EEC8AE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F76FB-222F-46FA-B9F2-29DFE444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1231B-DE6A-4ED6-ACDE-265B8015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D5E3C-01B7-4F79-AFC2-611EEED83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10814-B706-4BA6-B3EE-8B11D70D1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D1D28-13A9-4B36-ACD5-711A2CB19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57170-B12A-4C75-8420-D0708361C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E1A5B-5034-41A4-9A33-4B37D89BF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B1AB8-4E88-410D-A19D-58F899D6F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18F52-EF62-4E9B-B747-6466F2CFE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2B018-DD46-4A12-BBB1-75488D06D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D800-C1FF-47BE-9914-4B5E059C3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7B8C3-A976-4C25-8C45-3044CC3AC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5C3EB-2938-47B6-B7EE-68B9500F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FAFFE-5A84-4D11-B62A-646C845F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FB59B-3F21-4C08-B8B4-F9A4ED06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0CBF7-BA41-48D7-8DC0-2DEB9DA98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662D8-31B8-4ACD-903F-28294CFFB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14666-8688-4E8C-A5F6-0DD03F153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B98ED-63CE-40D2-AEE4-62256301A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50F48-A0B6-49F5-BEDF-B4F2CB965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F0EA1-7342-41A5-9880-FBB0DAED6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18F2-C69C-4656-9ABA-0D8CC3260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88C66-0158-4DAE-8C8A-90BC84050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ED283-E13F-41C4-873C-D77FA7009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771BE-2D3B-4779-A5FA-DEB3826C9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C5EA4-3978-46F8-A4A5-EC57E9EA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CA104-3DD1-49FE-805B-4A026DCC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25E69-F44C-4B40-9752-C4B2AAF9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59636-4406-4457-9B4F-7E31817E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4374E-0D62-4BA8-A899-730BE3E37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5CA64-8F97-4F3A-AB5D-A6DC12FE4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0E40-B7A6-4521-A6F0-3F7BDB41C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5EBD-D1C0-4771-9677-2FAB9195C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09CA-99E8-4F5E-BF63-4A734727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B1AE-C875-4080-BB16-856B8CCD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B594-C96B-48AA-89A8-AA3562EC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1871B-4F4D-40C2-9F70-25703409ACA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CEDD6-081A-4479-B0FE-8D8A2D845BA2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3BBC5-7DB4-4925-8E5E-41A5C29B3411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E3060-5B15-4978-84D2-61A194AC9F6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4" descr=""/>
          <p:cNvPicPr/>
          <p:nvPr/>
        </p:nvPicPr>
        <p:blipFill>
          <a:blip r:embed="rId1"/>
          <a:stretch/>
        </p:blipFill>
        <p:spPr>
          <a:xfrm>
            <a:off x="603360" y="349884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85440" y="510552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оект обучающихся  </a:t>
            </a: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1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«Б» класса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лассный руководитель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Терёшина В.В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2"/>
          <a:stretch/>
        </p:blipFill>
        <p:spPr>
          <a:xfrm>
            <a:off x="990720" y="-76320"/>
            <a:ext cx="6972120" cy="46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6840" y="2743200"/>
            <a:ext cx="3429000" cy="23623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3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кормите птиц зимой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усть со всех концо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 вам слетятся, как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омой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тайки на крыльцо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Содержимое 4" descr="1.JPG"/>
          <p:cNvPicPr/>
          <p:nvPr/>
        </p:nvPicPr>
        <p:blipFill>
          <a:blip r:embed="rId1"/>
          <a:stretch/>
        </p:blipFill>
        <p:spPr>
          <a:xfrm>
            <a:off x="4419720" y="990720"/>
            <a:ext cx="3795480" cy="534348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380880" y="1143000"/>
            <a:ext cx="327672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Чирухина Марианна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1371600"/>
            <a:ext cx="34290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Гильмутдинов Руслан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2895120"/>
            <a:ext cx="3657600" cy="266724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е богаты их корм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Горсть зерна нужн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Горсть одна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 не страшн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Будет им зим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Содержимое 4" descr="2.JPG"/>
          <p:cNvPicPr/>
          <p:nvPr/>
        </p:nvPicPr>
        <p:blipFill>
          <a:blip r:embed="rId1"/>
          <a:stretch/>
        </p:blipFill>
        <p:spPr>
          <a:xfrm>
            <a:off x="4648320" y="838080"/>
            <a:ext cx="3832200" cy="55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Содержимое 4" descr="3.JPG"/>
          <p:cNvPicPr/>
          <p:nvPr/>
        </p:nvPicPr>
        <p:blipFill>
          <a:blip r:embed="rId1"/>
          <a:stretch/>
        </p:blipFill>
        <p:spPr>
          <a:xfrm>
            <a:off x="4800600" y="1066680"/>
            <a:ext cx="3684600" cy="5203800"/>
          </a:xfrm>
          <a:prstGeom prst="rect">
            <a:avLst/>
          </a:prstGeom>
          <a:ln w="0">
            <a:noFill/>
          </a:ln>
        </p:spPr>
      </p:pic>
      <p:sp>
        <p:nvSpPr>
          <p:cNvPr id="223" name="Текст 2"/>
          <p:cNvSpPr/>
          <p:nvPr/>
        </p:nvSpPr>
        <p:spPr>
          <a:xfrm>
            <a:off x="457200" y="2666880"/>
            <a:ext cx="38862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колько гибнет их – не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чес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идеть тяже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 ведь в нашем сердце е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 для птиц теп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Заголовок 1"/>
          <p:cNvSpPr/>
          <p:nvPr/>
        </p:nvSpPr>
        <p:spPr>
          <a:xfrm>
            <a:off x="609480" y="1219320"/>
            <a:ext cx="327672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Ладанов Михаи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Содержимое 4" descr="4.JPG"/>
          <p:cNvPicPr/>
          <p:nvPr/>
        </p:nvPicPr>
        <p:blipFill>
          <a:blip r:embed="rId1"/>
          <a:stretch/>
        </p:blipFill>
        <p:spPr>
          <a:xfrm>
            <a:off x="4648320" y="1143000"/>
            <a:ext cx="3887640" cy="4962600"/>
          </a:xfrm>
          <a:prstGeom prst="rect">
            <a:avLst/>
          </a:prstGeom>
          <a:ln w="0">
            <a:noFill/>
          </a:ln>
        </p:spPr>
      </p:pic>
      <p:sp>
        <p:nvSpPr>
          <p:cNvPr id="226" name="Текст 2"/>
          <p:cNvSpPr/>
          <p:nvPr/>
        </p:nvSpPr>
        <p:spPr>
          <a:xfrm>
            <a:off x="609480" y="2895480"/>
            <a:ext cx="34290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азве можно забыва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лететь могл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 остались зимо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Заодно с людь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Заголовок 1"/>
          <p:cNvSpPr/>
          <p:nvPr/>
        </p:nvSpPr>
        <p:spPr>
          <a:xfrm>
            <a:off x="685800" y="1523880"/>
            <a:ext cx="327672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Дрожжина Да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Содержимое 4" descr="5.JPG"/>
          <p:cNvPicPr/>
          <p:nvPr/>
        </p:nvPicPr>
        <p:blipFill>
          <a:blip r:embed="rId1"/>
          <a:stretch/>
        </p:blipFill>
        <p:spPr>
          <a:xfrm>
            <a:off x="4800600" y="1066680"/>
            <a:ext cx="3591000" cy="5034240"/>
          </a:xfrm>
          <a:prstGeom prst="rect">
            <a:avLst/>
          </a:prstGeom>
          <a:ln w="0">
            <a:noFill/>
          </a:ln>
        </p:spPr>
      </p:pic>
      <p:sp>
        <p:nvSpPr>
          <p:cNvPr id="229" name="Текст 2"/>
          <p:cNvSpPr/>
          <p:nvPr/>
        </p:nvSpPr>
        <p:spPr>
          <a:xfrm>
            <a:off x="609480" y="2895480"/>
            <a:ext cx="34290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иучите птиц в моро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 своему окн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Чтоб без песен не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ишло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м встречать вес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Заголовок 1"/>
          <p:cNvSpPr/>
          <p:nvPr/>
        </p:nvSpPr>
        <p:spPr>
          <a:xfrm>
            <a:off x="609480" y="1295280"/>
            <a:ext cx="327672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Реутова Валер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Содержимое 4" descr="6.JPG"/>
          <p:cNvPicPr/>
          <p:nvPr/>
        </p:nvPicPr>
        <p:blipFill>
          <a:blip r:embed="rId1"/>
          <a:stretch/>
        </p:blipFill>
        <p:spPr>
          <a:xfrm>
            <a:off x="4952880" y="1066680"/>
            <a:ext cx="3554640" cy="5062680"/>
          </a:xfrm>
          <a:prstGeom prst="rect">
            <a:avLst/>
          </a:prstGeom>
          <a:ln w="0">
            <a:noFill/>
          </a:ln>
        </p:spPr>
      </p:pic>
      <p:sp>
        <p:nvSpPr>
          <p:cNvPr id="232" name="Текст 2"/>
          <p:cNvSpPr/>
          <p:nvPr/>
        </p:nvSpPr>
        <p:spPr>
          <a:xfrm>
            <a:off x="457200" y="2209680"/>
            <a:ext cx="34290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Заголовок 1"/>
          <p:cNvSpPr/>
          <p:nvPr/>
        </p:nvSpPr>
        <p:spPr>
          <a:xfrm>
            <a:off x="762120" y="1219320"/>
            <a:ext cx="327636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Мурашкина Ал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Текст 2"/>
          <p:cNvSpPr/>
          <p:nvPr/>
        </p:nvSpPr>
        <p:spPr>
          <a:xfrm>
            <a:off x="609480" y="2514600"/>
            <a:ext cx="41148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Хорошо известно: кто сыт, тому холод не страшен, поэтому мы должны помогать своим маленьким, слабым пернатым друзьям. Им много не надо. Кто даст зернышек, кто – сальца, кто – ягод, кто – хлебных крошек. А сколько их можно спасти от голодной смерт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4" descr=""/>
          <p:cNvPicPr/>
          <p:nvPr/>
        </p:nvPicPr>
        <p:blipFill>
          <a:blip r:embed="rId1"/>
          <a:stretch/>
        </p:blipFill>
        <p:spPr>
          <a:xfrm>
            <a:off x="450720" y="1517760"/>
            <a:ext cx="832176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04560" y="761760"/>
            <a:ext cx="2514600" cy="401796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96000"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Цель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оспитывать заботливое отношение к птицам, вызвать желание помогать им в трудных зимних условиях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Рисунок 4" descr="19d08158aacc.jpg"/>
          <p:cNvPicPr/>
          <p:nvPr/>
        </p:nvPicPr>
        <p:blipFill>
          <a:blip r:embed="rId1"/>
          <a:srcRect l="5687" t="0" r="5687" b="0"/>
          <a:stretch/>
        </p:blipFill>
        <p:spPr>
          <a:xfrm rot="420000">
            <a:off x="3192480" y="448920"/>
            <a:ext cx="5519880" cy="489600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51920" y="151920"/>
            <a:ext cx="5791320" cy="670572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96000"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Задач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1. Воспитывать любовь к природе 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2. Познакомить с зимующими птицами нашего края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3. Научить детей заботиться о птицах, помогать им в зимнее врем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4. Организовать совместную деятельность родителей  и  детей в реализации проект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5. Развивать у детей любознательность,  творческие способности, познавательную активность, коммуникативные навык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6. Учить пользоваться справочниками, энциклопедиями, самостоятельно добывать знания по данной теме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Рисунок 4" descr="x_dbf21f02.jpg"/>
          <p:cNvPicPr/>
          <p:nvPr/>
        </p:nvPicPr>
        <p:blipFill>
          <a:blip r:embed="rId1"/>
          <a:srcRect l="0" t="7443" r="0" b="7443"/>
          <a:stretch/>
        </p:blipFill>
        <p:spPr>
          <a:xfrm>
            <a:off x="6019920" y="914400"/>
            <a:ext cx="3124080" cy="353520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52280" y="304560"/>
            <a:ext cx="3657600" cy="525780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96000"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этап.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Мотивационны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начале декабря во время экскурсии  «Знакомство с зимней природой»мы с интересом наблюдали, как птицы летают стаями. Это заинтересовало нас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  мы решили узнат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 жизни птиц зимой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3" name="Рисунок 6" descr="954bsk.jpg"/>
          <p:cNvPicPr/>
          <p:nvPr/>
        </p:nvPicPr>
        <p:blipFill>
          <a:blip r:embed="rId1"/>
          <a:srcRect l="10288" t="0" r="10288" b="0"/>
          <a:stretch/>
        </p:blipFill>
        <p:spPr>
          <a:xfrm>
            <a:off x="3886200" y="380880"/>
            <a:ext cx="5105520" cy="510552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228600" y="1218960"/>
            <a:ext cx="4191120" cy="342900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I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этап.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Организационны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лассный час «Жизнь птиц зимой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еление на группы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аспределение заданий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 группам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Рисунок 4" descr="j104589_1232637031th.jpg"/>
          <p:cNvPicPr/>
          <p:nvPr/>
        </p:nvPicPr>
        <p:blipFill>
          <a:blip r:embed="rId1"/>
          <a:srcRect l="0" t="18917" r="0" b="18917"/>
          <a:stretch/>
        </p:blipFill>
        <p:spPr>
          <a:xfrm>
            <a:off x="4782960" y="304920"/>
            <a:ext cx="4026240" cy="5181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47920"/>
            <a:ext cx="40384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II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этап.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Практический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Прямоугольник 3"/>
          <p:cNvSpPr/>
          <p:nvPr/>
        </p:nvSpPr>
        <p:spPr>
          <a:xfrm flipH="1">
            <a:off x="-720" y="2209680"/>
            <a:ext cx="4419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Заготовка корма для пт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зготовление кормуш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дкормка и наблюд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за птиц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зготовление книжки-коллекти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" descr="G:\Кормушки\DSC_0745.JPG"/>
          <p:cNvPicPr/>
          <p:nvPr/>
        </p:nvPicPr>
        <p:blipFill>
          <a:blip r:embed="rId1"/>
          <a:stretch/>
        </p:blipFill>
        <p:spPr>
          <a:xfrm>
            <a:off x="4267080" y="1430280"/>
            <a:ext cx="487692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152280" y="1294920"/>
            <a:ext cx="3657600" cy="403884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97000"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V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этап.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Итоговы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Заметка в газету «Время перемен»- « Птицы  - наши  друзья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рганизация «птичьей столовой» «Зернышко» на территории школы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ыставка рисунко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Рисунок 4" descr="3ac978f1177e.jpg"/>
          <p:cNvPicPr/>
          <p:nvPr/>
        </p:nvPicPr>
        <p:blipFill>
          <a:blip r:embed="rId1"/>
          <a:srcRect l="9682" t="0" r="9682" b="0"/>
          <a:stretch/>
        </p:blipFill>
        <p:spPr>
          <a:xfrm>
            <a:off x="4191120" y="685800"/>
            <a:ext cx="4618080" cy="423720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2" name="Picture 4" descr=""/>
          <p:cNvPicPr/>
          <p:nvPr/>
        </p:nvPicPr>
        <p:blipFill>
          <a:blip r:embed="rId1"/>
          <a:stretch/>
        </p:blipFill>
        <p:spPr>
          <a:xfrm>
            <a:off x="0" y="152280"/>
            <a:ext cx="9201240" cy="611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7" descr=""/>
          <p:cNvPicPr/>
          <p:nvPr/>
        </p:nvPicPr>
        <p:blipFill>
          <a:blip r:embed="rId1"/>
          <a:stretch/>
        </p:blipFill>
        <p:spPr>
          <a:xfrm>
            <a:off x="-152280" y="304920"/>
            <a:ext cx="96202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6T14:16:53Z</dcterms:created>
  <dc:creator>USER</dc:creator>
  <dc:description/>
  <dc:language>en-US</dc:language>
  <cp:lastModifiedBy>МОУСОШ№19</cp:lastModifiedBy>
  <dcterms:modified xsi:type="dcterms:W3CDTF">2015-01-27T11:20:02Z</dcterms:modified>
  <cp:revision>26</cp:revision>
  <dc:subject/>
  <dc:title>Слайд 1</dc:title>
</cp:coreProperties>
</file>