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4A0-C633-49CB-A729-460722FB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09E-A2DE-4A4A-A894-FF1CA8BC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02DA-0333-4C03-B72D-C5281A3F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6598-EBEB-43FF-9693-4A1A82BA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F2B7-25B7-4895-9368-E6B341463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C492-11D4-4E03-9044-E759EC61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0ED5-C3A3-4191-BD2B-635E4DAD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C770-E7F8-4336-A768-7E3F4E27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2167-48EE-4027-A038-DAF64E01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E476-923F-4781-9966-0F2EE2F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868B-8CEB-447A-8D2A-E4C41B63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650-9D12-4055-BE83-907E30A9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D448-85AF-4569-BD60-5B148B16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6090-06FC-47A2-824E-518C08F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A13C-79C5-4508-ABB6-E8FB0C26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CB3E-A346-4327-A930-52B2873E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88D92-90E4-41EA-900F-E227D706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8B4AB-F804-4DFD-8EB5-176742CF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C428A-45A4-4186-AD80-23FA41A9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4DD57-083C-4EAF-9DBB-58F85504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31DE4-E7A3-4F27-8ACB-E7DA1CC7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9B375-5B21-49DD-BF60-8F94F3C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B5F2-4242-4826-ABE3-0B0447C2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304AF-BA47-4A09-A5F0-09797528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2EC4-4E2A-4F9B-9975-A6D8A71B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6D67-9906-42D3-994F-08DBD3B5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CFC8-D354-419E-AC7C-CB02794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A2241-7FEC-45E0-9BD7-56C72063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A7B6-4902-485D-A2F2-DDE00E9F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EA3B-B0C7-497C-B1F6-C1EC011F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E865E-E20B-4ECA-B65F-3A22F578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B2844-DA5C-4F73-AD6E-B0D4652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53E33-7DDD-4BD5-BAC1-5B272973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C48-B54F-4051-AAAC-15E0CA61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C3080-EBE3-43B7-B553-ED73E46D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EC36C-5AEB-4F61-A5E9-58DDD8AF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85FA3-F758-48B9-B343-52CD57E8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6D47-7E73-41F0-BA09-B409AB2A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2C58-81BF-480C-850F-CB21854D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2D129-ED4C-48BF-A222-B047EADC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1AB98-07E3-4EC1-A8D8-8CB32F2E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7CB99-425C-46E9-951C-2574A341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5399-4AA1-4EFB-959D-8CC0DA59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6F6-AF34-46CD-81D7-7CCD0EEF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26A0-00EC-4D1D-91B9-44B5CF1A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2AE-CD84-4D17-AC84-E524013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525-8765-49ED-9EB9-3143C37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E86-BB72-476A-A3D8-7955E54D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5A03-D3C4-4C32-B40E-38B095717D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C019-6924-4A63-A027-C82F2E4C9B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3939-A105-4CB5-94D0-9510CBCE39F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DA8A-AA4E-4FA3-B497-BD93F029EE3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4" descr=""/>
          <p:cNvPicPr/>
          <p:nvPr/>
        </p:nvPicPr>
        <p:blipFill>
          <a:blip r:embed="rId1"/>
          <a:stretch/>
        </p:blipFill>
        <p:spPr>
          <a:xfrm>
            <a:off x="603360" y="349884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85440" y="5105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ект обучающихся 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1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«Б» класса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лассный руководитель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рёшина В.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990720" y="-76320"/>
            <a:ext cx="697212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2743200"/>
            <a:ext cx="3429000" cy="236232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кормите птиц зи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усть со всех конц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вам слетятся, как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омой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тайки на крыльц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Содержимое 4" descr="1.JPG"/>
          <p:cNvPicPr/>
          <p:nvPr/>
        </p:nvPicPr>
        <p:blipFill>
          <a:blip r:embed="rId1"/>
          <a:stretch/>
        </p:blipFill>
        <p:spPr>
          <a:xfrm>
            <a:off x="4419720" y="990720"/>
            <a:ext cx="3795480" cy="534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80880" y="1143000"/>
            <a:ext cx="327672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Чирухина Мариан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34290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Гильмутдинов Руслан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28951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е богаты их кор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сть зерна нужна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Горсть одна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не страш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удет им зи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4" descr="2.JPG"/>
          <p:cNvPicPr/>
          <p:nvPr/>
        </p:nvPicPr>
        <p:blipFill>
          <a:blip r:embed="rId1"/>
          <a:stretch/>
        </p:blipFill>
        <p:spPr>
          <a:xfrm>
            <a:off x="4648320" y="838080"/>
            <a:ext cx="383220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Содержимое 4" descr="3.JPG"/>
          <p:cNvPicPr/>
          <p:nvPr/>
        </p:nvPicPr>
        <p:blipFill>
          <a:blip r:embed="rId1"/>
          <a:stretch/>
        </p:blipFill>
        <p:spPr>
          <a:xfrm>
            <a:off x="4800600" y="1066680"/>
            <a:ext cx="3684600" cy="5203800"/>
          </a:xfrm>
          <a:prstGeom prst="rect">
            <a:avLst/>
          </a:prstGeom>
          <a:ln w="0">
            <a:noFill/>
          </a:ln>
        </p:spPr>
      </p:pic>
      <p:sp>
        <p:nvSpPr>
          <p:cNvPr id="223" name="Текст 2"/>
          <p:cNvSpPr/>
          <p:nvPr/>
        </p:nvSpPr>
        <p:spPr>
          <a:xfrm>
            <a:off x="457200" y="2666880"/>
            <a:ext cx="3886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колько гибнет их – н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идеть тяж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ведь в нашем сердце е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для птиц теп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609480" y="1219320"/>
            <a:ext cx="32767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Ладанов Михаи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Содержимое 4" descr="4.JPG"/>
          <p:cNvPicPr/>
          <p:nvPr/>
        </p:nvPicPr>
        <p:blipFill>
          <a:blip r:embed="rId1"/>
          <a:stretch/>
        </p:blipFill>
        <p:spPr>
          <a:xfrm>
            <a:off x="4648320" y="1143000"/>
            <a:ext cx="3887640" cy="4962600"/>
          </a:xfrm>
          <a:prstGeom prst="rect">
            <a:avLst/>
          </a:prstGeom>
          <a:ln w="0">
            <a:noFill/>
          </a:ln>
        </p:spPr>
      </p:pic>
      <p:sp>
        <p:nvSpPr>
          <p:cNvPr id="226" name="Текст 2"/>
          <p:cNvSpPr/>
          <p:nvPr/>
        </p:nvSpPr>
        <p:spPr>
          <a:xfrm>
            <a:off x="609480" y="28954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зве можно забы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Улететь мог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 остались зим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одно с люд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685800" y="1523880"/>
            <a:ext cx="32767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Дрожжина Да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Содержимое 4" descr="5.JPG"/>
          <p:cNvPicPr/>
          <p:nvPr/>
        </p:nvPicPr>
        <p:blipFill>
          <a:blip r:embed="rId1"/>
          <a:stretch/>
        </p:blipFill>
        <p:spPr>
          <a:xfrm>
            <a:off x="4800600" y="1066680"/>
            <a:ext cx="3591000" cy="5034240"/>
          </a:xfrm>
          <a:prstGeom prst="rect">
            <a:avLst/>
          </a:prstGeom>
          <a:ln w="0">
            <a:noFill/>
          </a:ln>
        </p:spPr>
      </p:pic>
      <p:sp>
        <p:nvSpPr>
          <p:cNvPr id="229" name="Текст 2"/>
          <p:cNvSpPr/>
          <p:nvPr/>
        </p:nvSpPr>
        <p:spPr>
          <a:xfrm>
            <a:off x="609480" y="28954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учите птиц в мор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 своему окн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Чтоб без песен не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ш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м встречать вес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609480" y="1295280"/>
            <a:ext cx="327672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Реутова Вале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4" descr="6.JPG"/>
          <p:cNvPicPr/>
          <p:nvPr/>
        </p:nvPicPr>
        <p:blipFill>
          <a:blip r:embed="rId1"/>
          <a:stretch/>
        </p:blipFill>
        <p:spPr>
          <a:xfrm>
            <a:off x="4952880" y="1066680"/>
            <a:ext cx="3554640" cy="5062680"/>
          </a:xfrm>
          <a:prstGeom prst="rect">
            <a:avLst/>
          </a:prstGeom>
          <a:ln w="0">
            <a:noFill/>
          </a:ln>
        </p:spPr>
      </p:pic>
      <p:sp>
        <p:nvSpPr>
          <p:cNvPr id="232" name="Текст 2"/>
          <p:cNvSpPr/>
          <p:nvPr/>
        </p:nvSpPr>
        <p:spPr>
          <a:xfrm>
            <a:off x="457200" y="2209680"/>
            <a:ext cx="3429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762120" y="1219320"/>
            <a:ext cx="32763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Мурашкина А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Текст 2"/>
          <p:cNvSpPr/>
          <p:nvPr/>
        </p:nvSpPr>
        <p:spPr>
          <a:xfrm>
            <a:off x="609480" y="2514600"/>
            <a:ext cx="4114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Хорошо известно: кто сыт, тому холод не страшен, поэтому мы должны помогать своим маленьким, слабым пернатым друзьям. Им много не надо. Кто даст зернышек, кто – сальца, кто – ягод, кто – хлебных крошек. А сколько их можно спасти от голодной смер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4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32176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2514600" cy="40179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Цель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оспитывать заботливое отношение к птицам, вызвать желание помогать им в трудных зимних условия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Рисунок 4" descr="19d08158aacc.jpg"/>
          <p:cNvPicPr/>
          <p:nvPr/>
        </p:nvPicPr>
        <p:blipFill>
          <a:blip r:embed="rId1"/>
          <a:srcRect l="5687" t="0" r="5687" b="0"/>
          <a:stretch/>
        </p:blipFill>
        <p:spPr>
          <a:xfrm rot="420000">
            <a:off x="3192480" y="448920"/>
            <a:ext cx="5519880" cy="48960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51920" y="151920"/>
            <a:ext cx="5791320" cy="670572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1. Воспитывать любовь к природе 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2. Познакомить с зимующими птицами нашего кра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Научить детей заботиться о птицах, помогать им в зимнее врем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4. Организовать совместную деятельность родителей  и  детей в реализации проек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5. Развивать у детей любознательность,  творческие способности, познавательную активность, коммуникативные навык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6. Учить пользоваться справочниками, энциклопедиями, самостоятельно добывать знания по данной теме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x_dbf21f02.jpg"/>
          <p:cNvPicPr/>
          <p:nvPr/>
        </p:nvPicPr>
        <p:blipFill>
          <a:blip r:embed="rId1"/>
          <a:srcRect l="0" t="7443" r="0" b="7443"/>
          <a:stretch/>
        </p:blipFill>
        <p:spPr>
          <a:xfrm>
            <a:off x="6019920" y="914400"/>
            <a:ext cx="3124080" cy="35352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6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этап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тивацио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 начале декабря во время экскурсии  «Знакомство с зимней природой»мы с интересом наблюдали, как птицы летают стаями. Это заинтересовало на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  мы решили узн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 жизни птиц зимо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Рисунок 6" descr="954bsk.jpg"/>
          <p:cNvPicPr/>
          <p:nvPr/>
        </p:nvPicPr>
        <p:blipFill>
          <a:blip r:embed="rId1"/>
          <a:srcRect l="10288" t="0" r="10288" b="0"/>
          <a:stretch/>
        </p:blipFill>
        <p:spPr>
          <a:xfrm>
            <a:off x="3886200" y="380880"/>
            <a:ext cx="5105520" cy="51055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4191120" cy="34290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ап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рганизационн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лассный час «Жизнь птиц зимой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еление на групп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аспределение задани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групп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Рисунок 4" descr="j104589_1232637031th.jpg"/>
          <p:cNvPicPr/>
          <p:nvPr/>
        </p:nvPicPr>
        <p:blipFill>
          <a:blip r:embed="rId1"/>
          <a:srcRect l="0" t="18917" r="0" b="18917"/>
          <a:stretch/>
        </p:blipFill>
        <p:spPr>
          <a:xfrm>
            <a:off x="4782960" y="304920"/>
            <a:ext cx="4026240" cy="5181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479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II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этап.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актическ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Прямоугольник 3"/>
          <p:cNvSpPr/>
          <p:nvPr/>
        </p:nvSpPr>
        <p:spPr>
          <a:xfrm flipH="1">
            <a:off x="-720" y="220968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готовка корма для п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готовление корм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дкормка и наблю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 пт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готовление книжки-коллект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2" descr="G:\Кормушки\DSC_0745.JPG"/>
          <p:cNvPicPr/>
          <p:nvPr/>
        </p:nvPicPr>
        <p:blipFill>
          <a:blip r:embed="rId1"/>
          <a:stretch/>
        </p:blipFill>
        <p:spPr>
          <a:xfrm>
            <a:off x="4267080" y="1430280"/>
            <a:ext cx="487692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3657600" cy="40388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V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ап.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Итогов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Заметка в газету «Время перемен»- « Птицы  - наши  друзья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рганизация «птичьей столовой» «Зернышко» на территории школ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ставка рисун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Рисунок 4" descr="3ac978f1177e.jpg"/>
          <p:cNvPicPr/>
          <p:nvPr/>
        </p:nvPicPr>
        <p:blipFill>
          <a:blip r:embed="rId1"/>
          <a:srcRect l="9682" t="0" r="9682" b="0"/>
          <a:stretch/>
        </p:blipFill>
        <p:spPr>
          <a:xfrm>
            <a:off x="4191120" y="685800"/>
            <a:ext cx="4618080" cy="423720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0" y="152280"/>
            <a:ext cx="920124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-152280" y="304920"/>
            <a:ext cx="9620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14:16:53Z</dcterms:created>
  <dc:creator>USER</dc:creator>
  <dc:description/>
  <dc:language>en-US</dc:language>
  <cp:lastModifiedBy>МОУСОШ№19</cp:lastModifiedBy>
  <dcterms:modified xsi:type="dcterms:W3CDTF">2015-01-27T11:20:02Z</dcterms:modified>
  <cp:revision>26</cp:revision>
  <dc:subject/>
  <dc:title>Слайд 1</dc:title>
</cp:coreProperties>
</file>