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A7A-4528-4734-9E30-881BBF04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E0B-E325-4723-9051-BA857B4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9BBC2-39DF-42EC-8FA7-61A13771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FA9B-52DA-4A0C-B5E1-9EA88F2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8F30B-2E19-4446-B64D-7C14262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2E1A-75C4-4AFA-AAC8-561593D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67E2-84BC-435C-B066-2B96819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1E0E7-BE35-482E-8474-4D333C0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E9FDB-B963-447C-9C2A-B6AA5198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8E61C-C6A6-4FC8-B87F-DBFAF931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15AFD-81A9-405F-8B52-49BE87E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9A7F-E56B-48A9-8CAB-B3342A2A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240-C743-4F81-B937-8A1EBD5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1C4F-0B1D-45F0-8E23-9CC797F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F9976-52F5-4CA2-B8A0-C328560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7AAD9-0481-4E21-90B2-D43EA66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3FCFA-CAC0-46B7-B85D-038442A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DA57C-AFC5-4F2E-BF3F-6B566F05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3E423-596E-424B-8BD3-B1F75BC8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5725-07DC-4454-8BF8-E9B23F5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9F560-EF24-4A51-98AE-F9DA079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BECC1-EE72-4435-B026-A832505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BDA8F-2041-4F42-8B4B-4AFDB4BF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4F6-B007-46E3-B638-F5198F6A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71E92-7117-4B14-94DB-A2DBD84D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A6402-2086-43C5-9FAD-323625EF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EC6A-9142-438C-9D16-EC1A1CB3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6EF45-3B7A-415C-B860-0471095A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9E55C-848B-4EEB-AF7A-944EC62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461EB-B26C-42C1-9E18-ECEC4050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E4F1-3757-44EE-BCFD-A1CAD4D7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68906-FD9E-4445-8CA6-AA9D376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EDBEC-3130-4133-99C7-22D7D2F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564D-95F5-4B98-831F-DF9661C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7677-0C8D-4DF9-9296-7FCEF9AB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7DEF2-90E2-47FA-9E63-33198DBB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7405A-D352-4004-96DA-93F26253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9602-F82D-4DB3-B5BE-1F395BD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12D2A-6D34-4EC7-A8F6-1FE7B96D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C0166-4605-4A44-A6F6-0C9D800C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F478-2E99-41AF-B1C2-1E292C2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50C93-1CEE-4EDE-A603-60706189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D131-B48A-4EB1-9B0A-0C56E2A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4302B-C11C-433A-B3D2-013D798A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945F5-B8A7-4487-ACDE-CAE47F3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2E77-6375-41F1-AD76-542FEBF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F12A6-4C2C-4EF4-B782-E5167A7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60948-7A66-4BC2-BE98-EC4F897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59D90-6E90-4AB9-9E56-EA7C393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E8EC4-420B-4CEF-ACE7-ED58F23D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0DE4F-38C7-498C-8DDE-3B094AF3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561F-A491-4F86-A861-B0E2A3A9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46A-0BD9-4C3D-8B6A-E556D84E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1850-15F0-4373-94BB-660962C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882F-3D43-474D-ABA7-A69A045A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D43A-8ABF-4123-8C57-24A640A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3F9-7CB2-4637-A89B-2D36BE5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BCE-A080-4320-9D24-6AC0C9A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7A6-F084-4AA6-B809-3CD5BDA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5EBE-9146-49BA-AB23-C20C4A41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676-8A4D-4C6B-ABF6-E9ECE965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A057-A4AB-43E6-B8B0-2CB45CC1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1E34-A289-4030-AEE1-791F67B7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817D-8C4B-403C-85C9-0A803A93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744F-7695-49A6-BDB2-D3009E23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F04A-B428-45E6-80D5-7707A655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7B7A-FB6C-4A80-8C41-AF34F42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D5D-5EB6-4198-8A7A-BF6A0D1B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BE7A-BE32-41E5-AA67-6A32253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4356-C721-44E1-A118-17F2CDE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39D3-FAD8-466A-9BE1-FC066DE2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2351-A300-46E5-8C66-CD76EF1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46CD-DCD3-4C1E-8A28-7F15D80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6D1C-655D-41AE-BBB3-3CB98568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FE61-CD41-4753-ABE6-17963459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608E-B151-4064-923A-C1D49F0B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8ADF-CB33-43F3-B94F-99ACCBA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D217-2BD4-46E1-BB4B-E736E8DD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503-66E2-4E8F-A712-09BCD85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9D91-D57C-46F5-9EAE-7A0E368D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D391-1657-4910-8E14-5FFD200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85BB-22E9-44A8-A58E-2C3F77A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1E85-F938-49E6-9CAC-68B0802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4D55-D0FE-4319-AFA5-BEA44CB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9041-2776-408D-BE46-95446A5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E1A0-21C2-4E31-9AD9-5CC4E4B9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F7B7-DD92-4326-B150-1E7AE8D8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A7A1-CA2F-4F70-A996-C0A4B7AC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11B4-19D4-4AFC-87BE-5B1611A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8F0-F381-490E-9C46-B9BBB8A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25DC-224E-47D1-9A87-C6F6E7C4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4E1B-DEFA-4E7C-9107-E7B40EB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D53F-503F-4CB8-956E-ECDDED8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2BC7-6908-41F6-9430-4906CC63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1C4E-1C5A-4B0B-B112-5995C92A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3382-2503-4A72-A41B-CE698AE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FF1B-885C-455F-90F0-1031010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A3B0-D47B-443D-A489-2872BCD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7C12-1E3F-45A9-A61C-26C970C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0E17-4DBA-4BCA-9793-C3D2DA38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F9C-2C01-45D6-83E6-B71EBB45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DDB7-6056-4CE8-B13D-457B03EA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D152-2F1D-47D2-986A-236E711C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82B7-60EA-411D-B532-433EAD1D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5F878-759B-4C7B-900C-80F165A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AA06E-0050-4F42-B202-D8B660A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CCD8-6213-49F5-9B95-BC21C44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7B45-6683-4C42-813F-405B714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59D01-05A3-4784-A6B6-D9C235B0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0C01-2621-43AB-87EB-5714B7B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7320-45F6-406C-87F8-0B7AA293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5A0-76DE-494F-B08A-B078ED6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85F1-5B36-41BB-9A48-5CE158C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E7E3-986B-483A-82CB-E4F7CBA9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9393-F361-4327-BBF7-31A298B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E1EEF-D0A1-452E-B363-23953F3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CF89-A18E-441B-BCA6-DE032137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15A5B-D449-490D-9587-E5EBAE3C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F0D27-71B3-4446-9FA7-4867F465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3E409-834E-44CA-AA5C-9DF49DF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AD06-C0C2-4B22-B7CE-D5259A2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422C-670C-490F-86BE-D51906B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556-F395-430A-9521-A844B82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11555-04AA-4E03-899A-59048AC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88BC-BE39-49A0-B2CA-DDAAAE1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583E-9298-41FB-9E43-C6E3443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0D95-51C7-402E-B694-FB31A439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2139-26E9-442B-9B21-F516945F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A02A-29EA-4F79-A4CE-3CADBD8F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8E3B9-0767-4990-9F93-9FADFB7F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8289-9C1B-4292-9597-E61A0A0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15B7-390D-48E4-BB21-8E1508E9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0330-3643-462B-B5B9-B12F275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568-A35E-4C1F-AFC3-05AD3F5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2DBF7-503B-4D19-8EDC-289397B5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F870-1B7E-430B-BFFC-C1FEA4F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40CB-408A-4C71-9414-47D51DE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86BF4-EC0D-453C-913F-9D7E1BBC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4BEBF-115C-4E93-8810-7C49D9B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02D4-A05B-4749-A216-18753F55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CA90B-CC70-4A68-B275-557037F8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C54E-D75C-4A66-80EE-74AE690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8F482-630A-4DDF-9399-59BF7CD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82924-1145-4807-BCF6-294F87B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34F-9BF1-4EB7-8A75-E4629F15A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FE5C-698B-4D1A-AE67-F1C2B29EF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55F-0AA4-4262-B5FE-AD9121DD70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DAB-5942-4411-AE49-EAC23AC2E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141-F94A-4803-9983-E97982F22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B833-0690-4174-935E-34CAEBD94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364-F362-4F30-A67D-21A1FF3A03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064-052E-4755-BF52-A0EBD1363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7F97-24C1-480B-AE19-8A6EE72608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3D48-3C10-4D9F-ADDC-E264E765F7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C42-9330-42E7-B087-93CE447F0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CBEB-307D-45CD-BE3E-A5CC7A359B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7160" y="642960"/>
            <a:ext cx="75614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00000"/>
                </a:solidFill>
                <a:latin typeface="Times New Roman"/>
              </a:rPr>
              <a:t>С Днём Учителя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140000" y="2852280"/>
            <a:ext cx="41432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драв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любимых учителей составили учащиеся 9 клас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трунова Анастас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бер Валентин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епиков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руководством Сидоровской Е.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прь,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Классические_произведения_-_Вальс_цветов_(-).mp3" descr=""/>
          <p:cNvPicPr/>
          <p:nvPr/>
        </p:nvPicPr>
        <p:blipFill>
          <a:blip r:embed="rId2"/>
          <a:stretch/>
        </p:blipFill>
        <p:spPr>
          <a:xfrm>
            <a:off x="85716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Рисунок 5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427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исто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132000" y="2205000"/>
            <a:ext cx="568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можно строить будущее, если 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едаем о прошлом нашей же страны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акими мыслями пришли мы в первый клас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скоре Вы истории обучили на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ерь мы знаем про мировые вой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знаем про царей и коро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асибо Вам, что дали вы нам знан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здравляем Вас от всей души сво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Рисунок 4" descr="i (4).jpg"/>
          <p:cNvPicPr/>
          <p:nvPr/>
        </p:nvPicPr>
        <p:blipFill>
          <a:blip r:embed="rId2"/>
          <a:stretch/>
        </p:blipFill>
        <p:spPr>
          <a:xfrm>
            <a:off x="611280" y="342900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2788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вой учительни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39280" y="2204640"/>
            <a:ext cx="49690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главное будите в душах ребячьих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ажно дорогу открытий тор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ервого звука и первой удач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вшихся с азбучных слов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квар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добрая фея, ведущая в знань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рящая радость, несущая све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ежд вам счастливых, большого признанья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новых находок, и новых побед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Содержимое 4" descr="102643768_650_650_fixed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66840" cy="244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2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3"/>
          <p:cNvSpPr/>
          <p:nvPr/>
        </p:nvSpPr>
        <p:spPr>
          <a:xfrm>
            <a:off x="1476360" y="620640"/>
            <a:ext cx="61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огие наши педагоги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этот праздник - День учителей -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абудьте все свои тревог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на мир смотрите веселей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для нас всегда источник света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ребята все, как сговорясь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м несут красивые букет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для них сиянье ваших глаз –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учшая награда за старанье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учше, чем любая из похвал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у них одно желанье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лько бы доставить радость вам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ди вашей искренней улыбк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студент, и каждый ученик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миг исправит все свои ошибк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 дальнейшем их не повторит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для всех несете факел знаний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т, что не погаснет никогд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ь же ваши сбудутся желанья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ь ваш дом не навестит бед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3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1571760" y="1143000"/>
            <a:ext cx="6400800" cy="400068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3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ozdravleniya.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ozdrav.my-clubs.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ozdrav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nsportal.ru/nachalnaya-shkola/stsenarii-prazdnikov/2014/10/15/den-uchitel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google.com/search?q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веты+фо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5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Содержимое 4" descr="11.jpg"/>
          <p:cNvPicPr/>
          <p:nvPr/>
        </p:nvPicPr>
        <p:blipFill>
          <a:blip r:embed="rId2"/>
          <a:stretch/>
        </p:blipFill>
        <p:spPr>
          <a:xfrm>
            <a:off x="971640" y="1413000"/>
            <a:ext cx="3082680" cy="37684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143560" y="-5197680"/>
            <a:ext cx="244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68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ажно, сколько лет пройд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ей мы не забуд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сердце каждого жив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тое чувство к этим людя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день учителя для н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учат слова любви, заб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аем вам всех благ зем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вашу трудную работу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7690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здравление директору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4559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самый замечательный директор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много школе отдали своей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очень уважают Вас за эт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ервоклашек до учите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аем, чтоб ребята год за го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шили к Вам с приходом сентябр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 называли лучшей Вашу школ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ректора за всё благодар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Астраханский цветочный рынок - гвоздики"/>
          <p:cNvPicPr/>
          <p:nvPr/>
        </p:nvPicPr>
        <p:blipFill>
          <a:blip r:embed="rId2"/>
          <a:stretch/>
        </p:blipFill>
        <p:spPr>
          <a:xfrm>
            <a:off x="5076720" y="1844640"/>
            <a:ext cx="3279960" cy="3594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Заголовок 1" descr=""/>
          <p:cNvPicPr/>
          <p:nvPr/>
        </p:nvPicPr>
        <p:blipFill>
          <a:blip r:embed="rId2"/>
          <a:stretch/>
        </p:blipFill>
        <p:spPr>
          <a:xfrm>
            <a:off x="450720" y="646200"/>
            <a:ext cx="8242560" cy="780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066920" y="1844640"/>
            <a:ext cx="4392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дравляем Вас С Днём Учител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аш строгий взгляд небезразличе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 четкий ум нам симпатиче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частливы, и рады м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м который год вер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математику грыз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 наук не замеча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результате твердо знае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йнштейнами мы не умрем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Содержимое 4" descr="cveti_317.jpg"/>
          <p:cNvPicPr/>
          <p:nvPr/>
        </p:nvPicPr>
        <p:blipFill>
          <a:blip r:embed="rId3"/>
          <a:stretch/>
        </p:blipFill>
        <p:spPr>
          <a:xfrm>
            <a:off x="684360" y="1844640"/>
            <a:ext cx="3600360" cy="3409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10920" y="1700280"/>
            <a:ext cx="4546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верное, Бог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 было угодно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ь с Вами наш разум постиг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ий, могучий, правдивый, свободный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краснейши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ратя слова, силы не распыля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рячемся мы в уголке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ас от души в этот день поздравляем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родн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зык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6" descr="Лилия"/>
          <p:cNvPicPr/>
          <p:nvPr/>
        </p:nvPicPr>
        <p:blipFill>
          <a:blip r:embed="rId2"/>
          <a:stretch/>
        </p:blipFill>
        <p:spPr>
          <a:xfrm>
            <a:off x="4932360" y="2060640"/>
            <a:ext cx="3724200" cy="279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2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347640" y="2060280"/>
            <a:ext cx="5545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им сегодня благодарность вам сказ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то, что мы читать не просто научились,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то, что полюбили мы чи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м миры литературные открылис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за богатство наших душ спасиб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выражаем вам, учитель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усть у вас не иссякают сил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чить литературе сн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Содержимое 4" descr="6540842.gif"/>
          <p:cNvPicPr/>
          <p:nvPr/>
        </p:nvPicPr>
        <p:blipFill>
          <a:blip r:embed="rId2"/>
          <a:stretch/>
        </p:blipFill>
        <p:spPr>
          <a:xfrm>
            <a:off x="468360" y="2565360"/>
            <a:ext cx="2976480" cy="3192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3" descr="b131cce67dc434b4a633b88db0c3cc0a.jpg"/>
          <p:cNvPicPr/>
          <p:nvPr/>
        </p:nvPicPr>
        <p:blipFill>
          <a:blip r:embed="rId2"/>
          <a:stretch/>
        </p:blipFill>
        <p:spPr>
          <a:xfrm>
            <a:off x="5076720" y="1268280"/>
            <a:ext cx="3370320" cy="38228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210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немецкого я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000" y="1773000"/>
            <a:ext cx="46083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легко можем ехать в Германи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совсем не боимся мы т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олкнуться на непоним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за то благодарны мы В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м спасибо за все огромное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уроки, за знания, тру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ашей жизни пусть будут лишь ров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дороги, что к счастью вед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физической куль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492360" y="1844640"/>
            <a:ext cx="5183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нас научили сражаться, боро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росто кого-то, — себя побежд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если нам трудность в пути попадется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будем мы навык такой применя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День педагога мы вас поздравля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ивных желаем вам новых побед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каждый из школы, наверное, зна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лучше спортсмена в округе и не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Рисунок 3" descr="71581043_0_6eb1d_6180c07d_XXXL.jpg"/>
          <p:cNvPicPr/>
          <p:nvPr/>
        </p:nvPicPr>
        <p:blipFill>
          <a:blip r:embed="rId2"/>
          <a:stretch/>
        </p:blipFill>
        <p:spPr>
          <a:xfrm>
            <a:off x="611280" y="2637000"/>
            <a:ext cx="3108240" cy="2655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Рисунок 4" descr="i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15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ителю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5280" y="1989000"/>
            <a:ext cx="5122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ы учите нас живопись любить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Мы радугу рисуем и листочки.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И пусть нам Левитанами не быть, 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искусстве делаем мы первые шажочки!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егодня все мы - наш девятый класс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От сердца каждого ребенка и родителя,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Хотим поздравить с праздником прекрасным Вас -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 днем Вашей славы - с Днем учител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Содержимое 4" descr="3ed28454cf4f.jpg"/>
          <p:cNvPicPr/>
          <p:nvPr/>
        </p:nvPicPr>
        <p:blipFill>
          <a:blip r:embed="rId2"/>
          <a:stretch/>
        </p:blipFill>
        <p:spPr>
          <a:xfrm>
            <a:off x="5508720" y="2060640"/>
            <a:ext cx="3112920" cy="3112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15-01-19T08:13:29Z</dcterms:modified>
  <cp:revision>58</cp:revision>
  <dc:subject/>
  <dc:title>Слайд 1</dc:title>
</cp:coreProperties>
</file>