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37F-7EB4-45ED-A2AD-4ED636E3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BD4-D2FF-42A6-A82F-604069D2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1C95F-4BC3-4300-B2FE-A8697C3F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EAA0C-8BE6-4984-9C89-C898E589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237CC-81E4-4A37-AB04-BC26BB8F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0DC65-0CD9-41C5-B1FE-27E6A257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87738-ACC9-4C41-925E-9711B28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5CC98-82C1-4D44-B467-4D2AFC61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1F349-8218-4F34-98A9-F6D3091C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61EE1-6543-42D2-BB2E-92976AE8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68F83-6135-4C51-905E-0D322B67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4C299-44D7-458D-8F09-2A986198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741-DA33-42AA-B952-91B8EBF1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29F24-F871-43DE-B2D0-2F01E0B0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00BAB-9036-48E9-BBC8-75085D3B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DA7DD-9417-4959-8D33-0520701A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079CA-7371-4B2F-B488-95E7DBE4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E7EC6-70B0-4525-9D53-A439BB81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47B48-56CA-49DE-954A-1D2D9B20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73B5D-857A-4730-B6D2-7E7327B0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5742A-642F-411D-927F-170D7E79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6236E-8DF8-4454-AC49-3B570B43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D5F67-F9D7-4041-A51B-BC7E8EF2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AD5-EAC0-407D-A948-25267BE5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4D5A2-6EAF-4D86-9FFF-16DC1E24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405A3-D1A4-42E9-B915-35A7D19D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15EEC-8A2C-4C57-BF16-948AF37E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1C623-B706-428D-A28B-6FBFC536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B3F4E-1B6B-48B9-A0A2-07C226F4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2ECCB-9487-4F30-AB0D-6A9D36D4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BFC8C-EBFF-442B-9F29-1313AAE7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5D8FA-CA0B-4E9B-9A9E-9DAF175C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BACBF-B49D-4B6E-A9F7-428D10B1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F7176-8729-4874-99DB-5D786CFD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3345-BFF7-4D95-9D73-CB27B643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D6781-24FF-415E-8FC5-D6427ED4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29468-1472-4599-B0EA-B6B1364C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8FDD3-B17B-4AEC-AF54-E3A57670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D51DF-B220-4B86-B422-D323457A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43495-D425-48E3-8EC6-92C45771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5316C-D7BC-4DFA-AC4E-427024A1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8DF9E-F890-4522-A16D-0140ABED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D4F79-59FC-48B1-A77A-EB5AED2A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61448-6E0F-442B-94B1-83DE20F5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83890-B229-4DA1-9E4F-E4234554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2812-4D86-4D5D-9F19-8BCD33CF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5960E-C744-49A3-AE13-5E13D649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672A5-A04F-4C43-A081-EA9755C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42572-6539-48C8-8ACF-B00E3191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15AB2-19B2-4600-8FE4-5F510753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F4FB0-C51D-4352-AF6D-ED587AEA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2580-240D-409D-A0C0-386D17CE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3D16-31F7-430D-B55B-A8C1AB4E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DA0E-2506-41E7-A6AC-59CD2F7D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5496-806A-4032-B26C-A87E3B67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CD9D-D3D1-4F87-A5B3-77C3CCB8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4ED-646F-49A6-8C21-30F6A8FE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4939-160E-435E-8FBF-0B0FB3BA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32E3-2218-40FB-B0C1-DAD2DD12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4266-A6E1-4989-91BA-A68C5DCB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B6A8-4DAE-4C52-8E3E-E6296D36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F831-0FC0-4FC8-B26E-E54B636A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9A4A-13A2-41E9-BD19-9110EA1A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E9BB-519E-4AB7-9A78-E715CC17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59A04-D70B-4EF0-9938-FD71B1C2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940D-77AF-4293-B927-D035CBBE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E8512-A191-417C-83C1-0D8D7B4D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DA1-788E-4E6B-8028-2355B06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B097-0C24-4235-A07C-99B507A9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5B26-1F47-49F4-AC3E-AD77764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768CE-C76E-4DE1-B58E-E7A73D2D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9DAD-EEA7-41B0-B317-FE2824D6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748C-5D05-4A44-86E0-C6AE93F2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CA7E-7C5F-4FE2-BB29-A8C01543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F76B-42AC-4322-91E2-AD6E6E58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1180-4D39-4CCD-A15D-92D4440C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CD52-0BAC-4CC1-8565-20DE5ED9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DB933-5BF4-4135-A6F1-3E457F1B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EF9-C149-4921-B8A4-7AD1E932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9BF39-8785-46A1-B2B4-7668CE7B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1EA8-9107-48A1-96F9-C4ED173F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06F31-85BE-42D0-8338-5538FA8C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48A9C-F3A9-4D2F-BA83-4A964EFF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7B19D-2F34-45F4-8F3E-8760E6A6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DBF40-FB62-47F5-8B9D-657CFD18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D33E5-E31D-4926-BDF1-D7F54512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BCF9-34DE-4529-9FD8-F565C651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D943-E58D-4AE2-9B0A-6FE4A0A2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758C1-ED96-4B88-802D-40864E74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599-7329-4A46-8EEC-7D22E1B5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D25E8-68C3-49CA-8187-8A54F814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FFAF3-FC28-4436-AF59-7218EE99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68EF9-9DC0-4594-9630-5E22F192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2D98-0049-45E6-A00B-D33D2651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BFF46-D126-4FD6-BAF5-E5F6CF90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ED9F7-C376-4CD6-8821-9E5FABBD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9B06A-70C3-4F53-B991-228314C4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65EB0-81F9-43BE-91A9-87765E36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E6F81-ED22-4685-8470-CD10A20A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3B290-FB35-4C8B-B905-DC5686E4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EBE-9AE9-4570-B6CA-86DC10D1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D5B77-732B-4159-B31D-5B009ACB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B81D9-E9DB-4F95-A484-4505B7C7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85AD-DB92-4C36-A28C-64C1B8A4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0B952-AB71-4D46-89CE-D56092BC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84493-1295-4A88-A7B2-E7697AE2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732D-C650-4A60-BDC9-6A4696F7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F1269-FF0C-4B6C-9347-656FB4DC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5E4F6-5BED-4758-AB39-5AB44E81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790AA-4F5D-405A-8D4F-9BA23259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7580-EF9D-48AE-B3BB-87D31C91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49A-8D22-4753-B16D-D193244E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70038-13FD-4EC7-8FC1-274AA7C9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8C74B-43BC-45B1-A200-7D5FE4E3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02000-A539-4F1C-B6B2-66EF7EBA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00127-850A-4BED-ACA4-CEE4E70B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30851-C0CF-4150-A12C-1FB37C3F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307C-F696-4C2B-8269-346459BC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CFE5D-FF03-45D6-9B0B-82CE229F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5E848-DBC0-44F5-BEF9-0901B5D2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38048-CFD4-4440-A3D8-11C9B0F6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98808-2BB9-4EB1-86BA-B8C4A064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E39-1437-4207-99B0-388D8BE4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FCEAB-E072-4BA7-A179-0416CB3E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265D7-3E2B-4BCB-A408-34A6A35C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0214-C4E9-41AA-8ED6-BA0A3979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1870C-2ABC-4868-B639-8367CEB3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51F0C-0AD6-400C-9A4C-EECFD69E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35806-2F8A-4A54-B949-80C00031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38DE4-2400-4823-A07E-6AFA7068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1B728-7732-4D91-98BF-56A6CF3B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28C73-BBE0-4FBA-B4CE-B463A750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B357F-0D51-4953-89B2-C975E8CD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332-6082-433E-8178-2D60DED8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43EC2-5D57-4A5D-94F6-D83F5ED6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C85A9-9F37-415F-A9A1-12381F06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C5DD4-0EB6-4E65-A499-AF9EF098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ED854-8953-416A-B0AC-FA44BEE1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F0A5D-5EAD-4F03-AC8C-FE03B8CA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2E632-325B-44BF-81FC-11A240DC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44C59-F2EA-48E9-A2BD-D87508C4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A3B41-42EF-4ACA-9C70-EB1EF4E5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1370F-9619-4B5F-AB2D-C50F3971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92EA4-336C-4797-97BC-7C749299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5FDB-37C1-4359-9C0F-A75FFB5A42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DBBB-0D08-4B0F-8296-01CF859CD5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AC2F-3B2E-4F50-94AB-E636D05E10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E0C2-7115-48BC-99DA-E422AEC423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6FB7-744C-4472-AAED-0D0F8CA112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3FB7-E98A-47B2-B17D-5F103958D9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F081-6DF4-4D7E-952B-7C4E1E16CF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7793-F640-4DA1-BE7A-BD420933E5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A92E-FDF6-4259-81F0-E68DE9821B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EA96-ABE0-4E4B-BEF1-A7DEF91D5B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493F-CCC0-410D-B8E8-012C684055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C839-A8A1-4EF7-9FE1-94F59C6F33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57160" y="642960"/>
            <a:ext cx="756144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00000"/>
                </a:solidFill>
                <a:latin typeface="Times New Roman"/>
              </a:rPr>
              <a:t>С Днём Учителя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140000" y="2852280"/>
            <a:ext cx="414324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здравл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любимых учителей составили учащиеся 9 клас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трунова Анастас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рбер Валентин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епиков Андр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руководством Сидоровской Е.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прь, 2014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Классические_произведения_-_Вальс_цветов_(-).mp3" descr=""/>
          <p:cNvPicPr/>
          <p:nvPr/>
        </p:nvPicPr>
        <p:blipFill>
          <a:blip r:embed="rId2"/>
          <a:stretch/>
        </p:blipFill>
        <p:spPr>
          <a:xfrm>
            <a:off x="857160" y="564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Рисунок 5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74278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исто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132000" y="2205000"/>
            <a:ext cx="5688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можно строить будущее, если 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едаем о прошлом нашей же страны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акими мыслями пришли мы в первый класс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скоре Вы истории обучили нас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перь мы знаем про мировые вой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знаем про царей и корол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асибо Вам, что дали вы нам знани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поздравляем Вас от всей души сво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Рисунок 4" descr="i (4).jpg"/>
          <p:cNvPicPr/>
          <p:nvPr/>
        </p:nvPicPr>
        <p:blipFill>
          <a:blip r:embed="rId2"/>
          <a:stretch/>
        </p:blipFill>
        <p:spPr>
          <a:xfrm>
            <a:off x="611280" y="3429000"/>
            <a:ext cx="2808360" cy="223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278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ервой учительни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539280" y="2204640"/>
            <a:ext cx="49690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главное будите в душах ребячьих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ажно дорогу открытий торя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первого звука и первой удачи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вшихся с азбучных слов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квар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добрая фея, ведущая в знанья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рящая радость, несущая свет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ежд вам счастливых, большого признанья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новых находок, и новых побед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Содержимое 4" descr="102643768_650_650_fixed.jpg"/>
          <p:cNvPicPr/>
          <p:nvPr/>
        </p:nvPicPr>
        <p:blipFill>
          <a:blip r:embed="rId2"/>
          <a:stretch/>
        </p:blipFill>
        <p:spPr>
          <a:xfrm>
            <a:off x="5435640" y="2781360"/>
            <a:ext cx="3066840" cy="244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2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3"/>
          <p:cNvSpPr/>
          <p:nvPr/>
        </p:nvSpPr>
        <p:spPr>
          <a:xfrm>
            <a:off x="1476360" y="620640"/>
            <a:ext cx="61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BatangChe"/>
              </a:rPr>
              <a:t>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огие наши педагоги!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этот праздник - День учителей -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забудьте все свои тревоги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на мир смотрите веселей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 для нас всегда источник света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ребята все, как сговорясь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м несут красивые букеты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для них сиянье ваших глаз –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учшая награда за старанье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учше, чем любая из похвал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у них одно желанье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лько бы доставить радость вам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ди вашей искренней улыбки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студент, и каждый ученик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миг исправит все свои ошибки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 дальнейшем их не повторит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 для всех несете факел знаний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т, что не погаснет никогда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ь же ваши сбудутся желанья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ь ваш дом не навестит бед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Рисунок 3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2"/>
          <a:stretch/>
        </p:blipFill>
        <p:spPr>
          <a:xfrm>
            <a:off x="1571760" y="1143000"/>
            <a:ext cx="6400800" cy="400068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Рисунок 3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писок использованных источ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ozdravleniya.s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ozdrav.my-clubs.r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ozdrav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nsportal.ru/nachalnaya-shkola/stsenarii-prazdnikov/2014/10/15/den-uchitel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google.com/search?q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веты+фо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Рисунок 5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Содержимое 4" descr="11.jpg"/>
          <p:cNvPicPr/>
          <p:nvPr/>
        </p:nvPicPr>
        <p:blipFill>
          <a:blip r:embed="rId2"/>
          <a:stretch/>
        </p:blipFill>
        <p:spPr>
          <a:xfrm>
            <a:off x="971640" y="1413000"/>
            <a:ext cx="3082680" cy="37684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143560" y="-5197680"/>
            <a:ext cx="244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51280" y="1484280"/>
            <a:ext cx="468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ажно, сколько лет пройдё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ей мы не забуде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 сердце каждого жив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тое чувство к этим людя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 день учителя для н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учат слова любви, забот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аем вам всех благ земны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вашу трудную работу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76908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оздравление директору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4559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самый замечательный директор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много школе отдали своей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очень уважают Вас за эт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первоклашек до учител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лаем, чтоб ребята год за год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шили к Вам с приходом сентябр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 называли лучшей Вашу школу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ректора за всё благодар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2" descr="Астраханский цветочный рынок - гвоздики"/>
          <p:cNvPicPr/>
          <p:nvPr/>
        </p:nvPicPr>
        <p:blipFill>
          <a:blip r:embed="rId2"/>
          <a:stretch/>
        </p:blipFill>
        <p:spPr>
          <a:xfrm>
            <a:off x="5076720" y="1844640"/>
            <a:ext cx="3279960" cy="3594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Заголовок 1" descr=""/>
          <p:cNvPicPr/>
          <p:nvPr/>
        </p:nvPicPr>
        <p:blipFill>
          <a:blip r:embed="rId2"/>
          <a:stretch/>
        </p:blipFill>
        <p:spPr>
          <a:xfrm>
            <a:off x="450720" y="646200"/>
            <a:ext cx="8242560" cy="7808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066920" y="1844640"/>
            <a:ext cx="4392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дравляем Вас С Днём Учител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аш строгий взгляд небезразличе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ш четкий ум нам симпатиче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частливы, и рады м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нам который год верны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математику грызе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х наук не замечае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 результате твердо знаем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йнштейнами мы не умрем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Содержимое 4" descr="cveti_317.jpg"/>
          <p:cNvPicPr/>
          <p:nvPr/>
        </p:nvPicPr>
        <p:blipFill>
          <a:blip r:embed="rId3"/>
          <a:stretch/>
        </p:blipFill>
        <p:spPr>
          <a:xfrm>
            <a:off x="684360" y="1844640"/>
            <a:ext cx="3600360" cy="3409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10920" y="1700280"/>
            <a:ext cx="4546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верное, Бог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 было угодно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шь с Вами наш разум постиг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ликий, могучий, правдивый, свободный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краснейший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сский язы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!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тратя слова, силы не распыляя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рячемся мы в уголке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ас от души в этот день поздравляем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сск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родном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зык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86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6" descr="Лилия"/>
          <p:cNvPicPr/>
          <p:nvPr/>
        </p:nvPicPr>
        <p:blipFill>
          <a:blip r:embed="rId2"/>
          <a:stretch/>
        </p:blipFill>
        <p:spPr>
          <a:xfrm>
            <a:off x="4932360" y="2060640"/>
            <a:ext cx="3724200" cy="2795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2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347640" y="2060280"/>
            <a:ext cx="5545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тим сегодня благодарность вам сказ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то, что мы читать не просто научились,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то, что полюбили мы чит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нам миры литературные открылис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за богатство наших душ спасиб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выражаем вам, учитель сло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усть у вас не иссякают сил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учить литературе сно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Содержимое 4" descr="6540842.gif"/>
          <p:cNvPicPr/>
          <p:nvPr/>
        </p:nvPicPr>
        <p:blipFill>
          <a:blip r:embed="rId2"/>
          <a:stretch/>
        </p:blipFill>
        <p:spPr>
          <a:xfrm>
            <a:off x="468360" y="2565360"/>
            <a:ext cx="2976480" cy="3192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3" descr="b131cce67dc434b4a633b88db0c3cc0a.jpg"/>
          <p:cNvPicPr/>
          <p:nvPr/>
        </p:nvPicPr>
        <p:blipFill>
          <a:blip r:embed="rId2"/>
          <a:stretch/>
        </p:blipFill>
        <p:spPr>
          <a:xfrm>
            <a:off x="5076720" y="1268280"/>
            <a:ext cx="3370320" cy="38228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210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немецкого язы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4000" y="1773000"/>
            <a:ext cx="46083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легко можем ехать в Германию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ь совсем не боимся мы та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толкнуться на непонима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за то благодарны мы Ва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м спасибо за все огромное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уроки, за знания, тру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ашей жизни пусть будут лишь ров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дороги, что к счастью веду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физической куль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492360" y="1844640"/>
            <a:ext cx="5183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нас научили сражаться, бороть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росто кого-то, — себя побежд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если нам трудность в пути попадется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будем мы навык такой применя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 День педагога мы вас поздравля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ртивных желаем вам новых побед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ь каждый из школы, наверное, зна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лучше спортсмена в округе и нет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Рисунок 3" descr="71581043_0_6eb1d_6180c07d_XXXL.jpg"/>
          <p:cNvPicPr/>
          <p:nvPr/>
        </p:nvPicPr>
        <p:blipFill>
          <a:blip r:embed="rId2"/>
          <a:stretch/>
        </p:blipFill>
        <p:spPr>
          <a:xfrm>
            <a:off x="611280" y="2637000"/>
            <a:ext cx="3108240" cy="2655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715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изобразительного искус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95280" y="1989000"/>
            <a:ext cx="5122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Вы учите нас живопись любить,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Мы радугу рисуем и листочки.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И пусть нам Левитанами не быть, 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В искусстве делаем мы первые шажочки!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Сегодня все мы - наш девятый класс,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От сердца каждого ребенка и родителя,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Хотим поздравить с праздником прекрасным Вас -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С днем Вашей славы - с Днем учител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Содержимое 4" descr="3ed28454cf4f.jpg"/>
          <p:cNvPicPr/>
          <p:nvPr/>
        </p:nvPicPr>
        <p:blipFill>
          <a:blip r:embed="rId2"/>
          <a:stretch/>
        </p:blipFill>
        <p:spPr>
          <a:xfrm>
            <a:off x="5508720" y="2060640"/>
            <a:ext cx="3112920" cy="3112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1</cp:lastModifiedBy>
  <dcterms:modified xsi:type="dcterms:W3CDTF">2015-01-19T08:13:29Z</dcterms:modified>
  <cp:revision>58</cp:revision>
  <dc:subject/>
  <dc:title>Слайд 1</dc:title>
</cp:coreProperties>
</file>