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B17-273B-4891-BE9E-49813B5151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2104-8EDD-4578-979C-BA37F106C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5D02-C9F0-4110-9BD7-3191BF7D9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5631-7C24-4634-BBDB-B9E5F865D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F9AE-35B1-47BF-A035-2D14A9925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2F0A-025E-40E2-95AE-9BDC5BF3A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5FBD-57B6-49D7-8B59-B8D46DB50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B6E3-7EDE-4274-B489-70F545F0B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86E4-B188-4418-837D-3AD69084F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D1DE-12DD-4030-B66F-6B9AC97D7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A2FA-A1AF-418F-99F5-DAD532BF4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297F-5F54-488A-BF85-5F87E8A14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E96E-47F7-4379-9B8D-638577360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631F-74BE-4F9D-AB9B-4958FDB3E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BED2-A294-42F7-BDA1-FCB23CA9E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5F15-6659-4AAE-A9C0-C79DEED98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9B6F-724F-4E38-B50A-7AF063776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9B7B-9EA9-483F-BF27-03ADE09B3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A7DD-C6CF-4802-9BA2-6EC35C1B9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7FB-494A-407E-9318-EFD6F556B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1861-023C-40AA-AE27-5564E181B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7ED8-1742-45C0-A193-54EE60FF9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0FE8-96CF-4C9E-A343-E2A9D28A9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0382-0B8B-4064-8C44-828E07EDD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542-5584-4A8D-94E9-9CA2711D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C7D-19EA-4836-9DE4-8E6515F9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199-39D0-4FD1-A45A-2D26A869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196-42FF-455E-9BD0-8A6708DE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B810-9AC9-4405-B1E9-256401A2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F21E-89B9-4423-9A7A-C8EB14D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68C-18E8-415B-8C47-98FEDE57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C189-758E-457D-9E27-0CC4ADFB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4D6A-0B4B-43E7-A229-3C43E4E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9919-A9F8-4AEE-A8E2-3AB7C975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05ED-56D6-4ECC-BBE0-FFFE07A9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B34-1C9A-441A-8EEE-6925C150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7140-F2AF-4078-965E-3F2AEB6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AB45-4E49-43F7-86B7-A7AFD68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E17F-279B-4F99-8CDB-03388742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0C9-AFD3-4CCE-BED1-8A374FD1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5377-AF9E-40DC-9084-9BF4060E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D90-92B1-4367-AD51-1645BF7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567-2157-437D-851E-F90226A5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9FF-8B1D-4326-8ADF-4C606A95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6F1-7C10-490E-9C48-5BC97C76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292-719F-4402-8EB8-C57F7316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BD7-78EB-4371-8F72-7A56205F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4D1-F943-4119-9099-7A2B4008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8D0E-0B58-47C5-936C-F6C86090C6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A3F-0DEE-4719-8052-3E13793B52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und43"/>
          <p:cNvPicPr/>
          <p:nvPr/>
        </p:nvPicPr>
        <p:blipFill>
          <a:blip r:embed="rId1"/>
          <a:stretch/>
        </p:blipFill>
        <p:spPr>
          <a:xfrm>
            <a:off x="179280" y="5445000"/>
            <a:ext cx="896472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16" descr=""/>
          <p:cNvPicPr/>
          <p:nvPr/>
        </p:nvPicPr>
        <p:blipFill>
          <a:blip r:embed="rId2"/>
          <a:stretch/>
        </p:blipFill>
        <p:spPr>
          <a:xfrm>
            <a:off x="517680" y="573120"/>
            <a:ext cx="8218440" cy="434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und42"/>
          <p:cNvPicPr/>
          <p:nvPr/>
        </p:nvPicPr>
        <p:blipFill>
          <a:blip r:embed="rId1"/>
          <a:stretch/>
        </p:blipFill>
        <p:spPr>
          <a:xfrm>
            <a:off x="826920" y="620388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емы и методы  1 ста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617840"/>
          <a:ext cx="8064720" cy="4746600"/>
        </p:xfrm>
        <a:graphic>
          <a:graphicData uri="http://schemas.openxmlformats.org/drawingml/2006/table">
            <a:tbl>
              <a:tblPr/>
              <a:tblGrid>
                <a:gridCol w="36000"/>
                <a:gridCol w="2855520"/>
                <a:gridCol w="2395800"/>
                <a:gridCol w="2777400"/>
              </a:tblGrid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озможные приёмы и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5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зо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е имеющихся знаний по изучаемому вопросу.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ктивизаци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отивац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ля дальнейше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поминает,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ему известно по изучаемому вопросу (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лает предполож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стематизируе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ю до её  изучения,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ёт вопрос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а которые хотел бы получить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оставление списка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"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звестной информации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ссказ-предполо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ючевым слов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истематизац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а (графическая)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теры, таблиц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рные и неверные утвер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путанные логические цепочки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иемы стадии выз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Покопаемся в памя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Ассоциац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Перепутанны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Инструк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Приём «Класте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8052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Задачи фазы осмыслени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смысление материала во времени работы над ни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2491920"/>
            <a:ext cx="785952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ивно воспринимать изучаемый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отнести старые знания с нов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und42"/>
          <p:cNvPicPr/>
          <p:nvPr/>
        </p:nvPicPr>
        <p:blipFill>
          <a:blip r:embed="rId1"/>
          <a:stretch/>
        </p:blipFill>
        <p:spPr>
          <a:xfrm>
            <a:off x="826920" y="620388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емы и методы 2 ста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0000" y="1617840"/>
          <a:ext cx="8070840" cy="4817880"/>
        </p:xfrm>
        <a:graphic>
          <a:graphicData uri="http://schemas.openxmlformats.org/drawingml/2006/table">
            <a:tbl>
              <a:tblPr/>
              <a:tblGrid>
                <a:gridCol w="36000"/>
                <a:gridCol w="46080"/>
                <a:gridCol w="2445120"/>
                <a:gridCol w="3309120"/>
                <a:gridCol w="2234520"/>
              </a:tblGrid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 учи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Возможные приемы и 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т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кстом.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охранение интереса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еме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епенное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движени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знания "старого" к "новому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тает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луша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текст, используя предложенные учителем активные методы чтения, </a:t>
                      </a:r>
                      <a:r>
                        <a:rPr b="0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лает пометки на полях или ведёт запис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ре осмысления нов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активного чт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0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киров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V" - известная инфор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 противоречит моим первоначальным представления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?" - непонятная информац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 - новая инфор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иемы фазы осмыс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Пометки на поля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Маркировочная таблиц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Двухчастный дневн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Лист решения пробле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Таблица аргумент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Ромашка Блум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омашка Бл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3"/>
          <p:cNvSpPr/>
          <p:nvPr/>
        </p:nvSpPr>
        <p:spPr>
          <a:xfrm rot="17934600">
            <a:off x="4080600" y="2664360"/>
            <a:ext cx="2467080" cy="880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 rot="21547200">
            <a:off x="4728960" y="3750840"/>
            <a:ext cx="2530440" cy="858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щ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 rot="3547200">
            <a:off x="4114800" y="4852800"/>
            <a:ext cx="2530440" cy="86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 rot="17947200">
            <a:off x="2862720" y="4850280"/>
            <a:ext cx="2467080" cy="880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 rot="21547200">
            <a:off x="2084040" y="3785760"/>
            <a:ext cx="2530440" cy="86040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 rot="3547200">
            <a:off x="2775600" y="2664360"/>
            <a:ext cx="2530440" cy="858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 rot="21415200">
            <a:off x="4329000" y="3814920"/>
            <a:ext cx="765360" cy="745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8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68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4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24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92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6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99"/>
                </a:solidFill>
                <a:latin typeface="Times New Roman"/>
              </a:rPr>
              <a:t>Ромашка Бл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628280"/>
            <a:ext cx="814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Просты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фактические вопросы) – требуют знания фактического материала и ориентированы на работу памя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Уточняющ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«насколько я понял….», «правильно ли я Вас поняла, что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нтерпретирующ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объясняющие) – побуждая учеников к интерпрет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ценочные вопросы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равнение) – необходимо использовать, когда вы слышите, что кто-либо из учеников выражает соседу по парте свое недовольство или удовольствие от произошедшего на уро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ворческие вопрос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рогноз) – «Как вы думаете, что произойдет дальше…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актические вопросы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«Как мы можем…?» «Как поступили бы вы…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Задачи фазы рефлексии –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общение материала, подведение итог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1640" y="2349360"/>
            <a:ext cx="776916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щимся самостоятельно обобщить изучаемый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остоятельно определить направления в дальнейшем изучении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und42"/>
          <p:cNvPicPr/>
          <p:nvPr/>
        </p:nvPicPr>
        <p:blipFill>
          <a:blip r:embed="rId1"/>
          <a:stretch/>
        </p:blipFill>
        <p:spPr>
          <a:xfrm>
            <a:off x="826920" y="620388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емы и методы 3 стад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1700280"/>
          <a:ext cx="8070840" cy="4913280"/>
        </p:xfrm>
        <a:graphic>
          <a:graphicData uri="http://schemas.openxmlformats.org/drawingml/2006/table">
            <a:tbl>
              <a:tblPr/>
              <a:tblGrid>
                <a:gridCol w="36000"/>
                <a:gridCol w="46080"/>
                <a:gridCol w="2157840"/>
                <a:gridCol w="2876400"/>
                <a:gridCol w="2954520"/>
              </a:tblGrid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 учи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Calibri"/>
                          <a:ea typeface="Calibri"/>
                        </a:rPr>
                        <a:t>Возможные приемы и 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едует вернут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к первоначальным записям -предположениям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нести изменения, дополнения, дать творческ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оотнося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вую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таро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знания, полученные на стадии осмы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полнение кластеров, таблиц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ичинно-следственной связи между блоками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вра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прежним утвержден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ве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поставленные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  </a:t>
                      </a: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углых столов и дискуссий, написание творческих раб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Приемы фазы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РЕФЛЕК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1640" y="184428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Класте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Сиквэй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Эсс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Самоанализ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«6 шляп критического мышле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Ключевые сл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 «Взаимообучени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1280" y="1628640"/>
            <a:ext cx="776916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«Самое короткое выражение смысла жизни такое: мир движется, совершенствуется, задача человека – участвовать в этом движении, подчиняясь и содействуя ем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Л.Н.Толс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164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 первой строчке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называется одним словом (обыч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и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Вторая строчка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описание темы в двух словах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вумя прилагатель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Третья строчка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описание действия в рамках этой тем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емя слов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Четвертая строчка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фраза из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етыре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Последняя строка</a:t>
            </a: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синоним из одного слова, который повторя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уть т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Формы и средства развития К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ор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текс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поставление альтернативных точек з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лективное обсу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ные виды парной и группов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б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ску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кации письменных работ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00cc"/>
                </a:solidFill>
                <a:uFillTx/>
                <a:latin typeface="Times New Roman"/>
              </a:rPr>
              <a:t>Роль учителя в ТРКМ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лкивает различные су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42560" y="177336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«Учитель должен думать о том, чтобы сначала сделать ученика пригодным для восприятия образования. Учитель, прежде чем образовывать ученика своими наставлениями, сначала должен пробуждать в ученике стремление к образованию, делать ученика, по крайней мере, годным к образов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Я.А. Коме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und42"/>
          <p:cNvPicPr/>
          <p:nvPr/>
        </p:nvPicPr>
        <p:blipFill>
          <a:blip r:embed="rId1"/>
          <a:stretch/>
        </p:blipFill>
        <p:spPr>
          <a:xfrm>
            <a:off x="826920" y="5084640"/>
            <a:ext cx="8169480" cy="65412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1258920" y="1844640"/>
            <a:ext cx="7562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ФАЗА - ВЫЗ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Рисунок 5" descr="https://lh3.googleusercontent.com/-GnIiRcktmME/TqRSOCtSrHI/AAAAAAAAGsM/NiifYfscEpE/s459/%D1%80%D0%B8%D1%811.JPG"/>
          <p:cNvPicPr/>
          <p:nvPr/>
        </p:nvPicPr>
        <p:blipFill>
          <a:blip r:embed="rId1">
            <a:alphaModFix amt="55000"/>
          </a:blip>
          <a:stretch/>
        </p:blipFill>
        <p:spPr>
          <a:xfrm>
            <a:off x="900000" y="1773360"/>
            <a:ext cx="80679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ФАЗА - ОСМЫС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6" descr="https://lh4.googleusercontent.com/-2UY6DaJI08o/TqRSPxg5SBI/AAAAAAAAGsU/gStG0lx91Tc/s483/%D0%A0%D0%B8%D1%812.JPG"/>
          <p:cNvPicPr/>
          <p:nvPr/>
        </p:nvPicPr>
        <p:blipFill>
          <a:blip r:embed="rId1"/>
          <a:stretch/>
        </p:blipFill>
        <p:spPr>
          <a:xfrm>
            <a:off x="684360" y="1700280"/>
            <a:ext cx="845964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und42"/>
          <p:cNvPicPr/>
          <p:nvPr/>
        </p:nvPicPr>
        <p:blipFill>
          <a:blip r:embed="rId1"/>
          <a:stretch/>
        </p:blipFill>
        <p:spPr>
          <a:xfrm>
            <a:off x="974880" y="6203880"/>
            <a:ext cx="8169120" cy="654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971640" y="253440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Calibri"/>
              </a:rPr>
              <a:t>мет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Calibri"/>
              </a:rPr>
              <a:t>активный, пасс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реагирует, восстанавливает, окис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Calibri"/>
              </a:rPr>
              <a:t>отдает электроны внешнего энерго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Calibri"/>
              </a:rPr>
              <a:t>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560" y="1700280"/>
            <a:ext cx="776916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е мыслительных навыков учащихся, необходимых не только в учебе, но и в обычной жизни (умение принимать взвешенные решения, работать с информацией, анализировать различные стороны явлений и т.п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Цель данной технологии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ритическое мышление имеет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5 характерист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-перв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амостоят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-вторы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бобще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-третьи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роблемное и оценоч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четверт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это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ргументирова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пят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критическое мышление есть мышлени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Times New Roman"/>
              </a:rPr>
              <a:t>Думать критически это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являть любозн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исследовательские 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вить перед собой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уществлять планомерный поиск отв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крывать причины и последствия фа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мнение в общепринятых истин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ка точки зрения и способность отстоять ее логическими довод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мание к аргументам оппонента и их логическое осмыс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488880"/>
            <a:ext cx="83170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Times New Roman"/>
              </a:rPr>
              <a:t>Компоненты определения критического мыш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ический мыслит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ует собственное м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ает обдуманный выбор между различными мн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ает пробл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гументировано спор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ит совместную работу, в которой возникает общее 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ет ценить чужую точку зрения и сознает, что восприятие человека и его отношение к любому вопросу формируется под влиянием многих фак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</a:rPr>
              <a:t>Основа ТРКМ</a:t>
            </a:r>
            <a:r>
              <a:rPr b="0" lang="ru-RU" sz="4400" spc="-1" strike="noStrike">
                <a:solidFill>
                  <a:srgbClr val="005828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трехфазная структура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971640" y="285264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005828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ы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132000" y="3789360"/>
            <a:ext cx="2952720" cy="647640"/>
          </a:xfrm>
          <a:prstGeom prst="roundRect">
            <a:avLst>
              <a:gd name="adj" fmla="val 16667"/>
            </a:avLst>
          </a:prstGeom>
          <a:solidFill>
            <a:srgbClr val="005828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мыс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227640" y="465300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005828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4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4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4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und42"/>
          <p:cNvPicPr/>
          <p:nvPr/>
        </p:nvPicPr>
        <p:blipFill>
          <a:blip r:embed="rId1"/>
          <a:stretch/>
        </p:blipFill>
        <p:spPr>
          <a:xfrm>
            <a:off x="974880" y="6203880"/>
            <a:ext cx="8169120" cy="65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Главные функ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00000" y="1844640"/>
          <a:ext cx="7920000" cy="433548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59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тадия выз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адия осмы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тадия рефлек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48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0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i="1" lang="ru-RU" sz="1400" spc="-1" strike="noStrike" u="sng">
                          <a:solidFill>
                            <a:srgbClr val="663300"/>
                          </a:solidFill>
                          <a:uFillTx/>
                          <a:latin typeface="Times New Roman"/>
                          <a:ea typeface="Times New Roman"/>
                        </a:rPr>
                        <a:t>отив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буждение к работе с новой информацией, пробуждение интереса к тем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i="1" lang="ru-RU" sz="1400" spc="-1" strike="noStrike" u="sng">
                          <a:solidFill>
                            <a:srgbClr val="663300"/>
                          </a:solidFill>
                          <a:uFillTx/>
                          <a:latin typeface="Times New Roman"/>
                          <a:ea typeface="Times New Roman"/>
                        </a:rPr>
                        <a:t>нформационная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зов «на поверхность» имеющихся знании по тем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1400" spc="-1" strike="noStrike" u="sng">
                          <a:solidFill>
                            <a:srgbClr val="663300"/>
                          </a:solidFill>
                          <a:uFillTx/>
                          <a:latin typeface="Times New Roman"/>
                          <a:ea typeface="Times New Roman"/>
                        </a:rPr>
                        <a:t>оммуникационная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сконфликтный обмен мн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i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нформ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лучение новой информации по тем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Систематиз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лассификация полученной информации по категориям зн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оммуникационная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ен мнениями о новой информ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Информационна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обретение нового зн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Мотивационная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буждение к дальнейшему расширению информационного по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Оценочна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оотнесение новой информации и имеющихся знаний, выработка собственной позиции,  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оцесс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Задачи фазы вызо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пробуждение интереса к предмет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560" y="206028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уализир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меющиеся у учащихся знания и пробудить познавательный интерес к изучаемому матери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мся самим определить направление в изучении 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33:14Z</dcterms:created>
  <dc:creator>Ирландец</dc:creator>
  <dc:description/>
  <dc:language>en-US</dc:language>
  <cp:lastModifiedBy>Марина Малинина</cp:lastModifiedBy>
  <dcterms:modified xsi:type="dcterms:W3CDTF">2015-01-27T08:46:36Z</dcterms:modified>
  <cp:revision>117</cp:revision>
  <dc:subject/>
  <dc:title>ТЕХНОЛОГИЯ РАЗВИТИЯ КРИТИЧЕСКОГО МЫШЛЕНИЯ</dc:title>
</cp:coreProperties>
</file>