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0523-BEB6-447D-A7FB-0B77278201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E87C-CFC8-4607-8678-6D0FFD09A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0A6C-25B0-433F-AA36-926ECC9399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342B-EB8C-45C1-AE32-BA49674762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D1F5-FACF-4688-9D61-2BC8E6C98F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1F92-4459-4535-B8D3-08C1D5AF5D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171D-CFAC-45CD-A4BC-E3919752D9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5511-3E21-49D3-80D9-0D21F174EF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A3F7-F426-442A-8D57-89FDF3B536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01D6-23F4-401C-98A2-D02A141DD4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B636-EF06-4BAC-A1AC-4A9767187A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3EC2-0E73-4A11-A104-CE68EA4DAD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3602-D59D-49B9-B895-9038EC1119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1251-B842-4E30-AC7C-E9EB486EF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B381-0599-47AD-B403-DF91DAA9D5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AAEA-C156-4CF2-9D92-0D64D5A95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2499-A9FE-47C5-913C-AAEC58591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087E-DD92-4623-8F32-E2316C31EC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A6A8-B1EE-4EAE-B171-A681D7089D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7DA8-B5AD-45DF-8756-45EC7B7548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06E8-B409-4204-8836-BF2B1A6AB8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50C3-F275-4861-BB18-F95338AC2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A6A7-C76A-44D8-BE55-BC47A8BEC4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5004-844E-47AD-B68E-E30CC7ADDD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99B-1E78-4ED1-992A-CFD6FFFB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607-95E4-4DE3-990E-CEC24950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248-45FC-4DDB-ADCB-25ED4858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766-E490-415F-981F-E6D5BB91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1D52-D39C-44F1-822B-D8B1DA50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CA50-932D-4325-9B75-80FACAAA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1C93-8E87-4DCF-9B05-80572612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A276-3CA1-4738-8967-9DDE7B2F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9F60-724F-4E27-BD4A-C927D657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789C-8268-479F-BE6B-90777245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4666-F13E-465B-A535-DD491384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5D2-A795-4099-8715-497A5DE5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B026-5C03-4D3D-B9B6-307E0698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5711-B1E1-4A64-8DCF-13DA3C05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FE97-9AD6-412F-B507-859F3D2A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C3A2-8998-4826-954F-CF2ACEE5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6344-D447-413F-8CD6-2A314577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DD0-1556-4256-9500-224AC6D2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C3A-717F-4A36-AF34-C7BF439B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6F7-D6C5-4FDA-820C-C49BE727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74C-F62A-4521-B34C-CD125B11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57E-2C99-44FE-937B-65CB5E01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910-FD9C-40C3-A332-38247C6F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DAB-E5A1-426F-8300-51E54E78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E86B-5111-416E-B9B9-2E07B97C4C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64B2-F909-4BB3-868F-98D4226CE2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und43"/>
          <p:cNvPicPr/>
          <p:nvPr/>
        </p:nvPicPr>
        <p:blipFill>
          <a:blip r:embed="rId1"/>
          <a:stretch/>
        </p:blipFill>
        <p:spPr>
          <a:xfrm>
            <a:off x="179280" y="5445000"/>
            <a:ext cx="8964720" cy="1224000"/>
          </a:xfrm>
          <a:prstGeom prst="rect">
            <a:avLst/>
          </a:prstGeom>
          <a:ln w="0">
            <a:noFill/>
          </a:ln>
        </p:spPr>
      </p:pic>
      <p:pic>
        <p:nvPicPr>
          <p:cNvPr id="96" name="WordArt 16" descr=""/>
          <p:cNvPicPr/>
          <p:nvPr/>
        </p:nvPicPr>
        <p:blipFill>
          <a:blip r:embed="rId2"/>
          <a:stretch/>
        </p:blipFill>
        <p:spPr>
          <a:xfrm>
            <a:off x="517680" y="573120"/>
            <a:ext cx="8218440" cy="434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Object 1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und42"/>
          <p:cNvPicPr/>
          <p:nvPr/>
        </p:nvPicPr>
        <p:blipFill>
          <a:blip r:embed="rId1"/>
          <a:stretch/>
        </p:blipFill>
        <p:spPr>
          <a:xfrm>
            <a:off x="826920" y="6203880"/>
            <a:ext cx="8169480" cy="654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емы и методы  1 стад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1617840"/>
          <a:ext cx="8064720" cy="4746600"/>
        </p:xfrm>
        <a:graphic>
          <a:graphicData uri="http://schemas.openxmlformats.org/drawingml/2006/table">
            <a:tbl>
              <a:tblPr/>
              <a:tblGrid>
                <a:gridCol w="36000"/>
                <a:gridCol w="2855520"/>
                <a:gridCol w="2395800"/>
                <a:gridCol w="2777400"/>
              </a:tblGrid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озможные приёмы и мет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5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ызо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е имеющихся знаний по изучаемому вопросу. 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ктивизаци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, 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отивац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ля дальнейшей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споминает,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ему известно по изучаемому вопросу (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лает предположе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стематизируе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ю до её  изучения, 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даёт вопрос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а которые хотел бы получить 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оставление списка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"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звестной информации"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ссказ-предполо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ючевым слов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истематизаци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а (графическая):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теры, таблиц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ерные и неверные утверж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ерепутанные логические цепочки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Приемы стадии вызо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Приём «Покопаемся в памят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Приём «Ассоциаци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Приём «Перепутанные логические цепоч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Приём «Инструкц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Приём «Кластер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8052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Times New Roman"/>
              </a:rPr>
              <a:t>Задачи фазы осмысления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смысление материала во времени работы над ни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2491920"/>
            <a:ext cx="7859520" cy="33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ивно воспринимать изучаемый мате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отнести старые знания с нов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und42"/>
          <p:cNvPicPr/>
          <p:nvPr/>
        </p:nvPicPr>
        <p:blipFill>
          <a:blip r:embed="rId1"/>
          <a:stretch/>
        </p:blipFill>
        <p:spPr>
          <a:xfrm>
            <a:off x="826920" y="6203880"/>
            <a:ext cx="8169480" cy="654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емы и методы 2 стад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00000" y="1617840"/>
          <a:ext cx="8070840" cy="4817880"/>
        </p:xfrm>
        <a:graphic>
          <a:graphicData uri="http://schemas.openxmlformats.org/drawingml/2006/table">
            <a:tbl>
              <a:tblPr/>
              <a:tblGrid>
                <a:gridCol w="36000"/>
                <a:gridCol w="46080"/>
                <a:gridCol w="2445120"/>
                <a:gridCol w="3309120"/>
                <a:gridCol w="2234520"/>
              </a:tblGrid>
              <a:tr h="70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Calibri"/>
                          <a:ea typeface="Calibri"/>
                        </a:rPr>
                        <a:t>Деятельность  учите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Calibri"/>
                          <a:ea typeface="Calibri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Calibri"/>
                          <a:ea typeface="Calibri"/>
                        </a:rPr>
                        <a:t>Возможные приемы и 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6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рганизация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боты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текстом. 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охранение интереса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теме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епенное 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одвижение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знания "старого" к "новому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итает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луша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текст, используя предложенные учителем активные методы чтения, 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лает пометки на полях или ведёт записи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ре осмысления новой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активного чте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0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аркиров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V" - известная информ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-" противоречит моим первоначальным представления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?" - непонятная информац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+" - новая информ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Приемы фазы осмыс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Пометки на полях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Маркировочная таблиц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Двухчастный дневник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Лист решения пробле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Таблица аргументов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Ромашка Блум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омашка Блу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3"/>
          <p:cNvSpPr/>
          <p:nvPr/>
        </p:nvSpPr>
        <p:spPr>
          <a:xfrm rot="17934600">
            <a:off x="4080600" y="2664360"/>
            <a:ext cx="2467080" cy="880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 rot="21547200">
            <a:off x="4728960" y="3750840"/>
            <a:ext cx="2530440" cy="858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яющ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 rot="3547200">
            <a:off x="4114800" y="4852800"/>
            <a:ext cx="2530440" cy="86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очн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 rot="17947200">
            <a:off x="2862720" y="4850280"/>
            <a:ext cx="2467080" cy="880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 rot="21547200">
            <a:off x="2084040" y="3785760"/>
            <a:ext cx="2530440" cy="86040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пре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8"/>
          <p:cNvSpPr/>
          <p:nvPr/>
        </p:nvSpPr>
        <p:spPr>
          <a:xfrm rot="3547200">
            <a:off x="2775600" y="2664360"/>
            <a:ext cx="2530440" cy="858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"/>
          <p:cNvSpPr/>
          <p:nvPr/>
        </p:nvSpPr>
        <p:spPr>
          <a:xfrm rot="21415200">
            <a:off x="4329000" y="3814920"/>
            <a:ext cx="765360" cy="745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8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68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40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24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92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64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99"/>
                </a:solidFill>
                <a:latin typeface="Times New Roman"/>
              </a:rPr>
              <a:t>Ромашка Блу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628280"/>
            <a:ext cx="8146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Простые вопрос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фактические вопросы) – требуют знания фактического материала и ориентированы на работу памя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Уточняющие вопрос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«насколько я понял….», «правильно ли я Вас поняла, что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Интерпретирующие вопрос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объясняющие) – побуждая учеников к интерпрет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Оценочные вопросы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сравнение) – необходимо использовать, когда вы слышите, что кто-либо из учеников выражает соседу по парте свое недовольство или удовольствие от произошедшего на уро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Творческие вопрос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рогноз) – «Как вы думаете, что произойдет дальше…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актические вопросы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«Как мы можем…?» «Как поступили бы вы…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Times New Roman"/>
              </a:rPr>
              <a:t>Задачи фазы рефлексии –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бобщение материала, подведение итог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1640" y="2349360"/>
            <a:ext cx="776916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щимся самостоятельно обобщить изучаемый мате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амостоятельно определить направления в дальнейшем изучении матери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und42"/>
          <p:cNvPicPr/>
          <p:nvPr/>
        </p:nvPicPr>
        <p:blipFill>
          <a:blip r:embed="rId1"/>
          <a:stretch/>
        </p:blipFill>
        <p:spPr>
          <a:xfrm>
            <a:off x="826920" y="6203880"/>
            <a:ext cx="8169480" cy="654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емы и методы 3 стад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1700280"/>
          <a:ext cx="8070840" cy="4913280"/>
        </p:xfrm>
        <a:graphic>
          <a:graphicData uri="http://schemas.openxmlformats.org/drawingml/2006/table">
            <a:tbl>
              <a:tblPr/>
              <a:tblGrid>
                <a:gridCol w="36000"/>
                <a:gridCol w="46080"/>
                <a:gridCol w="2157840"/>
                <a:gridCol w="2876400"/>
                <a:gridCol w="2954520"/>
              </a:tblGrid>
              <a:tr h="70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Calibri"/>
                          <a:ea typeface="Calibri"/>
                        </a:rPr>
                        <a:t>Деятельность  учите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Calibri"/>
                          <a:ea typeface="Calibri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Calibri"/>
                          <a:ea typeface="Calibri"/>
                        </a:rPr>
                        <a:t>Возможные приемы и 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1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ледует вернуть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 к первоначальным записям -предположениям </a:t>
                      </a: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нести изменения, дополнения, дать творческие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</a:t>
                      </a: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оотнося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овую информ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таро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я знания, полученные на стадии осмы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полнение кластеров, таблиц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ричинно-следственной связи между блоками информ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озвра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 прежним утверждения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ве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поставленные вопрос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рганизац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руглых столов и дискуссий, написание творческих раб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Приемы фазы 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РЕФЛЕК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1640" y="184428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Кластер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Сиквэйн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Эсс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Самоанализ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«6 шляп критического мышлени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Ключевые сл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Взаимообучени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71280" y="1628640"/>
            <a:ext cx="776916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«Самое короткое выражение смысла жизни такое: мир движется, совершенствуется, задача человека – участвовать в этом движении, подчиняясь и содействуя ему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Л.Н.Толст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1640" y="1766880"/>
            <a:ext cx="77691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В первой строчке</a:t>
            </a: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а называется одним словом (обыч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уществи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Вторая строчка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описание темы в двух словах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вумя прилагательн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Третья строчка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описание действия в рамках этой тем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ремя слов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Четвертая строчка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фраза из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етырех слов, показывающая отношение к те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Последняя строка</a:t>
            </a: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синоним из одного слова, который повторяе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уть тем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03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Формы и средства развития К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бор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из текс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поставление альтернативных точек з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лективное обсуж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ные виды парной и группов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б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ску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кации письменных работ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6600cc"/>
                </a:solidFill>
                <a:uFillTx/>
                <a:latin typeface="Times New Roman"/>
              </a:rPr>
              <a:t>Роль учителя в ТРКМ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равляет усилия учеников в определенное русл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лкивает различные су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ет условия, побуждающие к принятию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ет учащимся возможность самостоятельно делать выв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авливает новые познавательные ситуации внутри уже существующ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042560" y="1773360"/>
            <a:ext cx="77691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«Учитель должен думать о том, чтобы сначала сделать ученика пригодным для восприятия образования. Учитель, прежде чем образовывать ученика своими наставлениями, сначала должен пробуждать в ученике стремление к образованию, делать ученика, по крайней мере, годным к образованию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                        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Я.А. Комен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und42"/>
          <p:cNvPicPr/>
          <p:nvPr/>
        </p:nvPicPr>
        <p:blipFill>
          <a:blip r:embed="rId1"/>
          <a:stretch/>
        </p:blipFill>
        <p:spPr>
          <a:xfrm>
            <a:off x="826920" y="5084640"/>
            <a:ext cx="8169480" cy="654120"/>
          </a:xfrm>
          <a:prstGeom prst="rect">
            <a:avLst/>
          </a:prstGeom>
          <a:ln w="0">
            <a:noFill/>
          </a:ln>
        </p:spPr>
      </p:pic>
      <p:sp>
        <p:nvSpPr>
          <p:cNvPr id="154" name="WordArt 4"/>
          <p:cNvSpPr txBox="1"/>
          <p:nvPr/>
        </p:nvSpPr>
        <p:spPr>
          <a:xfrm>
            <a:off x="1258920" y="1844640"/>
            <a:ext cx="75628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внимание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ФАЗА - ВЫЗ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Рисунок 5" descr="https://lh3.googleusercontent.com/-GnIiRcktmME/TqRSOCtSrHI/AAAAAAAAGsM/NiifYfscEpE/s459/%D1%80%D0%B8%D1%811.JPG"/>
          <p:cNvPicPr/>
          <p:nvPr/>
        </p:nvPicPr>
        <p:blipFill>
          <a:blip r:embed="rId1">
            <a:alphaModFix amt="55000"/>
          </a:blip>
          <a:stretch/>
        </p:blipFill>
        <p:spPr>
          <a:xfrm>
            <a:off x="900000" y="1773360"/>
            <a:ext cx="806796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ФАЗА - ОСМЫСЛ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Рисунок 6" descr="https://lh4.googleusercontent.com/-2UY6DaJI08o/TqRSPxg5SBI/AAAAAAAAGsU/gStG0lx91Tc/s483/%D0%A0%D0%B8%D1%812.JPG"/>
          <p:cNvPicPr/>
          <p:nvPr/>
        </p:nvPicPr>
        <p:blipFill>
          <a:blip r:embed="rId1"/>
          <a:stretch/>
        </p:blipFill>
        <p:spPr>
          <a:xfrm>
            <a:off x="684360" y="1700280"/>
            <a:ext cx="845964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und42"/>
          <p:cNvPicPr/>
          <p:nvPr/>
        </p:nvPicPr>
        <p:blipFill>
          <a:blip r:embed="rId1"/>
          <a:stretch/>
        </p:blipFill>
        <p:spPr>
          <a:xfrm>
            <a:off x="974880" y="6203880"/>
            <a:ext cx="8169120" cy="6541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971640" y="253440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Calibri"/>
              </a:rPr>
              <a:t>мет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Calibri"/>
              </a:rPr>
              <a:t>активный, пасс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реагирует, восстанавливает, окис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Calibri"/>
              </a:rPr>
              <a:t>отдает электроны внешнего энергоуров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Calibri"/>
              </a:rPr>
              <a:t>    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Calibri"/>
              </a:rPr>
              <a:t>восстанов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42560" y="1700280"/>
            <a:ext cx="776916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витие мыслительных навыков учащихся, необходимых не только в учебе, но и в обычной жизни (умение принимать взвешенные решения, работать с информацией, анализировать различные стороны явлений и т.п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Цель данной технологии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Критическое мышление имеет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5 характерист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-первы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это мышлени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самостояте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-вторы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мышлени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бобщен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-третьи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мышлени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проблемное и оценоч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четверты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это мышлени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аргументирован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пяты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критическое мышление есть мышлени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социа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ff"/>
                </a:solidFill>
                <a:latin typeface="Times New Roman"/>
              </a:rPr>
              <a:t>Думать критически это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являть любозна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ть исследовательские 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вить перед собой воп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уществлять планомерный поиск отве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крывать причины и последствия фак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мнение в общепринятых истин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ботка точки зрения и способность отстоять ее логическими довод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мание к аргументам оппонента и их логическое осмыс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488880"/>
            <a:ext cx="831708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8"/>
                </a:solidFill>
                <a:latin typeface="Times New Roman"/>
              </a:rPr>
              <a:t>Компоненты определения критического мыш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тический мыслител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ует собственное м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ршает обдуманный выбор между различными мне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ает пробл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ргументировано спор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ит совместную работу, в которой возникает общее реш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еет ценить чужую точку зрения и сознает, что восприятие человека и его отношение к любому вопросу формируется под влиянием многих факто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28"/>
                </a:solidFill>
                <a:latin typeface="Times New Roman"/>
              </a:rPr>
              <a:t>Основа ТРКМ</a:t>
            </a:r>
            <a:r>
              <a:rPr b="0" lang="ru-RU" sz="4400" spc="-1" strike="noStrike">
                <a:solidFill>
                  <a:srgbClr val="005828"/>
                </a:solidFill>
                <a:latin typeface="Times New Roman"/>
              </a:rPr>
              <a:t> 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трехфазная структура уро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971640" y="2852640"/>
            <a:ext cx="2592360" cy="576360"/>
          </a:xfrm>
          <a:prstGeom prst="roundRect">
            <a:avLst>
              <a:gd name="adj" fmla="val 16667"/>
            </a:avLst>
          </a:prstGeom>
          <a:solidFill>
            <a:srgbClr val="005828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ыз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3132000" y="3789360"/>
            <a:ext cx="2952720" cy="647640"/>
          </a:xfrm>
          <a:prstGeom prst="roundRect">
            <a:avLst>
              <a:gd name="adj" fmla="val 16667"/>
            </a:avLst>
          </a:prstGeom>
          <a:solidFill>
            <a:srgbClr val="005828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смыс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6227640" y="465300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005828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4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4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4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und42"/>
          <p:cNvPicPr/>
          <p:nvPr/>
        </p:nvPicPr>
        <p:blipFill>
          <a:blip r:embed="rId1"/>
          <a:stretch/>
        </p:blipFill>
        <p:spPr>
          <a:xfrm>
            <a:off x="974880" y="6203880"/>
            <a:ext cx="8169120" cy="654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Главные функ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00000" y="1844640"/>
          <a:ext cx="7920000" cy="4335480"/>
        </p:xfrm>
        <a:graphic>
          <a:graphicData uri="http://schemas.openxmlformats.org/drawingml/2006/table">
            <a:tbl>
              <a:tblPr/>
              <a:tblGrid>
                <a:gridCol w="2640240"/>
                <a:gridCol w="2639880"/>
                <a:gridCol w="2639880"/>
              </a:tblGrid>
              <a:tr h="590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Стадия выз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адия осмы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тадия рефлек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448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0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1" i="1" lang="ru-RU" sz="1400" spc="-1" strike="noStrike" u="sng">
                          <a:solidFill>
                            <a:srgbClr val="663300"/>
                          </a:solidFill>
                          <a:uFillTx/>
                          <a:latin typeface="Times New Roman"/>
                          <a:ea typeface="Times New Roman"/>
                        </a:rPr>
                        <a:t>отивационная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буждение к работе с новой информацией, пробуждение интереса к тем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i="1" lang="ru-RU" sz="1400" spc="-1" strike="noStrike" u="sng">
                          <a:solidFill>
                            <a:srgbClr val="663300"/>
                          </a:solidFill>
                          <a:uFillTx/>
                          <a:latin typeface="Times New Roman"/>
                          <a:ea typeface="Times New Roman"/>
                        </a:rPr>
                        <a:t>нформационная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зов «на поверхность» имеющихся знании по тем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i="1" lang="ru-RU" sz="1400" spc="-1" strike="noStrike" u="sng">
                          <a:solidFill>
                            <a:srgbClr val="663300"/>
                          </a:solidFill>
                          <a:uFillTx/>
                          <a:latin typeface="Times New Roman"/>
                          <a:ea typeface="Times New Roman"/>
                        </a:rPr>
                        <a:t>оммуникационная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есконфликтный обмен мнениям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i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нформационная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лучение новой информации по тем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Систематизационная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лассификация полученной информации по категориям зн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i="1" lang="ru-RU" sz="14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оммуникационная </a:t>
                      </a: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н мнениями о новой информац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Информационная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иобретение нового зн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Мотивационная</a:t>
                      </a: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буждение к дальнейшему расширению информационного пол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Оценочна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оотнесение новой информации и имеющихся знаний, выработка собственной позиции,  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процесс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Times New Roman"/>
              </a:rPr>
              <a:t>Задачи фазы вызов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пробуждение интереса к предмет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42560" y="206028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уализиров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меющиеся у учащихся знания и пробудить познавательный интерес к изучаемому материа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чащимся самим определить направление в изучении 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9:33:14Z</dcterms:created>
  <dc:creator>Ирландец</dc:creator>
  <dc:description/>
  <dc:language>en-US</dc:language>
  <cp:lastModifiedBy>Марина Малинина</cp:lastModifiedBy>
  <dcterms:modified xsi:type="dcterms:W3CDTF">2015-01-27T08:46:36Z</dcterms:modified>
  <cp:revision>117</cp:revision>
  <dc:subject/>
  <dc:title>ТЕХНОЛОГИЯ РАЗВИТИЯ КРИТИЧЕСКОГО МЫШЛЕНИЯ</dc:title>
</cp:coreProperties>
</file>