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floor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52FF-78DA-4FC0-8EB1-14D428B57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CEA8-8E24-4909-B9A9-9CEF6863F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F79E-9B7E-4709-A3DB-5ED37A10A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02F-14BB-4FE4-9406-62123970A1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511-1108-45A1-811D-7E73247D1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906C-F50D-49B1-A15B-ED28790C0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5013-278D-47F2-8D1E-5942191645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511-90BF-4E8C-95A2-DA7FE28A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9DE-93A8-4D29-91C2-E08B134E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240-A92A-486F-BBFC-9DD8D05A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D47-4458-4B23-88B0-E7646048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BF9-E47B-40A9-BB13-AB92C2BF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A89-279C-46FE-BE3C-78702DE3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3D1-FBFC-4E41-A05A-8CC89204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785-5682-408B-B4DB-4ECCEC11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B0D-7A31-484C-9113-F6F55D49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749-5824-40FB-8F4A-BAC28EC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840-DD66-4D95-9465-294687B2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3C1-AC58-48C0-8F63-150FDF6C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9C8A-0269-435E-A596-1FD4B120A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audio" Target="../media/floor1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audio" Target="../media/floor1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логотип СПКУ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6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32240" y="5392800"/>
            <a:ext cx="39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ворческая иг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кодил в СП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ведет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спитатель 7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рлица Сергей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" y="152280"/>
            <a:ext cx="6769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ff361"/>
                </a:solidFill>
                <a:latin typeface="Impact"/>
              </a:rPr>
              <a:t>Творческая игра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ff36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ff361"/>
                </a:solidFill>
                <a:latin typeface="Impact"/>
              </a:rPr>
              <a:t>Крокодил в СПКУ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ff361"/>
              </a:soli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Zh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>
            <a:hlinkClick r:id="rId2" action="ppaction://hlinksldjump"/>
          </p:cNvPr>
          <p:cNvSpPr/>
          <p:nvPr/>
        </p:nvSpPr>
        <p:spPr>
          <a:xfrm>
            <a:off x="228600" y="3049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685800" y="533520"/>
            <a:ext cx="281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AutoShape 11">
            <a:hlinkClick r:id="rId3" action="ppaction://hlinksldjump"/>
          </p:cNvPr>
          <p:cNvSpPr/>
          <p:nvPr/>
        </p:nvSpPr>
        <p:spPr>
          <a:xfrm>
            <a:off x="1752480" y="15238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2133720" y="1752480"/>
            <a:ext cx="533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AutoShape 12">
            <a:hlinkClick r:id="rId4" action="ppaction://hlinksldjump"/>
          </p:cNvPr>
          <p:cNvSpPr/>
          <p:nvPr/>
        </p:nvSpPr>
        <p:spPr>
          <a:xfrm>
            <a:off x="3429000" y="297180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>
            <a:hlinkClick r:id="rId5" action="ppaction://hlinksldjump"/>
          </p:cNvPr>
          <p:cNvSpPr/>
          <p:nvPr/>
        </p:nvSpPr>
        <p:spPr>
          <a:xfrm>
            <a:off x="4876920" y="4419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>
            <a:hlinkClick r:id="rId6" action="ppaction://hlinksldjump"/>
          </p:cNvPr>
          <p:cNvSpPr/>
          <p:nvPr/>
        </p:nvSpPr>
        <p:spPr>
          <a:xfrm>
            <a:off x="6553080" y="5562720"/>
            <a:ext cx="1219320" cy="121896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3733920" y="3200400"/>
            <a:ext cx="58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5181480" y="4648320"/>
            <a:ext cx="662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6858000" y="57913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AutoShape 15">
            <a:hlinkClick r:id="rId7" action="ppaction://hlinksldjump"/>
          </p:cNvPr>
          <p:cNvSpPr/>
          <p:nvPr/>
        </p:nvSpPr>
        <p:spPr>
          <a:xfrm>
            <a:off x="6781680" y="22860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752480" y="15238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2133720" y="1752480"/>
            <a:ext cx="533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7696080" y="388620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8001000" y="41148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1752480" y="152388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2133720" y="1752480"/>
            <a:ext cx="533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3429000" y="2971800"/>
            <a:ext cx="1219320" cy="12193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3733920" y="3200400"/>
            <a:ext cx="58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2666880" y="45720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771640" y="5334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СТЮ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БОРЩ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66688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2666880" y="1828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771640" y="116856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ЕР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9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119" name="AutoShape 50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51" descr="Колокольчик-1"/>
            <p:cNvPicPr/>
            <p:nvPr/>
          </p:nvPicPr>
          <p:blipFill>
            <a:blip r:embed="rId3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AutoShape 56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65"/>
          <p:cNvSpPr txBox="1"/>
          <p:nvPr/>
        </p:nvSpPr>
        <p:spPr>
          <a:xfrm>
            <a:off x="8229600" y="1219320"/>
            <a:ext cx="380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23" name="Picture 67" descr="42"/>
          <p:cNvPicPr/>
          <p:nvPr/>
        </p:nvPicPr>
        <p:blipFill>
          <a:blip r:embed="rId4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42"/>
          <p:cNvPicPr/>
          <p:nvPr/>
        </p:nvPicPr>
        <p:blipFill>
          <a:blip r:embed="rId5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7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3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771640" y="5334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ДИ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ПАРГ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270036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КАС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771640" y="116856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УМБО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173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61"/>
          <p:cNvSpPr txBox="1"/>
          <p:nvPr/>
        </p:nvSpPr>
        <p:spPr>
          <a:xfrm>
            <a:off x="8229600" y="10666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77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7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3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9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1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3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771640" y="5334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АН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СК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266688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К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2771640" y="116856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227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61"/>
          <p:cNvSpPr txBox="1"/>
          <p:nvPr/>
        </p:nvSpPr>
        <p:spPr>
          <a:xfrm>
            <a:off x="8001000" y="1066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31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3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5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7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3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7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9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1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3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7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771640" y="5334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266688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КОВ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НИК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771640" y="116856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БИ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281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1"/>
          <p:cNvSpPr txBox="1"/>
          <p:nvPr/>
        </p:nvSpPr>
        <p:spPr>
          <a:xfrm>
            <a:off x="8153280" y="114300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85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1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7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9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1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3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5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7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9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1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3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5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7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2771640" y="53341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НА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ЕБ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70036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270036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ДОСТОВЕ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ТРО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2743200" y="114300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335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61"/>
          <p:cNvSpPr txBox="1"/>
          <p:nvPr/>
        </p:nvSpPr>
        <p:spPr>
          <a:xfrm>
            <a:off x="7924680" y="106668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9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7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7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90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10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70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9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10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3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50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7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"/>
          <p:cNvSpPr/>
          <p:nvPr/>
        </p:nvSpPr>
        <p:spPr>
          <a:xfrm>
            <a:off x="2700360" y="52578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2700360" y="4565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771640" y="53341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743200" y="4572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ший 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2666880" y="38862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771640" y="3962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9"/>
          <p:cNvSpPr/>
          <p:nvPr/>
        </p:nvSpPr>
        <p:spPr>
          <a:xfrm>
            <a:off x="2700360" y="3200400"/>
            <a:ext cx="3672000" cy="53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2771640" y="3276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>
            <a:off x="2700360" y="25081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2771640" y="25909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2700360" y="18223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277164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ССЕН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2700360" y="1136520"/>
            <a:ext cx="3672000" cy="5400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2743200" y="114300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ryst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324000" y="1052640"/>
            <a:ext cx="2233440" cy="916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48"/>
          <p:cNvGrpSpPr/>
          <p:nvPr/>
        </p:nvGrpSpPr>
        <p:grpSpPr>
          <a:xfrm>
            <a:off x="276120" y="4812120"/>
            <a:ext cx="1068840" cy="1078560"/>
            <a:chOff x="276120" y="4812120"/>
            <a:chExt cx="1068840" cy="1078560"/>
          </a:xfrm>
        </p:grpSpPr>
        <p:sp>
          <p:nvSpPr>
            <p:cNvPr id="389" name="AutoShape 49"/>
            <p:cNvSpPr/>
            <p:nvPr/>
          </p:nvSpPr>
          <p:spPr>
            <a:xfrm>
              <a:off x="380880" y="4925880"/>
              <a:ext cx="935280" cy="936360"/>
            </a:xfrm>
            <a:custGeom>
              <a:avLst/>
              <a:gdLst>
                <a:gd name="textAreaLeft" fmla="*/ 60480 w 935280"/>
                <a:gd name="textAreaRight" fmla="*/ 874800 w 93528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21600" h="21625">
                  <a:moveTo>
                    <a:pt x="0" y="0"/>
                  </a:moveTo>
                  <a:lnTo>
                    <a:pt x="21600" y="0"/>
                  </a:lnTo>
                  <a:lnTo>
                    <a:pt x="21600" y="21625"/>
                  </a:lnTo>
                  <a:lnTo>
                    <a:pt x="0" y="21625"/>
                  </a:lnTo>
                  <a:close/>
                </a:path>
                <a:path fill="lightenLess" w="21600" h="2162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5">
                  <a:moveTo>
                    <a:pt x="21600" y="0"/>
                  </a:moveTo>
                  <a:lnTo>
                    <a:pt x="21600" y="21625"/>
                  </a:lnTo>
                  <a:lnTo>
                    <a:pt x="20200" y="20225"/>
                  </a:lnTo>
                  <a:lnTo>
                    <a:pt x="20200" y="1400"/>
                  </a:lnTo>
                  <a:close/>
                </a:path>
                <a:path fill="darkenLess" w="21600" h="21625">
                  <a:moveTo>
                    <a:pt x="21600" y="21625"/>
                  </a:moveTo>
                  <a:lnTo>
                    <a:pt x="0" y="21625"/>
                  </a:lnTo>
                  <a:lnTo>
                    <a:pt x="1400" y="20225"/>
                  </a:lnTo>
                  <a:lnTo>
                    <a:pt x="20200" y="20225"/>
                  </a:lnTo>
                  <a:close/>
                </a:path>
                <a:path fill="lighten" w="21600" h="21625">
                  <a:moveTo>
                    <a:pt x="0" y="2162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Picture 50" descr="Колокольчик-1"/>
            <p:cNvPicPr/>
            <p:nvPr/>
          </p:nvPicPr>
          <p:blipFill>
            <a:blip r:embed="rId2"/>
            <a:stretch/>
          </p:blipFill>
          <p:spPr>
            <a:xfrm rot="18961800">
              <a:off x="525600" y="4876920"/>
              <a:ext cx="569880" cy="94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AutoShape 52">
            <a:hlinkClick r:id="" action="ppaction://hlinkshowjump?jump=firstslide"/>
          </p:cNvPr>
          <p:cNvSpPr/>
          <p:nvPr/>
        </p:nvSpPr>
        <p:spPr>
          <a:xfrm>
            <a:off x="7391520" y="32767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61"/>
          <p:cNvSpPr txBox="1"/>
          <p:nvPr/>
        </p:nvSpPr>
        <p:spPr>
          <a:xfrm>
            <a:off x="7924680" y="106668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93" name="Picture 63" descr="42"/>
          <p:cNvPicPr/>
          <p:nvPr/>
        </p:nvPicPr>
        <p:blipFill>
          <a:blip r:embed="rId3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42"/>
          <p:cNvPicPr/>
          <p:nvPr/>
        </p:nvPicPr>
        <p:blipFill>
          <a:blip r:embed="rId4"/>
          <a:stretch/>
        </p:blipFill>
        <p:spPr>
          <a:xfrm>
            <a:off x="0" y="0"/>
            <a:ext cx="91440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l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5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10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50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90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41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30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5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90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10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3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5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7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5-01-19T13:30:26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