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floor1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2CDA-4852-4980-8488-7B77300A60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8873-BA9F-4221-9D0C-EF2383C6BD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6F1F-FE89-454D-8699-6F15311572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004A-8BC2-4E6D-AC0C-392D4206A7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EDB5-E38D-4FF4-91E2-F51397D741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8C3F-1269-4424-A8AC-FD6AD6249B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23B2-BC5B-488F-B522-FD0611A0CF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E36-AA6B-46D9-A2D0-8D06AD2C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D75-9A34-4D7C-9CF9-C1C77F14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C60F-3D78-49A3-B606-60CD4581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D5B7-3404-46A7-87D9-63FB6565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B006-13B1-4EC5-8026-4D6F91BE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8DEE-A87F-480F-9720-6D98873D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E92-4F33-424F-8F24-1955B91A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3BA-C64C-4FBF-9E88-EC300FC5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C29-0C06-44DE-A552-16C10EF9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30E-3F8D-4D64-8938-12D8EC2C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F2A-1AA2-48B0-8C79-22CFC6CE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E88F-D2CA-47DE-A76F-7A6F981E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A247-5F1C-4C3C-BA8C-AF5CE7B4C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audio" Target="../media/floor1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audio" Target="../media/floor1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audio" Target="../media/floor1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audio" Target="../media/floor1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audio" Target="../media/floor1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audio" Target="../media/floor1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логотип СПКУ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666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32240" y="5392800"/>
            <a:ext cx="39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ворческая иг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окодил в СП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ведет для В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спитатель 7 «Б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Жерлица Сергей Александ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28600" y="152280"/>
            <a:ext cx="6769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ff361"/>
                </a:solidFill>
                <a:latin typeface="Impact"/>
              </a:rPr>
              <a:t>Творческая игра 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ff361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ff361"/>
                </a:solidFill>
                <a:latin typeface="Impact"/>
              </a:rPr>
              <a:t>Крокодил в СПКУ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ff361"/>
              </a:soli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Zhd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0">
            <a:hlinkClick r:id="rId2" action="ppaction://hlinksldjump"/>
          </p:cNvPr>
          <p:cNvSpPr/>
          <p:nvPr/>
        </p:nvSpPr>
        <p:spPr>
          <a:xfrm>
            <a:off x="228600" y="304920"/>
            <a:ext cx="1219320" cy="121896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6" h="21600">
                <a:moveTo>
                  <a:pt x="0" y="0"/>
                </a:moveTo>
                <a:lnTo>
                  <a:pt x="21606" y="0"/>
                </a:lnTo>
                <a:lnTo>
                  <a:pt x="21606" y="21600"/>
                </a:lnTo>
                <a:lnTo>
                  <a:pt x="0" y="21600"/>
                </a:lnTo>
                <a:close/>
              </a:path>
              <a:path fill="lightenLess" w="21606" h="21600">
                <a:moveTo>
                  <a:pt x="0" y="0"/>
                </a:moveTo>
                <a:lnTo>
                  <a:pt x="21606" y="0"/>
                </a:lnTo>
                <a:lnTo>
                  <a:pt x="20206" y="1400"/>
                </a:lnTo>
                <a:lnTo>
                  <a:pt x="1400" y="1400"/>
                </a:lnTo>
                <a:close/>
              </a:path>
              <a:path fill="darken" w="21606" h="21600">
                <a:moveTo>
                  <a:pt x="21606" y="0"/>
                </a:moveTo>
                <a:lnTo>
                  <a:pt x="21606" y="21600"/>
                </a:lnTo>
                <a:lnTo>
                  <a:pt x="20206" y="20200"/>
                </a:lnTo>
                <a:lnTo>
                  <a:pt x="20206" y="1400"/>
                </a:lnTo>
                <a:close/>
              </a:path>
              <a:path fill="darkenLess" w="21606" h="21600">
                <a:moveTo>
                  <a:pt x="21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6" y="20200"/>
                </a:lnTo>
                <a:close/>
              </a:path>
              <a:path fill="lighten" w="21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685800" y="533520"/>
            <a:ext cx="281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AutoShape 11">
            <a:hlinkClick r:id="rId3" action="ppaction://hlinksldjump"/>
          </p:cNvPr>
          <p:cNvSpPr/>
          <p:nvPr/>
        </p:nvSpPr>
        <p:spPr>
          <a:xfrm>
            <a:off x="1752480" y="1523880"/>
            <a:ext cx="1219320" cy="12193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2133720" y="1752480"/>
            <a:ext cx="533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AutoShape 12">
            <a:hlinkClick r:id="rId4" action="ppaction://hlinksldjump"/>
          </p:cNvPr>
          <p:cNvSpPr/>
          <p:nvPr/>
        </p:nvSpPr>
        <p:spPr>
          <a:xfrm>
            <a:off x="3429000" y="2971800"/>
            <a:ext cx="1219320" cy="12193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3">
            <a:hlinkClick r:id="rId5" action="ppaction://hlinksldjump"/>
          </p:cNvPr>
          <p:cNvSpPr/>
          <p:nvPr/>
        </p:nvSpPr>
        <p:spPr>
          <a:xfrm>
            <a:off x="4876920" y="4419720"/>
            <a:ext cx="1218960" cy="121896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4">
            <a:hlinkClick r:id="rId6" action="ppaction://hlinksldjump"/>
          </p:cNvPr>
          <p:cNvSpPr/>
          <p:nvPr/>
        </p:nvSpPr>
        <p:spPr>
          <a:xfrm>
            <a:off x="6553080" y="5562720"/>
            <a:ext cx="1219320" cy="121896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6" h="21600">
                <a:moveTo>
                  <a:pt x="0" y="0"/>
                </a:moveTo>
                <a:lnTo>
                  <a:pt x="21606" y="0"/>
                </a:lnTo>
                <a:lnTo>
                  <a:pt x="21606" y="21600"/>
                </a:lnTo>
                <a:lnTo>
                  <a:pt x="0" y="21600"/>
                </a:lnTo>
                <a:close/>
              </a:path>
              <a:path fill="lightenLess" w="21606" h="21600">
                <a:moveTo>
                  <a:pt x="0" y="0"/>
                </a:moveTo>
                <a:lnTo>
                  <a:pt x="21606" y="0"/>
                </a:lnTo>
                <a:lnTo>
                  <a:pt x="20206" y="1400"/>
                </a:lnTo>
                <a:lnTo>
                  <a:pt x="1400" y="1400"/>
                </a:lnTo>
                <a:close/>
              </a:path>
              <a:path fill="darken" w="21606" h="21600">
                <a:moveTo>
                  <a:pt x="21606" y="0"/>
                </a:moveTo>
                <a:lnTo>
                  <a:pt x="21606" y="21600"/>
                </a:lnTo>
                <a:lnTo>
                  <a:pt x="20206" y="20200"/>
                </a:lnTo>
                <a:lnTo>
                  <a:pt x="20206" y="1400"/>
                </a:lnTo>
                <a:close/>
              </a:path>
              <a:path fill="darkenLess" w="21606" h="21600">
                <a:moveTo>
                  <a:pt x="21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6" y="20200"/>
                </a:lnTo>
                <a:close/>
              </a:path>
              <a:path fill="lighten" w="21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7"/>
          <p:cNvSpPr txBox="1"/>
          <p:nvPr/>
        </p:nvSpPr>
        <p:spPr>
          <a:xfrm>
            <a:off x="3733920" y="3200400"/>
            <a:ext cx="58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5181480" y="4648320"/>
            <a:ext cx="662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6858000" y="5791320"/>
            <a:ext cx="609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AutoShape 15">
            <a:hlinkClick r:id="rId7" action="ppaction://hlinksldjump"/>
          </p:cNvPr>
          <p:cNvSpPr/>
          <p:nvPr/>
        </p:nvSpPr>
        <p:spPr>
          <a:xfrm>
            <a:off x="6781680" y="228600"/>
            <a:ext cx="2057400" cy="838080"/>
          </a:xfrm>
          <a:custGeom>
            <a:avLst/>
            <a:gdLst>
              <a:gd name="textAreaLeft" fmla="*/ 54000 w 2057400"/>
              <a:gd name="textAreaRight" fmla="*/ 2003400 w 2057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3012" h="21600">
                <a:moveTo>
                  <a:pt x="0" y="0"/>
                </a:moveTo>
                <a:lnTo>
                  <a:pt x="53012" y="0"/>
                </a:lnTo>
                <a:lnTo>
                  <a:pt x="53012" y="21600"/>
                </a:lnTo>
                <a:lnTo>
                  <a:pt x="0" y="21600"/>
                </a:lnTo>
                <a:close/>
              </a:path>
              <a:path fill="lightenLess" w="53012" h="21600">
                <a:moveTo>
                  <a:pt x="0" y="0"/>
                </a:moveTo>
                <a:lnTo>
                  <a:pt x="53012" y="0"/>
                </a:lnTo>
                <a:lnTo>
                  <a:pt x="51612" y="1400"/>
                </a:lnTo>
                <a:lnTo>
                  <a:pt x="1400" y="1400"/>
                </a:lnTo>
                <a:close/>
              </a:path>
              <a:path fill="darken" w="53012" h="21600">
                <a:moveTo>
                  <a:pt x="53012" y="0"/>
                </a:moveTo>
                <a:lnTo>
                  <a:pt x="53012" y="21600"/>
                </a:lnTo>
                <a:lnTo>
                  <a:pt x="51612" y="20200"/>
                </a:lnTo>
                <a:lnTo>
                  <a:pt x="51612" y="1400"/>
                </a:lnTo>
                <a:close/>
              </a:path>
              <a:path fill="darkenLess" w="53012" h="21600">
                <a:moveTo>
                  <a:pt x="53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12" y="20200"/>
                </a:lnTo>
                <a:close/>
              </a:path>
              <a:path fill="lighten" w="53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1752480" y="1523880"/>
            <a:ext cx="1219320" cy="12193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2133720" y="1752480"/>
            <a:ext cx="533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AutoShape 14"/>
          <p:cNvSpPr/>
          <p:nvPr/>
        </p:nvSpPr>
        <p:spPr>
          <a:xfrm>
            <a:off x="7696080" y="3886200"/>
            <a:ext cx="1219320" cy="12193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8001000" y="411480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1752480" y="1523880"/>
            <a:ext cx="1219320" cy="12193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2133720" y="1752480"/>
            <a:ext cx="533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3429000" y="2971800"/>
            <a:ext cx="1219320" cy="12193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3733920" y="3200400"/>
            <a:ext cx="58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"/>
          <p:cNvSpPr/>
          <p:nvPr/>
        </p:nvSpPr>
        <p:spPr>
          <a:xfrm>
            <a:off x="2700360" y="52578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2666880" y="45720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771640" y="53341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СТЮ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743200" y="4572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БОРЩ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2700360" y="38862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771640" y="39625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СПИТ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2666880" y="32004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71640" y="3276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2700360" y="25081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771640" y="25909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ВТО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>
            <a:off x="2666880" y="18288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2771640" y="19051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ОЛ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5"/>
          <p:cNvSpPr/>
          <p:nvPr/>
        </p:nvSpPr>
        <p:spPr>
          <a:xfrm>
            <a:off x="2700360" y="11365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2771640" y="1168560"/>
            <a:ext cx="352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ЕНЕР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9"/>
          <p:cNvGrpSpPr/>
          <p:nvPr/>
        </p:nvGrpSpPr>
        <p:grpSpPr>
          <a:xfrm>
            <a:off x="276120" y="4812120"/>
            <a:ext cx="1068840" cy="1078560"/>
            <a:chOff x="276120" y="4812120"/>
            <a:chExt cx="1068840" cy="1078560"/>
          </a:xfrm>
        </p:grpSpPr>
        <p:sp>
          <p:nvSpPr>
            <p:cNvPr id="119" name="AutoShape 50"/>
            <p:cNvSpPr/>
            <p:nvPr/>
          </p:nvSpPr>
          <p:spPr>
            <a:xfrm>
              <a:off x="380880" y="4925880"/>
              <a:ext cx="935280" cy="936360"/>
            </a:xfrm>
            <a:custGeom>
              <a:avLst/>
              <a:gdLst>
                <a:gd name="textAreaLeft" fmla="*/ 60480 w 935280"/>
                <a:gd name="textAreaRight" fmla="*/ 874800 w 935280"/>
                <a:gd name="textAreaTop" fmla="*/ 60480 h 936360"/>
                <a:gd name="textAreaBottom" fmla="*/ 875880 h 936360"/>
              </a:gdLst>
              <a:ahLst/>
              <a:rect l="textAreaLeft" t="textAreaTop" r="textAreaRight" b="textAreaBottom"/>
              <a:pathLst>
                <a:path w="21600" h="21625">
                  <a:moveTo>
                    <a:pt x="0" y="0"/>
                  </a:moveTo>
                  <a:lnTo>
                    <a:pt x="21600" y="0"/>
                  </a:lnTo>
                  <a:lnTo>
                    <a:pt x="21600" y="21625"/>
                  </a:lnTo>
                  <a:lnTo>
                    <a:pt x="0" y="21625"/>
                  </a:lnTo>
                  <a:close/>
                </a:path>
                <a:path fill="lightenLess" w="21600" h="2162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5">
                  <a:moveTo>
                    <a:pt x="21600" y="0"/>
                  </a:moveTo>
                  <a:lnTo>
                    <a:pt x="21600" y="21625"/>
                  </a:lnTo>
                  <a:lnTo>
                    <a:pt x="20200" y="20225"/>
                  </a:lnTo>
                  <a:lnTo>
                    <a:pt x="20200" y="1400"/>
                  </a:lnTo>
                  <a:close/>
                </a:path>
                <a:path fill="darkenLess" w="21600" h="21625">
                  <a:moveTo>
                    <a:pt x="21600" y="21625"/>
                  </a:moveTo>
                  <a:lnTo>
                    <a:pt x="0" y="21625"/>
                  </a:lnTo>
                  <a:lnTo>
                    <a:pt x="1400" y="20225"/>
                  </a:lnTo>
                  <a:lnTo>
                    <a:pt x="20200" y="20225"/>
                  </a:lnTo>
                  <a:close/>
                </a:path>
                <a:path fill="lighten" w="21600" h="21625">
                  <a:moveTo>
                    <a:pt x="0" y="2162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51" descr="Колокольчик-1"/>
            <p:cNvPicPr/>
            <p:nvPr/>
          </p:nvPicPr>
          <p:blipFill>
            <a:blip r:embed="rId3"/>
            <a:stretch/>
          </p:blipFill>
          <p:spPr>
            <a:xfrm rot="18961800">
              <a:off x="525600" y="4876920"/>
              <a:ext cx="569880" cy="94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AutoShape 56">
            <a:hlinkClick r:id="" action="ppaction://hlinkshowjump?jump=firstslide"/>
          </p:cNvPr>
          <p:cNvSpPr/>
          <p:nvPr/>
        </p:nvSpPr>
        <p:spPr>
          <a:xfrm>
            <a:off x="7391520" y="32767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65"/>
          <p:cNvSpPr txBox="1"/>
          <p:nvPr/>
        </p:nvSpPr>
        <p:spPr>
          <a:xfrm>
            <a:off x="8229600" y="1219320"/>
            <a:ext cx="380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23" name="Picture 67" descr="42"/>
          <p:cNvPicPr/>
          <p:nvPr/>
        </p:nvPicPr>
        <p:blipFill>
          <a:blip r:embed="rId4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42"/>
          <p:cNvPicPr/>
          <p:nvPr/>
        </p:nvPicPr>
        <p:blipFill>
          <a:blip r:embed="rId5"/>
          <a:stretch/>
        </p:blipFill>
        <p:spPr>
          <a:xfrm>
            <a:off x="0" y="0"/>
            <a:ext cx="91440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l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1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7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9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3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7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1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7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9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3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5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7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2700360" y="52578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2700360" y="45655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771640" y="53341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743200" y="4572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ДИ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2700360" y="38862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771640" y="39625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ПАРГА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2700360" y="32004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2771640" y="3276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ЕР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700360" y="25081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2771640" y="25909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КАС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2700360" y="18223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2771640" y="19051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ПИС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5"/>
          <p:cNvSpPr/>
          <p:nvPr/>
        </p:nvSpPr>
        <p:spPr>
          <a:xfrm>
            <a:off x="2700360" y="11365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2771640" y="1168560"/>
            <a:ext cx="352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УМБОЧ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8"/>
          <p:cNvGrpSpPr/>
          <p:nvPr/>
        </p:nvGrpSpPr>
        <p:grpSpPr>
          <a:xfrm>
            <a:off x="276120" y="4812120"/>
            <a:ext cx="1068840" cy="1078560"/>
            <a:chOff x="276120" y="4812120"/>
            <a:chExt cx="1068840" cy="1078560"/>
          </a:xfrm>
        </p:grpSpPr>
        <p:sp>
          <p:nvSpPr>
            <p:cNvPr id="173" name="AutoShape 49"/>
            <p:cNvSpPr/>
            <p:nvPr/>
          </p:nvSpPr>
          <p:spPr>
            <a:xfrm>
              <a:off x="380880" y="4925880"/>
              <a:ext cx="935280" cy="936360"/>
            </a:xfrm>
            <a:custGeom>
              <a:avLst/>
              <a:gdLst>
                <a:gd name="textAreaLeft" fmla="*/ 60480 w 935280"/>
                <a:gd name="textAreaRight" fmla="*/ 874800 w 935280"/>
                <a:gd name="textAreaTop" fmla="*/ 60480 h 936360"/>
                <a:gd name="textAreaBottom" fmla="*/ 875880 h 936360"/>
              </a:gdLst>
              <a:ahLst/>
              <a:rect l="textAreaLeft" t="textAreaTop" r="textAreaRight" b="textAreaBottom"/>
              <a:pathLst>
                <a:path w="21600" h="21625">
                  <a:moveTo>
                    <a:pt x="0" y="0"/>
                  </a:moveTo>
                  <a:lnTo>
                    <a:pt x="21600" y="0"/>
                  </a:lnTo>
                  <a:lnTo>
                    <a:pt x="21600" y="21625"/>
                  </a:lnTo>
                  <a:lnTo>
                    <a:pt x="0" y="21625"/>
                  </a:lnTo>
                  <a:close/>
                </a:path>
                <a:path fill="lightenLess" w="21600" h="2162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5">
                  <a:moveTo>
                    <a:pt x="21600" y="0"/>
                  </a:moveTo>
                  <a:lnTo>
                    <a:pt x="21600" y="21625"/>
                  </a:lnTo>
                  <a:lnTo>
                    <a:pt x="20200" y="20225"/>
                  </a:lnTo>
                  <a:lnTo>
                    <a:pt x="20200" y="1400"/>
                  </a:lnTo>
                  <a:close/>
                </a:path>
                <a:path fill="darkenLess" w="21600" h="21625">
                  <a:moveTo>
                    <a:pt x="21600" y="21625"/>
                  </a:moveTo>
                  <a:lnTo>
                    <a:pt x="0" y="21625"/>
                  </a:lnTo>
                  <a:lnTo>
                    <a:pt x="1400" y="20225"/>
                  </a:lnTo>
                  <a:lnTo>
                    <a:pt x="20200" y="20225"/>
                  </a:lnTo>
                  <a:close/>
                </a:path>
                <a:path fill="lighten" w="21600" h="21625">
                  <a:moveTo>
                    <a:pt x="0" y="2162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50" descr="Колокольчик-1"/>
            <p:cNvPicPr/>
            <p:nvPr/>
          </p:nvPicPr>
          <p:blipFill>
            <a:blip r:embed="rId2"/>
            <a:stretch/>
          </p:blipFill>
          <p:spPr>
            <a:xfrm rot="18961800">
              <a:off x="525600" y="4876920"/>
              <a:ext cx="569880" cy="94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AutoShape 52">
            <a:hlinkClick r:id="" action="ppaction://hlinkshowjump?jump=firstslide"/>
          </p:cNvPr>
          <p:cNvSpPr/>
          <p:nvPr/>
        </p:nvSpPr>
        <p:spPr>
          <a:xfrm>
            <a:off x="7391520" y="32767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61"/>
          <p:cNvSpPr txBox="1"/>
          <p:nvPr/>
        </p:nvSpPr>
        <p:spPr>
          <a:xfrm>
            <a:off x="8229600" y="10666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77" name="Picture 63" descr="42"/>
          <p:cNvPicPr/>
          <p:nvPr/>
        </p:nvPicPr>
        <p:blipFill>
          <a:blip r:embed="rId3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42"/>
          <p:cNvPicPr/>
          <p:nvPr/>
        </p:nvPicPr>
        <p:blipFill>
          <a:blip r:embed="rId4"/>
          <a:stretch/>
        </p:blipFill>
        <p:spPr>
          <a:xfrm>
            <a:off x="0" y="0"/>
            <a:ext cx="91440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l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9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7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7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9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3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5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7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9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1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3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5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7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"/>
          <p:cNvSpPr/>
          <p:nvPr/>
        </p:nvSpPr>
        <p:spPr>
          <a:xfrm>
            <a:off x="2700360" y="52578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2700360" y="45655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771640" y="53341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А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743200" y="4572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МАНД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2700360" y="38862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2771640" y="39625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ИСКОТ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2666880" y="32004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2771640" y="3276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2700360" y="25081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2771640" y="25909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КК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3"/>
          <p:cNvSpPr/>
          <p:nvPr/>
        </p:nvSpPr>
        <p:spPr>
          <a:xfrm>
            <a:off x="2700360" y="18223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2771640" y="19051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2700360" y="11365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2771640" y="1168560"/>
            <a:ext cx="352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48"/>
          <p:cNvGrpSpPr/>
          <p:nvPr/>
        </p:nvGrpSpPr>
        <p:grpSpPr>
          <a:xfrm>
            <a:off x="276120" y="4812120"/>
            <a:ext cx="1068840" cy="1078560"/>
            <a:chOff x="276120" y="4812120"/>
            <a:chExt cx="1068840" cy="1078560"/>
          </a:xfrm>
        </p:grpSpPr>
        <p:sp>
          <p:nvSpPr>
            <p:cNvPr id="227" name="AutoShape 49"/>
            <p:cNvSpPr/>
            <p:nvPr/>
          </p:nvSpPr>
          <p:spPr>
            <a:xfrm>
              <a:off x="380880" y="4925880"/>
              <a:ext cx="935280" cy="936360"/>
            </a:xfrm>
            <a:custGeom>
              <a:avLst/>
              <a:gdLst>
                <a:gd name="textAreaLeft" fmla="*/ 60480 w 935280"/>
                <a:gd name="textAreaRight" fmla="*/ 874800 w 935280"/>
                <a:gd name="textAreaTop" fmla="*/ 60480 h 936360"/>
                <a:gd name="textAreaBottom" fmla="*/ 875880 h 936360"/>
              </a:gdLst>
              <a:ahLst/>
              <a:rect l="textAreaLeft" t="textAreaTop" r="textAreaRight" b="textAreaBottom"/>
              <a:pathLst>
                <a:path w="21600" h="21625">
                  <a:moveTo>
                    <a:pt x="0" y="0"/>
                  </a:moveTo>
                  <a:lnTo>
                    <a:pt x="21600" y="0"/>
                  </a:lnTo>
                  <a:lnTo>
                    <a:pt x="21600" y="21625"/>
                  </a:lnTo>
                  <a:lnTo>
                    <a:pt x="0" y="21625"/>
                  </a:lnTo>
                  <a:close/>
                </a:path>
                <a:path fill="lightenLess" w="21600" h="2162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5">
                  <a:moveTo>
                    <a:pt x="21600" y="0"/>
                  </a:moveTo>
                  <a:lnTo>
                    <a:pt x="21600" y="21625"/>
                  </a:lnTo>
                  <a:lnTo>
                    <a:pt x="20200" y="20225"/>
                  </a:lnTo>
                  <a:lnTo>
                    <a:pt x="20200" y="1400"/>
                  </a:lnTo>
                  <a:close/>
                </a:path>
                <a:path fill="darkenLess" w="21600" h="21625">
                  <a:moveTo>
                    <a:pt x="21600" y="21625"/>
                  </a:moveTo>
                  <a:lnTo>
                    <a:pt x="0" y="21625"/>
                  </a:lnTo>
                  <a:lnTo>
                    <a:pt x="1400" y="20225"/>
                  </a:lnTo>
                  <a:lnTo>
                    <a:pt x="20200" y="20225"/>
                  </a:lnTo>
                  <a:close/>
                </a:path>
                <a:path fill="lighten" w="21600" h="21625">
                  <a:moveTo>
                    <a:pt x="0" y="2162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50" descr="Колокольчик-1"/>
            <p:cNvPicPr/>
            <p:nvPr/>
          </p:nvPicPr>
          <p:blipFill>
            <a:blip r:embed="rId2"/>
            <a:stretch/>
          </p:blipFill>
          <p:spPr>
            <a:xfrm rot="18961800">
              <a:off x="525600" y="4876920"/>
              <a:ext cx="569880" cy="94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AutoShape 52">
            <a:hlinkClick r:id="" action="ppaction://hlinkshowjump?jump=firstslide"/>
          </p:cNvPr>
          <p:cNvSpPr/>
          <p:nvPr/>
        </p:nvSpPr>
        <p:spPr>
          <a:xfrm>
            <a:off x="7391520" y="32767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61"/>
          <p:cNvSpPr txBox="1"/>
          <p:nvPr/>
        </p:nvSpPr>
        <p:spPr>
          <a:xfrm>
            <a:off x="8001000" y="10666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31" name="Picture 63" descr="42"/>
          <p:cNvPicPr/>
          <p:nvPr/>
        </p:nvPicPr>
        <p:blipFill>
          <a:blip r:embed="rId3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42"/>
          <p:cNvPicPr/>
          <p:nvPr/>
        </p:nvPicPr>
        <p:blipFill>
          <a:blip r:embed="rId4"/>
          <a:stretch/>
        </p:blipFill>
        <p:spPr>
          <a:xfrm>
            <a:off x="0" y="0"/>
            <a:ext cx="91440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l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0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3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5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7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9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3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5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7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9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1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3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5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7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"/>
          <p:cNvSpPr/>
          <p:nvPr/>
        </p:nvSpPr>
        <p:spPr>
          <a:xfrm>
            <a:off x="2700360" y="52578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2700360" y="45655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771640" y="53341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НЕВ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2743200" y="4572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Д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2700360" y="38862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2771640" y="39625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ИЛ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2666880" y="32004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2771640" y="3276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КОВ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1"/>
          <p:cNvSpPr/>
          <p:nvPr/>
        </p:nvSpPr>
        <p:spPr>
          <a:xfrm>
            <a:off x="2700360" y="25081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2771640" y="25909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НИК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3"/>
          <p:cNvSpPr/>
          <p:nvPr/>
        </p:nvSpPr>
        <p:spPr>
          <a:xfrm>
            <a:off x="2700360" y="18223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771640" y="19051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КЗА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5"/>
          <p:cNvSpPr/>
          <p:nvPr/>
        </p:nvSpPr>
        <p:spPr>
          <a:xfrm>
            <a:off x="2700360" y="11365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771640" y="1168560"/>
            <a:ext cx="352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БИ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48"/>
          <p:cNvGrpSpPr/>
          <p:nvPr/>
        </p:nvGrpSpPr>
        <p:grpSpPr>
          <a:xfrm>
            <a:off x="276120" y="4812120"/>
            <a:ext cx="1068840" cy="1078560"/>
            <a:chOff x="276120" y="4812120"/>
            <a:chExt cx="1068840" cy="1078560"/>
          </a:xfrm>
        </p:grpSpPr>
        <p:sp>
          <p:nvSpPr>
            <p:cNvPr id="281" name="AutoShape 49"/>
            <p:cNvSpPr/>
            <p:nvPr/>
          </p:nvSpPr>
          <p:spPr>
            <a:xfrm>
              <a:off x="380880" y="4925880"/>
              <a:ext cx="935280" cy="936360"/>
            </a:xfrm>
            <a:custGeom>
              <a:avLst/>
              <a:gdLst>
                <a:gd name="textAreaLeft" fmla="*/ 60480 w 935280"/>
                <a:gd name="textAreaRight" fmla="*/ 874800 w 935280"/>
                <a:gd name="textAreaTop" fmla="*/ 60480 h 936360"/>
                <a:gd name="textAreaBottom" fmla="*/ 875880 h 936360"/>
              </a:gdLst>
              <a:ahLst/>
              <a:rect l="textAreaLeft" t="textAreaTop" r="textAreaRight" b="textAreaBottom"/>
              <a:pathLst>
                <a:path w="21600" h="21625">
                  <a:moveTo>
                    <a:pt x="0" y="0"/>
                  </a:moveTo>
                  <a:lnTo>
                    <a:pt x="21600" y="0"/>
                  </a:lnTo>
                  <a:lnTo>
                    <a:pt x="21600" y="21625"/>
                  </a:lnTo>
                  <a:lnTo>
                    <a:pt x="0" y="21625"/>
                  </a:lnTo>
                  <a:close/>
                </a:path>
                <a:path fill="lightenLess" w="21600" h="2162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5">
                  <a:moveTo>
                    <a:pt x="21600" y="0"/>
                  </a:moveTo>
                  <a:lnTo>
                    <a:pt x="21600" y="21625"/>
                  </a:lnTo>
                  <a:lnTo>
                    <a:pt x="20200" y="20225"/>
                  </a:lnTo>
                  <a:lnTo>
                    <a:pt x="20200" y="1400"/>
                  </a:lnTo>
                  <a:close/>
                </a:path>
                <a:path fill="darkenLess" w="21600" h="21625">
                  <a:moveTo>
                    <a:pt x="21600" y="21625"/>
                  </a:moveTo>
                  <a:lnTo>
                    <a:pt x="0" y="21625"/>
                  </a:lnTo>
                  <a:lnTo>
                    <a:pt x="1400" y="20225"/>
                  </a:lnTo>
                  <a:lnTo>
                    <a:pt x="20200" y="20225"/>
                  </a:lnTo>
                  <a:close/>
                </a:path>
                <a:path fill="lighten" w="21600" h="21625">
                  <a:moveTo>
                    <a:pt x="0" y="2162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2" name="Picture 50" descr="Колокольчик-1"/>
            <p:cNvPicPr/>
            <p:nvPr/>
          </p:nvPicPr>
          <p:blipFill>
            <a:blip r:embed="rId2"/>
            <a:stretch/>
          </p:blipFill>
          <p:spPr>
            <a:xfrm rot="18961800">
              <a:off x="525600" y="4876920"/>
              <a:ext cx="569880" cy="94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AutoShape 52">
            <a:hlinkClick r:id="" action="ppaction://hlinkshowjump?jump=firstslide"/>
          </p:cNvPr>
          <p:cNvSpPr/>
          <p:nvPr/>
        </p:nvSpPr>
        <p:spPr>
          <a:xfrm>
            <a:off x="7391520" y="32767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61"/>
          <p:cNvSpPr txBox="1"/>
          <p:nvPr/>
        </p:nvSpPr>
        <p:spPr>
          <a:xfrm>
            <a:off x="8153280" y="1143000"/>
            <a:ext cx="609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85" name="Picture 63" descr="42"/>
          <p:cNvPicPr/>
          <p:nvPr/>
        </p:nvPicPr>
        <p:blipFill>
          <a:blip r:embed="rId3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3" descr="42"/>
          <p:cNvPicPr/>
          <p:nvPr/>
        </p:nvPicPr>
        <p:blipFill>
          <a:blip r:embed="rId4"/>
          <a:stretch/>
        </p:blipFill>
        <p:spPr>
          <a:xfrm>
            <a:off x="0" y="0"/>
            <a:ext cx="91440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l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70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9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9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10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30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50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7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9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1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43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450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7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49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1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3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50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7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"/>
          <p:cNvSpPr/>
          <p:nvPr/>
        </p:nvSpPr>
        <p:spPr>
          <a:xfrm>
            <a:off x="2700360" y="52578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2700360" y="45655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2771640" y="53341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НАР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743200" y="4572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ЕБ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2700360" y="38862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2771640" y="39625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9"/>
          <p:cNvSpPr/>
          <p:nvPr/>
        </p:nvSpPr>
        <p:spPr>
          <a:xfrm>
            <a:off x="2700360" y="32004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2771640" y="3276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ДОСТОВЕ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2700360" y="25081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2771640" y="25909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Д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3"/>
          <p:cNvSpPr/>
          <p:nvPr/>
        </p:nvSpPr>
        <p:spPr>
          <a:xfrm>
            <a:off x="2700360" y="18223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2771640" y="19051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ТРО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5"/>
          <p:cNvSpPr/>
          <p:nvPr/>
        </p:nvSpPr>
        <p:spPr>
          <a:xfrm>
            <a:off x="2700360" y="11365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2743200" y="1143000"/>
            <a:ext cx="352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48"/>
          <p:cNvGrpSpPr/>
          <p:nvPr/>
        </p:nvGrpSpPr>
        <p:grpSpPr>
          <a:xfrm>
            <a:off x="276120" y="4812120"/>
            <a:ext cx="1068840" cy="1078560"/>
            <a:chOff x="276120" y="4812120"/>
            <a:chExt cx="1068840" cy="1078560"/>
          </a:xfrm>
        </p:grpSpPr>
        <p:sp>
          <p:nvSpPr>
            <p:cNvPr id="335" name="AutoShape 49"/>
            <p:cNvSpPr/>
            <p:nvPr/>
          </p:nvSpPr>
          <p:spPr>
            <a:xfrm>
              <a:off x="380880" y="4925880"/>
              <a:ext cx="935280" cy="936360"/>
            </a:xfrm>
            <a:custGeom>
              <a:avLst/>
              <a:gdLst>
                <a:gd name="textAreaLeft" fmla="*/ 60480 w 935280"/>
                <a:gd name="textAreaRight" fmla="*/ 874800 w 935280"/>
                <a:gd name="textAreaTop" fmla="*/ 60480 h 936360"/>
                <a:gd name="textAreaBottom" fmla="*/ 875880 h 936360"/>
              </a:gdLst>
              <a:ahLst/>
              <a:rect l="textAreaLeft" t="textAreaTop" r="textAreaRight" b="textAreaBottom"/>
              <a:pathLst>
                <a:path w="21600" h="21625">
                  <a:moveTo>
                    <a:pt x="0" y="0"/>
                  </a:moveTo>
                  <a:lnTo>
                    <a:pt x="21600" y="0"/>
                  </a:lnTo>
                  <a:lnTo>
                    <a:pt x="21600" y="21625"/>
                  </a:lnTo>
                  <a:lnTo>
                    <a:pt x="0" y="21625"/>
                  </a:lnTo>
                  <a:close/>
                </a:path>
                <a:path fill="lightenLess" w="21600" h="2162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5">
                  <a:moveTo>
                    <a:pt x="21600" y="0"/>
                  </a:moveTo>
                  <a:lnTo>
                    <a:pt x="21600" y="21625"/>
                  </a:lnTo>
                  <a:lnTo>
                    <a:pt x="20200" y="20225"/>
                  </a:lnTo>
                  <a:lnTo>
                    <a:pt x="20200" y="1400"/>
                  </a:lnTo>
                  <a:close/>
                </a:path>
                <a:path fill="darkenLess" w="21600" h="21625">
                  <a:moveTo>
                    <a:pt x="21600" y="21625"/>
                  </a:moveTo>
                  <a:lnTo>
                    <a:pt x="0" y="21625"/>
                  </a:lnTo>
                  <a:lnTo>
                    <a:pt x="1400" y="20225"/>
                  </a:lnTo>
                  <a:lnTo>
                    <a:pt x="20200" y="20225"/>
                  </a:lnTo>
                  <a:close/>
                </a:path>
                <a:path fill="lighten" w="21600" h="21625">
                  <a:moveTo>
                    <a:pt x="0" y="2162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50" descr="Колокольчик-1"/>
            <p:cNvPicPr/>
            <p:nvPr/>
          </p:nvPicPr>
          <p:blipFill>
            <a:blip r:embed="rId2"/>
            <a:stretch/>
          </p:blipFill>
          <p:spPr>
            <a:xfrm rot="18961800">
              <a:off x="525600" y="4876920"/>
              <a:ext cx="569880" cy="94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AutoShape 52">
            <a:hlinkClick r:id="" action="ppaction://hlinkshowjump?jump=firstslide"/>
          </p:cNvPr>
          <p:cNvSpPr/>
          <p:nvPr/>
        </p:nvSpPr>
        <p:spPr>
          <a:xfrm>
            <a:off x="7391520" y="32767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61"/>
          <p:cNvSpPr txBox="1"/>
          <p:nvPr/>
        </p:nvSpPr>
        <p:spPr>
          <a:xfrm>
            <a:off x="7924680" y="1066680"/>
            <a:ext cx="762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39" name="Picture 63" descr="42"/>
          <p:cNvPicPr/>
          <p:nvPr/>
        </p:nvPicPr>
        <p:blipFill>
          <a:blip r:embed="rId3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42"/>
          <p:cNvPicPr/>
          <p:nvPr/>
        </p:nvPicPr>
        <p:blipFill>
          <a:blip r:embed="rId4"/>
          <a:stretch/>
        </p:blipFill>
        <p:spPr>
          <a:xfrm>
            <a:off x="0" y="0"/>
            <a:ext cx="91440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1" dur="indefinite" restart="never" nodeType="tmRoot">
          <p:childTnLst>
            <p:seq>
              <p:cTn id="54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l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70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9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10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3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50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70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900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41000"/>
                            </p:stCondLst>
                            <p:childTnLst>
                              <p:par>
                                <p:cTn id="6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430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4500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70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90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10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3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5000"/>
                            </p:stCondLst>
                            <p:childTnLst>
                              <p:par>
                                <p:cTn id="6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7000"/>
                            </p:stCondLst>
                            <p:childTnLst>
                              <p:par>
                                <p:cTn id="6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"/>
          <p:cNvSpPr/>
          <p:nvPr/>
        </p:nvSpPr>
        <p:spPr>
          <a:xfrm>
            <a:off x="2700360" y="52578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2700360" y="45655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771640" y="53341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2743200" y="4572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рший Воспит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2666880" y="38862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2771640" y="39625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9"/>
          <p:cNvSpPr/>
          <p:nvPr/>
        </p:nvSpPr>
        <p:spPr>
          <a:xfrm>
            <a:off x="2700360" y="32004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2771640" y="3276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ВТО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>
            <a:off x="2700360" y="25081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2771640" y="25909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Р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3"/>
          <p:cNvSpPr/>
          <p:nvPr/>
        </p:nvSpPr>
        <p:spPr>
          <a:xfrm>
            <a:off x="2700360" y="18223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2771640" y="19051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ССЕН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5"/>
          <p:cNvSpPr/>
          <p:nvPr/>
        </p:nvSpPr>
        <p:spPr>
          <a:xfrm>
            <a:off x="2700360" y="11365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2743200" y="1143000"/>
            <a:ext cx="352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ВОЛЬ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48"/>
          <p:cNvGrpSpPr/>
          <p:nvPr/>
        </p:nvGrpSpPr>
        <p:grpSpPr>
          <a:xfrm>
            <a:off x="276120" y="4812120"/>
            <a:ext cx="1068840" cy="1078560"/>
            <a:chOff x="276120" y="4812120"/>
            <a:chExt cx="1068840" cy="1078560"/>
          </a:xfrm>
        </p:grpSpPr>
        <p:sp>
          <p:nvSpPr>
            <p:cNvPr id="389" name="AutoShape 49"/>
            <p:cNvSpPr/>
            <p:nvPr/>
          </p:nvSpPr>
          <p:spPr>
            <a:xfrm>
              <a:off x="380880" y="4925880"/>
              <a:ext cx="935280" cy="936360"/>
            </a:xfrm>
            <a:custGeom>
              <a:avLst/>
              <a:gdLst>
                <a:gd name="textAreaLeft" fmla="*/ 60480 w 935280"/>
                <a:gd name="textAreaRight" fmla="*/ 874800 w 935280"/>
                <a:gd name="textAreaTop" fmla="*/ 60480 h 936360"/>
                <a:gd name="textAreaBottom" fmla="*/ 875880 h 936360"/>
              </a:gdLst>
              <a:ahLst/>
              <a:rect l="textAreaLeft" t="textAreaTop" r="textAreaRight" b="textAreaBottom"/>
              <a:pathLst>
                <a:path w="21600" h="21625">
                  <a:moveTo>
                    <a:pt x="0" y="0"/>
                  </a:moveTo>
                  <a:lnTo>
                    <a:pt x="21600" y="0"/>
                  </a:lnTo>
                  <a:lnTo>
                    <a:pt x="21600" y="21625"/>
                  </a:lnTo>
                  <a:lnTo>
                    <a:pt x="0" y="21625"/>
                  </a:lnTo>
                  <a:close/>
                </a:path>
                <a:path fill="lightenLess" w="21600" h="2162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5">
                  <a:moveTo>
                    <a:pt x="21600" y="0"/>
                  </a:moveTo>
                  <a:lnTo>
                    <a:pt x="21600" y="21625"/>
                  </a:lnTo>
                  <a:lnTo>
                    <a:pt x="20200" y="20225"/>
                  </a:lnTo>
                  <a:lnTo>
                    <a:pt x="20200" y="1400"/>
                  </a:lnTo>
                  <a:close/>
                </a:path>
                <a:path fill="darkenLess" w="21600" h="21625">
                  <a:moveTo>
                    <a:pt x="21600" y="21625"/>
                  </a:moveTo>
                  <a:lnTo>
                    <a:pt x="0" y="21625"/>
                  </a:lnTo>
                  <a:lnTo>
                    <a:pt x="1400" y="20225"/>
                  </a:lnTo>
                  <a:lnTo>
                    <a:pt x="20200" y="20225"/>
                  </a:lnTo>
                  <a:close/>
                </a:path>
                <a:path fill="lighten" w="21600" h="21625">
                  <a:moveTo>
                    <a:pt x="0" y="2162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Picture 50" descr="Колокольчик-1"/>
            <p:cNvPicPr/>
            <p:nvPr/>
          </p:nvPicPr>
          <p:blipFill>
            <a:blip r:embed="rId2"/>
            <a:stretch/>
          </p:blipFill>
          <p:spPr>
            <a:xfrm rot="18961800">
              <a:off x="525600" y="4876920"/>
              <a:ext cx="569880" cy="94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1" name="AutoShape 52">
            <a:hlinkClick r:id="" action="ppaction://hlinkshowjump?jump=firstslide"/>
          </p:cNvPr>
          <p:cNvSpPr/>
          <p:nvPr/>
        </p:nvSpPr>
        <p:spPr>
          <a:xfrm>
            <a:off x="7391520" y="32767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WordArt 61"/>
          <p:cNvSpPr txBox="1"/>
          <p:nvPr/>
        </p:nvSpPr>
        <p:spPr>
          <a:xfrm>
            <a:off x="7924680" y="1066680"/>
            <a:ext cx="762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93" name="Picture 63" descr="42"/>
          <p:cNvPicPr/>
          <p:nvPr/>
        </p:nvPicPr>
        <p:blipFill>
          <a:blip r:embed="rId3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3" descr="42"/>
          <p:cNvPicPr/>
          <p:nvPr/>
        </p:nvPicPr>
        <p:blipFill>
          <a:blip r:embed="rId4"/>
          <a:stretch/>
        </p:blipFill>
        <p:spPr>
          <a:xfrm>
            <a:off x="0" y="0"/>
            <a:ext cx="91440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6" dur="indefinite" restart="never" nodeType="tmRoot">
          <p:childTnLst>
            <p:seq>
              <p:cTn id="677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684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1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708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l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30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90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90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10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30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50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700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9000"/>
                            </p:stCondLst>
                            <p:childTnLst>
                              <p:par>
                                <p:cTn id="7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31000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30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35000"/>
                            </p:stCondLst>
                            <p:childTnLst>
                              <p:par>
                                <p:cTn id="7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70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90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4100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30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50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470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490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10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300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50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70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5-01-19T13:30:26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