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2080" y="74088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05200" y="93736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C340-C7EF-47B6-AD2A-1BFA83668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208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05200" y="93740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E0E-E12C-4FC2-B7A1-0FFFECFE0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208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ом этапе апробации в работе были следующие компоненты УМК курса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лом, мнение участников апроб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05200" y="93740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F2B5-1711-49C3-A948-CC7E49A70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208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1400" y="4687560"/>
            <a:ext cx="53755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05200" y="93740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BCA-BA92-439A-B10F-6D43BEFFB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E78C-DD66-4CFB-BBC9-34F04E68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25D8-BD63-40F9-856F-7142938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282B-A058-46C1-A412-592B392F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6DBD-9DBF-4E73-828F-2CDACF46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B103-0441-41CF-8696-5D6073B0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230B-B5E9-4DB3-986B-30EA6F2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0C39-8582-465E-8646-FF992C8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2A4D-F476-4F3A-A4F1-0752107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7C3-60F7-4EE0-9307-E652920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C17B-3E6A-4823-B9A4-247BDE68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624E-D611-42B0-82C7-0FB8D7A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C088-173D-48FF-9082-3B7F995B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879F-D12C-4464-9FE7-FB4A492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1313-712F-419E-91D1-CC5AC71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5350-2B03-4390-9EED-86FEAD2E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719C-3540-4CC9-8644-75A348A8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708-D627-47ED-B05E-B66F886A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C54E-0536-4156-9AB2-9CF0F9C7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3168-B659-4FF1-8F3E-CA76831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3949-173B-4967-8B71-94EF1767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D714-EC02-401F-B478-DAFB4D36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E80F-AD46-442D-94EF-6519DFC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B923-4523-4672-A196-BAD7E15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FBF0-47E4-49EF-82E8-3050C97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3A13-1967-4996-839B-02241871301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CCB-7223-4F20-99FF-AE5F2D997F5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ra.ru/images/news/041/681/041681/200x128_Medvede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5e47"/>
                </a:solidFill>
                <a:latin typeface="Tahoma"/>
              </a:rPr>
              <a:t>«Основы религиозных культур и светской этики» -</a:t>
            </a:r>
            <a:br>
              <a:rPr sz="3600"/>
            </a:br>
            <a:r>
              <a:rPr b="1" lang="ru-RU" sz="2800" spc="-1" strike="noStrike">
                <a:solidFill>
                  <a:srgbClr val="858157"/>
                </a:solidFill>
                <a:latin typeface="Tahoma"/>
              </a:rPr>
              <a:t>новый учебный предмет в учебном плане начальной школы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779640" y="3860640"/>
            <a:ext cx="415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МБОУ СОШ №1 г. Покачи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Родительская конференция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Черных Л.В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1900" spc="-1" strike="noStrike">
                <a:solidFill>
                  <a:srgbClr val="2f2b20"/>
                </a:solidFill>
                <a:latin typeface="Calibri"/>
              </a:rPr>
              <a:t>08.12.2011г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D4C-CB4C-419C-908F-A7352F552F1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581040" y="105264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..Прошу обеспечить решение организационных и финансовых вопросов, касающихся введения в 2010 году в 18-ти субъектах Российской Федерации, </a:t>
            </a:r>
            <a:br>
              <a:rPr sz="2000"/>
            </a:b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а с 2012 года во всех субъектах Российской Федерации в общеобразовательных учреждениях новых предметов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основы православн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исламск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буддийск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иудейской культуры,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мировых религиозных культур </a:t>
            </a:r>
            <a:br>
              <a:rPr sz="2000"/>
            </a:b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- основы светской эт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для изучения учащимися по их выбору или по выбору их родителей (законных представителей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11280" y="333360"/>
            <a:ext cx="74167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ahoma"/>
                <a:ea typeface="Tahoma"/>
              </a:rPr>
              <a:t>Поручение Президента от 02.08.2009 № Пр-2009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ОРКСЭ - формирование мотивации к осознанному нравственному поведению и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иалогу культур и мировоззрений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5" descr="20100430_regilia"/>
          <p:cNvPicPr/>
          <p:nvPr/>
        </p:nvPicPr>
        <p:blipFill>
          <a:blip r:embed="rId1"/>
          <a:stretch/>
        </p:blipFill>
        <p:spPr>
          <a:xfrm>
            <a:off x="4073400" y="1844640"/>
            <a:ext cx="4032360" cy="324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Calibri"/>
              </a:rPr>
              <a:t>Задачи курс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знакомство детей с основами традиционных для России и мировых культур, светской этики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развитие представлений о значении нравственности в жизни человека и гражданин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обобщение знаний о духовной культуре и морали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Формирование основ мировоззрения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развитие способностей к полиэтичности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0" name="Picture 8" descr="мальчишка перед раскрытой толстой книгой"/>
          <p:cNvPicPr/>
          <p:nvPr/>
        </p:nvPicPr>
        <p:blipFill>
          <a:blip r:embed="rId1"/>
          <a:stretch/>
        </p:blipFill>
        <p:spPr>
          <a:xfrm>
            <a:off x="5076720" y="1844640"/>
            <a:ext cx="2957760" cy="388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716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Основной подход курса –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культурологический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Базовые понятия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культурная традиция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ировоззрение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уховность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нравственность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3" name="Picture 6" descr="мальчик и огромный учебник"/>
          <p:cNvPicPr/>
          <p:nvPr/>
        </p:nvPicPr>
        <p:blipFill>
          <a:blip r:embed="rId1"/>
          <a:stretch/>
        </p:blipFill>
        <p:spPr>
          <a:xfrm>
            <a:off x="4140360" y="1700280"/>
            <a:ext cx="3744720" cy="338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6960" y="333000"/>
            <a:ext cx="7817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Религия как часть мировой культуры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Изучение исторических и культурных основ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религий в системе образования должно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формировать </a:t>
            </a: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у обучающихся </a:t>
            </a: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представление о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религии как о важнейшей составляюще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мировой культуры</a:t>
            </a: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, являться осново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воспитания межнациональной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межконфессиональной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толерантности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способствоват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осознанному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выбору мировоззрения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4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Рисунок 4" descr="DSC04418.JPG"/>
          <p:cNvPicPr/>
          <p:nvPr/>
        </p:nvPicPr>
        <p:blipFill>
          <a:blip r:embed="rId1"/>
          <a:stretch/>
        </p:blipFill>
        <p:spPr>
          <a:xfrm>
            <a:off x="4206960" y="3352680"/>
            <a:ext cx="4041720" cy="303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Основной принцип ОРКСЭ - </a:t>
            </a:r>
            <a:r>
              <a:rPr b="1" lang="ru-RU" sz="2800" spc="-1" strike="noStrike">
                <a:solidFill>
                  <a:srgbClr val="675e47"/>
                </a:solidFill>
                <a:latin typeface="Calibri"/>
              </a:rPr>
              <a:t>поликультурность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се модули согласуются по педагогическим целям, задачам, требованиям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4336920" y="1773360"/>
            <a:ext cx="3547800" cy="4247640"/>
            <a:chOff x="4336920" y="1773360"/>
            <a:chExt cx="3547800" cy="4247640"/>
          </a:xfrm>
        </p:grpSpPr>
        <p:pic>
          <p:nvPicPr>
            <p:cNvPr id="139" name="Picture 5" descr="183248135"/>
            <p:cNvPicPr/>
            <p:nvPr/>
          </p:nvPicPr>
          <p:blipFill>
            <a:blip r:embed="rId1"/>
            <a:stretch/>
          </p:blipFill>
          <p:spPr>
            <a:xfrm>
              <a:off x="4336920" y="3909600"/>
              <a:ext cx="3526560" cy="21114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40" name="Picture 6" descr="крестикт равенство"/>
            <p:cNvPicPr/>
            <p:nvPr/>
          </p:nvPicPr>
          <p:blipFill>
            <a:blip r:embed="rId2"/>
            <a:stretch/>
          </p:blipFill>
          <p:spPr>
            <a:xfrm>
              <a:off x="4356360" y="1773360"/>
              <a:ext cx="3528360" cy="21362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mbria"/>
              </a:rPr>
              <a:t>КУРС «ОСНОВЫ РЕЛИГИОЗНЫХ КУЛЬТУР И СВЕТСКОЙ ЭТИКИ» КАК ОДИН ИЗ МЕХАНИЗМОВ РЕАЛИЗАЦИИ ДУХОВНО-НРАВСТВЕННОГО ВОСПИТАНИЯ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Освоение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школьниками </a:t>
            </a: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курса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должно обеспечит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понимание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значения нравственности, морал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формирование представлений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об основах религиозных культур и светской этик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формирование уважительного отношения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к различным традиция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Calibri"/>
              </a:rPr>
              <a:t>укрепление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еемственности поколени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4859280" y="1700280"/>
            <a:ext cx="3384720" cy="4635000"/>
            <a:chOff x="4859280" y="1700280"/>
            <a:chExt cx="3384720" cy="4635000"/>
          </a:xfrm>
        </p:grpSpPr>
        <p:pic>
          <p:nvPicPr>
            <p:cNvPr id="144" name="Picture 5" descr="малками - храм"/>
            <p:cNvPicPr/>
            <p:nvPr/>
          </p:nvPicPr>
          <p:blipFill>
            <a:blip r:embed="rId1"/>
            <a:stretch/>
          </p:blipFill>
          <p:spPr>
            <a:xfrm>
              <a:off x="4859280" y="1700280"/>
              <a:ext cx="3383280" cy="23443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45" name="Picture 6" descr="пара - интересно"/>
            <p:cNvPicPr/>
            <p:nvPr/>
          </p:nvPicPr>
          <p:blipFill>
            <a:blip r:embed="rId2"/>
            <a:stretch/>
          </p:blipFill>
          <p:spPr>
            <a:xfrm>
              <a:off x="4859280" y="3935520"/>
              <a:ext cx="3384720" cy="2399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КОНЦЕПЦИЯ ПРЕПОДАВАНИЯ КУРСА. </a:t>
            </a:r>
            <a:br>
              <a:rPr sz="2800"/>
            </a:b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ОСНОВНЫЕ ПРИНЦИПЫ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541520"/>
            <a:ext cx="8715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58157"/>
                </a:solidFill>
                <a:latin typeface="Tahoma"/>
                <a:ea typeface="Tahoma"/>
              </a:rPr>
              <a:t>1.СВЕТСКИЙ ХАРАКТЕР ПРЕПОДАВАНИЯ ПРЕДМЕТ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      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Федеральный закон «О свободе совести и о религиозных объединениях», а также Закон Российской Федерации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«Об образовании» устанавливают, что государство должно обеспечивать светский характер образования в государственных и муниципальных образовательных учреждениях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2. </a:t>
            </a:r>
            <a:r>
              <a:rPr b="1" lang="ru-RU" sz="2000" spc="-1" strike="noStrike">
                <a:solidFill>
                  <a:srgbClr val="858157"/>
                </a:solidFill>
                <a:latin typeface="Tahoma"/>
                <a:ea typeface="Tahoma"/>
              </a:rPr>
              <a:t>СВОБОДА И ДОБРОВОЛЬНОСТЬ ВЫБОРА МОДУЛЯ РОДИТЕЛЯМИ ОБУЧАЮЩИХСЯ</a:t>
            </a:r>
            <a:r>
              <a:rPr b="1" lang="ru-RU" sz="2200" spc="-1" strike="noStrike">
                <a:solidFill>
                  <a:srgbClr val="858157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CCD7-5D7B-469D-9D55-2B2BB0D544B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4" descr="bg_guys.jpg"/>
          <p:cNvPicPr/>
          <p:nvPr/>
        </p:nvPicPr>
        <p:blipFill>
          <a:blip r:embed="rId1"/>
          <a:stretch/>
        </p:blipFill>
        <p:spPr>
          <a:xfrm>
            <a:off x="4859280" y="4292640"/>
            <a:ext cx="3238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13840" y="259920"/>
            <a:ext cx="8029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"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Это абсолютно </a:t>
            </a:r>
            <a:r>
              <a:rPr b="1" i="1" lang="ru-RU" sz="2800" spc="-1" strike="noStrike" u="sng">
                <a:solidFill>
                  <a:srgbClr val="675e47"/>
                </a:solidFill>
                <a:uFillTx/>
                <a:latin typeface="Tahoma"/>
                <a:ea typeface="Tahoma"/>
              </a:rPr>
              <a:t>светский курс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, который будут вести обычные учителя. Ребята смогут узнать об истории и культуре основных религий, ценностях светской этики"</a:t>
            </a: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,   </a:t>
            </a: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- отметил Министр образования и науки  РФ   А. Фурсенко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"</a:t>
            </a:r>
            <a:r>
              <a:rPr b="1" i="1" lang="ru-RU" sz="2800" spc="-1" strike="noStrike">
                <a:solidFill>
                  <a:srgbClr val="675e47"/>
                </a:solidFill>
                <a:latin typeface="Tahoma"/>
                <a:ea typeface="Tahoma"/>
              </a:rPr>
              <a:t>Задача, которая стоит перед данным курсом, заключается в формировании общества, основанного на согласии и понимании. Все мы разные, но мы живём в одной стране и должны учиться уважать ценности представителей всех культур</a:t>
            </a: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". </a:t>
            </a:r>
            <a:br>
              <a:rPr sz="2800"/>
            </a:b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 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Структура предмета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1356840"/>
            <a:ext cx="7993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Комплексный учебный предмет состоит из 6 модулей: 1)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основы православной культуры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2)основы исламской культуры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3)основы буддийской культуры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4)основы иудейской культуры,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675e47"/>
                </a:solidFill>
                <a:latin typeface="Tahoma"/>
                <a:ea typeface="Tahoma"/>
              </a:rPr>
              <a:t>5)основы мировых религиозных культур, 6)основы светской этики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Все модули нового предмета соединяются 4 общими тематическими блоками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1. Духовные ценности и нравственные идеалы в жизни человека и общества (1 ч.)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2.Основы традиционных религий и светской этики (16 ч.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3.Традиционные религии и этика в России (13 ч.)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4.Духовные традиции многонационального народа России (4 ч.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61A-E865-4B8D-B2B7-304E8380F9B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71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ahoma"/>
              </a:rPr>
              <a:t>Комплексный учебный предмет </a:t>
            </a:r>
            <a:br>
              <a:rPr sz="2400"/>
            </a:br>
            <a:r>
              <a:rPr b="1" lang="ru-RU" sz="2400" spc="-1" strike="noStrike">
                <a:solidFill>
                  <a:srgbClr val="675e47"/>
                </a:solidFill>
                <a:latin typeface="Tahoma"/>
              </a:rPr>
              <a:t>«Основы религиозных культур и светской этики»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010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675e47"/>
                </a:solidFill>
                <a:latin typeface="Cambria"/>
              </a:rPr>
              <a:t>Блок1. Духовные ценности и нравственные идеалы в жизни человека и общества (1 ч.) </a:t>
            </a:r>
            <a:br>
              <a:rPr sz="2900"/>
            </a:br>
            <a:endParaRPr b="0" lang="en-US" sz="25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56840"/>
            <a:ext cx="778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Первый урок называется - «Наш дом – Россия»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На нем присутствует весь класс, ведет его классный руководитель или один из наиболее подготовленных учителей школы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Обучающиеся узнают о единстве многонационального российского народа,  о многообразии его культурных, духовных, религиозных традиций. О том, что такое «духовность», «традиция», «нравственные ценности», какое значение они имеют в жизни человека, семьи, общества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На первом уроке проводится мысль, что при явном различии наших взглядов на мир (каждый из школьников уже выбрал определенный модуль), при том, что все люди разные, мы – народ России – едины, у нас общий язык, культура, история, территория, государство, и главное - сходные нравственные основы, делающие нас людьми по отношению друг к другу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7D2-A2CC-4EAB-B12C-8AB7314BCF8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675e47"/>
                </a:solidFill>
                <a:latin typeface="Tahoma"/>
                <a:ea typeface="Tahoma"/>
              </a:rPr>
              <a:t>Блок 2.Основы традиционных религий и светской этики (16 ч.).</a:t>
            </a:r>
            <a:br>
              <a:rPr sz="2900"/>
            </a:b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Предусматривает разделение учащихся по группам для изучения избранного модуля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В ходе изучения второго блока учащиеся должны получить системные знания о культуре православия, культуре ислама, культуре буддизма, культуре иудаизма, других мировых религий, а также о светской этике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Второй блок завершается подведением итогов по пройденному материалу и несложными творческими работам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77A-F4BB-441F-9220-5FAAA2BACB6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675e47"/>
                </a:solidFill>
                <a:latin typeface="Tahoma"/>
                <a:ea typeface="Tahoma"/>
              </a:rPr>
              <a:t>Блок 3.Традиционные религии и этика в России (13 ч.);</a:t>
            </a:r>
            <a:br>
              <a:rPr sz="2900"/>
            </a:br>
            <a:endParaRPr b="0" lang="en-US" sz="2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12640"/>
            <a:ext cx="78598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одолжается раздельное обучение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одолжается знакомство учащихся с общими основами религий и этики, но уже с учетом культурно-исторических особенностей нашей страны и конкретного региона, где проживает семья обучающегося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В содержании блока большое место занимает семья, ценности семейной жизни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Тема Родины, патриотизма, гражданственности, любви к родной земле служения Отечеству определяет направленность большинства тем этого блока как в историческом, так и в современном контекстах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36F0-6278-452F-BE6C-3C3A5DCCF95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700" spc="-1" strike="noStrike">
                <a:solidFill>
                  <a:srgbClr val="675e47"/>
                </a:solidFill>
                <a:latin typeface="Tahoma"/>
                <a:ea typeface="Tahoma"/>
              </a:rPr>
              <a:t>Блок 4. Духовные традиции многонационального народа России (4 ч.).</a:t>
            </a:r>
            <a:br>
              <a:rPr sz="2900"/>
            </a:br>
            <a:endParaRPr b="0" lang="en-US" sz="27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356840"/>
            <a:ext cx="80661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Учащиеся одного класса работают вместе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Происходит презентация индивидуальных и коллективных творческих проектов: «Как я понимаю православие?», «Ислам – религия мира», «Как я понимаю буддизм?», «Нравственные нормы иудаизма», «С чего начинается Родина?», «Герои России», «Вклад моей семьи в благополучие и процветание Отечества (труд, ратный подвиг, творчество и т.п.)»,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Обучающиеся получают возможность ознакомиться с основным содержанием всех 6 модулей, узнать от своих одноклассников о других духовных традициях, сравнить, содержание сходных тем по всем модулям, составить целостное представление о многообразии и единстве духовных традиций многонационального народа России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Блок завершается школьно-семейным праздником «Диалог культур во имя гражданского мира и согласия», посвященном Дню народного единства (4 ноября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140D-990D-4314-A896-3EE5F617B04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5e47"/>
                </a:solidFill>
                <a:latin typeface="Tahoma"/>
                <a:ea typeface="Tahoma"/>
              </a:rPr>
              <a:t>Предметные результаты </a:t>
            </a:r>
            <a:br>
              <a:rPr sz="3600"/>
            </a:br>
            <a:r>
              <a:rPr b="1" lang="ru-RU" sz="3600" spc="-1" strike="noStrike">
                <a:solidFill>
                  <a:srgbClr val="675e47"/>
                </a:solidFill>
                <a:latin typeface="Tahoma"/>
                <a:ea typeface="Tahoma"/>
              </a:rPr>
              <a:t>изучения курса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7" name="Picture 2" descr="D:\ПРЕЗЕНТАЦИИ\ОРКиСЭ.jpg"/>
          <p:cNvPicPr/>
          <p:nvPr/>
        </p:nvPicPr>
        <p:blipFill>
          <a:blip r:embed="rId1"/>
          <a:stretch/>
        </p:blipFill>
        <p:spPr>
          <a:xfrm>
            <a:off x="250920" y="1700280"/>
            <a:ext cx="3066840" cy="360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131640" y="1444680"/>
            <a:ext cx="52563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готовность к нравственному самосовершенствованию, духовному саморазвитию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знакомство с основными нормами светской и религиозной морали, понимание их значения в выстраивании конструктивных отношений в семье и обществе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формирование первоначальных представлений о светской этике, о традиционных религиях, их роли в культуре, истории и современности России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становление внутренней установки личности поступать согласно своей совести; воспитание нравственности, основанной на свободе совести и вероисповедания, духовных  традициях народов России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Tahoma"/>
                <a:ea typeface="Tahoma"/>
              </a:rPr>
              <a:t>осознание ценности человеческой жизни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62B5-8080-4860-8A75-91F33FF6F885}" type="slidenum">
              <a:rPr b="0" lang="ru-RU" sz="18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6" descr=""/>
          <p:cNvPicPr/>
          <p:nvPr/>
        </p:nvPicPr>
        <p:blipFill>
          <a:blip r:embed="rId2"/>
          <a:stretch/>
        </p:blipFill>
        <p:spPr>
          <a:xfrm>
            <a:off x="8107200" y="0"/>
            <a:ext cx="1036800" cy="596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634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Работа с семьями обучающихся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Согласование педагогических усилий семьи и школы – важнейшее условие нравственного воспитания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едмет ОРКСЭ  - социально-педагогическая технология морального оздоровления обществ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Формы работы с родителями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1)Проведение  родительских собраний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2)Система вопросов-заданий, включающих родителей в учебно-воспитательный процесс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3)Участие в подготовке и проведении школьно-семейного праздника «Диалог культур во имя гражданского мира и согласия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5889-6A47-4A4B-A53A-D7A2331CAD0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Внеучебная деятельность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1214280"/>
            <a:ext cx="8435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Для   подготовки и проведения праздника «Диалог культур во имя гражданского мира и согласия» привлекаются родители обучающихся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В процессе проведения школьно-семейного праздника могут быть  представлены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1)презентации творческих работ школьников, выполненные по результатам изучения модулей предмета  ОРКиСЭ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2)номера детской (желательно при участии родителей) художественной самодеятельности, представляющие культурно-исторические, духовно-нравственные традиции конфессий и народов России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3)выставка детских художественных работ, представляющих особенности религиозного искусства разных конфессий России, а также традиционного искусства народов нашей страны, объединенные общей духовно-нравственной проблематикой;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ahoma"/>
                <a:ea typeface="Tahoma"/>
              </a:rPr>
              <a:t>4)дегустация блюд национальной кухни народов России</a:t>
            </a:r>
            <a:r>
              <a:rPr b="1" lang="ru-RU" sz="1800" spc="-1" strike="noStrike">
                <a:solidFill>
                  <a:srgbClr val="675e47"/>
                </a:solidFill>
                <a:latin typeface="Tahoma"/>
                <a:ea typeface="Tahoma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51DF-8597-4943-8166-31FF45CA415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Текст 2"/>
          <p:cNvGrpSpPr/>
          <p:nvPr/>
        </p:nvGrpSpPr>
        <p:grpSpPr>
          <a:xfrm>
            <a:off x="55440" y="1670040"/>
            <a:ext cx="2237040" cy="4651560"/>
            <a:chOff x="55440" y="1670040"/>
            <a:chExt cx="2237040" cy="4651560"/>
          </a:xfrm>
        </p:grpSpPr>
        <p:pic>
          <p:nvPicPr>
            <p:cNvPr id="178" name="Текст 2" descr=""/>
            <p:cNvPicPr/>
            <p:nvPr/>
          </p:nvPicPr>
          <p:blipFill>
            <a:blip r:embed="rId1"/>
            <a:stretch/>
          </p:blipFill>
          <p:spPr>
            <a:xfrm>
              <a:off x="55440" y="1670040"/>
              <a:ext cx="223704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1747800"/>
              <a:ext cx="2016360" cy="44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libri"/>
                </a:rPr>
                <a:t>1</a:t>
              </a: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. Программа кур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2. Учебные пособия для учащих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3. Книга для учите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4. Книга для родител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2b20"/>
                  </a:solidFill>
                  <a:latin typeface="Cambria"/>
                </a:rPr>
                <a:t>5.Электронные прилож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0" name="Содержимое 4" descr="posobiya.bmp"/>
          <p:cNvPicPr/>
          <p:nvPr/>
        </p:nvPicPr>
        <p:blipFill>
          <a:blip r:embed="rId2"/>
          <a:stretch/>
        </p:blipFill>
        <p:spPr>
          <a:xfrm>
            <a:off x="3492360" y="1265400"/>
            <a:ext cx="4991400" cy="44193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rodit.jpg"/>
          <p:cNvPicPr/>
          <p:nvPr/>
        </p:nvPicPr>
        <p:blipFill>
          <a:blip r:embed="rId3"/>
          <a:stretch/>
        </p:blipFill>
        <p:spPr>
          <a:xfrm>
            <a:off x="2195640" y="1413000"/>
            <a:ext cx="1296720" cy="19684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uchit.jpg"/>
          <p:cNvPicPr/>
          <p:nvPr/>
        </p:nvPicPr>
        <p:blipFill>
          <a:blip r:embed="rId4"/>
          <a:stretch/>
        </p:blipFill>
        <p:spPr>
          <a:xfrm>
            <a:off x="2206800" y="3573360"/>
            <a:ext cx="1285560" cy="1952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468360" y="189000"/>
            <a:ext cx="78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Cambria"/>
              </a:rPr>
              <a:t>Состав комплексного учебного курса ОРКС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6" descr=""/>
          <p:cNvPicPr/>
          <p:nvPr/>
        </p:nvPicPr>
        <p:blipFill>
          <a:blip r:embed="rId5"/>
          <a:stretch/>
        </p:blipFill>
        <p:spPr>
          <a:xfrm>
            <a:off x="8107200" y="0"/>
            <a:ext cx="1036800" cy="596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5634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Объект 5" descr=""/>
          <p:cNvPicPr/>
          <p:nvPr/>
        </p:nvPicPr>
        <p:blipFill>
          <a:blip r:embed="rId1"/>
          <a:stretch/>
        </p:blipFill>
        <p:spPr>
          <a:xfrm>
            <a:off x="324000" y="1835280"/>
            <a:ext cx="806436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4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F40B-EC72-4B0A-B466-E477CA015BE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539640" y="194040"/>
            <a:ext cx="741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634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imes New Roman"/>
              </a:rPr>
              <a:t>Результаты выбора модулей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Tahoma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1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Правовые и нормативные основы разработки предмета ОРКСЭ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13000"/>
            <a:ext cx="7643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Закон «Об образовании» (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  <a:ea typeface="Tahoma"/>
              </a:rPr>
              <a:t>2007 г.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), устанавливающий приоритет духовно-нравственного развития и воспитания обучающихс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оручение Президента РФ (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  <a:ea typeface="Tahoma"/>
              </a:rPr>
              <a:t>от 02.09.09</a:t>
            </a:r>
            <a:r>
              <a:rPr b="0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, 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Пр-2009 ВП-П44-4632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) и Распоряжения Председателя Правительства РФ (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  <a:ea typeface="Tahoma"/>
              </a:rPr>
              <a:t>от 11.09.09, 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ВП-П44-4632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ФГОС начального общего образования (</a:t>
            </a: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риказ Министерства образования и науки Российской Федерации от 06 октября 2009 года № 373, зарегистрирован в Минюсте РФ 22.12.2009г. №17785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Примерные программы духовно-нравственного развития и воспитания обучающихся на ступенях начальной и основной шко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8EEF-EB71-4A48-AAE8-62132941E35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-21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75e47"/>
                </a:solidFill>
                <a:uFillTx/>
                <a:latin typeface="Times New Roman"/>
              </a:rPr>
              <a:t>Основное содержание духовно-нравственного развития и воспитания обучающихся на ступени начального общего образования (ФГО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119520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гражданственности, патриотизма, уважения к правам, свободам и обязанностям человека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18763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нравственных чувств и этического сознания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8920" y="254628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трудолюбия, творческого отношения к учению, труду, жизни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95280" y="34099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ценностного отношения к природе, окружающей среде (экологическое воспитание</a:t>
            </a:r>
            <a:r>
              <a:rPr b="0" lang="en-US" sz="24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30200" y="443520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Times New Roman"/>
              </a:rPr>
              <a:t>-Воспитание ценностного отношения к прекрасному, формирование представлений об эстетических идеалах и ценностях (эстетическое воспит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5e47"/>
                </a:solidFill>
                <a:latin typeface="Tahoma"/>
                <a:ea typeface="Tahoma"/>
              </a:rPr>
              <a:t>Для чего вводится предмет </a:t>
            </a:r>
            <a:br>
              <a:rPr sz="2900"/>
            </a:br>
            <a:r>
              <a:rPr b="1" lang="ru-RU" sz="2400" spc="-1" strike="noStrike">
                <a:solidFill>
                  <a:srgbClr val="675e47"/>
                </a:solidFill>
                <a:latin typeface="Tahoma"/>
                <a:ea typeface="Tahoma"/>
              </a:rPr>
              <a:t>«</a:t>
            </a:r>
            <a:r>
              <a:rPr b="1" lang="ru-RU" sz="2400" spc="-1" strike="noStrike">
                <a:solidFill>
                  <a:srgbClr val="675e47"/>
                </a:solidFill>
                <a:latin typeface="Tahoma"/>
              </a:rPr>
              <a:t>Основы религиозных культур и светской этики»</a:t>
            </a:r>
            <a:r>
              <a:rPr b="1" lang="ru-RU" sz="2400" spc="-1" strike="noStrike">
                <a:solidFill>
                  <a:srgbClr val="675e47"/>
                </a:solidFill>
                <a:latin typeface="Tahoma"/>
                <a:ea typeface="Tahoma"/>
              </a:rPr>
              <a:t>?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Введение предмета  ОРКСЭ определяется необходимостью существенного усиления воспитательных функций общеобразовательных учреждений во взаимодействии с семьей, общественными и традиционными религиозными организациями, другими субъектами социализации ребенка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ОРКСЭ направлен на духовную консолидацию российского общества, укрепление его традиционных нравственных основ средствами образования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F21-D7F9-42E6-A8A1-625A0C50BC2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5e47"/>
                </a:solidFill>
                <a:latin typeface="Tahoma"/>
                <a:ea typeface="Tahoma"/>
              </a:rPr>
              <a:t>Воспитательный аспект курса 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8920" y="907560"/>
            <a:ext cx="8137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Понимание духовности, нравственности, морально ответственного поведения для жизни человека, семьи, обществ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Знание основных норм светской и религиозной морали, религиозных заповедей; понимание их значения для жизни человека, семьи, обществ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Формирование уважительного отношения к традиционным религиям и их представителя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Формирование первоначального представления об отечественной религиозно-культурной традиции, как духовной основе многонационального многоконфессионального народа России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Знание, понимание и принятие личностью ценностей: Отечество, семья, религия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Укрепление веры в Россию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2f2b20"/>
                </a:solidFill>
                <a:latin typeface="Tahoma"/>
                <a:ea typeface="Tahoma"/>
              </a:rPr>
              <a:t>Укрепление духовной преемственности поколений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369A-DBCA-43B2-B5D7-7C56C6266F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9D6-429C-4539-B73F-7B606E39383C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4898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bebd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17 января 2008 г. принято решение о формировании при группе разработчиков проекта Федерального государственного образовательного стандарта общего образования на базе Российской академии наук (РАО) поликонфессиональной группы – рабочей группы РАО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07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0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0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3492360" y="3141720"/>
            <a:ext cx="26434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394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ahoma"/>
                <a:ea typeface="Tahoma"/>
              </a:rPr>
              <a:t>21 июля 2009 г. на совещании с лидерами религиозных конфессий Президент Д.А. Медведев поддержал инициативу  преподавания в общеобразовательных школах курса «Основы религиозных культур и светской этики»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04720" y="3139920"/>
            <a:ext cx="392292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622760" y="3139920"/>
            <a:ext cx="3772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9F74-00E4-4961-AFDF-06BFFAA500E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725040"/>
            <a:ext cx="79740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…</a:t>
            </a: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.Ученики и их родител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должны будут самостоя-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тельно выбрать предме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обучения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Выбор учеников и их роди-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телей, конечно, должен быть абсолютно добровольным – это важнейшее дело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b20"/>
                </a:solidFill>
                <a:latin typeface="Tahoma"/>
                <a:ea typeface="Tahoma"/>
              </a:rPr>
              <a:t>Любое принуждение по этому вопросу не только носит незаконный характер, но и будет абсолютно контрпродуктивным…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611280" y="2030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157"/>
                </a:solidFill>
                <a:latin typeface="Tahoma"/>
                <a:ea typeface="Tahoma"/>
              </a:rPr>
              <a:t>Из речи Президента РФ 21 июля 200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00x128_Medved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725400"/>
            <a:ext cx="2933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1:45:49Z</dcterms:created>
  <dc:creator>ssivozhelezova</dc:creator>
  <dc:description/>
  <dc:language>en-US</dc:language>
  <cp:lastModifiedBy>1</cp:lastModifiedBy>
  <dcterms:modified xsi:type="dcterms:W3CDTF">2015-01-24T17:19:51Z</dcterms:modified>
  <cp:revision>154</cp:revision>
  <dc:subject/>
  <dc:title>Федеральный государственный образовательный стандарт – новые требования к  подготовке учителя</dc:title>
</cp:coreProperties>
</file>