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CD00-D16E-4028-B999-614BC4CA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5748-C8A9-441D-81DE-C96C9D3F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F82B-1FFF-4A8A-B74B-5C7F0724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271F-49F8-4416-9934-6A8F922B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021A-310E-4D2E-9981-32133A20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04FA-739A-41B5-B857-21155745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0A6D-A3D0-4A6C-A48C-2EC17CFD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35D4-0D2D-4344-B3B9-449F3938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63BD-35FA-401E-963E-A2A5A7E6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8EFD-EE54-47E0-B1B6-84133A2E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FF57-B6F0-4FEB-8F71-5BA1E35E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92BC-FB21-4E65-9F76-C8AC6377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CE99-8057-4F77-80E3-50461202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F79C-85EE-4067-A211-19862B1C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D0F0-8A5C-46DA-B078-C73E3809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AAC6-CC98-463D-9DDD-A35465F6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0A1F-83BC-4290-833C-AF6A55EB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BFC9-285E-44E4-AEAB-5126AC6A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4B19-4BC0-4597-AE8D-5C947C87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8E5D-61C0-41E0-9B43-B6C985AC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3FC8-3782-415E-82EA-21D05F4F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863-BA04-45B2-9192-56C2C8A4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F166-C5B6-4969-AE74-B818F66D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EB68-428E-45A1-B0D4-D074188A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F0D5-B257-4172-A803-0085F5C8C7B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E324-E798-4474-B564-26B22726486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43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Языковые конструкции со значением сравнения.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82844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читель МБОУ СОШ №13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Елизарова С.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70600" cy="6858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Задания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38160">
            <a:solidFill>
              <a:srgbClr val="00b2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Выполни упр. 142, 143 (устно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Упр. 145 (письменно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Д/З.: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п.№16, упр.144, 14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Сравнение - эт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685440"/>
            <a:ext cx="8381880" cy="167652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языковое средство, которое служит для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сопоставления, сравнения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двух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явлений, фактов, признаков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2133720"/>
            <a:ext cx="6870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Функции сравн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3124080"/>
            <a:ext cx="7696080" cy="327672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описательная: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он улыбнулся – он улыбнулся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дружески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оясняющая: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лес зимой засыпает – лес,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как и поле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, зимой засыпа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зобразительно-выразительная: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на его висках седина – на его висках седина,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точно иней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172200" cy="762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Виды сравнен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 rot="2671200">
            <a:off x="1904760" y="1066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9221600">
            <a:off x="6248160" y="990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505320"/>
            <a:ext cx="485640" cy="685800"/>
          </a:xfrm>
          <a:prstGeom prst="downArrow">
            <a:avLst>
              <a:gd name="adj1" fmla="val 50000"/>
              <a:gd name="adj2" fmla="val 35304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3429000"/>
            <a:ext cx="485640" cy="685800"/>
          </a:xfrm>
          <a:prstGeom prst="downArrow">
            <a:avLst>
              <a:gd name="adj1" fmla="val 50000"/>
              <a:gd name="adj2" fmla="val 35304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057400"/>
            <a:ext cx="2971800" cy="1219320"/>
          </a:xfrm>
          <a:prstGeom prst="ellipse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Comic Sans MS"/>
              </a:rPr>
              <a:t>без сою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1905120"/>
            <a:ext cx="4114800" cy="1371600"/>
          </a:xfrm>
          <a:prstGeom prst="ellipse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Comic Sans MS"/>
              </a:rPr>
              <a:t>с сравнительн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Comic Sans MS"/>
              </a:rPr>
              <a:t>союз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4267080"/>
            <a:ext cx="4114800" cy="106704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Снег лежит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ковром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Он оскалился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о-волчьи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267080"/>
            <a:ext cx="3809880" cy="16002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Снег лежит на пол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точно ковёр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Как зеркало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, блесну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среди деревьев озе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67080" y="1905120"/>
            <a:ext cx="4648320" cy="1523880"/>
          </a:xfrm>
          <a:prstGeom prst="ellipse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99"/>
                </a:solidFill>
                <a:latin typeface="Comic Sans MS"/>
              </a:rPr>
              <a:t>Как, словно, точно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99"/>
                </a:solidFill>
                <a:latin typeface="Comic Sans MS"/>
              </a:rPr>
              <a:t>что, будто, как будто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99"/>
                </a:solidFill>
                <a:latin typeface="Comic Sans MS"/>
              </a:rPr>
              <a:t>как если бы, чем…т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6933960" cy="10670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1. Бессоюзные сравнительные конструкци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381880" cy="4343400"/>
          </a:xfrm>
          <a:prstGeom prst="rect">
            <a:avLst/>
          </a:prstGeom>
          <a:noFill/>
          <a:ln w="38160">
            <a:solidFill>
              <a:srgbClr val="00b2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С наречиями образа действ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оскалить зубы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по-волчьи</a:t>
            </a: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 улыбнуться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дружески</a:t>
            </a: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; взвыть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по-звериному</a:t>
            </a: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Творительный сравнения глаг.+сущ. в тв. п.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пролететь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вихрем</a:t>
            </a: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; свернуться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клубком</a:t>
            </a: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Прилаг. в сравнительной форме + сущ.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Под ним струя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светлей лазури</a:t>
            </a: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. Дружба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прочнее стали</a:t>
            </a: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6933960" cy="10670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2. Конструкции с сравнительными союза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381880" cy="4343400"/>
          </a:xfrm>
          <a:prstGeom prst="rect">
            <a:avLst/>
          </a:prstGeom>
          <a:noFill/>
          <a:ln w="38160">
            <a:solidFill>
              <a:srgbClr val="00b2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Сравнительный оборот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Словно лебедь величавый</a:t>
            </a: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, луна плывёт в сребристых облака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СПП с придаточным сравне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Жизнь своё теченье изменила,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как река изменяет русло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вид СПП с ( сравн.) – сопоставительная конструкция с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чем…тем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сравнит. формами прилаг. или нареч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Чем дальше</a:t>
            </a: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 в лес,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тем больше</a:t>
            </a: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 дров.   /чем дальше влез, тем ближе вылез/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238880" cy="9144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Знаки препинания при сравнительных конструкция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19360"/>
          </a:xfrm>
          <a:prstGeom prst="rect">
            <a:avLst/>
          </a:prstGeom>
          <a:noFill/>
          <a:ln w="38160">
            <a:solidFill>
              <a:srgbClr val="00b2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НЕ ставит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64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1. в конструкциях без союзов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Костром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горят рябины в сад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64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2. сравн. оборот в значении обстоятельства образа действия = творительному сравнения или наречию образа действия:</a:t>
            </a:r>
            <a:r>
              <a:rPr b="1" i="1" lang="en-US" sz="2400" spc="-1" strike="noStrike">
                <a:solidFill>
                  <a:srgbClr val="0064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Как вихрь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пронёсся мимо нас – т.е. пронёсся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вихрем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. Он зол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точно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демон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– т.е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демонически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зо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64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3. сравн. оборот в составе именного сказуемого: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Наш двор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словно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сад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.  Но душа моя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как дорогой рояль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, который заперт, а ключ потерн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219320"/>
            <a:ext cx="533520" cy="457200"/>
          </a:xfrm>
          <a:prstGeom prst="wedgeEllipseCallout">
            <a:avLst>
              <a:gd name="adj1" fmla="val -60416"/>
              <a:gd name="adj2" fmla="val 113194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9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238880" cy="9144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Знаки препинания при сравнительных конструкция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001000" cy="4647960"/>
          </a:xfrm>
          <a:prstGeom prst="rect">
            <a:avLst/>
          </a:prstGeom>
          <a:noFill/>
          <a:ln w="38160">
            <a:solidFill>
              <a:srgbClr val="00b2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omic Sans MS"/>
              </a:rPr>
              <a:t>НЕ ставится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64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6400"/>
                </a:solidFill>
                <a:uFillTx/>
                <a:latin typeface="Comic Sans MS"/>
              </a:rPr>
              <a:t>4. оборот с 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Comic Sans MS"/>
              </a:rPr>
              <a:t>КАК</a:t>
            </a:r>
            <a:r>
              <a:rPr b="1" lang="en-US" sz="2200" spc="-1" strike="noStrike" u="sng">
                <a:solidFill>
                  <a:srgbClr val="006400"/>
                </a:solidFill>
                <a:uFillTx/>
                <a:latin typeface="Comic Sans MS"/>
              </a:rPr>
              <a:t> имеет значение в «качестве»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 u="sng">
                <a:solidFill>
                  <a:srgbClr val="006400"/>
                </a:solidFill>
                <a:uFillTx/>
                <a:latin typeface="Comic Sans MS"/>
              </a:rPr>
              <a:t>или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 u="sng">
                <a:solidFill>
                  <a:srgbClr val="006400"/>
                </a:solidFill>
                <a:uFillTx/>
                <a:latin typeface="Comic Sans MS"/>
              </a:rPr>
              <a:t>тождества, приравнивания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Я встретил его 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как друга.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 Богат, хорош собою, Ленский везде был принят 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как жених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64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6400"/>
                </a:solidFill>
                <a:uFillTx/>
                <a:latin typeface="Comic Sans MS"/>
              </a:rPr>
              <a:t>5. сравн. оборот с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omic Sans MS"/>
              </a:rPr>
              <a:t>КАК</a:t>
            </a:r>
            <a:r>
              <a:rPr b="1" lang="en-US" sz="2200" spc="-1" strike="noStrike" u="sng">
                <a:solidFill>
                  <a:srgbClr val="006400"/>
                </a:solidFill>
                <a:uFillTx/>
                <a:latin typeface="Comic Sans MS"/>
              </a:rPr>
              <a:t> + слова  </a:t>
            </a:r>
            <a:r>
              <a:rPr b="1" i="1" lang="en-US" sz="2200" spc="-1" strike="noStrike" u="sng">
                <a:solidFill>
                  <a:srgbClr val="006400"/>
                </a:solidFill>
                <a:uFillTx/>
                <a:latin typeface="Comic Sans MS"/>
              </a:rPr>
              <a:t>не, совсем, почти, точь-в-точь, просто, совершенно, именно, вроде, прямо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Малыш усмехнулся 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совсем как взрослый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. Он всегда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поступал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 не как все.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Походка у Лиды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 точь-в-точь как у матери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64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6400"/>
                </a:solidFill>
                <a:uFillTx/>
                <a:latin typeface="Comic Sans MS"/>
              </a:rPr>
              <a:t>6. фразеологический оборот с 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Comic Sans MS"/>
              </a:rPr>
              <a:t>КАК</a:t>
            </a:r>
            <a:r>
              <a:rPr b="1" lang="en-US" sz="2200" spc="-1" strike="noStrike" u="sng">
                <a:solidFill>
                  <a:srgbClr val="006400"/>
                </a:solidFill>
                <a:uFillTx/>
                <a:latin typeface="Comic Sans MS"/>
              </a:rPr>
              <a:t>: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Дрожит 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как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 лист,  светло 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как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 днём, гол 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как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 сокол, бояться 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как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 огня, дрался 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как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 лев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990720"/>
            <a:ext cx="533520" cy="457200"/>
          </a:xfrm>
          <a:prstGeom prst="wedgeEllipseCallout">
            <a:avLst>
              <a:gd name="adj1" fmla="val -60416"/>
              <a:gd name="adj2" fmla="val 113194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238880" cy="9144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Знаки препинания при сравнительных конструкция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7467480" cy="5029200"/>
          </a:xfrm>
          <a:prstGeom prst="rect">
            <a:avLst/>
          </a:prstGeom>
          <a:noFill/>
          <a:ln w="38160">
            <a:solidFill>
              <a:srgbClr val="00b2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ставит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64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1. при оборотах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НЕ КТО ИНОЙ,             КАК,,,, НЕ ЧТО ИНОЕ, КАК,,,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Первый был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не кто иной, как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Михаил Александрович Берлиоз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64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2. при сочетаниях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как правило, как исключение, как нарочно, как всегда, как обычно, как сейчас:</a:t>
            </a: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Как всегда,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все шалости сошли младшему с рук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64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3. в конструкциях с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так, тот, такой, столь + КАК: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Я никогда не видел её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столь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взволнованной,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как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в это утро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1219320"/>
            <a:ext cx="533520" cy="457200"/>
          </a:xfrm>
          <a:prstGeom prst="wedgeEllipseCallout">
            <a:avLst>
              <a:gd name="adj1" fmla="val -60416"/>
              <a:gd name="adj2" fmla="val 113194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238880" cy="9144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Знаки препинания при сравнительных конструкция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925040" cy="5334120"/>
          </a:xfrm>
          <a:prstGeom prst="rect">
            <a:avLst/>
          </a:prstGeom>
          <a:noFill/>
          <a:ln w="38160">
            <a:solidFill>
              <a:srgbClr val="00b2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ставит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64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4.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при сравнительных оборотах</a:t>
            </a: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, имеющих значение «подобно»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Сердце у него прыгало,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будто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яйцо в кипятке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. Воробышки игривые,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что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детки сиротливые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, прижались у ок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64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5.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приложение</a:t>
            </a: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 с </a:t>
            </a:r>
            <a:r>
              <a:rPr b="1" i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КАК</a:t>
            </a: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со значением причины</a:t>
            </a: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Я,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как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офицер и дворянин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ни в какую службу к Пугачёву вступать не могу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64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6.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СПП </a:t>
            </a:r>
            <a:r>
              <a:rPr b="1" lang="en-US" sz="2400" spc="-1" strike="noStrike" u="sng">
                <a:solidFill>
                  <a:srgbClr val="006400"/>
                </a:solidFill>
                <a:uFillTx/>
                <a:latin typeface="Comic Sans MS"/>
              </a:rPr>
              <a:t>с придаточным сравнения или сопоставлен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Губы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её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шевелились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точно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она повторяла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про себя молитву.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Чем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больше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я узнаю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людей,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тем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больше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начинаю любить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собак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Он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вдруг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задрожал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как если бы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уличили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его во лж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219320"/>
            <a:ext cx="533520" cy="457200"/>
          </a:xfrm>
          <a:prstGeom prst="wedgeEllipseCallout">
            <a:avLst>
              <a:gd name="adj1" fmla="val -60416"/>
              <a:gd name="adj2" fmla="val 113194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6:04:50Z</dcterms:created>
  <dc:creator>ЖЕНЯ</dc:creator>
  <dc:description/>
  <dc:language>en-US</dc:language>
  <cp:lastModifiedBy>ЖЕНЯ</cp:lastModifiedBy>
  <dcterms:modified xsi:type="dcterms:W3CDTF">2015-01-25T17:20:1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