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B77-4BAE-4FFF-96FC-817BDFE2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3ED-21E6-4697-B297-10FD3A0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900-1769-479D-B53C-6672B21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180-1718-4802-BC25-E5A5EE15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BD9-4312-4FB0-B8A0-9C8F3DBB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AD8-D58D-42A5-852B-163B07D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147-0373-4B2E-B842-D431146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757C-40D8-49E2-836A-3D09AD1E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76E6-876E-49A3-ACB5-65BF867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185-C98E-4A97-A037-3C13764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712-CD71-4DCF-BD6E-4EF7EE0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32F-2E65-4B55-B324-BA5B5C7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136-9596-4477-9FA4-D56B90A1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699-D9E3-44BD-8E37-1F73ACA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3D0-B025-4BBB-9112-2F24644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09C-8C3D-441D-8D77-615044C6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70DA-2FCA-4920-BA2B-58CBC7DC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7F6-54FA-4755-BEE4-B27D777A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BB6-E32F-4FE2-B06F-C38B63A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6B9-1C70-44B6-93DE-99A77BB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BEC-F1A2-45FD-82AF-F1BBF20E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733-04AE-4019-99A8-DDD3369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946-903E-49B9-BD27-ECAB65E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FA1-99C9-4062-A656-23BE440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AA6E-3593-4696-BECD-3AA447D27DB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C15-94C5-466B-91A9-93E0318CFF7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Языковые конструкции со значением сравнения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4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ель МБОУ СОШ №1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лизарова С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70600" cy="6858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Зад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ыполни упр. 142, 143 (уст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Упр. 145 (письменно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Д/З.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п.№16, упр.144, 1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равнение - эт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81880" cy="16765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языковое средство, которое служит для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опоставления, сравнен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двух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явлений, фактов, признаков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133720"/>
            <a:ext cx="687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Функции с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124080"/>
            <a:ext cx="769608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писательн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он улыбнулся – он улыбнулся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ужески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ясняющ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лес зимой засыпает – лес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к и поле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зимой засып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зобразительно-выразительн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на его висках седина – на его висках седина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очно иней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17220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иды сравн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671200">
            <a:off x="1904760" y="1066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221600">
            <a:off x="6248160" y="990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505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4290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57400"/>
            <a:ext cx="2971800" cy="121932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без сою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905120"/>
            <a:ext cx="4114800" cy="137160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с сравните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сою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267080"/>
            <a:ext cx="4114800" cy="106704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нег лежит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овром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Он оскалил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-волчь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267080"/>
            <a:ext cx="3809880" cy="16002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нег лежит на пол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точно ковёр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 зеркал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блесну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реди деревьев озе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1905120"/>
            <a:ext cx="4648320" cy="152388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Как, словно, точн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что, будто, как будт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как если бы, чем…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93396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1. Бессоюзные сравнительные конструкц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 наречиями образа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оскалить зубы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-волчь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улыбнутьс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дружеск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; взвыть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-звериному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Творительный сравнения глаг.+сущ. в тв. п.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пролететь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вихрем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; свернутьс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лубком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Прилаг. в сравнительной форме + сущ.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Под ним стру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ветлей лазур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 Дружба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рочнее стал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93396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2. Конструкции с сравнительными союз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равнительный оборо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ловно лебедь величавый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, луна плывёт в сребристых облак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ПП с придаточным сравн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Жизнь своё теченье изменила,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ак река изменяет русл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ид СПП с ( сравн.) – сопоставительная конструкция с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м…те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равнит. формами прилаг. или нареч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Чем дальше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в лес,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тем больше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дров.   /чем дальше влез, тем ближе вылез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1936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1. в конструкциях без союз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остро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горят рябины в са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2. сравн. оборот в значении обстоятельства образа действия = творительному сравнения или наречию образа действия:</a:t>
            </a:r>
            <a:r>
              <a:rPr b="1" i="1" lang="en-US" sz="2400" spc="-1" strike="noStrike">
                <a:solidFill>
                  <a:srgbClr val="0064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вихр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пронёсся мимо нас – т.е. пронёсс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вихр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Он зол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очно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емон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– т.е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демоническ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зо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3. сравн. оборот в составе именного сказуемого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Наш двор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ловн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сад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 Но душа мо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дорогой роял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который заперт, а ключ потер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464796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НЕ ставитс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4. оборот с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 имеет значение в «качестве»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или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тождества, приравниван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Я встретил его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 друга.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Богат, хорош собою, Ленский везде был принят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 жених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5. сравн. оборот с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 + слова  </a:t>
            </a:r>
            <a:r>
              <a:rPr b="1" i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не, совсем, почти, точь-в-точь, просто, совершенно, именно, вроде, прямо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Малыш усмехнул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совсем как взрослый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. Он всегда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поступал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не как все.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Походка у Лиды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точь-в-точь как у матер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6. фразеологический оборот с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Дрожит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лист,  светло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днём, гол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сокол, боять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огня, драл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ле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9907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50292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1. при оборотах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 КТО ИНОЙ,             КАК,,,, НЕ ЧТО ИНОЕ, КАК,,,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ервый был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не кто иной, как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Михаил Александрович Берлиоз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2. при сочетаниях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как правило, как исключение, как нарочно, как всегда, как обычно, как сейчас: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всегда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се шалости сошли младшему с ру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3. в конструкциях 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так, тот, такой, столь + КАК: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Я никогда не видел её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тол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зволнованной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 это утр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925040" cy="533412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4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ри сравнительных оборотах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, имеющих значение «подобно»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Сердце у него прыгало,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будт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яйцо в кипятк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Воробышки игривые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т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детки сиротливы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прижались у ок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5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риложение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с </a:t>
            </a:r>
            <a:r>
              <a:rPr b="1" i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КАК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о значением причины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Я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фицер и дворянин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ни в какую службу к Пугачёву вступать не мог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6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ПП 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с придаточным сравнения или сопост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Губы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её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шевелилис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очн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на повторяла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про себя молитву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больш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я узнаю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людей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больш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чинаю любит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собак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друг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рожал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если бы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личил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его во л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04:50Z</dcterms:created>
  <dc:creator>ЖЕНЯ</dc:creator>
  <dc:description/>
  <dc:language>en-US</dc:language>
  <cp:lastModifiedBy>ЖЕНЯ</cp:lastModifiedBy>
  <dcterms:modified xsi:type="dcterms:W3CDTF">2015-01-25T17:20:1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