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17D-47EB-4A44-BAD8-7DABA29D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E43-7FB7-471A-A597-DB58BFEF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C41-3ED0-445F-B2AB-C7759E7D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BC3-D3AE-4D16-9ADB-1C12090A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BDE-6AC6-4F3F-815E-10BC32A6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CCC-1C42-440D-AA45-A43BBF63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11A-1C9B-4DDB-A4AC-05B8AB4B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C34-7044-4150-A30D-A496F0C2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AB6-C7AE-48A7-BFE9-D87B7961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562-1FF4-4389-8698-A20CBB41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3C7-1547-4190-A82B-455F66B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0C7-831B-40CB-AD70-D33CF079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F574-1D10-4FC2-8278-C01B369AA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НЯТИЯ ФИЗИЧЕСКОЙ КУЛЬТУРОЙ В Д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ладшей группе включается 5-6 общеразвивающих упражнений для разных групп мышц (от верхнего плечевого пояса до мышц ног) с 4-6 кратным повторением каждог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редней – 6-7 упражнений с 4-6-кратным повтор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ршей – 6-8 упражнений с 5-8-кратным повтор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дготовительной – 8-10 упражнений с 6-8-кратным повтор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ладшей группе упражнения выполняются в медленном и среднем темпе, в более старшем возрасте – преимущественно в быстром темпе.  Исключение составляют упражнения с подниманием туловища из положения лежа с прогибанием тул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торная плотность занятия должна быть не менее 80%. В противном случае тренировочный эффект не достигается, а занятие воспринимается организмом как набор беспорядочных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т различные подходы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ассификации физкультурных заняти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первом подх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х разделя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три основные групп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нятия, на которых дети обучаются определенным видам движений; занятия, на которых дети закрепляют полученные навы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занятия, на которых дети совершенствуют качество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втором подх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ыделя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учающие, развивающие и оздоровитель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третьем подходе выделяют две групп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ня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называемые «традиционные» и «нетрадиционны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эти классификации очень условны, но тем не менее определение вида физкультурного занятия по преобладающим целям позволяет правильно подобрать соответствующую методику его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физкультурных занятий в разных возрастных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92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ладшая и средняя групп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Классические (обучающие, смешанные, вариативны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вигательные расска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южетно-игров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гровые (на основе разнообразных подвижных иг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Контрольны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Темат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нтегрирова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ш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Класс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вигательные расска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южетно-игров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гровые (на основе разнообразных подвижных игр, игр-эстафет, игр-аттракцион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Контрольны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ревн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Занятия с использованием тренажеров и спортивных комплек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Занятия по интере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Темат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Интегрирова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Физкультурно-валеологические (забочусь о своем здоровь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Занятия-тренировки по ОФП (организация физической профилактики). Введение в занятие приемов точечного массажа, ЛФК (лечебно-физкультурного комплекса), релакс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ельная груп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Класс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вигательные расс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южетно-игр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гровые (на основе разнообразных подвижных игр, игр-эстафет, игр-аттракци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Контрольные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Сорев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Занятия-тренировки по ОФП (организация физической профилактики). Введение в занятие приемов точечного массажа, ЛФК, релакс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Занятия-тренировки, походы в парк. Экскурсии-тренировки в ФОК (физкультурно-оздоровительном комплекс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сещение спортзала, спортивной площадки ближайш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Занятия с использованием тренажеров и спортивных комплек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нятия по интере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Тема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Интегриров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Физкультурно-валеологические (забочусь о своем здоровь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ы организации д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учивание сложных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ребующих страховки, проводится строг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видуаль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е легких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подгрупп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одержание фронтальных заня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ключаются только те движения и упражнения, которые освоены всеми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ганизация индивидуального обучения не означ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что другие дети в это время ничем не заня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й форме обучения занятие также проводится со всеми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ачала организуются традицион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азминка и бег, короткий отдых, а затем один из взрослых, по очереди подзывая детей к себе, обучает их новому движению (например, лазанию по канат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льные дети в э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ремя с другим взрослым отрабатывают технику знакомого движения (например, метание мяча в горизонтальную цел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гры и заключительная часть заня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водятся со всеми детьми одноврем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ычно при такой форме обучения педагог может в течение одного занятия обучить новому движению не более 5-6 детей. Остальных детей постепенно обучают по такому же принципу на последующих занятиях. Такой подход к обучению детей основным движениям позволяет его индивидуализировать, сохранить доверительность в отношениях с ребенком, не выставлять напоказ перед другими детьми его слабые возмож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зультате у детей повышается интерес к занятиям физкультурой, желание добиваться хороших результатов, а главное — они очень привязываются к взрослым, и те становятся для них чрезвычайно авторите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гда движение будет «поставлено» у всех дет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форма организации обучения меня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вводной ча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ети разделяются на две под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 подгруппа с педагогом закрепляет полученные представления о новом движении, повторяя его несколько раз, а другая подгруппа совершенствует хорошо знакомые дв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подгруппы меняются мес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жное указ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на подгруппы дети должны разделиться сами, воспитателю в этот процесс вмешиваться не сто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подгруппы были равны по количеству, можно использовать флажки разного цвета. Например, те, кто сначала хочет упражняться в прыжках в длину, берут красные флажки, а кто хочет лазать по шведской стенке — желт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выбору детей можно судить об их реакции на новое движение и соответственно принять правильное педагогическое решение. Обычно на выбор детей влияет неуверенность в своих возможностях, когда упражнение кажется им труд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 они не спешат взять красный флажок. Дети, уверенные в своих возможностях (а иногда и излишне самоуверенные), сразу выбирают нов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фронтальных занятиях хорошо зарекомендовал себя поточный мет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ыполнения упражнений, когда дети поочередно подходят к снаряду и выполняют зад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держание такого занятия могут быть включены несколько видов хорошо знакомых дв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ляд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лядно-зрительный прием, который заключается в правильной, четкой демонстрации образца движения или его отдельны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честве наглядного пособия могут быть использованы галограммы сложных движений (метание, прыжок в длину с места и с разбега, прыжок в высоту с разбег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тильно-мышечная наглядность обеспечивается путем включения физкультурных пособий в двигательную деятельность (дотянуться до колокольчика, который педагог держит выше вытянутых рук ребенк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 дают возможность ребенку прочувствовать и осознать сделанную им ошибку, возникновению самоконтролю при выполнении движений, развитию сенсорных способностей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овесн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такие приемы, ка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овременное описание и объяс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етям нового задания с опорой на имеющейся у них жизненный опыт и представления или проведения небольшой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ж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яснени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бросках мяча, если он большой, то ноги ставятся врозь перед броском, если мяч маленький, то одна нога – вперед, другая – назад и т.д.)  и указ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допускать использования так называемого «обезьянь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 метода, когда на всех этапах обучения упражнение показывается педагогом, а дети механически повторяют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таршем возрасте это недопустимо. Следует добивать того, чтобы простые упражнения дети выполняли не только по показу, но и по слуху. Сначала дети выполняют упражнения по словесной инструкции медленно, что способствует усвоению терминологии, ориентироваться в словесных заданиях и четко переводить их в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5075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кт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о детям закладывать сразу правильную информацию и постоянно контролировать правильность выполнения и экономичность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о задействовать как можно больше анализаторов и при этом использовать приспособления для уменьшения количества неверно выполненных движений, искажающих технику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и проведение физкультурных за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сех возрастных группах ДОУ проводится по три занятия физической культуры в неделю: два в спортивном зале или групповой комнате и одно на открытом воздухе, согласно распис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ладшей группе занятие длится 15 мин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редней – 20 ми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таршей – 25-30 ми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дготовительной –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6840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1145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пеци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112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1840" y="184464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ухов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18446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рительн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1844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игательн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2708280"/>
            <a:ext cx="273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ого регламентированного упраж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270828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2708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астично регламентированного упраж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37162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гр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371628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ревно-в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364500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учение двигательным дейст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386064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я двигате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797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79736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ча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49417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вномер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5013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м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5013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тор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484000" y="692280"/>
            <a:ext cx="158292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69228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84360" y="148428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148428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56000" y="2492280"/>
            <a:ext cx="1873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49228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4364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6764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0560" y="3573360"/>
            <a:ext cx="1081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26560" y="4653000"/>
            <a:ext cx="289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45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797360"/>
            <a:ext cx="93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4724280"/>
            <a:ext cx="216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ложно координированное движение скоростно-силового характ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о способствует развитию всех групп мышц, особенно плечевого пояса, а также воспитанию ловкости, гибкости, равновесия, глазо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ервом этапе обучения метанию на дальность заинтересовать детей можно точным, сильным, правильным приемом броска и его результатом (дальность попадания мешоч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122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новационные педагогически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ктике физкультурно-оздоровительной работы дошкольного учреждения часто используются фитнес-технологии: ритмическая гимнастика, игровой стретчинг и фит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ы ритмической гимнастики могут включаться в утреннюю гимнастику, в физкультмин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физкультурных занятиях комплексы ритмической гимнастики используются во всех част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дготовительной части – они используются как общеразвивающи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ой части- решают задачи развития чувства ритма, пространственных представлений, координации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ключительной части – способствуют релаксации, снятию утомления от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тч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на физкультурных занятиях. В зависимости от задач занятия упражнения стретчинга могут включаться в подготовительную часть для разогревания отдельных мышц групп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ую часть для развития гибкости и как релаксирующая процедура в заключительной части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ошкольных учреждениях используется методика игрового стретчинга, где каждому упражнению соответствует образ животного или сказочного гер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тбо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большие мячи. Современные надувные мячи имеют разные размеры и формы. Одна из модификаций – мяч с ручками (хоп), предназначен в большей степени для выполнения прыж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физкультурном занятии  фитбол может использоваться как предмет, как опора, как тренажер и т.д.  Хопы широко применяются в эстафетах и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новационные педагогические технологии вносят разнообразие  в физкультурные зан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следует помнить, что неправильное применение новых технологий может нарушить процесс нормаль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дорови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правлены на оптимизацию физического развития и физической подготовленности ребенка, ориентируют на всестороннее развитие его физических качеств, совершенствуют двигательные способности, укрепляют здоровье, закаливают организм и повышают его устойчивость к заболеван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едусматривают системное формирование необходимых двигательных навыков и умений и связанных с ними элементарных знаний в области физическ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ешаются в процесе физкультурного занятия: воспитание воли, позитивных качеств характера, эмоциональных потребностей детей, а также интерес, потребности в здоровом образе жизни. Воспитываются как физические качества (сила, быстрота, выносливость, гибкость, ловкость), так и нравственные (целеустремленность, настойчивость, чувство долга, ответственности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, которые ставит педагог, планируя физкультурное занятие, должны конкретизироваться в задач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физкультурное занятие преследует сугуб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здоровительные 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ак, например, беговая тренировка в медленном темпе, то приоритеты отдаются группе оздоровительных задач, а затем определяются задачи (для данного конкретного вида физкультурной деятельнос­ти) развивающего цикла и, наконец, образова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цель занятия — обучение движениям, то на первое место выдвигаются задач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тельны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закреплении движений, их совершенствовании уместнее в первую очередь план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вающ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любая физкультурная деятельность будет успешнее и в плане обеспечения здоровья ребенка, и в плане его обучения и развития, если на занятии будет решаться комплек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дополняющ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для каждого возраста существуют и свои специфические задачи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ладших групп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итатель и физорг должны направлять свои усилия на то, чтобы научить детей ориентироваться в пространстве физкультурного зала и физкультурной площадки, приемам элементарной страхо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ьному (по назначению) использованию физкультурного 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реднем дошкольном возра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новные усилия педагогов должны быть направлены на развитие физических качеств детей, и прежде всего выносливости и силы, которые являются основой обеспечения хорошей физической подготов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таршей группе у дет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ледует развивать высокую физическую рабо­тоспособность и направлять усилия на качественную физическую подгот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дготовительной к школе групп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авно как и в первом классе) основной задачей педагога является создание условий для реализации интересов детей, раскрытия их двигательных способностей и развитие самосто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зовая цель физкультурного занят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юбого 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накопление двигательного опыта, развитие интереса к физической культуре и 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ждом возрасте физкультурная деятельность имеет разную направленность. Для детей это радость от свободы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этому главное условие эффективного воздействия физкультурных занятий на здоровье, психологическое благополучие и физическое развитие ребенка — это доставить детям максимум удовольствия от движ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Вводн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орригирующая ходьба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личные виды ходь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строения и перестроения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вор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личные виды бега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жнения в равнове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сновн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развивающие упражнения с предметами и без 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итмические упражнения; -упражнения-ими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жнение- «азбука»;  -элементы й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виды движ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етание; -лазание; - прыжки; -равновесие; - подвижная 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Заключительн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личные виды ходьбы; -упражнения на восстановление дых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подвижные развивающие  игры; - игры на РТВ (развитие творческого воображения); - телесно-тренировочные упражнения; -дыхательные упражнения с элементами йоги; -хоро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язательной составляющей физкультурных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на быть так называем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оздоровительная компонен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ее содержание в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доровительный бег, или бег на выносл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клические дви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душные ванны и водные процед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ный расчет нагрузок, чтобы дети занимались в аэробном режи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лабляющие пау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циальные гимнастики (дыхательная, оздоровительные игры, корригирующие упражн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циально создаваемый эмоциональный фон, на котором проходит занятие, и моменты управляемого положительного вспле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ческие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989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ивны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ейший тур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движ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, прыжки, метание, лазание и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ые, бессюже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ание, езда на велосипеде и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развивающ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элементами спортивных и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ьба на лыжах, катание на коньках, сан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ы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я и перестро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цеваль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3:18:25Z</dcterms:created>
  <dc:creator>NADIN</dc:creator>
  <dc:description/>
  <dc:language>en-US</dc:language>
  <cp:lastModifiedBy>SamLab.ws</cp:lastModifiedBy>
  <dcterms:modified xsi:type="dcterms:W3CDTF">2009-02-26T13:02:19Z</dcterms:modified>
  <cp:revision>19</cp:revision>
  <dc:subject/>
  <dc:title>ЗАНЯТИЯ ФИЗИЧЕСКОЙ КУЛЬТУРОЙ В ДОУ</dc:title>
</cp:coreProperties>
</file>