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F79-8D41-4806-8F3F-B9253714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350-547C-4B6C-A5FA-7A906C8E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54A6-D3B7-4548-8CBF-73314F6D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42A-9158-47EC-BAA8-FE062CF3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B20E-95AC-4892-8335-E7635572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3628-0B9C-4955-A1B1-FBBA26EA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B239-1384-4114-9FE3-BD864BE8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631-D458-4824-94C3-F333394D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815-8C0B-4077-988E-328D232F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021-9C62-4630-A5E2-E1BD5BD7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C17-0D8F-449F-95D7-83E20C29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C59-B77C-473E-92FB-03BB182C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D0E8-743B-4E38-86F0-EC33391B2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ЗАНЯТИЯ ФИЗИЧЕСКОЙ КУЛЬТУРОЙ В ДО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ладшей группе включается 5-6 общеразвивающих упражнений для разных групп мышц (от верхнего плечевого пояса до мышц ног) с 4-6 кратным повторением каждого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редней – 6-7 упражнений с 4-6-кратным повтор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аршей – 6-8 упражнений с 5-8-кратным повторени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одготовительной – 8-10 упражнений с 6-8-кратным повтор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ладшей группе упражнения выполняются в медленном и среднем темпе, в более старшем возрасте – преимущественно в быстром темпе.  Исключение составляют упражнения с подниманием туловища из положения лежа с прогибанием туловищ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торная плотность занятия должна быть не менее 80%. В противном случае тренировочный эффект не достигается, а занятие воспринимается организмом как набор беспорядочных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ществуют различные подходы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лассификации физкультурных занятий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первом подх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х разделяю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 три основные групп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нятия, на которых дети обучаются определенным видам движений; занятия, на которых дети закрепляют полученные навык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занятия, на которых дети совершенствуют качество дви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втором подх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ыделяю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учающие, развивающие и оздоровитель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третьем подходе выделяют две групп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занят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ак называемые «традиционные» и «нетрадиционны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эти классификации очень условны, но тем не менее определение вида физкультурного занятия по преобладающим целям позволяет правильно подобрать соответствующую методику его орган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иды физкультурных занятий в разных возрастных груп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196640"/>
            <a:ext cx="8928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ладшая и средняя групп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Классические (обучающие, смешанные, вариативны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вигательные расска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южетно-игров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гровые (на основе разнообразных подвижных игр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Контрольны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Темат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нтегрирова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арш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Класс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Двигательные расска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Сюжетно-игров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гровые (на основе разнообразных подвижных игр, игр-эстафет, игр-аттракционов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Контрольные за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ревн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Занятия с использованием тренажеров и спортивных комплек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Занятия по интере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9. Тематическ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. Интегрирован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1. Физкультурно-валеологические (забочусь о своем здоровь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2. Занятия-тренировки по ОФП (организация физической профилактики). Введение в занятие приемов точечного массажа, ЛФК (лечебно-физкультурного комплекса), релакс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ительная груп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Класс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Двигательные расска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южетно-игров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Игровые (на основе разнообразных подвижных игр, игр-эстафет, игр-аттракци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Контрольные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Соревн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Занятия-тренировки по ОФП (организация физической профилактики). Введение в занятие приемов точечного массажа, ЛФК, релакс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 Занятия-тренировки, походы в парк. Экскурсии-тренировки в ФОК (физкультурно-оздоровительном комплекс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 Посещение спортзала, спортивной площадки ближайш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Занятия с использованием тренажеров и спортивных комплек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нятия по интерес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Темат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Интегриров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Физкультурно-валеологические (забочусь о своем здоровь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ормы организации де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лича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учивание сложных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ребующих страховки, проводится строг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дивидуаль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е легких —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 подгрупп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одержание фронтальных занят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ключаются только те движения и упражнения, которые освоены всеми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рганизация индивидуального обучения не означае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что другие дети в это время ничем не заня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этой форме обучения занятие также проводится со всеми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начала организуются традицион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разминка и бег, короткий отдых, а затем один из взрослых, по очереди подзывая детей к себе, обучает их новому движению (например, лазанию по канату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стальные дети в э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ремя с другим взрослым отрабатывают технику знакомого движения (например, метание мяча в горизонтальную цель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гры и заключительная часть занят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оводятся со всеми детьми одновремен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ычно при такой форме обучения педагог может в течение одного занятия обучить новому движению не более 5-6 детей. Остальных детей постепенно обучают по такому же принципу на последующих занятиях. Такой подход к обучению детей основным движениям позволяет его индивидуализировать, сохранить доверительность в отношениях с ребенком, не выставлять напоказ перед другими детьми его слабые возмож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результате у детей повышается интерес к занятиям физкультурой, желание добиваться хороших результатов, а главное — они очень привязываются к взрослым, и те становятся для них чрезвычайно авторитет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гда движение будет «поставлено» у всех дет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форма организации обучения меня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78544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вводной ча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дети разделяются на две подгрупп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на подгруппа с педагогом закрепляет полученные представления о новом движении, повторяя его несколько раз, а другая подгруппа совершенствует хорошо знакомые дви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подгруппы меняются мес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ажное указа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на подгруппы дети должны разделиться сами, воспитателю в этот процесс вмешиваться не сто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подгруппы были равны по количеству, можно использовать флажки разного цвета. Например, те, кто сначала хочет упражняться в прыжках в длину, берут красные флажки, а кто хочет лазать по шведской стенке — желты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 выбору детей можно судить об их реакции на новое движение и соответственно принять правильное педагогическое решение. Обычно на выбор детей влияет неуверенность в своих возможностях, когда упражнение кажется им труд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гда они не спешат взять красный флажок. Дети, уверенные в своих возможностях (а иногда и излишне самоуверенные), сразу выбирают новое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фронтальных занятиях хорошо зарекомендовал себя поточный мет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ыполнения упражнений, когда дети поочередно подходят к снаряду и выполняют зад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содержание такого занятия могут быть включены несколько видов хорошо знакомых движ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ы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гляд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глядно-зрительный прием, который заключается в правильной, четкой демонстрации образца движения или его отдельных эле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честве наглядного пособия могут быть использованы галограммы сложных движений (метание, прыжок в длину с места и с разбега, прыжок в высоту с разбег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тильно-мышечная наглядность обеспечивается путем включения физкультурных пособий в двигательную деятельность (дотянуться до колокольчика, который педагог держит выше вытянутых рук ребенка и д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меты дают возможность ребенку прочувствовать и осознать сделанную им ошибку, возникновению самоконтролю при выполнении движений, развитию сенсорных способностей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ловесны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ключает такие приемы, ка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дновременное описание и объясн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етям нового задания с опорой на имеющейся у них жизненный опыт и представления или проведения небольшой бес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жн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яснени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бросках мяча, если он большой, то ноги ставятся врозь перед броском, если мяч маленький, то одна нога – вперед, другая – назад и т.д.)  и указ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допускать использования так называемого «обезьянь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 метода, когда на всех этапах обучения упражнение показывается педагогом, а дети механически повторяют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таршем возрасте это недопустимо. Следует добивать того, чтобы простые упражнения дети выполняли не только по показу, но и по слуху. Сначала дети выполняют упражнения по словесной инструкции медленно, что способствует усвоению терминологии, ориентироваться в словесных заданиях и четко переводить их в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85075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актическ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о детям закладывать сразу правильную информацию и постоянно контролировать правильность выполнения и экономичность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о задействовать как можно больше анализаторов и при этом использовать приспособления для уменьшения количества неверно выполненных движений, искажающих технику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рганизация и проведение физкультурных за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сех возрастных группах ДОУ проводится по три занятия физической культуры в неделю: два в спортивном зале или групповой комнате и одно на открытом воздухе, согласно распис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младшей группе занятие длится 15 мин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редней – 20 мин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таршей – 25-30 мин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подготовительной –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68407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11145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пециф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112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ециф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1840" y="1844640"/>
            <a:ext cx="138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лухового вос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24000" y="1844640"/>
            <a:ext cx="14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Зрительного вос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6000" y="1844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вигательного вос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2708280"/>
            <a:ext cx="273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рого регламентированного упраж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2708280"/>
            <a:ext cx="25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372360" y="2708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астично регламентированного упраж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37162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гр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93080" y="371628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ревно-ва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3645000"/>
            <a:ext cx="17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учение двигательным дейст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386064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звития двигательных способ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797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79736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част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43280" y="4941720"/>
            <a:ext cx="151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вномер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6360" y="501336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рем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43640" y="501336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тор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484000" y="692280"/>
            <a:ext cx="158292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03640" y="692280"/>
            <a:ext cx="1440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84360" y="148428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1484280"/>
            <a:ext cx="50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56000" y="2492280"/>
            <a:ext cx="18734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49228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44364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6764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050560" y="3573360"/>
            <a:ext cx="108108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64000" y="3573360"/>
            <a:ext cx="216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26560" y="4653000"/>
            <a:ext cx="289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458136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4797360"/>
            <a:ext cx="93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4724280"/>
            <a:ext cx="2160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сложно координированное движение скоростно-силового характе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о способствует развитию всех групп мышц, особенно плечевого пояса, а также воспитанию ловкости, гибкости, равновесия, глазом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первом этапе обучения метанию на дальность заинтересовать детей можно точным, сильным, правильным приемом броска и его результатом (дальность попадания мешоч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11224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новационные педагогически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5690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ктике физкультурно-оздоровительной работы дошкольного учреждения часто используются фитнес-технологии: ритмическая гимнастика, игровой стретчинг и фитб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ы ритмической гимнастики могут включаться в утреннюю гимнастику, в физкультмину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физкультурных занятиях комплексы ритмической гимнастики используются во всех частя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дготовительной части – они используются как общеразвивающие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ной части- решают задачи развития чувства ритма, пространственных представлений, координации движ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ключительной части – способствуют релаксации, снятию утомления от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етч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на физкультурных занятиях. В зависимости от задач занятия упражнения стретчинга могут включаться в подготовительную часть для разогревания отдельных мышц групп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ную часть для развития гибкости и как релаксирующая процедура в заключительной части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ошкольных учреждениях используется методика игрового стретчинга, где каждому упражнению соответствует образ животного или сказочного геро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тбол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большие мячи. Современные надувные мячи имеют разные размеры и формы. Одна из модификаций – мяч с ручками (хоп), предназначен в большей степени для выполнения прыж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физкультурном занятии  фитбол может использоваться как предмет, как опора, как тренажер и т.д.  Хопы широко применяются в эстафетах и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новационные педагогические технологии вносят разнообразие  в физкультурные заня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следует помнить, что неправильное применение новых технологий может нарушить процесс нормального развития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здоровите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правлены на оптимизацию физического развития и физической подготовленности ребенка, ориентируют на всестороннее развитие его физических качеств, совершенствуют двигательные способности, укрепляют здоровье, закаливают организм и повышают его устойчивость к заболевани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едусматривают системное формирование необходимых двигательных навыков и умений и связанных с ними элементарных знаний в области физическ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ешаются в процесе физкультурного занятия: воспитание воли, позитивных качеств характера, эмоциональных потребностей детей, а также интерес, потребности в здоровом образе жизни. Воспитываются как физические качества (сила, быстрота, выносливость, гибкость, ловкость), так и нравственные (целеустремленность, настойчивость, чувство долга, ответственности и т.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дол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, которые ставит педагог, планируя физкультурное занятие, должны конкретизироваться в задач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физкультурное занятие преследует сугуб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здоровительные це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ак, например, беговая тренировка в медленном темпе, то приоритеты отдаются группе оздоровительных задач, а затем определяются задачи (для данного конкретного вида физкультурной деятельнос­ти) развивающего цикла и, наконец, образовате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цель занятия — обучение движениям, то на первое место выдвигаются задач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разовательны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закреплении движений, их совершенствовании уместнее в первую очередь план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звивающ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 любая физкультурная деятельность будет успешнее и в плане обеспечения здоровья ребенка, и в плане его обучения и развития, если на занятии будет решаться комплек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заимодополняющ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 для каждого возраста существуют и свои специфические задачи</a:t>
            </a:r>
            <a:br>
              <a:rPr sz="4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младших групп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итатель и физорг должны направлять свои усилия на то, чтобы научить детей ориентироваться в пространстве физкультурного зала и физкультурной площадки, приемам элементарной страхов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ьному (по назначению) использованию физкультурного обору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реднем дошкольном возрас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сновные усилия педагогов должны быть направлены на развитие физических качеств детей, и прежде всего выносливости и силы, которые являются основой обеспечения хорошей физической подготовлен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старшей группе у дет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ледует развивать высокую физическую рабо­тоспособность и направлять усилия на качественную физическую подгот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дготовительной к школе групп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равно как и в первом классе) основной задачей педагога является создание условий для реализации интересов детей, раскрытия их двигательных способностей и развитие самосто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азовая цель физкультурного занят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юбого в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то накопление двигательного опыта, развитие интереса к физической культуре и спо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ждом возрасте физкультурная деятельность имеет разную направленность. Для детей это радость от свободы движ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этому главное условие эффективного воздействия физкультурных занятий на здоровье, психологическое благополучие и физическое развитие ребенка — это доставить детям максимум удовольствия от движ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ЛГОРИТМ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5075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Вводная ча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орригирующая ходьба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личные виды ходьб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строения и перестроения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воро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личные виды бега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жнения в равнове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сновная ча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развивающие упражнения с предметами и без 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итмические упражнения; -упражнения-ими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жнение- «азбука»;  -элементы й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виды движ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етание; -лазание; - прыжки; -равновесие; - подвижная иг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Заключительная час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зличные виды ходьбы; -упражнения на восстановление дых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алоподвижные развивающие  игры; - игры на РТВ (развитие творческого воображения); - телесно-тренировочные упражнения; -дыхательные упражнения с элементами йоги; -хоров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язательной составляющей физкультурных за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на быть так называем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оздоровительная компонент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ее содержание вход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здоровительный бег, или бег на выносливост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иклические дви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здушные ванны и водные процед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ный расчет нагрузок, чтобы дети занимались в аэробном режи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лабляющие пау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ециальные гимнастики (дыхательная, оздоровительные игры, корригирующие упражнен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ециально создаваемый эмоциональный фон, на котором проходит занятие, и моменты управляемого положительного вспле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изические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989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мнаст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г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тивные упраж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ейший тур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движе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г, прыжки, метание, лазание и т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вижны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южетные, бессюже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вание, езда на велосипеде и т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ш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развивающи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элементами спортивных и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мни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ьба на лыжах, катание на коньках, сан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ыж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ения и перестро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анцевальные упраж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3:18:25Z</dcterms:created>
  <dc:creator>NADIN</dc:creator>
  <dc:description/>
  <dc:language>en-US</dc:language>
  <cp:lastModifiedBy>SamLab.ws</cp:lastModifiedBy>
  <dcterms:modified xsi:type="dcterms:W3CDTF">2009-02-26T13:02:19Z</dcterms:modified>
  <cp:revision>19</cp:revision>
  <dc:subject/>
  <dc:title>ЗАНЯТИЯ ФИЗИЧЕСКОЙ КУЛЬТУРОЙ В ДОУ</dc:title>
</cp:coreProperties>
</file>