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C1F-46F1-4C3B-AA7B-79956FBA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D0E-A09B-481E-B5BE-B62B01BE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56E-D6F9-46BA-9A6B-675DD8AF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FDA-54A8-4655-8727-53BC71B4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D9FD-9F73-4116-8E1B-802270A8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1B1D-EB06-47D6-A829-01867D38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ABD7-56CE-4AFE-9986-9F9237CD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D087-31F0-48DF-AF3B-60708C8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78F-ADB3-4C94-802C-01EB873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B68-AE57-4425-8595-B0E88FC6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A33B-85C9-412B-BAFE-D317408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C47-E986-4B39-A566-46F65A6B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4F1-E9F5-4FF8-AF81-FC0322DE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4FC-48DD-4ACF-9581-98D57AC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8A42-A704-43E4-B810-93FC5E4E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13B-0DBE-445B-92FF-E5E99807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9F05-2609-49D3-A1A4-CC091C76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E10DC-ADCF-438C-BD26-EA1F9ED6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6961E-C09E-46B5-B723-E58A691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BBD31-A552-42DC-9DEB-ACBC590E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A5026-0E09-4D2A-B8D7-A22ED4C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8C10A-8939-4F33-A6DE-E3ECF5C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A06-4E8B-4114-90EE-AE22850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06588-2620-4976-AC40-3C9D43C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7510A-955F-41BC-B717-0B96C27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19F9A-9436-4CF3-9BCF-4DAD5F5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2F87D-D886-44FE-BFCF-7833EBD4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B3F02-6606-4128-9980-0B1B14BF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1A717-2356-4FE1-B643-577C74AD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D5E93-E7C4-45D2-8997-C2ED0F7C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14E5-A784-4B4A-A386-450A4A90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17EF-E858-41E5-8E6B-77BC759B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75E2-8863-4870-986A-3427681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9CC-8E5C-439B-96C8-CA775F75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37B1-219E-46B1-8582-6744086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C8C10-1688-4DD7-B1A7-7C383E88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66DF-DA97-4A3E-BB51-5B0B3C3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F3A2-264D-4C40-929F-6EBCF5B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EF4AE-0937-494A-8F6F-1765AE9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4522-A42D-47EE-ABA3-D60D595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469B-8704-4387-8F7B-F36A157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179B-DE98-47EE-B560-94284BCB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964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24280" y="224964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500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0964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24280" y="4508280"/>
            <a:ext cx="2870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5EE6-AC07-408F-8261-2C84CEA2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10F-1BB4-45BF-A9D2-6017C45A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95000" y="114264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AFD-B979-4970-8718-4494546B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75F-EE01-4AC2-8A0B-EB36380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3400" y="450828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C27-7BCD-497B-A0A3-1AF54BB2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2249640"/>
            <a:ext cx="435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508280"/>
            <a:ext cx="8915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5D0-666B-4CE5-80B3-826ED24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906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906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906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861160" y="359280"/>
            <a:ext cx="404496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861160" y="438480"/>
            <a:ext cx="404496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857920" y="496800"/>
            <a:ext cx="331956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988400" y="58896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842400" y="-1440"/>
            <a:ext cx="619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798120" y="-1440"/>
            <a:ext cx="30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7772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9723600" y="-1440"/>
            <a:ext cx="2988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9658440" y="0"/>
            <a:ext cx="6012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96138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135560" y="612720"/>
            <a:ext cx="103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695560" y="6127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854560" y="108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B00-091B-407C-A09A-C8D0D310BA2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861160" y="3809880"/>
            <a:ext cx="404496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861160" y="3896640"/>
            <a:ext cx="404496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861160" y="4114800"/>
            <a:ext cx="404496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861160" y="4163400"/>
            <a:ext cx="212868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861160" y="4199040"/>
            <a:ext cx="212868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861160" y="3962520"/>
            <a:ext cx="331920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991640" y="406080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90612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90612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948360" y="3643200"/>
            <a:ext cx="295776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90612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7264440" y="420696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861160" y="420516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9013320" y="1080"/>
            <a:ext cx="809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973-F684-4F02-A05B-31B36F8ACCE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906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906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906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861160" y="359280"/>
            <a:ext cx="404496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861160" y="438480"/>
            <a:ext cx="404496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857920" y="496800"/>
            <a:ext cx="331956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988400" y="58896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842400" y="-1440"/>
            <a:ext cx="619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798120" y="-1440"/>
            <a:ext cx="30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7772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9723600" y="-1440"/>
            <a:ext cx="2988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9658440" y="0"/>
            <a:ext cx="6012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96138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7135560" y="612720"/>
            <a:ext cx="103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854560" y="108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220-B69B-4D00-BBDC-CC80CE6A1E0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695560" y="6127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906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906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906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861160" y="359280"/>
            <a:ext cx="404496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861160" y="438480"/>
            <a:ext cx="404496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857920" y="496800"/>
            <a:ext cx="331956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988400" y="588960"/>
            <a:ext cx="17334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842400" y="-1440"/>
            <a:ext cx="619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798120" y="-1440"/>
            <a:ext cx="30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7772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9723600" y="-1440"/>
            <a:ext cx="2988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9658440" y="0"/>
            <a:ext cx="6012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96138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11426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95000" y="2249640"/>
            <a:ext cx="8915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7132320" y="612720"/>
            <a:ext cx="103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695560" y="6127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854560" y="108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BB5-3E6F-43E5-849E-BF88CEA0624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4760" y="128556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Защита прав ребенк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95000" y="3900600"/>
            <a:ext cx="53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защита прав, формы защиты, уполномоченные орга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2300400" y="642960"/>
            <a:ext cx="554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. Самозащи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202440" y="2421000"/>
            <a:ext cx="3274560" cy="4198680"/>
            <a:chOff x="6202440" y="2421000"/>
            <a:chExt cx="3274560" cy="4198680"/>
          </a:xfrm>
        </p:grpSpPr>
        <p:sp>
          <p:nvSpPr>
            <p:cNvPr id="275" name="Text Box 10"/>
            <p:cNvSpPr/>
            <p:nvPr/>
          </p:nvSpPr>
          <p:spPr>
            <a:xfrm>
              <a:off x="6202440" y="2421000"/>
              <a:ext cx="32745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</a:rPr>
                <a:t>Письменное обращение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</a:rPr>
                <a:t>к …, нарушителю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276" name="Picture 13" descr="CMBIZ105"/>
            <p:cNvPicPr/>
            <p:nvPr/>
          </p:nvPicPr>
          <p:blipFill>
            <a:blip r:embed="rId1"/>
            <a:stretch/>
          </p:blipFill>
          <p:spPr>
            <a:xfrm>
              <a:off x="6514920" y="4725720"/>
              <a:ext cx="2496240" cy="189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17"/>
          <p:cNvGrpSpPr/>
          <p:nvPr/>
        </p:nvGrpSpPr>
        <p:grpSpPr>
          <a:xfrm>
            <a:off x="895320" y="2206800"/>
            <a:ext cx="3277800" cy="4651200"/>
            <a:chOff x="895320" y="2206800"/>
            <a:chExt cx="3277800" cy="4651200"/>
          </a:xfrm>
        </p:grpSpPr>
        <p:sp>
          <p:nvSpPr>
            <p:cNvPr id="278" name="Text Box 6"/>
            <p:cNvSpPr/>
            <p:nvPr/>
          </p:nvSpPr>
          <p:spPr>
            <a:xfrm>
              <a:off x="1051560" y="2206800"/>
              <a:ext cx="31215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ъяснение возможных правовых последствий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79" name="Group 16"/>
            <p:cNvGrpSpPr/>
            <p:nvPr/>
          </p:nvGrpSpPr>
          <p:grpSpPr>
            <a:xfrm>
              <a:off x="895320" y="3913200"/>
              <a:ext cx="2976480" cy="2944800"/>
              <a:chOff x="895320" y="3913200"/>
              <a:chExt cx="2976480" cy="2944800"/>
            </a:xfrm>
          </p:grpSpPr>
          <p:pic>
            <p:nvPicPr>
              <p:cNvPr id="280" name="Picture 9" descr="CBIZ165"/>
              <p:cNvPicPr/>
              <p:nvPr/>
            </p:nvPicPr>
            <p:blipFill>
              <a:blip r:embed="rId2"/>
              <a:stretch/>
            </p:blipFill>
            <p:spPr>
              <a:xfrm>
                <a:off x="1947600" y="3913200"/>
                <a:ext cx="1924200" cy="294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5" descr="CMBIZ033"/>
              <p:cNvPicPr/>
              <p:nvPr/>
            </p:nvPicPr>
            <p:blipFill>
              <a:blip r:embed="rId3"/>
              <a:srcRect l="0" t="38718" r="55356" b="0"/>
              <a:stretch/>
            </p:blipFill>
            <p:spPr>
              <a:xfrm>
                <a:off x="895320" y="5146560"/>
                <a:ext cx="1269000" cy="171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4760" y="3571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Защита прав детей родителям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9240" y="1499760"/>
            <a:ext cx="8915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главные защитники прав детей.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меют право воспитывать ребенка, а также несут обязанности и ответственность за воспитание и развитие ребенк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язан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щищать права своих де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щищают права своих детей  перед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юбыми лицам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2400" y="2276280"/>
            <a:ext cx="89154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4456"/>
                </a:solidFill>
                <a:latin typeface="Trebuchet MS"/>
              </a:rPr>
              <a:t>Административные формы защиты прав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5520" y="1925640"/>
            <a:ext cx="96328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Комиссия по делам несовершеннолетних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и защите их прав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ww.kdm26.ru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600" y="2852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рганы опеки и попечительств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71080" y="2249640"/>
            <a:ext cx="9441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писание жалобы, заявления, обращения в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рганы прокуратуры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Любое нарушение прав должностным лицом, органом власти, учреждением, организацией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куратура Ставропольского края: (88652) 26-90-0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95040" y="1693440"/>
            <a:ext cx="8134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и наличии в нарушении прав состава преступления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рганы Внутренних Де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журная часть ГУ МВД РФ по Ставропольскому краю: (88652) 30-44-4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4" descr="GNGST006"/>
          <p:cNvPicPr/>
          <p:nvPr/>
        </p:nvPicPr>
        <p:blipFill>
          <a:blip r:embed="rId1"/>
          <a:srcRect l="0" t="0" r="56951" b="0"/>
          <a:stretch/>
        </p:blipFill>
        <p:spPr>
          <a:xfrm>
            <a:off x="7765920" y="596880"/>
            <a:ext cx="21798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07600" y="62064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ращение 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- Уполномоченному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 при Губернаторе Ставропольского края по правам ребенка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даменко Светлане Викторов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л.:  35-74-76,  35-74-40 Факс: 35-74-34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asv@mintrud.stavkray.ru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рес: г. Ставрополь, ул. Лермонтова, 206-а, каб. 309, 3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476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дебная защита пра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1268280"/>
            <a:ext cx="7994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ЕКОМЕНДАЦИИ: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Желательно обратиться за помощью к юристу, либо при наличии возможности в общественную приемную по защите пра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айте внимание на правила подведомственности и подсудности рассмотрения дел суд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имательно ознакомьтесь с требованиями предъявляемыми к содержанию искового зая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3" name="Picture 4" descr="GNGST033"/>
          <p:cNvPicPr/>
          <p:nvPr/>
        </p:nvPicPr>
        <p:blipFill>
          <a:blip r:embed="rId1"/>
          <a:stretch/>
        </p:blipFill>
        <p:spPr>
          <a:xfrm>
            <a:off x="8059680" y="4508640"/>
            <a:ext cx="1846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600" y="69192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Общественные приемные по защите пра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5000" y="1916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. Юридическая клиника СФ МГГУ им М.А. Шолохов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2. Юридическая клиника СевКав ГТ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3. Юридическая клиника СГ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44240" y="499680"/>
            <a:ext cx="57740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Жизненная ситуац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Picture 4" descr="CMBIZ002"/>
          <p:cNvPicPr/>
          <p:nvPr/>
        </p:nvPicPr>
        <p:blipFill>
          <a:blip r:embed="rId1"/>
          <a:stretch/>
        </p:blipFill>
        <p:spPr>
          <a:xfrm>
            <a:off x="428760" y="189000"/>
            <a:ext cx="1957320" cy="273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CMBIZ008"/>
          <p:cNvPicPr/>
          <p:nvPr/>
        </p:nvPicPr>
        <p:blipFill>
          <a:blip r:embed="rId2"/>
          <a:stretch/>
        </p:blipFill>
        <p:spPr>
          <a:xfrm>
            <a:off x="7683480" y="189000"/>
            <a:ext cx="1903320" cy="3527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MBIZ014"/>
          <p:cNvPicPr/>
          <p:nvPr/>
        </p:nvPicPr>
        <p:blipFill>
          <a:blip r:embed="rId3"/>
          <a:stretch/>
        </p:blipFill>
        <p:spPr>
          <a:xfrm>
            <a:off x="3860640" y="2492280"/>
            <a:ext cx="2049480" cy="4005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MBIZ033"/>
          <p:cNvPicPr/>
          <p:nvPr/>
        </p:nvPicPr>
        <p:blipFill>
          <a:blip r:embed="rId4"/>
          <a:stretch/>
        </p:blipFill>
        <p:spPr>
          <a:xfrm>
            <a:off x="193680" y="3500280"/>
            <a:ext cx="2824200" cy="2773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BIZ032"/>
          <p:cNvPicPr/>
          <p:nvPr/>
        </p:nvPicPr>
        <p:blipFill>
          <a:blip r:embed="rId5"/>
          <a:stretch/>
        </p:blipFill>
        <p:spPr>
          <a:xfrm>
            <a:off x="6045120" y="4078440"/>
            <a:ext cx="3861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3960" y="1916280"/>
            <a:ext cx="899784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диничным случаям нарушения прав, при бездействии, свойственно развитие в качественном 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 в количественно отношен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POCKETSC"/>
          <p:cNvPicPr/>
          <p:nvPr/>
        </p:nvPicPr>
        <p:blipFill>
          <a:blip r:embed="rId1"/>
          <a:stretch/>
        </p:blipFill>
        <p:spPr>
          <a:xfrm flipH="1">
            <a:off x="428400" y="692280"/>
            <a:ext cx="5175000" cy="61657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>
            <a:off x="4952880" y="0"/>
            <a:ext cx="4448160" cy="141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dede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dedede"/>
                </a:solidFill>
                <a:latin typeface="Tahoma"/>
              </a:rPr>
              <a:t>Что делать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HMOH036"/>
          <p:cNvPicPr/>
          <p:nvPr/>
        </p:nvPicPr>
        <p:blipFill>
          <a:blip r:embed="rId1"/>
          <a:stretch/>
        </p:blipFill>
        <p:spPr>
          <a:xfrm>
            <a:off x="741240" y="0"/>
            <a:ext cx="8423280" cy="51847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1"/>
          <p:cNvSpPr/>
          <p:nvPr/>
        </p:nvSpPr>
        <p:spPr>
          <a:xfrm>
            <a:off x="1285920" y="260280"/>
            <a:ext cx="265284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de"/>
                </a:solidFill>
                <a:latin typeface="Tahoma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AutoShape 12"/>
          <p:cNvSpPr/>
          <p:nvPr/>
        </p:nvSpPr>
        <p:spPr>
          <a:xfrm flipH="1" rot="116400">
            <a:off x="6044040" y="333360"/>
            <a:ext cx="272916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Не нарушающий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законодательство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003480" y="2492280"/>
            <a:ext cx="38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можные вариант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7" descr="AMERI178"/>
          <p:cNvPicPr/>
          <p:nvPr/>
        </p:nvPicPr>
        <p:blipFill>
          <a:blip r:embed="rId1"/>
          <a:stretch/>
        </p:blipFill>
        <p:spPr>
          <a:xfrm>
            <a:off x="584280" y="981000"/>
            <a:ext cx="167616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CRCTR346"/>
          <p:cNvPicPr/>
          <p:nvPr/>
        </p:nvPicPr>
        <p:blipFill>
          <a:blip r:embed="rId2"/>
          <a:stretch/>
        </p:blipFill>
        <p:spPr>
          <a:xfrm>
            <a:off x="7450200" y="549360"/>
            <a:ext cx="1909800" cy="2349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JUDOCOLO"/>
          <p:cNvPicPr/>
          <p:nvPr/>
        </p:nvPicPr>
        <p:blipFill>
          <a:blip r:embed="rId3"/>
          <a:stretch/>
        </p:blipFill>
        <p:spPr>
          <a:xfrm>
            <a:off x="3314880" y="404640"/>
            <a:ext cx="2806560" cy="19386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20"/>
          <p:cNvGrpSpPr/>
          <p:nvPr/>
        </p:nvGrpSpPr>
        <p:grpSpPr>
          <a:xfrm>
            <a:off x="465120" y="3475080"/>
            <a:ext cx="5767200" cy="2948040"/>
            <a:chOff x="465120" y="3475080"/>
            <a:chExt cx="5767200" cy="2948040"/>
          </a:xfrm>
        </p:grpSpPr>
        <p:pic>
          <p:nvPicPr>
            <p:cNvPr id="233" name="Picture 14" descr="CRCTR387"/>
            <p:cNvPicPr/>
            <p:nvPr/>
          </p:nvPicPr>
          <p:blipFill>
            <a:blip r:embed="rId4"/>
            <a:stretch/>
          </p:blipFill>
          <p:spPr>
            <a:xfrm flipH="1">
              <a:off x="465120" y="3857760"/>
              <a:ext cx="203040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AutoShape 17"/>
            <p:cNvSpPr/>
            <p:nvPr/>
          </p:nvSpPr>
          <p:spPr>
            <a:xfrm rot="685800">
              <a:off x="2179080" y="3857760"/>
              <a:ext cx="3978360" cy="1152360"/>
            </a:xfrm>
            <a:prstGeom prst="wedgeEllipseCallout">
              <a:avLst>
                <a:gd name="adj1" fmla="val -45814"/>
                <a:gd name="adj2" fmla="val 100046"/>
              </a:avLst>
            </a:prstGeom>
            <a:solidFill>
              <a:srgbClr val="ffff00"/>
            </a:solidFill>
            <a:ln w="93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Пи…Пи…Пи…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Пи…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5343120" y="3573360"/>
            <a:ext cx="4213440" cy="3044880"/>
            <a:chOff x="5343120" y="3573360"/>
            <a:chExt cx="4213440" cy="3044880"/>
          </a:xfrm>
        </p:grpSpPr>
        <p:pic>
          <p:nvPicPr>
            <p:cNvPr id="236" name="Picture 15" descr="DA"/>
            <p:cNvPicPr/>
            <p:nvPr/>
          </p:nvPicPr>
          <p:blipFill>
            <a:blip r:embed="rId5"/>
            <a:srcRect l="0" t="21271" r="0" b="0"/>
            <a:stretch/>
          </p:blipFill>
          <p:spPr>
            <a:xfrm>
              <a:off x="7137000" y="4221000"/>
              <a:ext cx="241956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18"/>
            <p:cNvSpPr/>
            <p:nvPr/>
          </p:nvSpPr>
          <p:spPr>
            <a:xfrm flipH="1">
              <a:off x="5342760" y="3573360"/>
              <a:ext cx="1872360" cy="1368360"/>
            </a:xfrm>
            <a:prstGeom prst="wedgeEllipseCallout">
              <a:avLst>
                <a:gd name="adj1" fmla="val -56796"/>
                <a:gd name="adj2" fmla="val 69949"/>
              </a:avLst>
            </a:prstGeom>
            <a:solidFill>
              <a:srgbClr val="ff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Да я тебе…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0" y="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314880" y="2565360"/>
            <a:ext cx="34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Picture 8" descr="GNGST006"/>
          <p:cNvPicPr/>
          <p:nvPr/>
        </p:nvPicPr>
        <p:blipFill>
          <a:blip r:embed="rId1"/>
          <a:srcRect l="0" t="0" r="53137" b="0"/>
          <a:stretch/>
        </p:blipFill>
        <p:spPr>
          <a:xfrm>
            <a:off x="8072280" y="0"/>
            <a:ext cx="1436760" cy="378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GNGST033"/>
          <p:cNvPicPr/>
          <p:nvPr/>
        </p:nvPicPr>
        <p:blipFill>
          <a:blip r:embed="rId2"/>
          <a:stretch/>
        </p:blipFill>
        <p:spPr>
          <a:xfrm>
            <a:off x="0" y="3263760"/>
            <a:ext cx="2827440" cy="3594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CBIZ074"/>
          <p:cNvPicPr/>
          <p:nvPr/>
        </p:nvPicPr>
        <p:blipFill>
          <a:blip r:embed="rId3"/>
          <a:stretch/>
        </p:blipFill>
        <p:spPr>
          <a:xfrm flipH="1">
            <a:off x="-360" y="907920"/>
            <a:ext cx="3938760" cy="14623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17"/>
          <p:cNvSpPr/>
          <p:nvPr/>
        </p:nvSpPr>
        <p:spPr>
          <a:xfrm>
            <a:off x="4406760" y="1341360"/>
            <a:ext cx="3276720" cy="287280"/>
          </a:xfrm>
          <a:prstGeom prst="rightArrow">
            <a:avLst>
              <a:gd name="adj1" fmla="val 50000"/>
              <a:gd name="adj2" fmla="val 263236"/>
            </a:avLst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AutoShape 19"/>
          <p:cNvSpPr/>
          <p:nvPr/>
        </p:nvSpPr>
        <p:spPr>
          <a:xfrm rot="9562200">
            <a:off x="2235240" y="2784600"/>
            <a:ext cx="5462640" cy="574560"/>
          </a:xfrm>
          <a:prstGeom prst="rightArrow">
            <a:avLst>
              <a:gd name="adj1" fmla="val 50000"/>
              <a:gd name="adj2" fmla="val 219421"/>
            </a:avLst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5" name="Group 26"/>
          <p:cNvGrpSpPr/>
          <p:nvPr/>
        </p:nvGrpSpPr>
        <p:grpSpPr>
          <a:xfrm>
            <a:off x="3782880" y="3716280"/>
            <a:ext cx="6122880" cy="3141720"/>
            <a:chOff x="3782880" y="3716280"/>
            <a:chExt cx="6122880" cy="3141720"/>
          </a:xfrm>
        </p:grpSpPr>
        <p:pic>
          <p:nvPicPr>
            <p:cNvPr id="246" name="Picture 9" descr="GNGST012"/>
            <p:cNvPicPr/>
            <p:nvPr/>
          </p:nvPicPr>
          <p:blipFill>
            <a:blip r:embed="rId4"/>
            <a:stretch/>
          </p:blipFill>
          <p:spPr>
            <a:xfrm>
              <a:off x="7449840" y="5734080"/>
              <a:ext cx="9939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AutoShape 20"/>
            <p:cNvSpPr/>
            <p:nvPr/>
          </p:nvSpPr>
          <p:spPr>
            <a:xfrm>
              <a:off x="3782880" y="5300640"/>
              <a:ext cx="2418120" cy="287280"/>
            </a:xfrm>
            <a:prstGeom prst="rightArrow">
              <a:avLst>
                <a:gd name="adj1" fmla="val 50000"/>
                <a:gd name="adj2" fmla="val 210432"/>
              </a:avLst>
            </a:prstGeom>
            <a:solidFill>
              <a:srgbClr val="ff0000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248" name="Picture 21" descr="POCKETSC"/>
            <p:cNvPicPr/>
            <p:nvPr/>
          </p:nvPicPr>
          <p:blipFill>
            <a:blip r:embed="rId5"/>
            <a:stretch/>
          </p:blipFill>
          <p:spPr>
            <a:xfrm flipH="1">
              <a:off x="7293240" y="3716280"/>
              <a:ext cx="136692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22"/>
            <p:cNvSpPr/>
            <p:nvPr/>
          </p:nvSpPr>
          <p:spPr>
            <a:xfrm>
              <a:off x="6355800" y="5516640"/>
              <a:ext cx="93744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 flipV="1">
              <a:off x="6355800" y="4723920"/>
              <a:ext cx="937440" cy="50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>
              <a:off x="6512400" y="5373720"/>
              <a:ext cx="241812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Text Box 25"/>
            <p:cNvSpPr/>
            <p:nvPr/>
          </p:nvSpPr>
          <p:spPr>
            <a:xfrm>
              <a:off x="9047880" y="5013360"/>
              <a:ext cx="8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5720" y="4221000"/>
            <a:ext cx="4446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арианты разреш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3" descr="HMOH036"/>
          <p:cNvPicPr/>
          <p:nvPr/>
        </p:nvPicPr>
        <p:blipFill>
          <a:blip r:embed="rId1"/>
          <a:stretch/>
        </p:blipFill>
        <p:spPr>
          <a:xfrm>
            <a:off x="741240" y="0"/>
            <a:ext cx="8423280" cy="51847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4"/>
          <p:cNvSpPr/>
          <p:nvPr/>
        </p:nvSpPr>
        <p:spPr>
          <a:xfrm>
            <a:off x="1363680" y="260280"/>
            <a:ext cx="241776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de"/>
                </a:solidFill>
                <a:latin typeface="Tahoma"/>
              </a:rPr>
              <a:t>Не законны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AutoShape 5"/>
          <p:cNvSpPr/>
          <p:nvPr/>
        </p:nvSpPr>
        <p:spPr>
          <a:xfrm flipH="1" rot="116400">
            <a:off x="6044040" y="333360"/>
            <a:ext cx="2729160" cy="1513080"/>
          </a:xfrm>
          <a:prstGeom prst="verticalScroll">
            <a:avLst>
              <a:gd name="adj" fmla="val 12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Не нарушающий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edede"/>
                </a:solidFill>
                <a:latin typeface="Tahoma"/>
              </a:rPr>
              <a:t>законодательство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2612880" y="2060640"/>
            <a:ext cx="460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нарушающие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конодательство способы защит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58" name="Group 13"/>
          <p:cNvGrpSpPr/>
          <p:nvPr/>
        </p:nvGrpSpPr>
        <p:grpSpPr>
          <a:xfrm>
            <a:off x="193680" y="836640"/>
            <a:ext cx="3198600" cy="1224000"/>
            <a:chOff x="193680" y="836640"/>
            <a:chExt cx="3198600" cy="1224000"/>
          </a:xfrm>
        </p:grpSpPr>
        <p:sp>
          <p:nvSpPr>
            <p:cNvPr id="259" name="Text Box 5"/>
            <p:cNvSpPr/>
            <p:nvPr/>
          </p:nvSpPr>
          <p:spPr>
            <a:xfrm>
              <a:off x="193680" y="836640"/>
              <a:ext cx="31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бездействие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H="1" flipV="1">
              <a:off x="2377440" y="1484640"/>
              <a:ext cx="779040" cy="57600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1" name="Text Box 6"/>
          <p:cNvSpPr/>
          <p:nvPr/>
        </p:nvSpPr>
        <p:spPr>
          <a:xfrm>
            <a:off x="3236760" y="404640"/>
            <a:ext cx="31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защи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10"/>
          <p:cNvSpPr/>
          <p:nvPr/>
        </p:nvSpPr>
        <p:spPr>
          <a:xfrm flipV="1">
            <a:off x="4795920" y="1412640"/>
            <a:ext cx="0" cy="71892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65040" y="4869000"/>
            <a:ext cx="43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а в административном порядк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11"/>
          <p:cNvSpPr/>
          <p:nvPr/>
        </p:nvSpPr>
        <p:spPr>
          <a:xfrm flipH="1">
            <a:off x="2535120" y="3860640"/>
            <a:ext cx="1028880" cy="72072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202440" y="4654440"/>
            <a:ext cx="304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а в судебном порядк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6435720" y="3716280"/>
            <a:ext cx="934920" cy="64764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19"/>
          <p:cNvSpPr/>
          <p:nvPr/>
        </p:nvSpPr>
        <p:spPr>
          <a:xfrm flipV="1">
            <a:off x="6826320" y="1557360"/>
            <a:ext cx="779400" cy="57456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6513480" y="476280"/>
            <a:ext cx="31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а родителям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483000" y="4214880"/>
            <a:ext cx="31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ественная защи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4952880" y="3643200"/>
            <a:ext cx="0" cy="781200"/>
          </a:xfrm>
          <a:prstGeom prst="line">
            <a:avLst/>
          </a:prstGeom>
          <a:ln w="66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5462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ездейств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Picture 4" descr="CRCTR359"/>
          <p:cNvPicPr/>
          <p:nvPr/>
        </p:nvPicPr>
        <p:blipFill>
          <a:blip r:embed="rId1"/>
          <a:stretch/>
        </p:blipFill>
        <p:spPr>
          <a:xfrm>
            <a:off x="1911240" y="476280"/>
            <a:ext cx="76788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25:43Z</dcterms:created>
  <dc:creator>1</dc:creator>
  <dc:description/>
  <dc:language>en-US</dc:language>
  <cp:lastModifiedBy>1</cp:lastModifiedBy>
  <dcterms:modified xsi:type="dcterms:W3CDTF">2012-11-22T09:02:28Z</dcterms:modified>
  <cp:revision>47</cp:revision>
  <dc:subject/>
  <dc:title>Защита прав </dc:title>
</cp:coreProperties>
</file>