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72BC2-29F7-496A-A3A0-4DE592866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95000" y="114264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95000" y="2249640"/>
            <a:ext cx="89154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95000" y="4508280"/>
            <a:ext cx="89154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14675-E409-4A02-BADD-57D314010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95000" y="114264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95000" y="2249640"/>
            <a:ext cx="4350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5063400" y="2249640"/>
            <a:ext cx="4350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95000" y="4508280"/>
            <a:ext cx="4350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5063400" y="4508280"/>
            <a:ext cx="4350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B43DF-AEB0-4942-848C-09D00763E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95000" y="114264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95000" y="2249640"/>
            <a:ext cx="2870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509640" y="2249640"/>
            <a:ext cx="2870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524280" y="2249640"/>
            <a:ext cx="2870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95000" y="4508280"/>
            <a:ext cx="2870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509640" y="4508280"/>
            <a:ext cx="2870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524280" y="4508280"/>
            <a:ext cx="2870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C6437-1608-490C-AC4C-1503162BC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846AD-7B08-4B60-850A-885DC49AE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95000" y="114264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95000" y="2249640"/>
            <a:ext cx="89154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30176-1F65-4C6A-AF62-AB09B9E5A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95000" y="114264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95000" y="2249640"/>
            <a:ext cx="89154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EB8A0-A4C2-4220-BC94-A71BD8F18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95000" y="114264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95000" y="2249640"/>
            <a:ext cx="4350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63400" y="2249640"/>
            <a:ext cx="4350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274B4-B28E-4CBA-B3C8-3F0DE85E4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95000" y="114264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540A0-5080-413C-8622-2C9B6F980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95000" y="1142640"/>
            <a:ext cx="8915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B7A93-75E5-4789-BB8E-74732030C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95000" y="114264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95000" y="2249640"/>
            <a:ext cx="4350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63400" y="2249640"/>
            <a:ext cx="4350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95000" y="4508280"/>
            <a:ext cx="4350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70CDF-8D43-458E-9521-0B7E5D6E0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114264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95000" y="2249640"/>
            <a:ext cx="89154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AA4CB-5259-4E35-BD65-FCCD28CF1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95000" y="114264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95000" y="2249640"/>
            <a:ext cx="4350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063400" y="2249640"/>
            <a:ext cx="4350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063400" y="4508280"/>
            <a:ext cx="4350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D39F5-1FC3-4090-B6E5-EA273C630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95000" y="114264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95000" y="2249640"/>
            <a:ext cx="4350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063400" y="2249640"/>
            <a:ext cx="4350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95000" y="4508280"/>
            <a:ext cx="89154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B275F-71A0-41EE-8246-97B435A7A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95000" y="114264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95000" y="2249640"/>
            <a:ext cx="89154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95000" y="4508280"/>
            <a:ext cx="89154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FF7F5-CBBC-4C52-88A6-1861C398B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95000" y="114264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95000" y="2249640"/>
            <a:ext cx="4350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063400" y="2249640"/>
            <a:ext cx="4350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95000" y="4508280"/>
            <a:ext cx="4350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5063400" y="4508280"/>
            <a:ext cx="4350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EAE85-7B05-4489-A595-9F3C0B6A7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95000" y="114264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95000" y="2249640"/>
            <a:ext cx="2870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509640" y="2249640"/>
            <a:ext cx="2870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524280" y="2249640"/>
            <a:ext cx="2870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95000" y="4508280"/>
            <a:ext cx="2870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509640" y="4508280"/>
            <a:ext cx="2870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524280" y="4508280"/>
            <a:ext cx="2870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8BFBF-1CD4-4FE5-80A8-0A62610A3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C6808F0-2829-4D02-A477-23A697F7D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95000" y="114264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95000" y="2249640"/>
            <a:ext cx="89154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52940B7-DFA1-4876-83E3-C8B96C0B1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95000" y="114264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95000" y="2249640"/>
            <a:ext cx="89154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72E443F-008B-4BDE-B7AB-1E5163B40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95000" y="114264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95000" y="2249640"/>
            <a:ext cx="4350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063400" y="2249640"/>
            <a:ext cx="4350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F8C9854-7940-4C62-9FE9-9163108EF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95000" y="114264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589B6FC-BC85-495D-8E3C-48F78381F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95000" y="114264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95000" y="2249640"/>
            <a:ext cx="89154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43D1D-4AEB-471B-AEE1-876A3F949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95000" y="1142640"/>
            <a:ext cx="8915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190C2AA-AF21-4A99-AEFB-B90A08367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95000" y="114264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95000" y="2249640"/>
            <a:ext cx="4350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063400" y="2249640"/>
            <a:ext cx="4350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95000" y="4508280"/>
            <a:ext cx="4350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0E2C288-707B-4AA0-8F1E-3C35AB0CA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95000" y="114264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95000" y="2249640"/>
            <a:ext cx="4350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063400" y="2249640"/>
            <a:ext cx="4350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063400" y="4508280"/>
            <a:ext cx="4350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D51D38-5248-4564-970B-4906AD4F6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95000" y="114264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95000" y="2249640"/>
            <a:ext cx="4350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063400" y="2249640"/>
            <a:ext cx="4350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95000" y="4508280"/>
            <a:ext cx="89154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E2A2092-EF09-40C8-875D-D8648BDA2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95000" y="114264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95000" y="2249640"/>
            <a:ext cx="89154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95000" y="4508280"/>
            <a:ext cx="89154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E93CE3C-7566-4055-A053-41FB8A42F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95000" y="114264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5000" y="2249640"/>
            <a:ext cx="4350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5063400" y="2249640"/>
            <a:ext cx="4350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95000" y="4508280"/>
            <a:ext cx="4350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5063400" y="4508280"/>
            <a:ext cx="4350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8CDD23B-736B-43E0-B85F-53C5AD89B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95000" y="114264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95000" y="2249640"/>
            <a:ext cx="2870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509640" y="2249640"/>
            <a:ext cx="2870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524280" y="2249640"/>
            <a:ext cx="2870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95000" y="4508280"/>
            <a:ext cx="2870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509640" y="4508280"/>
            <a:ext cx="2870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524280" y="4508280"/>
            <a:ext cx="2870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233F82A-9A46-463B-803D-280370601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A9AF13-1B9A-422F-8F3C-E2AFCBFE4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95000" y="114264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95000" y="2249640"/>
            <a:ext cx="89154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1C2A0E-B05B-4428-8C1A-B1BFC7EAC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95000" y="114264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95000" y="2249640"/>
            <a:ext cx="89154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FA2E8C-73C0-4819-906C-ADD06ED68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114264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2249640"/>
            <a:ext cx="4350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2249640"/>
            <a:ext cx="4350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BB55E-0E3C-4D76-8642-1A1597B56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95000" y="114264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95000" y="2249640"/>
            <a:ext cx="4350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063400" y="2249640"/>
            <a:ext cx="4350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8C49C6-ECD7-4FF5-9F68-6D48ABCEC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95000" y="114264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CA20CC-B39F-4049-93F3-E113472F8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95000" y="1142640"/>
            <a:ext cx="8915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A3FC9B-D09D-439A-AA11-69EF6E2EF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95000" y="114264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95000" y="2249640"/>
            <a:ext cx="4350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3400" y="2249640"/>
            <a:ext cx="4350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95000" y="4508280"/>
            <a:ext cx="4350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38C413-36A0-41ED-8631-A67D58A30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95000" y="114264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95000" y="2249640"/>
            <a:ext cx="4350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3400" y="2249640"/>
            <a:ext cx="4350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5063400" y="4508280"/>
            <a:ext cx="4350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4A801C-8911-4B3A-BC8F-788E52ECF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95000" y="114264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95000" y="2249640"/>
            <a:ext cx="4350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063400" y="2249640"/>
            <a:ext cx="4350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95000" y="4508280"/>
            <a:ext cx="89154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4DF6FB-4379-4BB5-9F2E-7345433F9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95000" y="114264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95000" y="2249640"/>
            <a:ext cx="89154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95000" y="4508280"/>
            <a:ext cx="89154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9F0953-87F8-46EE-BC31-99A190DA0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95000" y="114264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95000" y="2249640"/>
            <a:ext cx="4350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5063400" y="2249640"/>
            <a:ext cx="4350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95000" y="4508280"/>
            <a:ext cx="4350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5063400" y="4508280"/>
            <a:ext cx="4350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C0B260-4589-42B5-969E-5A780449D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95000" y="114264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95000" y="2249640"/>
            <a:ext cx="2870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509640" y="2249640"/>
            <a:ext cx="2870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524280" y="2249640"/>
            <a:ext cx="2870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95000" y="4508280"/>
            <a:ext cx="2870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509640" y="4508280"/>
            <a:ext cx="2870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524280" y="4508280"/>
            <a:ext cx="2870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CCB30D-F114-443D-8C91-698B1AD7F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95000" y="114264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C227E-A707-4455-81AC-C00B3C7EB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95000" y="1142640"/>
            <a:ext cx="8915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311AD-607C-4175-BCD9-545493BE1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95000" y="114264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95000" y="2249640"/>
            <a:ext cx="4350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63400" y="2249640"/>
            <a:ext cx="4350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5000" y="4508280"/>
            <a:ext cx="4350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78995-C50C-45FE-B8E8-EDA9A93F4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95000" y="114264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95000" y="2249640"/>
            <a:ext cx="4350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63400" y="2249640"/>
            <a:ext cx="4350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63400" y="4508280"/>
            <a:ext cx="4350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1CBA5-F89B-4BF7-95C8-2488E8AE3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95000" y="114264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95000" y="2249640"/>
            <a:ext cx="4350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63400" y="2249640"/>
            <a:ext cx="4350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95000" y="4508280"/>
            <a:ext cx="89154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7D753-47C2-42B4-A0F3-FD9AE5FEA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27"/>
          <p:cNvSpPr/>
          <p:nvPr/>
        </p:nvSpPr>
        <p:spPr>
          <a:xfrm>
            <a:off x="0" y="366840"/>
            <a:ext cx="990612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" name="Прямоугольник 28"/>
          <p:cNvSpPr/>
          <p:nvPr/>
        </p:nvSpPr>
        <p:spPr>
          <a:xfrm>
            <a:off x="0" y="0"/>
            <a:ext cx="990612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" name="Прямоугольник 29"/>
          <p:cNvSpPr/>
          <p:nvPr/>
        </p:nvSpPr>
        <p:spPr>
          <a:xfrm>
            <a:off x="0" y="307800"/>
            <a:ext cx="990612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Прямоугольник 30"/>
          <p:cNvSpPr/>
          <p:nvPr/>
        </p:nvSpPr>
        <p:spPr>
          <a:xfrm flipV="1">
            <a:off x="5861160" y="359280"/>
            <a:ext cx="404496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Прямоугольник 31"/>
          <p:cNvSpPr/>
          <p:nvPr/>
        </p:nvSpPr>
        <p:spPr>
          <a:xfrm flipV="1">
            <a:off x="5861160" y="438480"/>
            <a:ext cx="404496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Скругленный прямоугольник 32"/>
          <p:cNvSpPr/>
          <p:nvPr/>
        </p:nvSpPr>
        <p:spPr>
          <a:xfrm>
            <a:off x="5857920" y="496800"/>
            <a:ext cx="331956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Скругленный прямоугольник 33"/>
          <p:cNvSpPr/>
          <p:nvPr/>
        </p:nvSpPr>
        <p:spPr>
          <a:xfrm>
            <a:off x="7988400" y="588960"/>
            <a:ext cx="17334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Прямоугольник 34"/>
          <p:cNvSpPr/>
          <p:nvPr/>
        </p:nvSpPr>
        <p:spPr>
          <a:xfrm>
            <a:off x="9842400" y="-1440"/>
            <a:ext cx="6192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" name="Прямоугольник 35"/>
          <p:cNvSpPr/>
          <p:nvPr/>
        </p:nvSpPr>
        <p:spPr>
          <a:xfrm>
            <a:off x="9798120" y="-1440"/>
            <a:ext cx="30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Прямоугольник 36"/>
          <p:cNvSpPr/>
          <p:nvPr/>
        </p:nvSpPr>
        <p:spPr>
          <a:xfrm>
            <a:off x="97772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" name="Прямоугольник 37"/>
          <p:cNvSpPr/>
          <p:nvPr/>
        </p:nvSpPr>
        <p:spPr>
          <a:xfrm>
            <a:off x="9723600" y="-1440"/>
            <a:ext cx="2988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" name="Прямоугольник 38"/>
          <p:cNvSpPr/>
          <p:nvPr/>
        </p:nvSpPr>
        <p:spPr>
          <a:xfrm>
            <a:off x="9658440" y="0"/>
            <a:ext cx="6012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" name="Прямоугольник 39"/>
          <p:cNvSpPr/>
          <p:nvPr/>
        </p:nvSpPr>
        <p:spPr>
          <a:xfrm>
            <a:off x="96138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95000" y="114264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95000" y="2249640"/>
            <a:ext cx="89154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7135560" y="612720"/>
            <a:ext cx="1036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695560" y="61272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854560" y="1080"/>
            <a:ext cx="8254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07101-F349-48D9-9058-C7EF207DF2B2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9"/>
          <p:cNvSpPr/>
          <p:nvPr/>
        </p:nvSpPr>
        <p:spPr>
          <a:xfrm flipV="1">
            <a:off x="5861160" y="3809880"/>
            <a:ext cx="404496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5" name="Прямоугольник 20"/>
          <p:cNvSpPr/>
          <p:nvPr/>
        </p:nvSpPr>
        <p:spPr>
          <a:xfrm flipV="1">
            <a:off x="5861160" y="3896640"/>
            <a:ext cx="404496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6" name="Прямоугольник 21"/>
          <p:cNvSpPr/>
          <p:nvPr/>
        </p:nvSpPr>
        <p:spPr>
          <a:xfrm flipV="1">
            <a:off x="5861160" y="4114800"/>
            <a:ext cx="404496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7" name="Прямоугольник 23"/>
          <p:cNvSpPr/>
          <p:nvPr/>
        </p:nvSpPr>
        <p:spPr>
          <a:xfrm flipV="1">
            <a:off x="5861160" y="4163400"/>
            <a:ext cx="212868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8" name="Прямоугольник 24"/>
          <p:cNvSpPr/>
          <p:nvPr/>
        </p:nvSpPr>
        <p:spPr>
          <a:xfrm flipV="1">
            <a:off x="5861160" y="4199040"/>
            <a:ext cx="212868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9" name="Скругленный прямоугольник 25"/>
          <p:cNvSpPr/>
          <p:nvPr/>
        </p:nvSpPr>
        <p:spPr>
          <a:xfrm>
            <a:off x="5861160" y="3962520"/>
            <a:ext cx="331920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0" name="Скругленный прямоугольник 26"/>
          <p:cNvSpPr/>
          <p:nvPr/>
        </p:nvSpPr>
        <p:spPr>
          <a:xfrm>
            <a:off x="7991640" y="4060800"/>
            <a:ext cx="17334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1" name="Прямоугольник 40"/>
          <p:cNvSpPr/>
          <p:nvPr/>
        </p:nvSpPr>
        <p:spPr>
          <a:xfrm>
            <a:off x="0" y="3649680"/>
            <a:ext cx="990612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2" name="Прямоугольник 41"/>
          <p:cNvSpPr/>
          <p:nvPr/>
        </p:nvSpPr>
        <p:spPr>
          <a:xfrm>
            <a:off x="0" y="3675240"/>
            <a:ext cx="990612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3" name="Прямоугольник 42"/>
          <p:cNvSpPr/>
          <p:nvPr/>
        </p:nvSpPr>
        <p:spPr>
          <a:xfrm flipV="1">
            <a:off x="6948360" y="3643200"/>
            <a:ext cx="295776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4" name="Прямоугольник 43"/>
          <p:cNvSpPr/>
          <p:nvPr/>
        </p:nvSpPr>
        <p:spPr>
          <a:xfrm>
            <a:off x="0" y="0"/>
            <a:ext cx="990612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95000" y="114264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95000" y="2249640"/>
            <a:ext cx="89154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7264440" y="4206960"/>
            <a:ext cx="1039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861160" y="4205160"/>
            <a:ext cx="1403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9013320" y="1080"/>
            <a:ext cx="809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2BE28-7EE5-46D4-A1EF-664D7373523D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27"/>
          <p:cNvSpPr/>
          <p:nvPr/>
        </p:nvSpPr>
        <p:spPr>
          <a:xfrm>
            <a:off x="0" y="366840"/>
            <a:ext cx="990612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7" name="Прямоугольник 28"/>
          <p:cNvSpPr/>
          <p:nvPr/>
        </p:nvSpPr>
        <p:spPr>
          <a:xfrm>
            <a:off x="0" y="0"/>
            <a:ext cx="990612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8" name="Прямоугольник 29"/>
          <p:cNvSpPr/>
          <p:nvPr/>
        </p:nvSpPr>
        <p:spPr>
          <a:xfrm>
            <a:off x="0" y="307800"/>
            <a:ext cx="990612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9" name="Прямоугольник 30"/>
          <p:cNvSpPr/>
          <p:nvPr/>
        </p:nvSpPr>
        <p:spPr>
          <a:xfrm flipV="1">
            <a:off x="5861160" y="359280"/>
            <a:ext cx="404496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0" name="Прямоугольник 31"/>
          <p:cNvSpPr/>
          <p:nvPr/>
        </p:nvSpPr>
        <p:spPr>
          <a:xfrm flipV="1">
            <a:off x="5861160" y="438480"/>
            <a:ext cx="404496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1" name="Скругленный прямоугольник 32"/>
          <p:cNvSpPr/>
          <p:nvPr/>
        </p:nvSpPr>
        <p:spPr>
          <a:xfrm>
            <a:off x="5857920" y="496800"/>
            <a:ext cx="331956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2" name="Скругленный прямоугольник 33"/>
          <p:cNvSpPr/>
          <p:nvPr/>
        </p:nvSpPr>
        <p:spPr>
          <a:xfrm>
            <a:off x="7988400" y="588960"/>
            <a:ext cx="17334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3" name="Прямоугольник 34"/>
          <p:cNvSpPr/>
          <p:nvPr/>
        </p:nvSpPr>
        <p:spPr>
          <a:xfrm>
            <a:off x="9842400" y="-1440"/>
            <a:ext cx="6192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4" name="Прямоугольник 35"/>
          <p:cNvSpPr/>
          <p:nvPr/>
        </p:nvSpPr>
        <p:spPr>
          <a:xfrm>
            <a:off x="9798120" y="-1440"/>
            <a:ext cx="30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5" name="Прямоугольник 36"/>
          <p:cNvSpPr/>
          <p:nvPr/>
        </p:nvSpPr>
        <p:spPr>
          <a:xfrm>
            <a:off x="97772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6" name="Прямоугольник 37"/>
          <p:cNvSpPr/>
          <p:nvPr/>
        </p:nvSpPr>
        <p:spPr>
          <a:xfrm>
            <a:off x="9723600" y="-1440"/>
            <a:ext cx="2988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7" name="Прямоугольник 38"/>
          <p:cNvSpPr/>
          <p:nvPr/>
        </p:nvSpPr>
        <p:spPr>
          <a:xfrm>
            <a:off x="9658440" y="0"/>
            <a:ext cx="6012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8" name="Прямоугольник 39"/>
          <p:cNvSpPr/>
          <p:nvPr/>
        </p:nvSpPr>
        <p:spPr>
          <a:xfrm>
            <a:off x="96138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95000" y="114264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95000" y="2249640"/>
            <a:ext cx="89154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7135560" y="612720"/>
            <a:ext cx="1036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854560" y="1080"/>
            <a:ext cx="8254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32498-1472-4A80-8C69-A72146369666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695560" y="61272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Прямоугольник 27"/>
          <p:cNvSpPr/>
          <p:nvPr/>
        </p:nvSpPr>
        <p:spPr>
          <a:xfrm>
            <a:off x="0" y="366840"/>
            <a:ext cx="990612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1" name="Прямоугольник 28"/>
          <p:cNvSpPr/>
          <p:nvPr/>
        </p:nvSpPr>
        <p:spPr>
          <a:xfrm>
            <a:off x="0" y="0"/>
            <a:ext cx="990612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2" name="Прямоугольник 29"/>
          <p:cNvSpPr/>
          <p:nvPr/>
        </p:nvSpPr>
        <p:spPr>
          <a:xfrm>
            <a:off x="0" y="307800"/>
            <a:ext cx="990612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3" name="Прямоугольник 30"/>
          <p:cNvSpPr/>
          <p:nvPr/>
        </p:nvSpPr>
        <p:spPr>
          <a:xfrm flipV="1">
            <a:off x="5861160" y="359280"/>
            <a:ext cx="404496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4" name="Прямоугольник 31"/>
          <p:cNvSpPr/>
          <p:nvPr/>
        </p:nvSpPr>
        <p:spPr>
          <a:xfrm flipV="1">
            <a:off x="5861160" y="438480"/>
            <a:ext cx="404496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5" name="Скругленный прямоугольник 32"/>
          <p:cNvSpPr/>
          <p:nvPr/>
        </p:nvSpPr>
        <p:spPr>
          <a:xfrm>
            <a:off x="5857920" y="496800"/>
            <a:ext cx="331956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6" name="Скругленный прямоугольник 33"/>
          <p:cNvSpPr/>
          <p:nvPr/>
        </p:nvSpPr>
        <p:spPr>
          <a:xfrm>
            <a:off x="7988400" y="588960"/>
            <a:ext cx="17334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7" name="Прямоугольник 34"/>
          <p:cNvSpPr/>
          <p:nvPr/>
        </p:nvSpPr>
        <p:spPr>
          <a:xfrm>
            <a:off x="9842400" y="-1440"/>
            <a:ext cx="6192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8" name="Прямоугольник 35"/>
          <p:cNvSpPr/>
          <p:nvPr/>
        </p:nvSpPr>
        <p:spPr>
          <a:xfrm>
            <a:off x="9798120" y="-1440"/>
            <a:ext cx="30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9" name="Прямоугольник 36"/>
          <p:cNvSpPr/>
          <p:nvPr/>
        </p:nvSpPr>
        <p:spPr>
          <a:xfrm>
            <a:off x="97772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0" name="Прямоугольник 37"/>
          <p:cNvSpPr/>
          <p:nvPr/>
        </p:nvSpPr>
        <p:spPr>
          <a:xfrm>
            <a:off x="9723600" y="-1440"/>
            <a:ext cx="2988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1" name="Прямоугольник 38"/>
          <p:cNvSpPr/>
          <p:nvPr/>
        </p:nvSpPr>
        <p:spPr>
          <a:xfrm>
            <a:off x="9658440" y="0"/>
            <a:ext cx="6012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2" name="Прямоугольник 39"/>
          <p:cNvSpPr/>
          <p:nvPr/>
        </p:nvSpPr>
        <p:spPr>
          <a:xfrm>
            <a:off x="96138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95000" y="114264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95000" y="2249640"/>
            <a:ext cx="89154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7132320" y="612720"/>
            <a:ext cx="1036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695560" y="61272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854560" y="1080"/>
            <a:ext cx="8254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7B52C-2751-4709-9E25-657D2EA0F720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64760" y="1285560"/>
            <a:ext cx="916308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rebuchet MS"/>
              </a:rPr>
              <a:t>Защита прав ребенка</a:t>
            </a: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495000" y="3900600"/>
            <a:ext cx="5365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24456"/>
                </a:solidFill>
                <a:latin typeface="Georgia"/>
              </a:rPr>
              <a:t>защита прав, формы защиты, уполномоченные органы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Text Box 7"/>
          <p:cNvSpPr/>
          <p:nvPr/>
        </p:nvSpPr>
        <p:spPr>
          <a:xfrm>
            <a:off x="2300400" y="642960"/>
            <a:ext cx="5540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1. Самозащита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274" name="Group 18"/>
          <p:cNvGrpSpPr/>
          <p:nvPr/>
        </p:nvGrpSpPr>
        <p:grpSpPr>
          <a:xfrm>
            <a:off x="6202440" y="2421000"/>
            <a:ext cx="3274560" cy="4198680"/>
            <a:chOff x="6202440" y="2421000"/>
            <a:chExt cx="3274560" cy="4198680"/>
          </a:xfrm>
        </p:grpSpPr>
        <p:sp>
          <p:nvSpPr>
            <p:cNvPr id="275" name="Text Box 10"/>
            <p:cNvSpPr/>
            <p:nvPr/>
          </p:nvSpPr>
          <p:spPr>
            <a:xfrm>
              <a:off x="6202440" y="2421000"/>
              <a:ext cx="3274560" cy="159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Tahoma"/>
                </a:rPr>
                <a:t>Письменное обращение</a:t>
              </a:r>
              <a:endParaRPr b="0" lang="en-US" sz="2800" spc="-1" strike="noStrike">
                <a:solidFill>
                  <a:srgbClr val="000000"/>
                </a:solidFill>
                <a:latin typeface="Garamond"/>
              </a:endParaRPr>
            </a:p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Tahoma"/>
                </a:rPr>
                <a:t>к …, нарушителю</a:t>
              </a:r>
              <a:endParaRPr b="0" lang="en-US" sz="2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pic>
          <p:nvPicPr>
            <p:cNvPr id="276" name="Picture 13" descr="CMBIZ105"/>
            <p:cNvPicPr/>
            <p:nvPr/>
          </p:nvPicPr>
          <p:blipFill>
            <a:blip r:embed="rId1"/>
            <a:stretch/>
          </p:blipFill>
          <p:spPr>
            <a:xfrm>
              <a:off x="6514920" y="4725720"/>
              <a:ext cx="2496240" cy="1893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77" name="Group 17"/>
          <p:cNvGrpSpPr/>
          <p:nvPr/>
        </p:nvGrpSpPr>
        <p:grpSpPr>
          <a:xfrm>
            <a:off x="895320" y="2206800"/>
            <a:ext cx="3277800" cy="4651200"/>
            <a:chOff x="895320" y="2206800"/>
            <a:chExt cx="3277800" cy="4651200"/>
          </a:xfrm>
        </p:grpSpPr>
        <p:sp>
          <p:nvSpPr>
            <p:cNvPr id="278" name="Text Box 6"/>
            <p:cNvSpPr/>
            <p:nvPr/>
          </p:nvSpPr>
          <p:spPr>
            <a:xfrm>
              <a:off x="1051560" y="2206800"/>
              <a:ext cx="312156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Объяснение возможных правовых последствий</a:t>
              </a:r>
              <a:endParaRPr b="0" lang="en-US" sz="2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grpSp>
          <p:nvGrpSpPr>
            <p:cNvPr id="279" name="Group 16"/>
            <p:cNvGrpSpPr/>
            <p:nvPr/>
          </p:nvGrpSpPr>
          <p:grpSpPr>
            <a:xfrm>
              <a:off x="895320" y="3913200"/>
              <a:ext cx="2976480" cy="2944800"/>
              <a:chOff x="895320" y="3913200"/>
              <a:chExt cx="2976480" cy="2944800"/>
            </a:xfrm>
          </p:grpSpPr>
          <p:pic>
            <p:nvPicPr>
              <p:cNvPr id="280" name="Picture 9" descr="CBIZ165"/>
              <p:cNvPicPr/>
              <p:nvPr/>
            </p:nvPicPr>
            <p:blipFill>
              <a:blip r:embed="rId2"/>
              <a:stretch/>
            </p:blipFill>
            <p:spPr>
              <a:xfrm>
                <a:off x="1947600" y="3913200"/>
                <a:ext cx="1924200" cy="294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81" name="Picture 15" descr="CMBIZ033"/>
              <p:cNvPicPr/>
              <p:nvPr/>
            </p:nvPicPr>
            <p:blipFill>
              <a:blip r:embed="rId3"/>
              <a:srcRect l="0" t="38718" r="55356" b="0"/>
              <a:stretch/>
            </p:blipFill>
            <p:spPr>
              <a:xfrm>
                <a:off x="895320" y="5146560"/>
                <a:ext cx="1269000" cy="17114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64760" y="357120"/>
            <a:ext cx="89154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rebuchet MS"/>
              </a:rPr>
              <a:t>Защита прав детей родителями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309240" y="1499760"/>
            <a:ext cx="89154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Georgia"/>
              </a:rPr>
              <a:t>Родители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 главные защитники прав детей.</a:t>
            </a:r>
            <a:r>
              <a:rPr b="1" lang="ru-RU" sz="2800" spc="-1" strike="noStrike">
                <a:solidFill>
                  <a:srgbClr val="ff0000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Georgia"/>
              </a:rPr>
              <a:t>Родители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имеют право воспитывать ребенка, а также несут обязанности и ответственность за воспитание и развитие ребенка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Georgia"/>
              </a:rPr>
              <a:t>Родители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обязаны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защищать права своих детей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Georgia"/>
              </a:rPr>
              <a:t>Родители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защищают права своих детей  перед 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любыми лицами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82400" y="2276280"/>
            <a:ext cx="8915400" cy="186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424456"/>
                </a:solidFill>
                <a:latin typeface="Trebuchet MS"/>
              </a:rPr>
              <a:t>Административные формы защиты прав</a:t>
            </a:r>
            <a:endParaRPr b="0" lang="en-US" sz="5400" spc="-1" strike="noStrike">
              <a:solidFill>
                <a:srgbClr val="42445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55520" y="1925640"/>
            <a:ext cx="9632880" cy="251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rebuchet MS"/>
              </a:rPr>
              <a:t>Комиссия по делам несовершеннолетних </a:t>
            </a:r>
            <a:br>
              <a:rPr sz="4000"/>
            </a:br>
            <a:r>
              <a:rPr b="0" lang="ru-RU" sz="4000" spc="-1" strike="noStrike">
                <a:solidFill>
                  <a:srgbClr val="ff0000"/>
                </a:solidFill>
                <a:latin typeface="Trebuchet MS"/>
              </a:rPr>
              <a:t>и защите их прав</a:t>
            </a: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www.kdm26.ru</a:t>
            </a:r>
            <a:endParaRPr b="0" lang="en-US" sz="3200" spc="-1" strike="noStrike">
              <a:solidFill>
                <a:srgbClr val="42445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61600" y="285228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rebuchet MS"/>
              </a:rPr>
              <a:t>Органы опеки и попечительства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271080" y="2249640"/>
            <a:ext cx="94410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Написание жалобы, заявления, обращения в: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eorgia"/>
              </a:rPr>
              <a:t>Органы прокуратуры 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(Любое нарушение прав должностным лицом, органом власти, учреждением, организацией)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Прокуратура Ставропольского края: (88652) 26-90-09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 txBox="1"/>
          <p:nvPr/>
        </p:nvSpPr>
        <p:spPr>
          <a:xfrm>
            <a:off x="95040" y="1693440"/>
            <a:ext cx="8134200" cy="43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При наличии в нарушении прав состава преступления: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eorgia"/>
              </a:rPr>
              <a:t>Органы Внутренних Дел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Дежурная часть ГУ МВД РФ по Ставропольскому краю: (88652) 30-44-44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89" name="Picture 4" descr="GNGST006"/>
          <p:cNvPicPr/>
          <p:nvPr/>
        </p:nvPicPr>
        <p:blipFill>
          <a:blip r:embed="rId1"/>
          <a:srcRect l="0" t="0" r="56951" b="0"/>
          <a:stretch/>
        </p:blipFill>
        <p:spPr>
          <a:xfrm>
            <a:off x="7765920" y="596880"/>
            <a:ext cx="2179800" cy="626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507600" y="620640"/>
            <a:ext cx="89154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eorgia"/>
              </a:rPr>
              <a:t>Обращение к: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Georgia"/>
              </a:rPr>
              <a:t>- Уполномоченному</a:t>
            </a:r>
            <a:r>
              <a:rPr b="1" lang="ru-RU" sz="4000" spc="-1" strike="noStrike">
                <a:solidFill>
                  <a:srgbClr val="ff0000"/>
                </a:solidFill>
                <a:latin typeface="Georgia"/>
              </a:rPr>
              <a:t>	</a:t>
            </a:r>
            <a:r>
              <a:rPr b="1" lang="ru-RU" sz="4000" spc="-1" strike="noStrike">
                <a:solidFill>
                  <a:srgbClr val="ff0000"/>
                </a:solidFill>
                <a:latin typeface="Georgia"/>
              </a:rPr>
              <a:t> при Губернаторе Ставропольского края по правам ребенка</a:t>
            </a:r>
            <a:r>
              <a:rPr b="0" lang="ru-RU" sz="40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Адаменко Светлане Викторовне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Тел.:  35-74-76,  35-74-40 Факс: 35-74-34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E-mail: asv@mintrud.stavkray.ru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Адрес: г. Ставрополь, ул. Лермонтова, 206-а, каб. 309, 310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64760" y="2138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Судебная защита прав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-360" y="1268280"/>
            <a:ext cx="799452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Georgia"/>
              </a:rPr>
              <a:t>РЕКОМЕНДАЦИИ:</a:t>
            </a:r>
            <a:r>
              <a:rPr b="0" lang="ru-RU" sz="2800" spc="-1" strike="noStrike">
                <a:solidFill>
                  <a:srgbClr val="ff0000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- Желательно обратиться за помощью к юристу, либо при наличии возможности в общественную приемную по защите прав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Обращайте внимание на правила подведомственности и подсудности рассмотрения дел судам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Внимательно ознакомьтесь с требованиями предъявляемыми к содержанию искового заявления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93" name="Picture 4" descr="GNGST033"/>
          <p:cNvPicPr/>
          <p:nvPr/>
        </p:nvPicPr>
        <p:blipFill>
          <a:blip r:embed="rId1"/>
          <a:stretch/>
        </p:blipFill>
        <p:spPr>
          <a:xfrm>
            <a:off x="8059680" y="4508640"/>
            <a:ext cx="1846440" cy="23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07600" y="69192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rebuchet MS"/>
              </a:rPr>
              <a:t>Общественные приемные по защите прав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495000" y="191628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1. Юридическая клиника СФ МГГУ им М.А. Шолохова.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2. Юридическая клиника СевКав ГТУ.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3. Юридическая клиника СГУ.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44240" y="499680"/>
            <a:ext cx="5774040" cy="20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Жизненная ситуация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17" name="Picture 4" descr="CMBIZ002"/>
          <p:cNvPicPr/>
          <p:nvPr/>
        </p:nvPicPr>
        <p:blipFill>
          <a:blip r:embed="rId1"/>
          <a:stretch/>
        </p:blipFill>
        <p:spPr>
          <a:xfrm>
            <a:off x="428760" y="189000"/>
            <a:ext cx="1957320" cy="273672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6" descr="CMBIZ008"/>
          <p:cNvPicPr/>
          <p:nvPr/>
        </p:nvPicPr>
        <p:blipFill>
          <a:blip r:embed="rId2"/>
          <a:stretch/>
        </p:blipFill>
        <p:spPr>
          <a:xfrm>
            <a:off x="7683480" y="189000"/>
            <a:ext cx="1903320" cy="35272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7" descr="CMBIZ014"/>
          <p:cNvPicPr/>
          <p:nvPr/>
        </p:nvPicPr>
        <p:blipFill>
          <a:blip r:embed="rId3"/>
          <a:stretch/>
        </p:blipFill>
        <p:spPr>
          <a:xfrm>
            <a:off x="3860640" y="2492280"/>
            <a:ext cx="2049480" cy="400536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8" descr="CMBIZ033"/>
          <p:cNvPicPr/>
          <p:nvPr/>
        </p:nvPicPr>
        <p:blipFill>
          <a:blip r:embed="rId4"/>
          <a:stretch/>
        </p:blipFill>
        <p:spPr>
          <a:xfrm>
            <a:off x="193680" y="3500280"/>
            <a:ext cx="2824200" cy="277344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9" descr="CBIZ032"/>
          <p:cNvPicPr/>
          <p:nvPr/>
        </p:nvPicPr>
        <p:blipFill>
          <a:blip r:embed="rId5"/>
          <a:stretch/>
        </p:blipFill>
        <p:spPr>
          <a:xfrm>
            <a:off x="6045120" y="4078440"/>
            <a:ext cx="3861000" cy="23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3960" y="1916280"/>
            <a:ext cx="8997840" cy="3504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Единичным случаям нарушения прав, при бездействии, свойственно развитие в качественном </a:t>
            </a:r>
            <a:br>
              <a:rPr sz="4000"/>
            </a:b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и в количественно отношении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5" descr="POCKETSC"/>
          <p:cNvPicPr/>
          <p:nvPr/>
        </p:nvPicPr>
        <p:blipFill>
          <a:blip r:embed="rId1"/>
          <a:stretch/>
        </p:blipFill>
        <p:spPr>
          <a:xfrm flipH="1">
            <a:off x="428400" y="692280"/>
            <a:ext cx="5175000" cy="6165720"/>
          </a:xfrm>
          <a:prstGeom prst="rect">
            <a:avLst/>
          </a:prstGeom>
          <a:ln w="0">
            <a:noFill/>
          </a:ln>
        </p:spPr>
      </p:pic>
      <p:sp>
        <p:nvSpPr>
          <p:cNvPr id="223" name="AutoShape 6"/>
          <p:cNvSpPr/>
          <p:nvPr/>
        </p:nvSpPr>
        <p:spPr>
          <a:xfrm>
            <a:off x="4952880" y="0"/>
            <a:ext cx="4448160" cy="141300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5354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edede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dedede"/>
                </a:solidFill>
                <a:latin typeface="Tahoma"/>
              </a:rPr>
              <a:t>Что делать?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8" descr="HMOH036"/>
          <p:cNvPicPr/>
          <p:nvPr/>
        </p:nvPicPr>
        <p:blipFill>
          <a:blip r:embed="rId1"/>
          <a:stretch/>
        </p:blipFill>
        <p:spPr>
          <a:xfrm>
            <a:off x="741240" y="0"/>
            <a:ext cx="8423280" cy="5184720"/>
          </a:xfrm>
          <a:prstGeom prst="rect">
            <a:avLst/>
          </a:prstGeom>
          <a:ln w="0">
            <a:noFill/>
          </a:ln>
        </p:spPr>
      </p:pic>
      <p:sp>
        <p:nvSpPr>
          <p:cNvPr id="225" name="AutoShape 11"/>
          <p:cNvSpPr/>
          <p:nvPr/>
        </p:nvSpPr>
        <p:spPr>
          <a:xfrm>
            <a:off x="1285920" y="260280"/>
            <a:ext cx="2652840" cy="1513080"/>
          </a:xfrm>
          <a:prstGeom prst="verticalScroll">
            <a:avLst>
              <a:gd name="adj" fmla="val 12500"/>
            </a:avLst>
          </a:prstGeom>
          <a:solidFill>
            <a:srgbClr val="5354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edede"/>
                </a:solidFill>
                <a:latin typeface="Tahoma"/>
              </a:rPr>
              <a:t>Не законный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6" name="AutoShape 12"/>
          <p:cNvSpPr/>
          <p:nvPr/>
        </p:nvSpPr>
        <p:spPr>
          <a:xfrm flipH="1" rot="116400">
            <a:off x="6044040" y="333360"/>
            <a:ext cx="2729160" cy="1513080"/>
          </a:xfrm>
          <a:prstGeom prst="verticalScroll">
            <a:avLst>
              <a:gd name="adj" fmla="val 12500"/>
            </a:avLst>
          </a:prstGeom>
          <a:solidFill>
            <a:srgbClr val="5354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dedede"/>
                </a:solidFill>
                <a:latin typeface="Tahoma"/>
              </a:rPr>
              <a:t>Не нарушающий 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dedede"/>
                </a:solidFill>
                <a:latin typeface="Tahoma"/>
              </a:rPr>
              <a:t>законодательство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 Box 4"/>
          <p:cNvSpPr/>
          <p:nvPr/>
        </p:nvSpPr>
        <p:spPr>
          <a:xfrm>
            <a:off x="0" y="0"/>
            <a:ext cx="237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законный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8" name="Text Box 6"/>
          <p:cNvSpPr/>
          <p:nvPr/>
        </p:nvSpPr>
        <p:spPr>
          <a:xfrm>
            <a:off x="3003480" y="2492280"/>
            <a:ext cx="3821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озможные варианты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29" name="Picture 7" descr="AMERI178"/>
          <p:cNvPicPr/>
          <p:nvPr/>
        </p:nvPicPr>
        <p:blipFill>
          <a:blip r:embed="rId1"/>
          <a:stretch/>
        </p:blipFill>
        <p:spPr>
          <a:xfrm>
            <a:off x="584280" y="981000"/>
            <a:ext cx="1676160" cy="223200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13" descr="CRCTR346"/>
          <p:cNvPicPr/>
          <p:nvPr/>
        </p:nvPicPr>
        <p:blipFill>
          <a:blip r:embed="rId2"/>
          <a:stretch/>
        </p:blipFill>
        <p:spPr>
          <a:xfrm>
            <a:off x="7450200" y="549360"/>
            <a:ext cx="1909800" cy="234936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16" descr="JUDOCOLO"/>
          <p:cNvPicPr/>
          <p:nvPr/>
        </p:nvPicPr>
        <p:blipFill>
          <a:blip r:embed="rId3"/>
          <a:stretch/>
        </p:blipFill>
        <p:spPr>
          <a:xfrm>
            <a:off x="3314880" y="404640"/>
            <a:ext cx="2806560" cy="1938600"/>
          </a:xfrm>
          <a:prstGeom prst="rect">
            <a:avLst/>
          </a:prstGeom>
          <a:ln w="0">
            <a:noFill/>
          </a:ln>
        </p:spPr>
      </p:pic>
      <p:grpSp>
        <p:nvGrpSpPr>
          <p:cNvPr id="232" name="Group 20"/>
          <p:cNvGrpSpPr/>
          <p:nvPr/>
        </p:nvGrpSpPr>
        <p:grpSpPr>
          <a:xfrm>
            <a:off x="465120" y="3475080"/>
            <a:ext cx="5767200" cy="2948040"/>
            <a:chOff x="465120" y="3475080"/>
            <a:chExt cx="5767200" cy="2948040"/>
          </a:xfrm>
        </p:grpSpPr>
        <p:pic>
          <p:nvPicPr>
            <p:cNvPr id="233" name="Picture 14" descr="CRCTR387"/>
            <p:cNvPicPr/>
            <p:nvPr/>
          </p:nvPicPr>
          <p:blipFill>
            <a:blip r:embed="rId4"/>
            <a:stretch/>
          </p:blipFill>
          <p:spPr>
            <a:xfrm flipH="1">
              <a:off x="465120" y="3857760"/>
              <a:ext cx="2030400" cy="256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" name="AutoShape 17"/>
            <p:cNvSpPr/>
            <p:nvPr/>
          </p:nvSpPr>
          <p:spPr>
            <a:xfrm rot="685800">
              <a:off x="2179080" y="3857760"/>
              <a:ext cx="3978360" cy="1152360"/>
            </a:xfrm>
            <a:prstGeom prst="wedgeEllipseCallout">
              <a:avLst>
                <a:gd name="adj1" fmla="val -45814"/>
                <a:gd name="adj2" fmla="val 100046"/>
              </a:avLst>
            </a:prstGeom>
            <a:solidFill>
              <a:srgbClr val="ffff00"/>
            </a:solidFill>
            <a:ln w="936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ahoma"/>
                </a:rPr>
                <a:t>Пи…Пи…Пи…</a:t>
              </a:r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ahoma"/>
                </a:rPr>
                <a:t>Пи…</a:t>
              </a:r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235" name="Group 19"/>
          <p:cNvGrpSpPr/>
          <p:nvPr/>
        </p:nvGrpSpPr>
        <p:grpSpPr>
          <a:xfrm>
            <a:off x="5343120" y="3573360"/>
            <a:ext cx="4213440" cy="3044880"/>
            <a:chOff x="5343120" y="3573360"/>
            <a:chExt cx="4213440" cy="3044880"/>
          </a:xfrm>
        </p:grpSpPr>
        <p:pic>
          <p:nvPicPr>
            <p:cNvPr id="236" name="Picture 15" descr="DA"/>
            <p:cNvPicPr/>
            <p:nvPr/>
          </p:nvPicPr>
          <p:blipFill>
            <a:blip r:embed="rId5"/>
            <a:srcRect l="0" t="21271" r="0" b="0"/>
            <a:stretch/>
          </p:blipFill>
          <p:spPr>
            <a:xfrm>
              <a:off x="7137000" y="4221000"/>
              <a:ext cx="2419560" cy="239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AutoShape 18"/>
            <p:cNvSpPr/>
            <p:nvPr/>
          </p:nvSpPr>
          <p:spPr>
            <a:xfrm flipH="1">
              <a:off x="5342760" y="3573360"/>
              <a:ext cx="1872360" cy="1368360"/>
            </a:xfrm>
            <a:prstGeom prst="wedgeEllipseCallout">
              <a:avLst>
                <a:gd name="adj1" fmla="val -56796"/>
                <a:gd name="adj2" fmla="val 69949"/>
              </a:avLst>
            </a:prstGeom>
            <a:solidFill>
              <a:srgbClr val="ffff00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ahoma"/>
                </a:rPr>
                <a:t>Да я тебе…</a:t>
              </a:r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Text Box 5"/>
          <p:cNvSpPr/>
          <p:nvPr/>
        </p:nvSpPr>
        <p:spPr>
          <a:xfrm>
            <a:off x="0" y="0"/>
            <a:ext cx="245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законный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9" name="Text Box 7"/>
          <p:cNvSpPr/>
          <p:nvPr/>
        </p:nvSpPr>
        <p:spPr>
          <a:xfrm>
            <a:off x="3314880" y="2565360"/>
            <a:ext cx="3430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езультат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40" name="Picture 8" descr="GNGST006"/>
          <p:cNvPicPr/>
          <p:nvPr/>
        </p:nvPicPr>
        <p:blipFill>
          <a:blip r:embed="rId1"/>
          <a:srcRect l="0" t="0" r="53137" b="0"/>
          <a:stretch/>
        </p:blipFill>
        <p:spPr>
          <a:xfrm>
            <a:off x="8072280" y="0"/>
            <a:ext cx="1436760" cy="378936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11" descr="GNGST033"/>
          <p:cNvPicPr/>
          <p:nvPr/>
        </p:nvPicPr>
        <p:blipFill>
          <a:blip r:embed="rId2"/>
          <a:stretch/>
        </p:blipFill>
        <p:spPr>
          <a:xfrm>
            <a:off x="0" y="3263760"/>
            <a:ext cx="2827440" cy="359424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14" descr="CBIZ074"/>
          <p:cNvPicPr/>
          <p:nvPr/>
        </p:nvPicPr>
        <p:blipFill>
          <a:blip r:embed="rId3"/>
          <a:stretch/>
        </p:blipFill>
        <p:spPr>
          <a:xfrm flipH="1">
            <a:off x="-360" y="907920"/>
            <a:ext cx="3938760" cy="1462320"/>
          </a:xfrm>
          <a:prstGeom prst="rect">
            <a:avLst/>
          </a:prstGeom>
          <a:ln w="0">
            <a:noFill/>
          </a:ln>
        </p:spPr>
      </p:pic>
      <p:sp>
        <p:nvSpPr>
          <p:cNvPr id="243" name="AutoShape 17"/>
          <p:cNvSpPr/>
          <p:nvPr/>
        </p:nvSpPr>
        <p:spPr>
          <a:xfrm>
            <a:off x="4406760" y="1341360"/>
            <a:ext cx="3276720" cy="287280"/>
          </a:xfrm>
          <a:prstGeom prst="rightArrow">
            <a:avLst>
              <a:gd name="adj1" fmla="val 50000"/>
              <a:gd name="adj2" fmla="val 263236"/>
            </a:avLst>
          </a:prstGeom>
          <a:solidFill>
            <a:srgbClr val="ff0000"/>
          </a:solidFill>
          <a:ln w="284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4" name="AutoShape 19"/>
          <p:cNvSpPr/>
          <p:nvPr/>
        </p:nvSpPr>
        <p:spPr>
          <a:xfrm rot="9562200">
            <a:off x="2235240" y="2784600"/>
            <a:ext cx="5462640" cy="574560"/>
          </a:xfrm>
          <a:prstGeom prst="rightArrow">
            <a:avLst>
              <a:gd name="adj1" fmla="val 50000"/>
              <a:gd name="adj2" fmla="val 219421"/>
            </a:avLst>
          </a:prstGeom>
          <a:solidFill>
            <a:srgbClr val="ff0000"/>
          </a:solidFill>
          <a:ln w="284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245" name="Group 26"/>
          <p:cNvGrpSpPr/>
          <p:nvPr/>
        </p:nvGrpSpPr>
        <p:grpSpPr>
          <a:xfrm>
            <a:off x="3782880" y="3716280"/>
            <a:ext cx="6122880" cy="3141720"/>
            <a:chOff x="3782880" y="3716280"/>
            <a:chExt cx="6122880" cy="3141720"/>
          </a:xfrm>
        </p:grpSpPr>
        <p:pic>
          <p:nvPicPr>
            <p:cNvPr id="246" name="Picture 9" descr="GNGST012"/>
            <p:cNvPicPr/>
            <p:nvPr/>
          </p:nvPicPr>
          <p:blipFill>
            <a:blip r:embed="rId4"/>
            <a:stretch/>
          </p:blipFill>
          <p:spPr>
            <a:xfrm>
              <a:off x="7449840" y="5734080"/>
              <a:ext cx="993960" cy="112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7" name="AutoShape 20"/>
            <p:cNvSpPr/>
            <p:nvPr/>
          </p:nvSpPr>
          <p:spPr>
            <a:xfrm>
              <a:off x="3782880" y="5300640"/>
              <a:ext cx="2418120" cy="287280"/>
            </a:xfrm>
            <a:prstGeom prst="rightArrow">
              <a:avLst>
                <a:gd name="adj1" fmla="val 50000"/>
                <a:gd name="adj2" fmla="val 210432"/>
              </a:avLst>
            </a:prstGeom>
            <a:solidFill>
              <a:srgbClr val="ff0000"/>
            </a:solidFill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pic>
          <p:nvPicPr>
            <p:cNvPr id="248" name="Picture 21" descr="POCKETSC"/>
            <p:cNvPicPr/>
            <p:nvPr/>
          </p:nvPicPr>
          <p:blipFill>
            <a:blip r:embed="rId5"/>
            <a:stretch/>
          </p:blipFill>
          <p:spPr>
            <a:xfrm flipH="1">
              <a:off x="7293240" y="3716280"/>
              <a:ext cx="1366920" cy="162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" name="Line 22"/>
            <p:cNvSpPr/>
            <p:nvPr/>
          </p:nvSpPr>
          <p:spPr>
            <a:xfrm>
              <a:off x="6355800" y="5516640"/>
              <a:ext cx="937440" cy="576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50" name="Line 23"/>
            <p:cNvSpPr/>
            <p:nvPr/>
          </p:nvSpPr>
          <p:spPr>
            <a:xfrm flipV="1">
              <a:off x="6355800" y="4723920"/>
              <a:ext cx="937440" cy="505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51" name="Line 24"/>
            <p:cNvSpPr/>
            <p:nvPr/>
          </p:nvSpPr>
          <p:spPr>
            <a:xfrm>
              <a:off x="6512400" y="5373720"/>
              <a:ext cx="2418120" cy="142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52" name="Text Box 25"/>
            <p:cNvSpPr/>
            <p:nvPr/>
          </p:nvSpPr>
          <p:spPr>
            <a:xfrm>
              <a:off x="9047880" y="5013360"/>
              <a:ext cx="8578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400" spc="-1" strike="noStrike">
                  <a:solidFill>
                    <a:srgbClr val="ff0000"/>
                  </a:solidFill>
                  <a:latin typeface="Tahoma"/>
                </a:rPr>
                <a:t>?</a:t>
              </a:r>
              <a:endParaRPr b="0" lang="en-US" sz="54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925720" y="4221000"/>
            <a:ext cx="4446720" cy="338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Варианты разрешения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54" name="Picture 3" descr="HMOH036"/>
          <p:cNvPicPr/>
          <p:nvPr/>
        </p:nvPicPr>
        <p:blipFill>
          <a:blip r:embed="rId1"/>
          <a:stretch/>
        </p:blipFill>
        <p:spPr>
          <a:xfrm>
            <a:off x="741240" y="0"/>
            <a:ext cx="8423280" cy="5184720"/>
          </a:xfrm>
          <a:prstGeom prst="rect">
            <a:avLst/>
          </a:prstGeom>
          <a:ln w="0">
            <a:noFill/>
          </a:ln>
        </p:spPr>
      </p:pic>
      <p:sp>
        <p:nvSpPr>
          <p:cNvPr id="255" name="AutoShape 4"/>
          <p:cNvSpPr/>
          <p:nvPr/>
        </p:nvSpPr>
        <p:spPr>
          <a:xfrm>
            <a:off x="1363680" y="260280"/>
            <a:ext cx="2417760" cy="1513080"/>
          </a:xfrm>
          <a:prstGeom prst="verticalScroll">
            <a:avLst>
              <a:gd name="adj" fmla="val 12500"/>
            </a:avLst>
          </a:prstGeom>
          <a:solidFill>
            <a:srgbClr val="5354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edede"/>
                </a:solidFill>
                <a:latin typeface="Tahoma"/>
              </a:rPr>
              <a:t>Не законный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6" name="AutoShape 5"/>
          <p:cNvSpPr/>
          <p:nvPr/>
        </p:nvSpPr>
        <p:spPr>
          <a:xfrm flipH="1" rot="116400">
            <a:off x="6044040" y="333360"/>
            <a:ext cx="2729160" cy="1513080"/>
          </a:xfrm>
          <a:prstGeom prst="verticalScroll">
            <a:avLst>
              <a:gd name="adj" fmla="val 12500"/>
            </a:avLst>
          </a:prstGeom>
          <a:solidFill>
            <a:srgbClr val="5354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dedede"/>
                </a:solidFill>
                <a:latin typeface="Tahoma"/>
              </a:rPr>
              <a:t>Не нарушающий 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dedede"/>
                </a:solidFill>
                <a:latin typeface="Tahoma"/>
              </a:rPr>
              <a:t>законодательство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4"/>
          <p:cNvSpPr/>
          <p:nvPr/>
        </p:nvSpPr>
        <p:spPr>
          <a:xfrm>
            <a:off x="2612880" y="2060640"/>
            <a:ext cx="4602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Не нарушающие 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законодательство способы защиты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258" name="Group 13"/>
          <p:cNvGrpSpPr/>
          <p:nvPr/>
        </p:nvGrpSpPr>
        <p:grpSpPr>
          <a:xfrm>
            <a:off x="193680" y="836640"/>
            <a:ext cx="3198600" cy="1224000"/>
            <a:chOff x="193680" y="836640"/>
            <a:chExt cx="3198600" cy="1224000"/>
          </a:xfrm>
        </p:grpSpPr>
        <p:sp>
          <p:nvSpPr>
            <p:cNvPr id="259" name="Text Box 5"/>
            <p:cNvSpPr/>
            <p:nvPr/>
          </p:nvSpPr>
          <p:spPr>
            <a:xfrm>
              <a:off x="193680" y="836640"/>
              <a:ext cx="3198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Tahoma"/>
                </a:rPr>
                <a:t>бездействие</a:t>
              </a:r>
              <a:endParaRPr b="0" lang="en-US" sz="32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60" name="Line 9"/>
            <p:cNvSpPr/>
            <p:nvPr/>
          </p:nvSpPr>
          <p:spPr>
            <a:xfrm flipH="1" flipV="1">
              <a:off x="2377440" y="1484640"/>
              <a:ext cx="779040" cy="576000"/>
            </a:xfrm>
            <a:prstGeom prst="line">
              <a:avLst/>
            </a:prstGeom>
            <a:ln w="6660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261" name="Text Box 6"/>
          <p:cNvSpPr/>
          <p:nvPr/>
        </p:nvSpPr>
        <p:spPr>
          <a:xfrm>
            <a:off x="3236760" y="404640"/>
            <a:ext cx="31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амозащита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2" name="Line 10"/>
          <p:cNvSpPr/>
          <p:nvPr/>
        </p:nvSpPr>
        <p:spPr>
          <a:xfrm flipV="1">
            <a:off x="4795920" y="1412640"/>
            <a:ext cx="0" cy="718920"/>
          </a:xfrm>
          <a:prstGeom prst="line">
            <a:avLst/>
          </a:prstGeom>
          <a:ln w="6660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3" name="Text Box 7"/>
          <p:cNvSpPr/>
          <p:nvPr/>
        </p:nvSpPr>
        <p:spPr>
          <a:xfrm>
            <a:off x="365040" y="4869000"/>
            <a:ext cx="4311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защита в административном порядке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4" name="Line 11"/>
          <p:cNvSpPr/>
          <p:nvPr/>
        </p:nvSpPr>
        <p:spPr>
          <a:xfrm flipH="1">
            <a:off x="2535120" y="3860640"/>
            <a:ext cx="1028880" cy="720720"/>
          </a:xfrm>
          <a:prstGeom prst="line">
            <a:avLst/>
          </a:prstGeom>
          <a:ln w="6660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5" name="Text Box 8"/>
          <p:cNvSpPr/>
          <p:nvPr/>
        </p:nvSpPr>
        <p:spPr>
          <a:xfrm>
            <a:off x="6202440" y="4654440"/>
            <a:ext cx="3041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защита в судебном порядке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6" name="Line 12"/>
          <p:cNvSpPr/>
          <p:nvPr/>
        </p:nvSpPr>
        <p:spPr>
          <a:xfrm>
            <a:off x="6435720" y="3716280"/>
            <a:ext cx="934920" cy="647640"/>
          </a:xfrm>
          <a:prstGeom prst="line">
            <a:avLst/>
          </a:prstGeom>
          <a:ln w="6660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7" name="Line 19"/>
          <p:cNvSpPr/>
          <p:nvPr/>
        </p:nvSpPr>
        <p:spPr>
          <a:xfrm flipV="1">
            <a:off x="6826320" y="1557360"/>
            <a:ext cx="779400" cy="574560"/>
          </a:xfrm>
          <a:prstGeom prst="line">
            <a:avLst/>
          </a:prstGeom>
          <a:ln w="6660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8" name="Text Box 20"/>
          <p:cNvSpPr/>
          <p:nvPr/>
        </p:nvSpPr>
        <p:spPr>
          <a:xfrm>
            <a:off x="6513480" y="476280"/>
            <a:ext cx="3119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защита родителями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9" name="Text Box 6"/>
          <p:cNvSpPr/>
          <p:nvPr/>
        </p:nvSpPr>
        <p:spPr>
          <a:xfrm>
            <a:off x="3483000" y="4214880"/>
            <a:ext cx="3119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бщественная защита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0" name="Line 10"/>
          <p:cNvSpPr/>
          <p:nvPr/>
        </p:nvSpPr>
        <p:spPr>
          <a:xfrm>
            <a:off x="4952880" y="3643200"/>
            <a:ext cx="0" cy="781200"/>
          </a:xfrm>
          <a:prstGeom prst="line">
            <a:avLst/>
          </a:prstGeom>
          <a:ln w="6660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0" y="2421000"/>
            <a:ext cx="546264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бездействие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72" name="Picture 4" descr="CRCTR359"/>
          <p:cNvPicPr/>
          <p:nvPr/>
        </p:nvPicPr>
        <p:blipFill>
          <a:blip r:embed="rId1"/>
          <a:stretch/>
        </p:blipFill>
        <p:spPr>
          <a:xfrm>
            <a:off x="1911240" y="476280"/>
            <a:ext cx="7678800" cy="60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6T06:25:43Z</dcterms:created>
  <dc:creator>1</dc:creator>
  <dc:description/>
  <dc:language>en-US</dc:language>
  <cp:lastModifiedBy>1</cp:lastModifiedBy>
  <dcterms:modified xsi:type="dcterms:W3CDTF">2012-11-22T09:02:28Z</dcterms:modified>
  <cp:revision>47</cp:revision>
  <dc:subject/>
  <dc:title>Защита прав </dc:title>
</cp:coreProperties>
</file>