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FF39-93CB-43F3-9EEA-891AF5C740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6B8E-0731-467D-94DB-97B8E7DBF64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81D0-CBD5-4E49-8749-4DBDBE56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7397-8EEF-40FE-9E51-D2D47402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0BB-CFAF-4708-A4EB-205640F1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BD45-CBC7-4E57-8C59-A7C72BF7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4082-47D0-4340-A5DB-572A78FC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8D1C-5738-4BC6-AA0B-9333EF8E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F9E6-39CD-49E0-BAE6-C70E5472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EE52-C931-4974-AFA3-C1A41DD4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F7FA-8E31-42A6-A662-8B30D953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A23C-0BF1-4980-B103-6E05F63B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EBEF-3989-4157-ADEE-8BF24EB6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99D0-DC68-40E1-AE75-3ADBFDCD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08D1-76A1-4F99-AFDE-71705C31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0937-8315-41DE-B539-06AF2AAF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277E-2DBB-43BE-B3A4-CDC95575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3D60-BDD8-4C96-A081-F06C914E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AA37-3DF3-4A00-9E9F-83D26572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137-9FFD-4A3A-941E-D736ABDB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B971-13B1-4EEB-AFE8-A48C9BF8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FFB-A92E-4FE3-9E8F-31262F8E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E1DC-D56C-4BCC-966D-6EB32C71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755-80CC-48DB-8489-9701B347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CE6B-5E2D-4683-8B2B-B6D68125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7CB2-1C85-4315-901E-C0ACA734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2332-7601-4863-B0C0-4D4ECC151C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4454-1177-4338-B8C8-5F403AC6C92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.web.ru/wiki/&#1056;&#1091;&#1076;&#1072;" TargetMode="External"/><Relationship Id="rId2" Type="http://schemas.openxmlformats.org/officeDocument/2006/relationships/hyperlink" Target="http://wiki.web.ru/wiki/&#1050;&#1088;&#1080;&#1089;&#1090;&#1072;&#1083;&#1083;&#1080;&#1095;&#1077;&#1089;&#1082;&#1072;&#1103;_&#1089;&#1090;&#1088;&#1091;&#1082;&#1090;&#1091;&#1088;&#1072;" TargetMode="External"/><Relationship Id="rId3" Type="http://schemas.openxmlformats.org/officeDocument/2006/relationships/hyperlink" Target="http://wiki.web.ru/wiki/&#1047;&#1077;&#1084;&#1085;&#1072;&#1103;_&#1082;&#1086;&#1088;&#1072;" TargetMode="External"/><Relationship Id="rId4" Type="http://schemas.openxmlformats.org/officeDocument/2006/relationships/hyperlink" Target="http://wiki.web.ru/wiki/&#1043;&#1086;&#1088;&#1085;&#1072;&#1103;_&#1087;&#1086;&#1088;&#1086;&#1076;&#1072;" TargetMode="External"/><Relationship Id="rId5" Type="http://schemas.openxmlformats.org/officeDocument/2006/relationships/hyperlink" Target="http://wiki.web.ru/wiki/&#1056;&#1091;&#1076;&#1072;" TargetMode="External"/><Relationship Id="rId6" Type="http://schemas.openxmlformats.org/officeDocument/2006/relationships/hyperlink" Target="http://wiki.web.ru/wiki/&#1052;&#1077;&#1090;&#1077;&#1086;&#1088;&#1080;&#1090;" TargetMode="External"/><Relationship Id="rId7" Type="http://schemas.openxmlformats.org/officeDocument/2006/relationships/hyperlink" Target="http://wiki.web.ru/index.php?title=&#1057;&#1086;&#1083;&#1085;&#1077;&#1095;&#1085;&#1086;&#1081;_&#1089;&#1080;&#1089;&#1090;&#1077;&#1084;&#1072;&amp;action=edit" TargetMode="External"/><Relationship Id="rId8" Type="http://schemas.openxmlformats.org/officeDocument/2006/relationships/hyperlink" Target="http://ru.wikipedia.org/wiki/&#1040;&#1075;&#1088;&#1077;&#1075;&#1072;&#1090;" TargetMode="External"/><Relationship Id="rId9" Type="http://schemas.openxmlformats.org/officeDocument/2006/relationships/hyperlink" Target="http://ru.wikipedia.org/wiki/&#1052;&#1080;&#1085;&#1077;&#1088;&#1072;&#1083;" TargetMode="External"/><Relationship Id="rId10" Type="http://schemas.openxmlformats.org/officeDocument/2006/relationships/hyperlink" Target="http://ru.wikipedia.org/wiki/&#1052;&#1080;&#1085;&#1077;&#1088;&#1072;&#1083;&#1086;&#1080;&#1076;" TargetMode="External"/><Relationship Id="rId11" Type="http://schemas.openxmlformats.org/officeDocument/2006/relationships/hyperlink" Target="http://ru.wikipedia.org/wiki/&#1051;&#1080;&#1090;&#1086;&#1089;&#1092;&#1077;&#1088;&#1072;" TargetMode="External"/><Relationship Id="rId12" Type="http://schemas.openxmlformats.org/officeDocument/2006/relationships/hyperlink" Target="http://wiki.web.ru/wiki/&#1052;&#1080;&#1085;&#1077;&#1088;&#1072;&#1083;" TargetMode="External"/><Relationship Id="rId13" Type="http://schemas.openxmlformats.org/officeDocument/2006/relationships/hyperlink" Target="http://wiki.web.ru/index.php?title=&#1043;&#1077;&#1086;&#1083;&#1086;&#1075;&#1080;&#1095;&#1077;&#1089;&#1082;&#1086;&#1077;_&#1090;&#1077;&#1083;&#1086;&amp;action=edit" TargetMode="External"/><Relationship Id="rId14" Type="http://schemas.openxmlformats.org/officeDocument/2006/relationships/hyperlink" Target="http://wiki.web.ru/wiki/&#1057;&#1077;&#1074;&#1077;&#1088;&#1075;&#1080;&#1085;%2C_&#1042;&#1072;&#1089;&#1080;&#1083;&#1080;&#1081;_&#1052;&#1080;&#1093;&#1072;&#1081;&#1083;&#1086;&#1074;&#1080;&#1095;" TargetMode="External"/><Relationship Id="rId15" Type="http://schemas.openxmlformats.org/officeDocument/2006/relationships/hyperlink" Target="http://ru.wikipedia.org/wiki/&#1047;&#1077;&#1084;&#1085;&#1072;&#1103;_&#1082;&#1086;&#1088;&#1072;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rusitc.ru/pagesimg/1119/poleziskop_0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nasledie-rus.ru/img/780000/782710.jpg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212640"/>
            <a:ext cx="7772400" cy="110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Monotype Corsiva"/>
              </a:rPr>
              <a:t>Бачурина Алина 10 класс школа 55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46972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Monotype Corsiva"/>
              </a:rPr>
              <a:t>Минеральные ресурсы и их использование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132000" y="836640"/>
            <a:ext cx="6005520" cy="4581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1763640" y="6660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Comic Sans MS"/>
              </a:rPr>
              <a:t>Производство железа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88920" y="2063880"/>
            <a:ext cx="270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Comic Sans MS"/>
              </a:rPr>
              <a:t>Добывают железную руду в России: Средерусская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Comic Sans MS"/>
              </a:rPr>
              <a:t>возвышенность (КМА), Предгорья Алтая (Горная Шория), Кольский полуостров (Ковдор),  Средний и Южный Ура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73040" y="1800360"/>
            <a:ext cx="8486640" cy="40035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8000" y="26028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Comic Sans MS"/>
              </a:rPr>
              <a:t>Производство нефтепродуктов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Picture 6" descr="Картинка 17 из 4584"/>
          <p:cNvPicPr/>
          <p:nvPr/>
        </p:nvPicPr>
        <p:blipFill>
          <a:blip r:embed="rId2"/>
          <a:stretch/>
        </p:blipFill>
        <p:spPr>
          <a:xfrm>
            <a:off x="5016600" y="0"/>
            <a:ext cx="4125960" cy="18003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324000" y="5929200"/>
            <a:ext cx="89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Comic Sans MS"/>
              </a:rPr>
              <a:t>Добывают нефть в России: Западная Сибирь(Среднее Приобье), Поволжье(Татарстан), Северный Кавказ, Побережье Баренцева моря, республика Коми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Равнобедренный треугольник 1"/>
          <p:cNvSpPr/>
          <p:nvPr/>
        </p:nvSpPr>
        <p:spPr>
          <a:xfrm>
            <a:off x="2214720" y="571680"/>
            <a:ext cx="1071360" cy="1000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3643200" y="78588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-Железная руда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Равнобедренный треугольник 4"/>
          <p:cNvSpPr/>
          <p:nvPr/>
        </p:nvSpPr>
        <p:spPr>
          <a:xfrm>
            <a:off x="2143080" y="2071800"/>
            <a:ext cx="1285920" cy="1857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3643200" y="2857680"/>
            <a:ext cx="400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Нефть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Прямоугольник 6"/>
          <p:cNvSpPr/>
          <p:nvPr/>
        </p:nvSpPr>
        <p:spPr>
          <a:xfrm>
            <a:off x="1785960" y="5000760"/>
            <a:ext cx="2571840" cy="78552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4714920" y="5072040"/>
            <a:ext cx="40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-Медные  руд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142920" y="907920"/>
            <a:ext cx="9001080" cy="55166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1"/>
          <p:cNvSpPr/>
          <p:nvPr/>
        </p:nvSpPr>
        <p:spPr>
          <a:xfrm>
            <a:off x="755640" y="2133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eaeaea"/>
                </a:solidFill>
                <a:latin typeface="Times New Roman"/>
              </a:rPr>
              <a:t>КМА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AutoShape 15"/>
          <p:cNvSpPr/>
          <p:nvPr/>
        </p:nvSpPr>
        <p:spPr>
          <a:xfrm>
            <a:off x="468360" y="5229360"/>
            <a:ext cx="193680" cy="647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AutoShape 16"/>
          <p:cNvSpPr/>
          <p:nvPr/>
        </p:nvSpPr>
        <p:spPr>
          <a:xfrm>
            <a:off x="755640" y="5229360"/>
            <a:ext cx="193680" cy="647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AutoShape 17"/>
          <p:cNvSpPr/>
          <p:nvPr/>
        </p:nvSpPr>
        <p:spPr>
          <a:xfrm>
            <a:off x="1042920" y="5229360"/>
            <a:ext cx="193680" cy="647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AutoShape 18"/>
          <p:cNvSpPr/>
          <p:nvPr/>
        </p:nvSpPr>
        <p:spPr>
          <a:xfrm>
            <a:off x="1332000" y="5229360"/>
            <a:ext cx="193680" cy="647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AutoShape 19"/>
          <p:cNvSpPr/>
          <p:nvPr/>
        </p:nvSpPr>
        <p:spPr>
          <a:xfrm>
            <a:off x="5429160" y="5786280"/>
            <a:ext cx="409680" cy="360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AutoShape 20"/>
          <p:cNvSpPr/>
          <p:nvPr/>
        </p:nvSpPr>
        <p:spPr>
          <a:xfrm>
            <a:off x="5940360" y="5805360"/>
            <a:ext cx="409680" cy="360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AutoShape 21"/>
          <p:cNvSpPr/>
          <p:nvPr/>
        </p:nvSpPr>
        <p:spPr>
          <a:xfrm>
            <a:off x="6443640" y="5805360"/>
            <a:ext cx="409680" cy="360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AutoShape 22"/>
          <p:cNvSpPr/>
          <p:nvPr/>
        </p:nvSpPr>
        <p:spPr>
          <a:xfrm>
            <a:off x="6948360" y="5805360"/>
            <a:ext cx="409680" cy="360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050920" y="6021360"/>
            <a:ext cx="576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Rectangle 24"/>
          <p:cNvSpPr/>
          <p:nvPr/>
        </p:nvSpPr>
        <p:spPr>
          <a:xfrm>
            <a:off x="3348000" y="6021360"/>
            <a:ext cx="576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Rectangle 25"/>
          <p:cNvSpPr/>
          <p:nvPr/>
        </p:nvSpPr>
        <p:spPr>
          <a:xfrm>
            <a:off x="2700360" y="6021360"/>
            <a:ext cx="576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2050920" y="26028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Comic Sans MS"/>
              </a:rPr>
              <a:t>Разместим минеральные ресурс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AutoShape 27"/>
          <p:cNvSpPr/>
          <p:nvPr/>
        </p:nvSpPr>
        <p:spPr>
          <a:xfrm>
            <a:off x="1547640" y="5229360"/>
            <a:ext cx="193680" cy="647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AutoShape 28"/>
          <p:cNvSpPr/>
          <p:nvPr/>
        </p:nvSpPr>
        <p:spPr>
          <a:xfrm>
            <a:off x="1763640" y="5229360"/>
            <a:ext cx="193680" cy="647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5.75989E-007 L 0.2441 -0.28337 E">
                                      <p:cBhvr>
                                        <p:cTn id="260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9366E-007 L 0.09444 -0.26232 E">
                                      <p:cBhvr>
                                        <p:cTn id="264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2743E-007 L 0.00781 -0.20981 E">
                                      <p:cBhvr>
                                        <p:cTn id="268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5.75989E-007 L 0.32291 -0.37775 E">
                                      <p:cBhvr>
                                        <p:cTn id="272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5.6211E-007 L 0.2441 -0.37775 E">
                                      <p:cBhvr>
                                        <p:cTn id="276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6211E-007 L -0.03941 -0.54569 E">
                                      <p:cBhvr>
                                        <p:cTn id="280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6.08374E-007 L -0.10226 -0.30419 E">
                                      <p:cBhvr>
                                        <p:cTn id="284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82743E-007 L -0.4882 -0.36711 E">
                                      <p:cBhvr>
                                        <p:cTn id="288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79366E-007 L -0.20469 -0.12584 E">
                                      <p:cBhvr>
                                        <p:cTn id="292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9366E-007 L -0.43299 -0.5665 E">
                                      <p:cBhvr>
                                        <p:cTn id="296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9366E-007 L -0.46459 -0.30419 E">
                                      <p:cBhvr>
                                        <p:cTn id="300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38793E-008 L 0.16545 -0.48277 E">
                                      <p:cBhvr>
                                        <p:cTn id="304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5.4823E-007 L 0.65365 -0.1573 E">
                                      <p:cBhvr>
                                        <p:cTn id="308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1692360" y="2492280"/>
            <a:ext cx="4174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eaeaea"/>
                </a:solidFill>
                <a:latin typeface="Times New Roman"/>
              </a:rPr>
              <a:t>Конец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-38736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Comic Sans MS"/>
              </a:rPr>
              <a:t>            </a:t>
            </a:r>
            <a:r>
              <a:rPr b="0" lang="ru-RU" sz="4400" spc="-1" strike="noStrike">
                <a:solidFill>
                  <a:srgbClr val="996633"/>
                </a:solidFill>
                <a:latin typeface="Comic Sans MS"/>
              </a:rPr>
              <a:t>Вспомним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76360" y="765000"/>
            <a:ext cx="695808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Comic Sans MS"/>
              </a:rPr>
              <a:t>Минерал</a:t>
            </a:r>
            <a:r>
              <a:rPr b="1" lang="ru-RU" sz="1800" spc="-1" strike="noStrike">
                <a:solidFill>
                  <a:srgbClr val="ff9900"/>
                </a:solidFill>
                <a:latin typeface="Comic Sans MS"/>
              </a:rPr>
              <a:t>-</a:t>
            </a: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 от позднелат. "minera" -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1"/>
              </a:rPr>
              <a:t>руда</a:t>
            </a: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) - 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природное твёрдое тело с определённым химическим составом, физическими свойствами и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2"/>
              </a:rPr>
              <a:t>кристаллической структурой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, образующееся в результате природных физико-химических процессов и являющееся составной частью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3"/>
              </a:rPr>
              <a:t>Земной Коры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,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4"/>
              </a:rPr>
              <a:t>горных пород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,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5"/>
              </a:rPr>
              <a:t>руд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,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6"/>
              </a:rPr>
              <a:t>метеоритов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 и других планет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7"/>
              </a:rPr>
              <a:t>Солнечной системы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Comic Sans MS"/>
              </a:rPr>
              <a:t>Горная порода-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 встречающиеся в природе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8"/>
              </a:rPr>
              <a:t>агрегаты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9"/>
              </a:rPr>
              <a:t>минералов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 и/или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10"/>
              </a:rPr>
              <a:t>минералоидов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.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11"/>
              </a:rPr>
              <a:t>Литосфера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 Земли состоит из горных пород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Comic Sans MS"/>
              </a:rPr>
              <a:t>Горная порода-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 природные агрегаты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12"/>
              </a:rPr>
              <a:t>минералов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 более или менее постоянного состава, образующие самостоятельные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13"/>
              </a:rPr>
              <a:t>геологические тела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. Термин «Горная порода» впервые в современном смысле употребил в 1798 русский минералог и химик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14"/>
              </a:rPr>
              <a:t>В. М. Севергин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Comic Sans MS"/>
              </a:rPr>
              <a:t>Полезные ископаемые-</a:t>
            </a: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минеральные образования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15"/>
              </a:rPr>
              <a:t>земной коры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, химический состав и физические свойства которых позволяют эффективно использовать их в сфере материального производства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71600" y="90756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omic Sans MS"/>
              </a:rPr>
              <a:t>МИНЕРАЛЬНЫЕ РЕСУРСЫ (минеральное сырье)-</a:t>
            </a:r>
            <a:r>
              <a:rPr b="0" lang="ru-RU" sz="3200" spc="-1" strike="noStrike">
                <a:solidFill>
                  <a:srgbClr val="663300"/>
                </a:solidFill>
                <a:latin typeface="Comic Sans MS"/>
              </a:rPr>
              <a:t>полезные ископаемые в недрах Земли, запасы которых оценены по геологическим данным. Месторождения полезных ископаемых распределены в земной коре неравномерно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Comic Sans MS"/>
              </a:rPr>
              <a:t>Какие бывают полезные ископаемые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1042920" y="2060640"/>
            <a:ext cx="3529080" cy="36036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Comic Sans MS"/>
              </a:rPr>
              <a:t>По происхождению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5651640" y="1557360"/>
            <a:ext cx="3240000" cy="6462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Comic Sans MS"/>
              </a:rPr>
              <a:t>По применению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Comic Sans MS"/>
              </a:rPr>
              <a:t>(по назначению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Oval 31"/>
          <p:cNvSpPr/>
          <p:nvPr/>
        </p:nvSpPr>
        <p:spPr>
          <a:xfrm>
            <a:off x="395280" y="2997360"/>
            <a:ext cx="180036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агматически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Oval 32"/>
          <p:cNvSpPr/>
          <p:nvPr/>
        </p:nvSpPr>
        <p:spPr>
          <a:xfrm>
            <a:off x="1476360" y="4581360"/>
            <a:ext cx="1584360" cy="9352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адочны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Oval 33"/>
          <p:cNvSpPr/>
          <p:nvPr/>
        </p:nvSpPr>
        <p:spPr>
          <a:xfrm>
            <a:off x="2411280" y="3068640"/>
            <a:ext cx="2160720" cy="1081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етаморфически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36"/>
          <p:cNvSpPr/>
          <p:nvPr/>
        </p:nvSpPr>
        <p:spPr>
          <a:xfrm>
            <a:off x="2340000" y="3357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Line 39"/>
          <p:cNvSpPr/>
          <p:nvPr/>
        </p:nvSpPr>
        <p:spPr>
          <a:xfrm flipH="1">
            <a:off x="1692000" y="2421000"/>
            <a:ext cx="431640" cy="576360"/>
          </a:xfrm>
          <a:prstGeom prst="line">
            <a:avLst/>
          </a:prstGeom>
          <a:ln w="63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Line 40"/>
          <p:cNvSpPr/>
          <p:nvPr/>
        </p:nvSpPr>
        <p:spPr>
          <a:xfrm flipH="1">
            <a:off x="2124000" y="2421000"/>
            <a:ext cx="287280" cy="2160360"/>
          </a:xfrm>
          <a:prstGeom prst="line">
            <a:avLst/>
          </a:prstGeom>
          <a:ln w="63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Line 41"/>
          <p:cNvSpPr/>
          <p:nvPr/>
        </p:nvSpPr>
        <p:spPr>
          <a:xfrm>
            <a:off x="3132000" y="2421000"/>
            <a:ext cx="216000" cy="647640"/>
          </a:xfrm>
          <a:prstGeom prst="line">
            <a:avLst/>
          </a:prstGeom>
          <a:ln w="63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Oval 44"/>
          <p:cNvSpPr/>
          <p:nvPr/>
        </p:nvSpPr>
        <p:spPr>
          <a:xfrm>
            <a:off x="3059280" y="4221000"/>
            <a:ext cx="2808000" cy="1008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Comic Sans MS"/>
              </a:rPr>
              <a:t>Горючие полезные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Comic Sans MS"/>
              </a:rPr>
              <a:t>ископаемы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Line 45"/>
          <p:cNvSpPr/>
          <p:nvPr/>
        </p:nvSpPr>
        <p:spPr>
          <a:xfrm flipH="1">
            <a:off x="5292360" y="2205000"/>
            <a:ext cx="1366920" cy="216072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Oval 46"/>
          <p:cNvSpPr/>
          <p:nvPr/>
        </p:nvSpPr>
        <p:spPr>
          <a:xfrm>
            <a:off x="4572000" y="2708280"/>
            <a:ext cx="230508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ерудные полезны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скопаемы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59280" y="5516640"/>
            <a:ext cx="2592360" cy="865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мнецветное сырь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867280" y="3933720"/>
            <a:ext cx="1584360" cy="7923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уд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Oval 51"/>
          <p:cNvSpPr/>
          <p:nvPr/>
        </p:nvSpPr>
        <p:spPr>
          <a:xfrm>
            <a:off x="6659640" y="4653000"/>
            <a:ext cx="2484360" cy="863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идроминеральные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есурс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Line 53"/>
          <p:cNvSpPr/>
          <p:nvPr/>
        </p:nvSpPr>
        <p:spPr>
          <a:xfrm>
            <a:off x="7667640" y="2205000"/>
            <a:ext cx="504720" cy="251928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Oval 54"/>
          <p:cNvSpPr/>
          <p:nvPr/>
        </p:nvSpPr>
        <p:spPr>
          <a:xfrm>
            <a:off x="7020000" y="2924280"/>
            <a:ext cx="2124000" cy="1009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Comic Sans MS"/>
              </a:rPr>
              <a:t>Горно-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Comic Sans MS"/>
              </a:rPr>
              <a:t>химическо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Comic Sans MS"/>
              </a:rPr>
              <a:t>сырь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Line 55"/>
          <p:cNvSpPr/>
          <p:nvPr/>
        </p:nvSpPr>
        <p:spPr>
          <a:xfrm>
            <a:off x="5940360" y="2205000"/>
            <a:ext cx="0" cy="50328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Line 56"/>
          <p:cNvSpPr/>
          <p:nvPr/>
        </p:nvSpPr>
        <p:spPr>
          <a:xfrm flipH="1">
            <a:off x="6877080" y="2205000"/>
            <a:ext cx="216000" cy="172872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Line 57"/>
          <p:cNvSpPr/>
          <p:nvPr/>
        </p:nvSpPr>
        <p:spPr>
          <a:xfrm>
            <a:off x="8388360" y="2205000"/>
            <a:ext cx="0" cy="71928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Line 64"/>
          <p:cNvSpPr/>
          <p:nvPr/>
        </p:nvSpPr>
        <p:spPr>
          <a:xfrm>
            <a:off x="6443640" y="2205000"/>
            <a:ext cx="0" cy="7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Line 66"/>
          <p:cNvSpPr/>
          <p:nvPr/>
        </p:nvSpPr>
        <p:spPr>
          <a:xfrm>
            <a:off x="6300720" y="2205000"/>
            <a:ext cx="0" cy="57636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Line 67"/>
          <p:cNvSpPr/>
          <p:nvPr/>
        </p:nvSpPr>
        <p:spPr>
          <a:xfrm>
            <a:off x="6372360" y="3645000"/>
            <a:ext cx="0" cy="28872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Line 68"/>
          <p:cNvSpPr/>
          <p:nvPr/>
        </p:nvSpPr>
        <p:spPr>
          <a:xfrm>
            <a:off x="6372360" y="4724280"/>
            <a:ext cx="0" cy="79236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69"/>
          <p:cNvSpPr/>
          <p:nvPr/>
        </p:nvSpPr>
        <p:spPr>
          <a:xfrm>
            <a:off x="7380360" y="299736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3716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omic Sans MS"/>
              </a:rPr>
              <a:t>Месторождения</a:t>
            </a:r>
            <a:r>
              <a:rPr b="1" lang="ru-RU" sz="2800" spc="-1" strike="noStrike">
                <a:solidFill>
                  <a:srgbClr val="eaeaea"/>
                </a:solidFill>
                <a:latin typeface="Comic Sans MS"/>
              </a:rPr>
              <a:t> (полезного ископаемого) — скопление минерального вещества на поверхности или в недрах  Земли в результате тех или иных геологических процессов, по количеству, качеству и условиям залегания пригодного для промышленного использования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omic Sans MS"/>
              </a:rPr>
              <a:t>Бассейн </a:t>
            </a:r>
            <a:r>
              <a:rPr b="1" lang="ru-RU" sz="2800" spc="-1" strike="noStrike">
                <a:solidFill>
                  <a:srgbClr val="eaeaea"/>
                </a:solidFill>
                <a:latin typeface="Comic Sans MS"/>
              </a:rPr>
              <a:t>-площадь непрерывного или островного распространения месторождений, значительная по размерам или запасам полезного ископаемого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Comic Sans MS"/>
              </a:rPr>
              <a:t>Где их искать…(1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7391160" cy="39132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3132000" y="4797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Фундамент древних</a:t>
            </a: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платформ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2195640" y="3716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щит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1332000" y="2708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Складчатая область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Line 12"/>
          <p:cNvSpPr/>
          <p:nvPr/>
        </p:nvSpPr>
        <p:spPr>
          <a:xfrm flipV="1">
            <a:off x="826920" y="3357720"/>
            <a:ext cx="792360" cy="136656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 flipV="1">
            <a:off x="971640" y="4076280"/>
            <a:ext cx="1368360" cy="792360"/>
          </a:xfrm>
          <a:prstGeom prst="line">
            <a:avLst/>
          </a:prstGeom>
          <a:ln w="63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971640" y="5013360"/>
            <a:ext cx="2232000" cy="14436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08000" y="4581360"/>
            <a:ext cx="1547640" cy="201636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уды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еталлов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лмазы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мни-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амоцветы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патит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5677920" y="1197000"/>
            <a:ext cx="35427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екоторые виды рудных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золото , платина , олово)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аходятся в россыпях-</a:t>
            </a:r>
            <a:r>
              <a:rPr b="0" lang="ru-RU" sz="1600" spc="-1" strike="noStrike">
                <a:solidFill>
                  <a:srgbClr val="eaeaea"/>
                </a:solidFill>
                <a:latin typeface="Comic Sans MS"/>
              </a:rPr>
              <a:t> –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еренесенных водами рыхлых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одуктах, разрушенных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магматических и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метаморфических пород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Line 20"/>
          <p:cNvSpPr/>
          <p:nvPr/>
        </p:nvSpPr>
        <p:spPr>
          <a:xfrm flipH="1" flipV="1">
            <a:off x="6084720" y="4292280"/>
            <a:ext cx="1872000" cy="158436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6877080" y="566100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ерудные полезные ископаемы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4427640" y="3716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Осадочный чехол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древних платформ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7040" y="-3160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Comic Sans MS"/>
              </a:rPr>
              <a:t>Где их искать…(2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7" name="Picture 5" descr="plita"/>
          <p:cNvPicPr/>
          <p:nvPr/>
        </p:nvPicPr>
        <p:blipFill>
          <a:blip r:embed="rId1"/>
          <a:stretch/>
        </p:blipFill>
        <p:spPr>
          <a:xfrm>
            <a:off x="1979640" y="1052640"/>
            <a:ext cx="6961320" cy="22064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4716360" y="2637000"/>
            <a:ext cx="2016360" cy="574560"/>
          </a:xfrm>
          <a:prstGeom prst="rect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6372360" y="148428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садочный чехол молодых платформ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Picture 11" descr="surkh"/>
          <p:cNvPicPr/>
          <p:nvPr/>
        </p:nvPicPr>
        <p:blipFill>
          <a:blip r:embed="rId2"/>
          <a:stretch/>
        </p:blipFill>
        <p:spPr>
          <a:xfrm>
            <a:off x="108000" y="3213000"/>
            <a:ext cx="4503600" cy="32115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2"/>
          <p:cNvSpPr/>
          <p:nvPr/>
        </p:nvSpPr>
        <p:spPr>
          <a:xfrm>
            <a:off x="1403280" y="4653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ежгорные  впадин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Line 13"/>
          <p:cNvSpPr/>
          <p:nvPr/>
        </p:nvSpPr>
        <p:spPr>
          <a:xfrm flipH="1">
            <a:off x="2842920" y="4797360"/>
            <a:ext cx="2305080" cy="0"/>
          </a:xfrm>
          <a:prstGeom prst="line">
            <a:avLst/>
          </a:prstGeom>
          <a:ln w="63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15"/>
          <p:cNvSpPr/>
          <p:nvPr/>
        </p:nvSpPr>
        <p:spPr>
          <a:xfrm flipV="1">
            <a:off x="6300720" y="2420640"/>
            <a:ext cx="647640" cy="158436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5148360" y="4076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олезные ископаемые горючие и негорючие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mic Sans MS"/>
              </a:rPr>
              <a:t>Как используются минеральные ресурсы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Picture 16" descr="resurs_03"/>
          <p:cNvPicPr/>
          <p:nvPr/>
        </p:nvPicPr>
        <p:blipFill>
          <a:blip r:embed="rId1"/>
          <a:stretch/>
        </p:blipFill>
        <p:spPr>
          <a:xfrm>
            <a:off x="2124000" y="2421000"/>
            <a:ext cx="6207120" cy="41418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7"/>
          <p:cNvSpPr/>
          <p:nvPr/>
        </p:nvSpPr>
        <p:spPr>
          <a:xfrm>
            <a:off x="0" y="126828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Шаг второй-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добыча : открытый и шахтный способ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Picture 18" descr="Картинка 1 из 12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2133720"/>
            <a:ext cx="5977080" cy="4484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9" descr="Картинка 28 из 127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24000" y="2205000"/>
            <a:ext cx="6121440" cy="4235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0" descr="Картинка 50 из 1278"/>
          <p:cNvPicPr/>
          <p:nvPr/>
        </p:nvPicPr>
        <p:blipFill>
          <a:blip r:embed="rId6"/>
          <a:stretch/>
        </p:blipFill>
        <p:spPr>
          <a:xfrm>
            <a:off x="2124000" y="2205000"/>
            <a:ext cx="6093000" cy="4354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1" descr="95709_20080809151836"/>
          <p:cNvPicPr/>
          <p:nvPr/>
        </p:nvPicPr>
        <p:blipFill>
          <a:blip r:embed="rId7"/>
          <a:stretch/>
        </p:blipFill>
        <p:spPr>
          <a:xfrm>
            <a:off x="2268360" y="2060640"/>
            <a:ext cx="6121440" cy="4589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2" descr="Картинка 25 из 122"/>
          <p:cNvPicPr/>
          <p:nvPr/>
        </p:nvPicPr>
        <p:blipFill>
          <a:blip r:embed="rId8"/>
          <a:stretch/>
        </p:blipFill>
        <p:spPr>
          <a:xfrm>
            <a:off x="1871640" y="2133720"/>
            <a:ext cx="7272360" cy="4489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3" descr="Картинка 12 из 543"/>
          <p:cNvPicPr/>
          <p:nvPr/>
        </p:nvPicPr>
        <p:blipFill>
          <a:blip r:embed="rId9"/>
          <a:stretch/>
        </p:blipFill>
        <p:spPr>
          <a:xfrm>
            <a:off x="2268360" y="2009880"/>
            <a:ext cx="6732720" cy="48481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4"/>
          <p:cNvSpPr/>
          <p:nvPr/>
        </p:nvSpPr>
        <p:spPr>
          <a:xfrm>
            <a:off x="2411280" y="234936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cc"/>
                </a:solidFill>
                <a:latin typeface="Comic Sans MS"/>
              </a:rPr>
              <a:t>В России 80%  минерального сырья добывается открытым способо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179280" y="233280"/>
            <a:ext cx="4062600" cy="6624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52640" y="228600"/>
            <a:ext cx="4491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Comic Sans MS"/>
              </a:rPr>
              <a:t>Шаг третий-производство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4572000" y="17002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Comic Sans MS"/>
              </a:rPr>
              <a:t>А)Производство  мед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Picture 9" descr="Картинка 48 из 2078"/>
          <p:cNvPicPr/>
          <p:nvPr/>
        </p:nvPicPr>
        <p:blipFill>
          <a:blip r:embed="rId2"/>
          <a:stretch/>
        </p:blipFill>
        <p:spPr>
          <a:xfrm>
            <a:off x="4859280" y="292428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0"/>
          <p:cNvSpPr/>
          <p:nvPr/>
        </p:nvSpPr>
        <p:spPr>
          <a:xfrm>
            <a:off x="4822920" y="56674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omic Sans MS"/>
              </a:rPr>
              <a:t>Добывают медную руду в России: Средне-Сибирское плоскогорье (Норильск), Урал, Кольский полуостров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7:27:56Z</dcterms:created>
  <dc:creator>HEKTO</dc:creator>
  <dc:description/>
  <dc:language>en-US</dc:language>
  <cp:lastModifiedBy>Учитель</cp:lastModifiedBy>
  <dcterms:modified xsi:type="dcterms:W3CDTF">2015-01-20T07:34:03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71049</vt:lpwstr>
  </property>
</Properties>
</file>