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5.png" ContentType="image/png"/>
  <Override PartName="/ppt/media/image19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17.jpeg" ContentType="image/jpeg"/>
  <Override PartName="/ppt/media/image40.png" ContentType="image/png"/>
  <Override PartName="/ppt/media/image10.jpeg" ContentType="image/jpeg"/>
  <Override PartName="/ppt/media/image38.png" ContentType="image/png"/>
  <Override PartName="/ppt/media/image8.jpeg" ContentType="image/jpeg"/>
  <Override PartName="/ppt/media/image30.png" ContentType="image/png"/>
  <Override PartName="/ppt/media/image11.gif" ContentType="image/gif"/>
  <Override PartName="/ppt/media/image44.wmf" ContentType="image/x-wmf"/>
  <Override PartName="/ppt/media/image36.png" ContentType="image/png"/>
  <Override PartName="/ppt/media/image37.png" ContentType="image/png"/>
  <Override PartName="/ppt/media/image41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5.png" ContentType="image/png"/>
  <Override PartName="/ppt/media/image35.png" ContentType="image/png"/>
  <Override PartName="/ppt/media/image39.png" ContentType="image/png"/>
  <Override PartName="/ppt/media/image9.png" ContentType="image/png"/>
  <Override PartName="/ppt/media/image28.png" ContentType="image/png"/>
  <Override PartName="/ppt/media/image7.jpeg" ContentType="image/jpeg"/>
  <Override PartName="/ppt/media/image12.png" ContentType="image/png"/>
  <Override PartName="/ppt/media/image20.jpeg" ContentType="image/jpeg"/>
  <Override PartName="/ppt/media/image6.wmf" ContentType="image/x-wmf"/>
  <Override PartName="/ppt/media/image13.jpeg" ContentType="image/jpeg"/>
  <Override PartName="/ppt/media/image2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0843-E09A-462B-A04C-20DFCBC41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B547-62A4-4AA5-B0DA-6F9B8591E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FA22-FC4C-4E24-B840-3BD0D3C98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E9AA-707F-43E3-A2E0-CA9EB25A5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EEB83-8471-4F90-9CEB-7C4B07ED2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E90B1-6D6A-4B2C-A086-7C4C633AB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4E6F1-D544-48F0-83A6-344ABD7BB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DAC4C-1010-4607-A251-3FF94243C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F7BE7-0B51-4650-980A-A9F0D5EC1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32124-A62F-4183-B570-F6B2632AB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EDECD-EF92-4073-A694-62439914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91AA-C2FA-4F9A-B960-9551120FC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DEB2E-7153-4243-A962-54F93A1E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25697-2BC2-49B8-BE8B-D56522EB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05704-7E06-4111-A6D3-E3BB3427D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C8DDF-36B8-46CF-818B-731AF1C3C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B1864-41B3-4F28-9C34-3AA78BDD7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A0C89-E9D9-4B0D-8C7B-5D84378DC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6E28D-CA79-4828-BE5E-6A75D72E3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0DB96-1DB6-48DD-BAAD-BA23173A6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1AE38-064F-40C3-A4F8-4CC270312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6655F-DFB6-40D4-B5C4-2F690365F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7EAF-C43B-4E80-92E7-F00E57B15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5B168-AAF2-46C0-A89C-7D910CA55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226BF-62A9-4F9C-B004-DF283FE8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8F1D5-5381-4779-A810-E81F88EB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9ADBC-D446-4729-A78A-B92F89E4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E993F-8536-421A-8998-F444DB4FB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8A7ED-B553-414D-91D0-2F33A86D1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E1144-D283-4D88-8884-765DBBE69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78D6-1EDD-464C-98C4-328BB2DB5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0859-D7F6-4BA7-884E-5E7AB218F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3254-C5B9-4E93-9C57-CF092DAF5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381C-5AA3-4E44-8F1A-60873B40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2DA4-68E2-4866-A5A1-535087F1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54C3-FFA7-41FB-B904-146655B7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slideLayout" Target="../slideLayouts/slideLayout25.xml"/><Relationship Id="rId17" Type="http://schemas.openxmlformats.org/officeDocument/2006/relationships/slideLayout" Target="../slideLayouts/slideLayout26.xml"/><Relationship Id="rId18" Type="http://schemas.openxmlformats.org/officeDocument/2006/relationships/slideLayout" Target="../slideLayouts/slideLayout27.xml"/><Relationship Id="rId19" Type="http://schemas.openxmlformats.org/officeDocument/2006/relationships/slideLayout" Target="../slideLayouts/slideLayout28.xml"/><Relationship Id="rId20" Type="http://schemas.openxmlformats.org/officeDocument/2006/relationships/slideLayout" Target="../slideLayouts/slideLayout29.xml"/><Relationship Id="rId21" Type="http://schemas.openxmlformats.org/officeDocument/2006/relationships/slideLayout" Target="../slideLayouts/slideLayout30.xml"/><Relationship Id="rId22" Type="http://schemas.openxmlformats.org/officeDocument/2006/relationships/slideLayout" Target="../slideLayouts/slideLayout31.xml"/><Relationship Id="rId23" Type="http://schemas.openxmlformats.org/officeDocument/2006/relationships/slideLayout" Target="../slideLayouts/slideLayout32.xml"/><Relationship Id="rId24" Type="http://schemas.openxmlformats.org/officeDocument/2006/relationships/slideLayout" Target="../slideLayouts/slideLayout33.xml"/><Relationship Id="rId25" Type="http://schemas.openxmlformats.org/officeDocument/2006/relationships/slideLayout" Target="../slideLayouts/slideLayout34.xml"/><Relationship Id="rId26" Type="http://schemas.openxmlformats.org/officeDocument/2006/relationships/slideLayout" Target="../slideLayouts/slideLayout35.xml"/><Relationship Id="rId2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1E84F-CD8C-4DE3-BDA8-74E809F13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CA826-7037-4CBD-BAE9-6BA8295E78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5ff"/>
            </a:gs>
            <a:gs pos="100000">
              <a:srgbClr val="b8ffb8">
                <a:alpha val="56078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6" descr="school2218.jpg"/>
          <p:cNvPicPr/>
          <p:nvPr/>
        </p:nvPicPr>
        <p:blipFill>
          <a:blip r:embed="rId2"/>
          <a:stretch/>
        </p:blipFill>
        <p:spPr>
          <a:xfrm>
            <a:off x="5435640" y="2781360"/>
            <a:ext cx="4078080" cy="4076640"/>
          </a:xfrm>
          <a:prstGeom prst="rect">
            <a:avLst/>
          </a:prstGeom>
          <a:ln w="0">
            <a:noFill/>
          </a:ln>
        </p:spPr>
      </p:pic>
      <p:grpSp>
        <p:nvGrpSpPr>
          <p:cNvPr id="83" name="Группа 20"/>
          <p:cNvGrpSpPr/>
          <p:nvPr/>
        </p:nvGrpSpPr>
        <p:grpSpPr>
          <a:xfrm>
            <a:off x="8601120" y="-360"/>
            <a:ext cx="608040" cy="6767640"/>
            <a:chOff x="8601120" y="-360"/>
            <a:chExt cx="608040" cy="6767640"/>
          </a:xfrm>
        </p:grpSpPr>
        <p:pic>
          <p:nvPicPr>
            <p:cNvPr id="84" name="Рисунок 8" descr="63353908_100gif.gif"/>
            <p:cNvPicPr/>
            <p:nvPr/>
          </p:nvPicPr>
          <p:blipFill>
            <a:blip r:embed="rId3"/>
            <a:stretch/>
          </p:blipFill>
          <p:spPr>
            <a:xfrm rot="16200000">
              <a:off x="7170480" y="1429920"/>
              <a:ext cx="3456360" cy="5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Рисунок 9" descr="63353908_100gif.gif"/>
            <p:cNvPicPr/>
            <p:nvPr/>
          </p:nvPicPr>
          <p:blipFill>
            <a:blip r:embed="rId4"/>
            <a:stretch/>
          </p:blipFill>
          <p:spPr>
            <a:xfrm rot="16200000">
              <a:off x="7183080" y="4741200"/>
              <a:ext cx="3456360" cy="595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" name="Группа 19"/>
          <p:cNvGrpSpPr/>
          <p:nvPr/>
        </p:nvGrpSpPr>
        <p:grpSpPr>
          <a:xfrm>
            <a:off x="-38160" y="37800"/>
            <a:ext cx="606960" cy="6769080"/>
            <a:chOff x="-38160" y="37800"/>
            <a:chExt cx="606960" cy="6769080"/>
          </a:xfrm>
        </p:grpSpPr>
        <p:pic>
          <p:nvPicPr>
            <p:cNvPr id="87" name="Рисунок 11" descr="63353908_100gif.gif"/>
            <p:cNvPicPr/>
            <p:nvPr/>
          </p:nvPicPr>
          <p:blipFill>
            <a:blip r:embed="rId5"/>
            <a:stretch/>
          </p:blipFill>
          <p:spPr>
            <a:xfrm rot="16200000">
              <a:off x="-1469520" y="1469160"/>
              <a:ext cx="3457080" cy="59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Рисунок 12" descr="63353908_100gif.gif"/>
            <p:cNvPicPr/>
            <p:nvPr/>
          </p:nvPicPr>
          <p:blipFill>
            <a:blip r:embed="rId6"/>
            <a:stretch/>
          </p:blipFill>
          <p:spPr>
            <a:xfrm rot="16200000">
              <a:off x="-1456560" y="4781160"/>
              <a:ext cx="3457080" cy="59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" name="Группа 12"/>
          <p:cNvGrpSpPr/>
          <p:nvPr/>
        </p:nvGrpSpPr>
        <p:grpSpPr>
          <a:xfrm>
            <a:off x="0" y="-50760"/>
            <a:ext cx="9204480" cy="490320"/>
            <a:chOff x="0" y="-50760"/>
            <a:chExt cx="9204480" cy="490320"/>
          </a:xfrm>
        </p:grpSpPr>
        <p:pic>
          <p:nvPicPr>
            <p:cNvPr id="90" name="Рисунок 14" descr="63353981_115.gif"/>
            <p:cNvPicPr/>
            <p:nvPr/>
          </p:nvPicPr>
          <p:blipFill>
            <a:blip r:embed="rId7"/>
            <a:stretch/>
          </p:blipFill>
          <p:spPr>
            <a:xfrm>
              <a:off x="0" y="-50400"/>
              <a:ext cx="269424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Рисунок 15" descr="63353981_115.gif"/>
            <p:cNvPicPr/>
            <p:nvPr/>
          </p:nvPicPr>
          <p:blipFill>
            <a:blip r:embed="rId8"/>
            <a:stretch/>
          </p:blipFill>
          <p:spPr>
            <a:xfrm>
              <a:off x="2627640" y="-50760"/>
              <a:ext cx="269424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Рисунок 16" descr="63353981_115.gif"/>
            <p:cNvPicPr/>
            <p:nvPr/>
          </p:nvPicPr>
          <p:blipFill>
            <a:blip r:embed="rId9"/>
            <a:stretch/>
          </p:blipFill>
          <p:spPr>
            <a:xfrm>
              <a:off x="5292000" y="-50760"/>
              <a:ext cx="269424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Рисунок 17" descr="63353981_115.gif"/>
            <p:cNvPicPr/>
            <p:nvPr/>
          </p:nvPicPr>
          <p:blipFill>
            <a:blip r:embed="rId10"/>
            <a:srcRect l="0" t="0" r="53813" b="0"/>
            <a:stretch/>
          </p:blipFill>
          <p:spPr>
            <a:xfrm>
              <a:off x="7923240" y="-50760"/>
              <a:ext cx="1281240" cy="490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" name="Группа 13"/>
          <p:cNvGrpSpPr/>
          <p:nvPr/>
        </p:nvGrpSpPr>
        <p:grpSpPr>
          <a:xfrm>
            <a:off x="-60480" y="6405480"/>
            <a:ext cx="9204480" cy="490680"/>
            <a:chOff x="-60480" y="6405480"/>
            <a:chExt cx="9204480" cy="490680"/>
          </a:xfrm>
        </p:grpSpPr>
        <p:pic>
          <p:nvPicPr>
            <p:cNvPr id="95" name="Рисунок 19" descr="63353981_115.gif"/>
            <p:cNvPicPr/>
            <p:nvPr/>
          </p:nvPicPr>
          <p:blipFill>
            <a:blip r:embed="rId11"/>
            <a:stretch/>
          </p:blipFill>
          <p:spPr>
            <a:xfrm>
              <a:off x="-60480" y="6405480"/>
              <a:ext cx="2694240" cy="47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Рисунок 20" descr="63353981_115.gif"/>
            <p:cNvPicPr/>
            <p:nvPr/>
          </p:nvPicPr>
          <p:blipFill>
            <a:blip r:embed="rId12"/>
            <a:stretch/>
          </p:blipFill>
          <p:spPr>
            <a:xfrm>
              <a:off x="2567160" y="6405480"/>
              <a:ext cx="2694240" cy="47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Рисунок 21" descr="63353981_115.gif"/>
            <p:cNvPicPr/>
            <p:nvPr/>
          </p:nvPicPr>
          <p:blipFill>
            <a:blip r:embed="rId13"/>
            <a:stretch/>
          </p:blipFill>
          <p:spPr>
            <a:xfrm>
              <a:off x="5231520" y="6405480"/>
              <a:ext cx="2694240" cy="47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Рисунок 22" descr="63353981_115.gif"/>
            <p:cNvPicPr/>
            <p:nvPr/>
          </p:nvPicPr>
          <p:blipFill>
            <a:blip r:embed="rId14"/>
            <a:srcRect l="0" t="0" r="53813" b="0"/>
            <a:stretch/>
          </p:blipFill>
          <p:spPr>
            <a:xfrm>
              <a:off x="7862760" y="6405480"/>
              <a:ext cx="1281240" cy="490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9" name="Рисунок 23" descr="school21002.jpg"/>
          <p:cNvPicPr/>
          <p:nvPr/>
        </p:nvPicPr>
        <p:blipFill>
          <a:blip r:embed="rId15"/>
          <a:stretch/>
        </p:blipFill>
        <p:spPr>
          <a:xfrm>
            <a:off x="5497560" y="4076640"/>
            <a:ext cx="3646440" cy="27813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99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99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99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99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99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99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ba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ba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ba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1B44F-07F6-4AAC-8AC1-AF80DBE012A0}" type="slidenum">
              <a:rPr b="0" lang="en-US" sz="1200" spc="-1" strike="noStrike">
                <a:solidFill>
                  <a:srgbClr val="89ba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6"/>
    <p:sldLayoutId id="2147483676" r:id="rId17"/>
    <p:sldLayoutId id="2147483677" r:id="rId18"/>
    <p:sldLayoutId id="2147483678" r:id="rId19"/>
    <p:sldLayoutId id="2147483679" r:id="rId20"/>
    <p:sldLayoutId id="2147483680" r:id="rId21"/>
    <p:sldLayoutId id="2147483681" r:id="rId22"/>
    <p:sldLayoutId id="2147483682" r:id="rId23"/>
    <p:sldLayoutId id="2147483683" r:id="rId24"/>
    <p:sldLayoutId id="2147483684" r:id="rId25"/>
    <p:sldLayoutId id="2147483685" r:id="rId26"/>
    <p:sldLayoutId id="2147483686" r:id="rId2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4.png"/><Relationship Id="rId15" Type="http://schemas.openxmlformats.org/officeDocument/2006/relationships/image" Target="../media/image21.png"/><Relationship Id="rId16" Type="http://schemas.openxmlformats.org/officeDocument/2006/relationships/image" Target="../media/image21.png"/><Relationship Id="rId17" Type="http://schemas.openxmlformats.org/officeDocument/2006/relationships/image" Target="../media/image25.png"/><Relationship Id="rId18" Type="http://schemas.openxmlformats.org/officeDocument/2006/relationships/image" Target="../media/image25.png"/><Relationship Id="rId19" Type="http://schemas.openxmlformats.org/officeDocument/2006/relationships/image" Target="../media/image26.png"/><Relationship Id="rId20" Type="http://schemas.openxmlformats.org/officeDocument/2006/relationships/image" Target="../media/image26.png"/><Relationship Id="rId21" Type="http://schemas.openxmlformats.org/officeDocument/2006/relationships/image" Target="../media/image27.png"/><Relationship Id="rId22" Type="http://schemas.openxmlformats.org/officeDocument/2006/relationships/image" Target="../media/image27.png"/><Relationship Id="rId23" Type="http://schemas.openxmlformats.org/officeDocument/2006/relationships/image" Target="../media/image25.png"/><Relationship Id="rId24" Type="http://schemas.openxmlformats.org/officeDocument/2006/relationships/image" Target="../media/image25.png"/><Relationship Id="rId25" Type="http://schemas.openxmlformats.org/officeDocument/2006/relationships/image" Target="../media/image28.png"/><Relationship Id="rId26" Type="http://schemas.openxmlformats.org/officeDocument/2006/relationships/image" Target="../media/image28.png"/><Relationship Id="rId27" Type="http://schemas.openxmlformats.org/officeDocument/2006/relationships/image" Target="../media/image29.png"/><Relationship Id="rId28" Type="http://schemas.openxmlformats.org/officeDocument/2006/relationships/image" Target="../media/image29.png"/><Relationship Id="rId29" Type="http://schemas.openxmlformats.org/officeDocument/2006/relationships/image" Target="../media/image29.png"/><Relationship Id="rId30" Type="http://schemas.openxmlformats.org/officeDocument/2006/relationships/image" Target="../media/image29.png"/><Relationship Id="rId31" Type="http://schemas.openxmlformats.org/officeDocument/2006/relationships/image" Target="../media/image24.png"/><Relationship Id="rId32" Type="http://schemas.openxmlformats.org/officeDocument/2006/relationships/image" Target="../media/image24.png"/><Relationship Id="rId33" Type="http://schemas.openxmlformats.org/officeDocument/2006/relationships/image" Target="../media/image30.png"/><Relationship Id="rId34" Type="http://schemas.openxmlformats.org/officeDocument/2006/relationships/image" Target="../media/image30.png"/><Relationship Id="rId35" Type="http://schemas.openxmlformats.org/officeDocument/2006/relationships/image" Target="../media/image26.png"/><Relationship Id="rId36" Type="http://schemas.openxmlformats.org/officeDocument/2006/relationships/image" Target="../media/image26.png"/><Relationship Id="rId37" Type="http://schemas.openxmlformats.org/officeDocument/2006/relationships/image" Target="../media/image31.png"/><Relationship Id="rId38" Type="http://schemas.openxmlformats.org/officeDocument/2006/relationships/image" Target="../media/image31.png"/><Relationship Id="rId39" Type="http://schemas.openxmlformats.org/officeDocument/2006/relationships/image" Target="../media/image32.png"/><Relationship Id="rId40" Type="http://schemas.openxmlformats.org/officeDocument/2006/relationships/image" Target="../media/image32.png"/><Relationship Id="rId41" Type="http://schemas.openxmlformats.org/officeDocument/2006/relationships/image" Target="../media/image26.png"/><Relationship Id="rId42" Type="http://schemas.openxmlformats.org/officeDocument/2006/relationships/image" Target="../media/image26.png"/><Relationship Id="rId43" Type="http://schemas.openxmlformats.org/officeDocument/2006/relationships/image" Target="../media/image31.png"/><Relationship Id="rId44" Type="http://schemas.openxmlformats.org/officeDocument/2006/relationships/image" Target="../media/image31.png"/><Relationship Id="rId45" Type="http://schemas.openxmlformats.org/officeDocument/2006/relationships/image" Target="../media/image33.png"/><Relationship Id="rId46" Type="http://schemas.openxmlformats.org/officeDocument/2006/relationships/image" Target="../media/image33.png"/><Relationship Id="rId47" Type="http://schemas.openxmlformats.org/officeDocument/2006/relationships/image" Target="../media/image31.png"/><Relationship Id="rId48" Type="http://schemas.openxmlformats.org/officeDocument/2006/relationships/image" Target="../media/image31.png"/><Relationship Id="rId49" Type="http://schemas.openxmlformats.org/officeDocument/2006/relationships/image" Target="../media/image34.png"/><Relationship Id="rId50" Type="http://schemas.openxmlformats.org/officeDocument/2006/relationships/image" Target="../media/image34.png"/><Relationship Id="rId51" Type="http://schemas.openxmlformats.org/officeDocument/2006/relationships/image" Target="../media/image33.png"/><Relationship Id="rId52" Type="http://schemas.openxmlformats.org/officeDocument/2006/relationships/image" Target="../media/image33.png"/><Relationship Id="rId53" Type="http://schemas.openxmlformats.org/officeDocument/2006/relationships/image" Target="../media/image31.png"/><Relationship Id="rId54" Type="http://schemas.openxmlformats.org/officeDocument/2006/relationships/image" Target="../media/image31.png"/><Relationship Id="rId55" Type="http://schemas.openxmlformats.org/officeDocument/2006/relationships/image" Target="../media/image35.png"/><Relationship Id="rId56" Type="http://schemas.openxmlformats.org/officeDocument/2006/relationships/image" Target="../media/image35.png"/><Relationship Id="rId57" Type="http://schemas.openxmlformats.org/officeDocument/2006/relationships/image" Target="../media/image36.png"/><Relationship Id="rId58" Type="http://schemas.openxmlformats.org/officeDocument/2006/relationships/image" Target="../media/image36.png"/><Relationship Id="rId59" Type="http://schemas.openxmlformats.org/officeDocument/2006/relationships/image" Target="../media/image37.png"/><Relationship Id="rId60" Type="http://schemas.openxmlformats.org/officeDocument/2006/relationships/image" Target="../media/image37.png"/><Relationship Id="rId61" Type="http://schemas.openxmlformats.org/officeDocument/2006/relationships/image" Target="../media/image38.png"/><Relationship Id="rId62" Type="http://schemas.openxmlformats.org/officeDocument/2006/relationships/image" Target="../media/image38.png"/><Relationship Id="rId63" Type="http://schemas.openxmlformats.org/officeDocument/2006/relationships/image" Target="../media/image39.png"/><Relationship Id="rId64" Type="http://schemas.openxmlformats.org/officeDocument/2006/relationships/image" Target="../media/image39.png"/><Relationship Id="rId65" Type="http://schemas.openxmlformats.org/officeDocument/2006/relationships/image" Target="../media/image33.png"/><Relationship Id="rId66" Type="http://schemas.openxmlformats.org/officeDocument/2006/relationships/image" Target="../media/image33.png"/><Relationship Id="rId67" Type="http://schemas.openxmlformats.org/officeDocument/2006/relationships/image" Target="../media/image40.png"/><Relationship Id="rId68" Type="http://schemas.openxmlformats.org/officeDocument/2006/relationships/image" Target="../media/image40.png"/><Relationship Id="rId69" Type="http://schemas.openxmlformats.org/officeDocument/2006/relationships/image" Target="../media/image41.png"/><Relationship Id="rId70" Type="http://schemas.openxmlformats.org/officeDocument/2006/relationships/image" Target="../media/image41.png"/><Relationship Id="rId71" Type="http://schemas.openxmlformats.org/officeDocument/2006/relationships/image" Target="../media/image42.png"/><Relationship Id="rId72" Type="http://schemas.openxmlformats.org/officeDocument/2006/relationships/image" Target="../media/image42.png"/><Relationship Id="rId73" Type="http://schemas.openxmlformats.org/officeDocument/2006/relationships/image" Target="../media/image38.png"/><Relationship Id="rId74" Type="http://schemas.openxmlformats.org/officeDocument/2006/relationships/image" Target="../media/image38.png"/><Relationship Id="rId75" Type="http://schemas.openxmlformats.org/officeDocument/2006/relationships/image" Target="../media/image42.png"/><Relationship Id="rId76" Type="http://schemas.openxmlformats.org/officeDocument/2006/relationships/image" Target="../media/image42.png"/><Relationship Id="rId77" Type="http://schemas.openxmlformats.org/officeDocument/2006/relationships/image" Target="../media/image43.png"/><Relationship Id="rId78" Type="http://schemas.openxmlformats.org/officeDocument/2006/relationships/image" Target="../media/image43.png"/><Relationship Id="rId79" Type="http://schemas.openxmlformats.org/officeDocument/2006/relationships/image" Target="../media/image43.png"/><Relationship Id="rId80" Type="http://schemas.openxmlformats.org/officeDocument/2006/relationships/image" Target="../media/image43.png"/><Relationship Id="rId81" Type="http://schemas.openxmlformats.org/officeDocument/2006/relationships/image" Target="../media/image31.png"/><Relationship Id="rId82" Type="http://schemas.openxmlformats.org/officeDocument/2006/relationships/image" Target="../media/image31.png"/><Relationship Id="rId83" Type="http://schemas.openxmlformats.org/officeDocument/2006/relationships/image" Target="../media/image31.png"/><Relationship Id="rId84" Type="http://schemas.openxmlformats.org/officeDocument/2006/relationships/image" Target="../media/image31.png"/><Relationship Id="rId85" Type="http://schemas.openxmlformats.org/officeDocument/2006/relationships/image" Target="../media/image31.png"/><Relationship Id="rId86" Type="http://schemas.openxmlformats.org/officeDocument/2006/relationships/image" Target="../media/image31.png"/><Relationship Id="rId8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-3168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1447920" y="-5393880"/>
            <a:ext cx="1526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1" lang="ru-RU" sz="4400" spc="-1" strike="noStrike">
                <a:solidFill>
                  <a:srgbClr val="6699ff"/>
                </a:solidFill>
                <a:latin typeface="Arial"/>
              </a:rPr>
              <a:t>Урок Зна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ccff"/>
                </a:solidFill>
                <a:latin typeface="Arial"/>
              </a:rPr>
              <a:t>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2987640" y="189000"/>
            <a:ext cx="59054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казка, я тебя знаю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9" name=""/>
          <p:cNvSpPr/>
          <p:nvPr/>
        </p:nvSpPr>
        <p:spPr>
          <a:xfrm rot="20320800">
            <a:off x="3134520" y="-360"/>
            <a:ext cx="30816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Литературное  чт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324000" y="836640"/>
            <a:ext cx="2520720" cy="17589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3348000" y="404640"/>
            <a:ext cx="2519280" cy="17337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7308720" y="2492280"/>
            <a:ext cx="1373400" cy="1873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5"/>
          <a:stretch/>
        </p:blipFill>
        <p:spPr>
          <a:xfrm>
            <a:off x="6156360" y="404640"/>
            <a:ext cx="2771640" cy="17622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6"/>
          <a:stretch/>
        </p:blipFill>
        <p:spPr>
          <a:xfrm>
            <a:off x="4067280" y="2565360"/>
            <a:ext cx="2519280" cy="18716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7"/>
          <a:stretch/>
        </p:blipFill>
        <p:spPr>
          <a:xfrm>
            <a:off x="3708360" y="4581360"/>
            <a:ext cx="1590840" cy="19893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8"/>
          <a:stretch/>
        </p:blipFill>
        <p:spPr>
          <a:xfrm>
            <a:off x="1908000" y="2852640"/>
            <a:ext cx="1546560" cy="16574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9"/>
          <a:stretch/>
        </p:blipFill>
        <p:spPr>
          <a:xfrm>
            <a:off x="6372360" y="4797360"/>
            <a:ext cx="2447640" cy="16398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580000" y="602136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15735" y="10800"/>
                </a:moveTo>
                <a:lnTo>
                  <a:pt x="5229" y="17806"/>
                </a:lnTo>
                <a:lnTo>
                  <a:pt x="5229" y="3794"/>
                </a:lnTo>
                <a:close/>
              </a:path>
              <a:path fill="darken" w="24471" h="21600">
                <a:moveTo>
                  <a:pt x="17580" y="3794"/>
                </a:moveTo>
                <a:lnTo>
                  <a:pt x="17580" y="17806"/>
                </a:lnTo>
                <a:lnTo>
                  <a:pt x="19242" y="17806"/>
                </a:lnTo>
                <a:lnTo>
                  <a:pt x="19242" y="3794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1187280" y="333360"/>
            <a:ext cx="6409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кружающий    мир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560" y="-770760"/>
            <a:ext cx="152388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04920" y="0"/>
          <a:ext cx="6172200" cy="1066680"/>
        </p:xfrm>
        <a:graphic>
          <a:graphicData uri="http://schemas.openxmlformats.org/drawingml/2006/table">
            <a:tbl>
              <a:tblPr/>
              <a:tblGrid>
                <a:gridCol w="1234800"/>
                <a:gridCol w="1233720"/>
                <a:gridCol w="1235160"/>
                <a:gridCol w="1233360"/>
                <a:gridCol w="123516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304920" y="1219320"/>
          <a:ext cx="6172200" cy="838080"/>
        </p:xfrm>
        <a:graphic>
          <a:graphicData uri="http://schemas.openxmlformats.org/drawingml/2006/table">
            <a:tbl>
              <a:tblPr/>
              <a:tblGrid>
                <a:gridCol w="1233360"/>
                <a:gridCol w="1235160"/>
                <a:gridCol w="1235160"/>
                <a:gridCol w="1234800"/>
                <a:gridCol w="123372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228600" y="2362320"/>
          <a:ext cx="8686800" cy="898560"/>
        </p:xfrm>
        <a:graphic>
          <a:graphicData uri="http://schemas.openxmlformats.org/drawingml/2006/table">
            <a:tbl>
              <a:tblPr/>
              <a:tblGrid>
                <a:gridCol w="965160"/>
                <a:gridCol w="965160"/>
                <a:gridCol w="965160"/>
                <a:gridCol w="965160"/>
                <a:gridCol w="965520"/>
                <a:gridCol w="965160"/>
                <a:gridCol w="965160"/>
                <a:gridCol w="965160"/>
                <a:gridCol w="965160"/>
              </a:tblGrid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76320" y="3581280"/>
          <a:ext cx="8534160" cy="1143000"/>
        </p:xfrm>
        <a:graphic>
          <a:graphicData uri="http://schemas.openxmlformats.org/drawingml/2006/table">
            <a:tbl>
              <a:tblPr/>
              <a:tblGrid>
                <a:gridCol w="1209600"/>
                <a:gridCol w="1046160"/>
                <a:gridCol w="1046160"/>
                <a:gridCol w="1046160"/>
                <a:gridCol w="1046160"/>
                <a:gridCol w="1047600"/>
                <a:gridCol w="1046160"/>
                <a:gridCol w="104616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228600" y="4724280"/>
          <a:ext cx="6095880" cy="1067040"/>
        </p:xfrm>
        <a:graphic>
          <a:graphicData uri="http://schemas.openxmlformats.org/drawingml/2006/table">
            <a:tbl>
              <a:tblPr/>
              <a:tblGrid>
                <a:gridCol w="1200240"/>
                <a:gridCol w="1198440"/>
                <a:gridCol w="1198440"/>
                <a:gridCol w="1198800"/>
                <a:gridCol w="129996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0" y="5943600"/>
          <a:ext cx="8839080" cy="914400"/>
        </p:xfrm>
        <a:graphic>
          <a:graphicData uri="http://schemas.openxmlformats.org/drawingml/2006/table">
            <a:tbl>
              <a:tblPr/>
              <a:tblGrid>
                <a:gridCol w="982800"/>
                <a:gridCol w="983160"/>
                <a:gridCol w="982800"/>
                <a:gridCol w="983160"/>
                <a:gridCol w="983160"/>
                <a:gridCol w="983160"/>
                <a:gridCol w="991800"/>
                <a:gridCol w="974160"/>
                <a:gridCol w="97488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"/>
          <p:cNvSpPr txBox="1"/>
          <p:nvPr/>
        </p:nvSpPr>
        <p:spPr>
          <a:xfrm>
            <a:off x="685800" y="228600"/>
            <a:ext cx="609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905120" y="228600"/>
            <a:ext cx="609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8120" y="228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267080" y="-609480"/>
            <a:ext cx="91440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</a:t>
            </a:r>
            <a:endParaRPr b="0" lang="en-US" sz="18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5638680" y="228600"/>
            <a:ext cx="609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0">
                <a:noFill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85800" y="1371600"/>
            <a:ext cx="609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0">
                <a:noFill/>
              </a:ln>
              <a:blipFill rotWithShape="0">
                <a:blip r:embed="rId1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828800" y="1295280"/>
            <a:ext cx="6094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0">
                <a:noFill/>
              </a:ln>
              <a:blipFill rotWithShape="0">
                <a:blip r:embed="rId1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5562720" y="1295280"/>
            <a:ext cx="685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0">
                <a:noFill/>
              </a:ln>
              <a:blipFill rotWithShape="0">
                <a:blip r:embed="rId2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124080" y="1295280"/>
            <a:ext cx="6098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0">
                <a:noFill/>
              </a:ln>
              <a:blipFill rotWithShape="0">
                <a:blip r:embed="rId2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343400" y="1295280"/>
            <a:ext cx="6094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</a:t>
            </a:r>
            <a:endParaRPr b="0" lang="en-US" sz="1800" spc="1" strike="noStrike">
              <a:ln w="0">
                <a:noFill/>
              </a:ln>
              <a:blipFill rotWithShape="0">
                <a:blip r:embed="rId2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33520" y="2514600"/>
            <a:ext cx="533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</a:t>
            </a:r>
            <a:endParaRPr b="0" lang="en-US" sz="1800" spc="1" strike="noStrike">
              <a:ln w="0">
                <a:noFill/>
              </a:ln>
              <a:blipFill rotWithShape="0">
                <a:blip r:embed="rId2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447920" y="2438280"/>
            <a:ext cx="5331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0">
                <a:noFill/>
              </a:ln>
              <a:blipFill rotWithShape="0">
                <a:blip r:embed="rId2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0" y="2438280"/>
            <a:ext cx="533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0">
                <a:noFill/>
              </a:ln>
              <a:blipFill rotWithShape="0">
                <a:blip r:embed="rId3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276720" y="2438280"/>
            <a:ext cx="609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</a:t>
            </a:r>
            <a:endParaRPr b="0" lang="en-US" sz="1800" spc="1" strike="noStrike">
              <a:ln w="0">
                <a:noFill/>
              </a:ln>
              <a:blipFill rotWithShape="0">
                <a:blip r:embed="rId3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267080" y="2438280"/>
            <a:ext cx="53352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0">
                <a:noFill/>
              </a:ln>
              <a:blipFill rotWithShape="0">
                <a:blip r:embed="rId3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181480" y="2438280"/>
            <a:ext cx="685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</a:t>
            </a:r>
            <a:endParaRPr b="0" lang="en-US" sz="1800" spc="1" strike="noStrike">
              <a:ln w="0">
                <a:noFill/>
              </a:ln>
              <a:blipFill rotWithShape="0">
                <a:blip r:embed="rId3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248520" y="2438280"/>
            <a:ext cx="609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0">
                <a:noFill/>
              </a:ln>
              <a:blipFill rotWithShape="0">
                <a:blip r:embed="rId3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7162920" y="2438280"/>
            <a:ext cx="60948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0">
                <a:noFill/>
              </a:ln>
              <a:blipFill rotWithShape="0">
                <a:blip r:embed="rId4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8001000" y="2438280"/>
            <a:ext cx="685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</a:t>
            </a:r>
            <a:endParaRPr b="0" lang="en-US" sz="1800" spc="1" strike="noStrike">
              <a:ln w="0">
                <a:noFill/>
              </a:ln>
              <a:blipFill rotWithShape="0">
                <a:blip r:embed="rId4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3809880"/>
            <a:ext cx="609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0">
                <a:noFill/>
              </a:ln>
              <a:blipFill rotWithShape="0">
                <a:blip r:embed="rId4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600200" y="3733920"/>
            <a:ext cx="685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0">
                <a:noFill/>
              </a:ln>
              <a:blipFill rotWithShape="0">
                <a:blip r:embed="rId4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2666880" y="3733920"/>
            <a:ext cx="6098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0">
                <a:noFill/>
              </a:ln>
              <a:blipFill rotWithShape="0">
                <a:blip r:embed="rId4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895480" y="4800600"/>
            <a:ext cx="685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0">
                <a:noFill/>
              </a:ln>
              <a:blipFill rotWithShape="0">
                <a:blip r:embed="rId5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657600" y="3733920"/>
            <a:ext cx="685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</a:t>
            </a:r>
            <a:endParaRPr b="0" lang="en-US" sz="1800" spc="1" strike="noStrike">
              <a:ln w="0">
                <a:noFill/>
              </a:ln>
              <a:blipFill rotWithShape="0">
                <a:blip r:embed="rId5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724280" y="3733920"/>
            <a:ext cx="6098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</a:t>
            </a:r>
            <a:endParaRPr b="0" lang="en-US" sz="1800" spc="1" strike="noStrike">
              <a:ln w="0">
                <a:noFill/>
              </a:ln>
              <a:blipFill rotWithShape="0">
                <a:blip r:embed="rId5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791320" y="3733920"/>
            <a:ext cx="5428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ь</a:t>
            </a:r>
            <a:endParaRPr b="0" lang="en-US" sz="1800" spc="1" strike="noStrike">
              <a:ln w="0">
                <a:noFill/>
              </a:ln>
              <a:blipFill rotWithShape="0">
                <a:blip r:embed="rId5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0" y="3733920"/>
            <a:ext cx="6858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</a:t>
            </a:r>
            <a:endParaRPr b="0" lang="en-US" sz="1800" spc="1" strike="noStrike">
              <a:ln w="0">
                <a:noFill/>
              </a:ln>
              <a:blipFill rotWithShape="0">
                <a:blip r:embed="rId5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7924680" y="3733920"/>
            <a:ext cx="5335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0">
                <a:noFill/>
              </a:ln>
              <a:blipFill rotWithShape="0">
                <a:blip r:embed="rId6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4800600"/>
            <a:ext cx="762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0">
                <a:noFill/>
              </a:ln>
              <a:blipFill rotWithShape="0">
                <a:blip r:embed="rId6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752480" y="480060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0">
                <a:noFill/>
              </a:ln>
              <a:blipFill rotWithShape="0">
                <a:blip r:embed="rId6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114800" y="4876920"/>
            <a:ext cx="685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</a:t>
            </a:r>
            <a:endParaRPr b="0" lang="en-US" sz="1800" spc="1" strike="noStrike">
              <a:ln w="0">
                <a:noFill/>
              </a:ln>
              <a:blipFill rotWithShape="0">
                <a:blip r:embed="rId6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257800" y="4876920"/>
            <a:ext cx="8380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0">
                <a:noFill/>
              </a:ln>
              <a:blipFill rotWithShape="0">
                <a:blip r:embed="rId6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52280" y="6019920"/>
            <a:ext cx="685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</a:t>
            </a:r>
            <a:endParaRPr b="0" lang="en-US" sz="1800" spc="1" strike="noStrike">
              <a:ln w="0">
                <a:noFill/>
              </a:ln>
              <a:blipFill rotWithShape="0">
                <a:blip r:embed="rId7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066680" y="6019920"/>
            <a:ext cx="8384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0">
                <a:noFill/>
              </a:ln>
              <a:blipFill rotWithShape="0">
                <a:blip r:embed="rId7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2057400" y="6019920"/>
            <a:ext cx="762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</a:t>
            </a:r>
            <a:endParaRPr b="0" lang="en-US" sz="1800" spc="1" strike="noStrike">
              <a:ln w="0">
                <a:noFill/>
              </a:ln>
              <a:blipFill rotWithShape="0">
                <a:blip r:embed="rId7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8120" y="6019920"/>
            <a:ext cx="838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0">
                <a:noFill/>
              </a:ln>
              <a:blipFill rotWithShape="0">
                <a:blip r:embed="rId7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114800" y="6019920"/>
            <a:ext cx="762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</a:t>
            </a:r>
            <a:endParaRPr b="0" lang="en-US" sz="1800" spc="1" strike="noStrike">
              <a:ln w="0">
                <a:noFill/>
              </a:ln>
              <a:blipFill rotWithShape="0">
                <a:blip r:embed="rId7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029200" y="6019920"/>
            <a:ext cx="762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0">
                <a:noFill/>
              </a:ln>
              <a:blipFill rotWithShape="0">
                <a:blip r:embed="rId8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172200" y="6019920"/>
            <a:ext cx="609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</a:t>
            </a:r>
            <a:endParaRPr b="0" lang="en-US" sz="1800" spc="1" strike="noStrike">
              <a:ln w="0">
                <a:noFill/>
              </a:ln>
              <a:blipFill rotWithShape="0">
                <a:blip r:embed="rId8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086600" y="6019920"/>
            <a:ext cx="609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</a:t>
            </a:r>
            <a:endParaRPr b="0" lang="en-US" sz="1800" spc="1" strike="noStrike">
              <a:ln w="0">
                <a:noFill/>
              </a:ln>
              <a:blipFill rotWithShape="0">
                <a:blip r:embed="rId8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8077320" y="6019920"/>
            <a:ext cx="609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0">
                <a:noFill/>
              </a:ln>
              <a:blipFill rotWithShape="0">
                <a:blip r:embed="rId8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8" name=""/>
          <p:cNvSpPr/>
          <p:nvPr/>
        </p:nvSpPr>
        <p:spPr>
          <a:xfrm>
            <a:off x="8244000" y="5300640"/>
            <a:ext cx="541080" cy="393840"/>
          </a:xfrm>
          <a:custGeom>
            <a:avLst/>
            <a:gdLst>
              <a:gd name="textAreaLeft" fmla="*/ 25200 w 541080"/>
              <a:gd name="textAreaRight" fmla="*/ 515880 w 54108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29668" h="21600">
                <a:moveTo>
                  <a:pt x="0" y="0"/>
                </a:moveTo>
                <a:lnTo>
                  <a:pt x="29668" y="0"/>
                </a:lnTo>
                <a:lnTo>
                  <a:pt x="29668" y="21600"/>
                </a:lnTo>
                <a:lnTo>
                  <a:pt x="0" y="21600"/>
                </a:lnTo>
                <a:close/>
              </a:path>
              <a:path fill="lightenLess" w="29668" h="21600">
                <a:moveTo>
                  <a:pt x="0" y="0"/>
                </a:moveTo>
                <a:lnTo>
                  <a:pt x="29668" y="0"/>
                </a:lnTo>
                <a:lnTo>
                  <a:pt x="28268" y="1400"/>
                </a:lnTo>
                <a:lnTo>
                  <a:pt x="1400" y="1400"/>
                </a:lnTo>
                <a:close/>
              </a:path>
              <a:path fill="darken" w="29668" h="21600">
                <a:moveTo>
                  <a:pt x="29668" y="0"/>
                </a:moveTo>
                <a:lnTo>
                  <a:pt x="29668" y="21600"/>
                </a:lnTo>
                <a:lnTo>
                  <a:pt x="28268" y="20200"/>
                </a:lnTo>
                <a:lnTo>
                  <a:pt x="28268" y="1400"/>
                </a:lnTo>
                <a:close/>
              </a:path>
              <a:path fill="darkenLess" w="29668" h="21600">
                <a:moveTo>
                  <a:pt x="296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68" y="20200"/>
                </a:lnTo>
                <a:close/>
              </a:path>
              <a:path fill="lighten" w="296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68" h="21600">
                <a:moveTo>
                  <a:pt x="7827" y="3794"/>
                </a:moveTo>
                <a:lnTo>
                  <a:pt x="21840" y="10800"/>
                </a:lnTo>
                <a:lnTo>
                  <a:pt x="7827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2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500"/>
                            </p:stCondLst>
                            <p:childTnLst>
                              <p:par>
                                <p:cTn id="27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000"/>
                            </p:stCondLst>
                            <p:childTnLst>
                              <p:par>
                                <p:cTn id="28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500"/>
                            </p:stCondLst>
                            <p:childTnLst>
                              <p:par>
                                <p:cTn id="28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4000"/>
                            </p:stCondLst>
                            <p:childTnLst>
                              <p:par>
                                <p:cTn id="29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000"/>
                            </p:stCondLst>
                            <p:childTnLst>
                              <p:par>
                                <p:cTn id="31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2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6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4000"/>
                            </p:stCondLst>
                            <p:childTnLst>
                              <p:par>
                                <p:cTn id="34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0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6000"/>
                            </p:stCondLst>
                            <p:childTnLst>
                              <p:par>
                                <p:cTn id="35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4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8000"/>
                            </p:stCondLst>
                            <p:childTnLst>
                              <p:par>
                                <p:cTn id="35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8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2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835280" y="2781360"/>
            <a:ext cx="961920" cy="9144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132000" y="2205000"/>
            <a:ext cx="962280" cy="9144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500720" y="1989000"/>
            <a:ext cx="961920" cy="9144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084720" y="2060640"/>
            <a:ext cx="962280" cy="9144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524720" y="2637000"/>
            <a:ext cx="961920" cy="9144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2556000" y="260280"/>
            <a:ext cx="4662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вёздный  час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5" name="">
            <a:hlinkClick r:id="rId2" action="ppaction://hlinksldjump"/>
          </p:cNvPr>
          <p:cNvSpPr/>
          <p:nvPr/>
        </p:nvSpPr>
        <p:spPr>
          <a:xfrm>
            <a:off x="7451640" y="6381720"/>
            <a:ext cx="250920" cy="28728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287280"/>
              <a:gd name="textAreaBottom" fmla="*/ 271080 h 287280"/>
            </a:gdLst>
            <a:ahLst/>
            <a:rect l="textAreaLeft" t="textAreaTop" r="textAreaRight" b="textAreaBottom"/>
            <a:pathLst>
              <a:path w="21600" h="24726">
                <a:moveTo>
                  <a:pt x="0" y="0"/>
                </a:moveTo>
                <a:lnTo>
                  <a:pt x="21600" y="0"/>
                </a:lnTo>
                <a:lnTo>
                  <a:pt x="21600" y="24726"/>
                </a:lnTo>
                <a:lnTo>
                  <a:pt x="0" y="24726"/>
                </a:lnTo>
                <a:close/>
              </a:path>
              <a:path fill="lightenLess" w="21600" h="247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26">
                <a:moveTo>
                  <a:pt x="21600" y="0"/>
                </a:moveTo>
                <a:lnTo>
                  <a:pt x="21600" y="24726"/>
                </a:lnTo>
                <a:lnTo>
                  <a:pt x="20200" y="23326"/>
                </a:lnTo>
                <a:lnTo>
                  <a:pt x="20200" y="1400"/>
                </a:lnTo>
                <a:close/>
              </a:path>
              <a:path fill="darkenLess" w="21600" h="24726">
                <a:moveTo>
                  <a:pt x="21600" y="24726"/>
                </a:moveTo>
                <a:lnTo>
                  <a:pt x="0" y="24726"/>
                </a:lnTo>
                <a:lnTo>
                  <a:pt x="1400" y="23326"/>
                </a:lnTo>
                <a:lnTo>
                  <a:pt x="20200" y="23326"/>
                </a:lnTo>
                <a:close/>
              </a:path>
              <a:path fill="lighten" w="21600" h="24726">
                <a:moveTo>
                  <a:pt x="0" y="247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26"/>
                </a:lnTo>
                <a:close/>
              </a:path>
              <a:path fill="darken" w="21600" h="24726">
                <a:moveTo>
                  <a:pt x="3794" y="5356"/>
                </a:moveTo>
                <a:lnTo>
                  <a:pt x="17806" y="12363"/>
                </a:lnTo>
                <a:lnTo>
                  <a:pt x="3794" y="1936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020000" y="6381720"/>
            <a:ext cx="322200" cy="260280"/>
          </a:xfrm>
          <a:custGeom>
            <a:avLst/>
            <a:gdLst>
              <a:gd name="textAreaLeft" fmla="*/ 16560 w 322200"/>
              <a:gd name="textAreaRight" fmla="*/ 305640 w 32220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26731" h="21600">
                <a:moveTo>
                  <a:pt x="0" y="0"/>
                </a:moveTo>
                <a:lnTo>
                  <a:pt x="26731" y="0"/>
                </a:lnTo>
                <a:lnTo>
                  <a:pt x="26731" y="21600"/>
                </a:lnTo>
                <a:lnTo>
                  <a:pt x="0" y="21600"/>
                </a:lnTo>
                <a:close/>
              </a:path>
              <a:path fill="lightenLess" w="26731" h="21600">
                <a:moveTo>
                  <a:pt x="0" y="0"/>
                </a:moveTo>
                <a:lnTo>
                  <a:pt x="26731" y="0"/>
                </a:lnTo>
                <a:lnTo>
                  <a:pt x="25331" y="1400"/>
                </a:lnTo>
                <a:lnTo>
                  <a:pt x="1400" y="1400"/>
                </a:lnTo>
                <a:close/>
              </a:path>
              <a:path fill="darken" w="26731" h="21600">
                <a:moveTo>
                  <a:pt x="26731" y="0"/>
                </a:moveTo>
                <a:lnTo>
                  <a:pt x="26731" y="21600"/>
                </a:lnTo>
                <a:lnTo>
                  <a:pt x="25331" y="20200"/>
                </a:lnTo>
                <a:lnTo>
                  <a:pt x="25331" y="1400"/>
                </a:lnTo>
                <a:close/>
              </a:path>
              <a:path fill="darkenLess" w="26731" h="21600">
                <a:moveTo>
                  <a:pt x="26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31" y="20200"/>
                </a:lnTo>
                <a:close/>
              </a:path>
              <a:path fill="lighten" w="26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731" h="21600">
                <a:moveTo>
                  <a:pt x="6359" y="10800"/>
                </a:moveTo>
                <a:lnTo>
                  <a:pt x="20372" y="3794"/>
                </a:lnTo>
                <a:lnTo>
                  <a:pt x="20372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516720" y="6381720"/>
            <a:ext cx="360360" cy="260280"/>
          </a:xfrm>
          <a:custGeom>
            <a:avLst/>
            <a:gdLst>
              <a:gd name="textAreaLeft" fmla="*/ 16560 w 360360"/>
              <a:gd name="textAreaRight" fmla="*/ 343800 w 36036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29894" h="21600">
                <a:moveTo>
                  <a:pt x="0" y="0"/>
                </a:moveTo>
                <a:lnTo>
                  <a:pt x="29894" y="0"/>
                </a:lnTo>
                <a:lnTo>
                  <a:pt x="29894" y="21600"/>
                </a:lnTo>
                <a:lnTo>
                  <a:pt x="0" y="21600"/>
                </a:lnTo>
                <a:close/>
              </a:path>
              <a:path fill="lightenLess" w="29894" h="21600">
                <a:moveTo>
                  <a:pt x="0" y="0"/>
                </a:moveTo>
                <a:lnTo>
                  <a:pt x="29894" y="0"/>
                </a:lnTo>
                <a:lnTo>
                  <a:pt x="28494" y="1400"/>
                </a:lnTo>
                <a:lnTo>
                  <a:pt x="1400" y="1400"/>
                </a:lnTo>
                <a:close/>
              </a:path>
              <a:path fill="darken" w="29894" h="21600">
                <a:moveTo>
                  <a:pt x="29894" y="0"/>
                </a:moveTo>
                <a:lnTo>
                  <a:pt x="29894" y="21600"/>
                </a:lnTo>
                <a:lnTo>
                  <a:pt x="28494" y="20200"/>
                </a:lnTo>
                <a:lnTo>
                  <a:pt x="28494" y="1400"/>
                </a:lnTo>
                <a:close/>
              </a:path>
              <a:path fill="darkenLess" w="29894" h="21600">
                <a:moveTo>
                  <a:pt x="298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494" y="20200"/>
                </a:lnTo>
                <a:close/>
              </a:path>
              <a:path fill="lighten" w="298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894" h="21600">
                <a:moveTo>
                  <a:pt x="7940" y="10800"/>
                </a:moveTo>
                <a:lnTo>
                  <a:pt x="21953" y="3794"/>
                </a:lnTo>
                <a:lnTo>
                  <a:pt x="21953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94036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10800"/>
                </a:moveTo>
                <a:lnTo>
                  <a:pt x="21862" y="3794"/>
                </a:lnTo>
                <a:lnTo>
                  <a:pt x="21862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302160" y="227664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866000" y="2771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472920" y="2411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435640" y="6381720"/>
            <a:ext cx="395280" cy="324000"/>
          </a:xfrm>
          <a:custGeom>
            <a:avLst/>
            <a:gdLst>
              <a:gd name="textAreaLeft" fmla="*/ 20880 w 395280"/>
              <a:gd name="textAreaRight" fmla="*/ 374400 w 39528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6347" h="21600">
                <a:moveTo>
                  <a:pt x="0" y="0"/>
                </a:moveTo>
                <a:lnTo>
                  <a:pt x="26347" y="0"/>
                </a:lnTo>
                <a:lnTo>
                  <a:pt x="26347" y="21600"/>
                </a:lnTo>
                <a:lnTo>
                  <a:pt x="0" y="21600"/>
                </a:lnTo>
                <a:close/>
              </a:path>
              <a:path fill="lightenLess" w="26347" h="21600">
                <a:moveTo>
                  <a:pt x="0" y="0"/>
                </a:moveTo>
                <a:lnTo>
                  <a:pt x="26347" y="0"/>
                </a:lnTo>
                <a:lnTo>
                  <a:pt x="24947" y="1400"/>
                </a:lnTo>
                <a:lnTo>
                  <a:pt x="1400" y="1400"/>
                </a:lnTo>
                <a:close/>
              </a:path>
              <a:path fill="darken" w="26347" h="21600">
                <a:moveTo>
                  <a:pt x="26347" y="0"/>
                </a:moveTo>
                <a:lnTo>
                  <a:pt x="26347" y="21600"/>
                </a:lnTo>
                <a:lnTo>
                  <a:pt x="24947" y="20200"/>
                </a:lnTo>
                <a:lnTo>
                  <a:pt x="24947" y="1400"/>
                </a:lnTo>
                <a:close/>
              </a:path>
              <a:path fill="darkenLess" w="26347" h="21600">
                <a:moveTo>
                  <a:pt x="263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47" y="20200"/>
                </a:lnTo>
                <a:close/>
              </a:path>
              <a:path fill="lighten" w="263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47" h="21600">
                <a:moveTo>
                  <a:pt x="6167" y="10800"/>
                </a:moveTo>
                <a:lnTo>
                  <a:pt x="20180" y="3794"/>
                </a:lnTo>
                <a:lnTo>
                  <a:pt x="20180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812000" y="6381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021800" y="623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86800" cy="655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3419640" y="2349360"/>
            <a:ext cx="5524200" cy="41436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53964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100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Рисунок 4" descr="LearningFlowers_30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6" descr="531333-b6b9ecd98c6e56ca.gif"/>
          <p:cNvPicPr/>
          <p:nvPr/>
        </p:nvPicPr>
        <p:blipFill>
          <a:blip r:embed="rId2"/>
          <a:stretch/>
        </p:blipFill>
        <p:spPr>
          <a:xfrm>
            <a:off x="2484360" y="981000"/>
            <a:ext cx="3333960" cy="33339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6443640" y="6165720"/>
            <a:ext cx="755640" cy="538200"/>
          </a:xfrm>
          <a:custGeom>
            <a:avLst/>
            <a:gdLst>
              <a:gd name="textAreaLeft" fmla="*/ 34560 w 755640"/>
              <a:gd name="textAreaRight" fmla="*/ 721080 w 755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30321" h="21600">
                <a:moveTo>
                  <a:pt x="0" y="0"/>
                </a:moveTo>
                <a:lnTo>
                  <a:pt x="30321" y="0"/>
                </a:lnTo>
                <a:lnTo>
                  <a:pt x="30321" y="21600"/>
                </a:lnTo>
                <a:lnTo>
                  <a:pt x="0" y="21600"/>
                </a:lnTo>
                <a:close/>
              </a:path>
              <a:path fill="lightenLess" w="30321" h="21600">
                <a:moveTo>
                  <a:pt x="0" y="0"/>
                </a:moveTo>
                <a:lnTo>
                  <a:pt x="30321" y="0"/>
                </a:lnTo>
                <a:lnTo>
                  <a:pt x="28921" y="1400"/>
                </a:lnTo>
                <a:lnTo>
                  <a:pt x="1400" y="1400"/>
                </a:lnTo>
                <a:close/>
              </a:path>
              <a:path fill="darken" w="30321" h="21600">
                <a:moveTo>
                  <a:pt x="30321" y="0"/>
                </a:moveTo>
                <a:lnTo>
                  <a:pt x="30321" y="21600"/>
                </a:lnTo>
                <a:lnTo>
                  <a:pt x="28921" y="20200"/>
                </a:lnTo>
                <a:lnTo>
                  <a:pt x="28921" y="1400"/>
                </a:lnTo>
                <a:close/>
              </a:path>
              <a:path fill="darkenLess" w="30321" h="21600">
                <a:moveTo>
                  <a:pt x="303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21" y="20200"/>
                </a:lnTo>
                <a:close/>
              </a:path>
              <a:path fill="lighten" w="303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21" h="21600">
                <a:moveTo>
                  <a:pt x="18659" y="10800"/>
                </a:moveTo>
                <a:lnTo>
                  <a:pt x="8154" y="17806"/>
                </a:lnTo>
                <a:lnTo>
                  <a:pt x="8154" y="3794"/>
                </a:lnTo>
                <a:close/>
              </a:path>
              <a:path fill="darken" w="30321" h="21600">
                <a:moveTo>
                  <a:pt x="20505" y="3794"/>
                </a:moveTo>
                <a:lnTo>
                  <a:pt x="20505" y="17806"/>
                </a:lnTo>
                <a:lnTo>
                  <a:pt x="22167" y="17806"/>
                </a:lnTo>
                <a:lnTo>
                  <a:pt x="22167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395280" y="544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31405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924360" y="189000"/>
            <a:ext cx="39592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азминк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" name=""/>
          <p:cNvSpPr/>
          <p:nvPr/>
        </p:nvSpPr>
        <p:spPr>
          <a:xfrm>
            <a:off x="2847960" y="1341360"/>
            <a:ext cx="597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Доскажите  имя   геро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76720" y="2060640"/>
            <a:ext cx="83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к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67280" y="2565360"/>
            <a:ext cx="241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домовё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022160" y="3068640"/>
            <a:ext cx="112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па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527600" y="4292640"/>
            <a:ext cx="9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д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58920" y="4365720"/>
            <a:ext cx="15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стар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65080" y="4869000"/>
            <a:ext cx="113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ба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03640" y="3284640"/>
            <a:ext cx="117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дяд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717080" y="3716280"/>
            <a:ext cx="23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почталь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5661000"/>
            <a:ext cx="158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док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rId2" action="ppaction://hlinksldjump"/>
          </p:cNvPr>
          <p:cNvSpPr/>
          <p:nvPr/>
        </p:nvSpPr>
        <p:spPr>
          <a:xfrm>
            <a:off x="8317080" y="6237360"/>
            <a:ext cx="610920" cy="466560"/>
          </a:xfrm>
          <a:custGeom>
            <a:avLst/>
            <a:gdLst>
              <a:gd name="textAreaLeft" fmla="*/ 30240 w 610920"/>
              <a:gd name="textAreaRight" fmla="*/ 580680 w 610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28278" h="21600">
                <a:moveTo>
                  <a:pt x="0" y="0"/>
                </a:moveTo>
                <a:lnTo>
                  <a:pt x="28278" y="0"/>
                </a:lnTo>
                <a:lnTo>
                  <a:pt x="28278" y="21600"/>
                </a:lnTo>
                <a:lnTo>
                  <a:pt x="0" y="21600"/>
                </a:lnTo>
                <a:close/>
              </a:path>
              <a:path fill="lightenLess" w="28278" h="21600">
                <a:moveTo>
                  <a:pt x="0" y="0"/>
                </a:moveTo>
                <a:lnTo>
                  <a:pt x="28278" y="0"/>
                </a:lnTo>
                <a:lnTo>
                  <a:pt x="26878" y="1400"/>
                </a:lnTo>
                <a:lnTo>
                  <a:pt x="1400" y="1400"/>
                </a:lnTo>
                <a:close/>
              </a:path>
              <a:path fill="darken" w="28278" h="21600">
                <a:moveTo>
                  <a:pt x="28278" y="0"/>
                </a:moveTo>
                <a:lnTo>
                  <a:pt x="28278" y="21600"/>
                </a:lnTo>
                <a:lnTo>
                  <a:pt x="26878" y="20200"/>
                </a:lnTo>
                <a:lnTo>
                  <a:pt x="26878" y="1400"/>
                </a:lnTo>
                <a:close/>
              </a:path>
              <a:path fill="darkenLess" w="28278" h="21600">
                <a:moveTo>
                  <a:pt x="28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78" y="20200"/>
                </a:lnTo>
                <a:close/>
              </a:path>
              <a:path fill="lighten" w="28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78" h="21600">
                <a:moveTo>
                  <a:pt x="7133" y="3794"/>
                </a:moveTo>
                <a:lnTo>
                  <a:pt x="21146" y="10800"/>
                </a:lnTo>
                <a:lnTo>
                  <a:pt x="7133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1835280" y="189000"/>
            <a:ext cx="5832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усский  язык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4" name=""/>
          <p:cNvSpPr/>
          <p:nvPr/>
        </p:nvSpPr>
        <p:spPr>
          <a:xfrm>
            <a:off x="828360" y="1773360"/>
            <a:ext cx="561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Сколько букв в русском алфави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16000" y="2492280"/>
            <a:ext cx="645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Чем кончается лето и начинается осен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08000" y="3213000"/>
            <a:ext cx="592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Чего нет ни в дыне, ни в тыкве, но есть в арбузе, помидоре, огурц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38560" y="4365720"/>
            <a:ext cx="46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Чем кончаются день и ноч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73800" y="5013360"/>
            <a:ext cx="53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Предпоследняя буква алфави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434000" y="16192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081640" y="234000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081640" y="320364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937280" y="4140360"/>
            <a:ext cx="4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102880" y="4941720"/>
            <a:ext cx="5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5ff"/>
            </a:gs>
            <a:gs pos="100000">
              <a:srgbClr val="b8ffb8">
                <a:alpha val="56078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1258920" y="549360"/>
            <a:ext cx="590544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bf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УЧЁБА</a:t>
            </a:r>
            <a:endParaRPr b="0" lang="en-US" sz="1800" spc="1" strike="noStrike">
              <a:ln w="38160">
                <a:solidFill>
                  <a:srgbClr val="0000bf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26920" y="5950080"/>
            <a:ext cx="576360" cy="539640"/>
          </a:xfrm>
          <a:custGeom>
            <a:avLst/>
            <a:gdLst>
              <a:gd name="textAreaLeft" fmla="*/ 34920 w 576360"/>
              <a:gd name="textAreaRight" fmla="*/ 541440 w 57636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3069" h="21600">
                <a:moveTo>
                  <a:pt x="0" y="0"/>
                </a:moveTo>
                <a:lnTo>
                  <a:pt x="23069" y="0"/>
                </a:lnTo>
                <a:lnTo>
                  <a:pt x="23069" y="21600"/>
                </a:lnTo>
                <a:lnTo>
                  <a:pt x="0" y="21600"/>
                </a:lnTo>
                <a:close/>
              </a:path>
              <a:path fill="lightenLess" w="23069" h="21600">
                <a:moveTo>
                  <a:pt x="0" y="0"/>
                </a:moveTo>
                <a:lnTo>
                  <a:pt x="23069" y="0"/>
                </a:lnTo>
                <a:lnTo>
                  <a:pt x="21669" y="1400"/>
                </a:lnTo>
                <a:lnTo>
                  <a:pt x="1400" y="1400"/>
                </a:lnTo>
                <a:close/>
              </a:path>
              <a:path fill="darken" w="23069" h="21600">
                <a:moveTo>
                  <a:pt x="23069" y="0"/>
                </a:moveTo>
                <a:lnTo>
                  <a:pt x="23069" y="21600"/>
                </a:lnTo>
                <a:lnTo>
                  <a:pt x="21669" y="20200"/>
                </a:lnTo>
                <a:lnTo>
                  <a:pt x="21669" y="1400"/>
                </a:lnTo>
                <a:close/>
              </a:path>
              <a:path fill="darkenLess" w="23069" h="21600">
                <a:moveTo>
                  <a:pt x="230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69" y="20200"/>
                </a:lnTo>
                <a:close/>
              </a:path>
              <a:path fill="lighten" w="230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69" h="21600">
                <a:moveTo>
                  <a:pt x="15033" y="10800"/>
                </a:moveTo>
                <a:lnTo>
                  <a:pt x="4528" y="17806"/>
                </a:lnTo>
                <a:lnTo>
                  <a:pt x="4528" y="3794"/>
                </a:lnTo>
                <a:close/>
              </a:path>
              <a:path fill="darken" w="23069" h="21600">
                <a:moveTo>
                  <a:pt x="16878" y="3794"/>
                </a:moveTo>
                <a:lnTo>
                  <a:pt x="16878" y="17806"/>
                </a:lnTo>
                <a:lnTo>
                  <a:pt x="18541" y="17806"/>
                </a:lnTo>
                <a:lnTo>
                  <a:pt x="18541" y="3794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2771640" y="1125360"/>
          <a:ext cx="6096240" cy="5666040"/>
        </p:xfrm>
        <a:graphic>
          <a:graphicData uri="http://schemas.openxmlformats.org/drawingml/2006/table">
            <a:tbl>
              <a:tblPr/>
              <a:tblGrid>
                <a:gridCol w="2881440"/>
                <a:gridCol w="1655640"/>
                <a:gridCol w="1559160"/>
              </a:tblGrid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6 *  6 = 36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3 * 5 = 16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4 * 7 = 28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9 *5 = 45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7 * 2 = 16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3 * 3 = 9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6 * 8 = 49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5 * 5 = 25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"/>
          <p:cNvSpPr/>
          <p:nvPr/>
        </p:nvSpPr>
        <p:spPr>
          <a:xfrm>
            <a:off x="6229080" y="17002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03240" y="227664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302160" y="292428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281640" y="3564000"/>
            <a:ext cx="4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227640" y="414972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02520" y="486900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281640" y="5508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373440" y="60930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813440" y="1700280"/>
            <a:ext cx="4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813080" y="2349360"/>
            <a:ext cx="38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41080" y="2924280"/>
            <a:ext cx="4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813800" y="3573360"/>
            <a:ext cx="5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813800" y="4221000"/>
            <a:ext cx="41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813440" y="49417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813440" y="551664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813440" y="609300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63640" y="0"/>
            <a:ext cx="3589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МАТЕМА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98612E-006 L -0.26771 -0.22017 E">
                                      <p:cBhvr>
                                        <p:cTn id="131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61 0.0104 L -0.39097 -0.31499 E">
                                      <p:cBhvr>
                                        <p:cTn id="135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89362E-006 L -0.18125 -0.39871 E">
                                      <p:cBhvr>
                                        <p:cTn id="139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8 4.15356E-006 L -0.1316 -0.49191 E">
                                      <p:cBhvr>
                                        <p:cTn id="143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8 -5.2729E-007 L -0.25122 -0.58765 E">
                                      <p:cBhvr>
                                        <p:cTn id="147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64 2.39593E-006 L -0.03924 -0.68201 E">
                                      <p:cBhvr>
                                        <p:cTn id="151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4.68085E-006 L -0.15746 -0.77636 E">
                                      <p:cBhvr>
                                        <p:cTn id="155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4.7271E-006 L 0.06302 -0.86031 E">
                                      <p:cBhvr>
                                        <p:cTn id="159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1476360" y="14130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167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0" dur="1" fill="hold"/>
                                        <p:tgtEl>
                                          <p:spTgt spid="1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5ff"/>
            </a:gs>
            <a:gs pos="100000">
              <a:srgbClr val="b8ffb8">
                <a:alpha val="56078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24000" y="1699560"/>
            <a:ext cx="8820000" cy="7034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99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«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ИКРЁТЯП АН ЯСЬТИЧУ УЧОХ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092960" y="3708360"/>
            <a:ext cx="53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bf"/>
                </a:solidFill>
                <a:latin typeface="Arial"/>
              </a:rPr>
              <a:t>Хочу учиться на  пятёр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9640" y="6021360"/>
            <a:ext cx="647640" cy="466920"/>
          </a:xfrm>
          <a:custGeom>
            <a:avLst/>
            <a:gdLst>
              <a:gd name="textAreaLeft" fmla="*/ 30240 w 647640"/>
              <a:gd name="textAreaRight" fmla="*/ 617400 w 64764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29954" h="21600">
                <a:moveTo>
                  <a:pt x="0" y="0"/>
                </a:moveTo>
                <a:lnTo>
                  <a:pt x="29954" y="0"/>
                </a:lnTo>
                <a:lnTo>
                  <a:pt x="29954" y="21600"/>
                </a:lnTo>
                <a:lnTo>
                  <a:pt x="0" y="21600"/>
                </a:lnTo>
                <a:close/>
              </a:path>
              <a:path fill="lightenLess" w="29954" h="21600">
                <a:moveTo>
                  <a:pt x="0" y="0"/>
                </a:moveTo>
                <a:lnTo>
                  <a:pt x="29954" y="0"/>
                </a:lnTo>
                <a:lnTo>
                  <a:pt x="28554" y="1400"/>
                </a:lnTo>
                <a:lnTo>
                  <a:pt x="1400" y="1400"/>
                </a:lnTo>
                <a:close/>
              </a:path>
              <a:path fill="darken" w="29954" h="21600">
                <a:moveTo>
                  <a:pt x="29954" y="0"/>
                </a:moveTo>
                <a:lnTo>
                  <a:pt x="29954" y="21600"/>
                </a:lnTo>
                <a:lnTo>
                  <a:pt x="28554" y="20200"/>
                </a:lnTo>
                <a:lnTo>
                  <a:pt x="28554" y="1400"/>
                </a:lnTo>
                <a:close/>
              </a:path>
              <a:path fill="darkenLess" w="29954" h="21600">
                <a:moveTo>
                  <a:pt x="299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554" y="20200"/>
                </a:lnTo>
                <a:close/>
              </a:path>
              <a:path fill="lighten" w="299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954" h="21600">
                <a:moveTo>
                  <a:pt x="18476" y="10800"/>
                </a:moveTo>
                <a:lnTo>
                  <a:pt x="7970" y="17806"/>
                </a:lnTo>
                <a:lnTo>
                  <a:pt x="7970" y="3794"/>
                </a:lnTo>
                <a:close/>
              </a:path>
              <a:path fill="darken" w="29954" h="21600">
                <a:moveTo>
                  <a:pt x="20321" y="3794"/>
                </a:moveTo>
                <a:lnTo>
                  <a:pt x="20321" y="17806"/>
                </a:lnTo>
                <a:lnTo>
                  <a:pt x="21983" y="17806"/>
                </a:lnTo>
                <a:lnTo>
                  <a:pt x="21983" y="3794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5T16:21:09Z</dcterms:created>
  <dc:creator>Марина</dc:creator>
  <dc:description/>
  <dc:language>en-US</dc:language>
  <cp:lastModifiedBy>Марина</cp:lastModifiedBy>
  <dcterms:modified xsi:type="dcterms:W3CDTF">2014-08-28T17:19:17Z</dcterms:modified>
  <cp:revision>7</cp:revision>
  <dc:subject/>
  <dc:title>Слайд 1</dc:title>
</cp:coreProperties>
</file>