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40.png" ContentType="image/png"/>
  <Override PartName="/ppt/media/image10.jpeg" ContentType="image/jpeg"/>
  <Override PartName="/ppt/media/image38.png" ContentType="image/png"/>
  <Override PartName="/ppt/media/image8.jpeg" ContentType="image/jpeg"/>
  <Override PartName="/ppt/media/image30.png" ContentType="image/png"/>
  <Override PartName="/ppt/media/image11.gif" ContentType="image/gif"/>
  <Override PartName="/ppt/media/image44.wmf" ContentType="image/x-wmf"/>
  <Override PartName="/ppt/media/image36.png" ContentType="image/png"/>
  <Override PartName="/ppt/media/image37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5.png" ContentType="image/png"/>
  <Override PartName="/ppt/media/image35.png" ContentType="image/png"/>
  <Override PartName="/ppt/media/image39.png" ContentType="image/png"/>
  <Override PartName="/ppt/media/image9.png" ContentType="image/png"/>
  <Override PartName="/ppt/media/image28.png" ContentType="image/png"/>
  <Override PartName="/ppt/media/image7.jpeg" ContentType="image/jpeg"/>
  <Override PartName="/ppt/media/image12.png" ContentType="image/png"/>
  <Override PartName="/ppt/media/image20.jpeg" ContentType="image/jpeg"/>
  <Override PartName="/ppt/media/image6.wmf" ContentType="image/x-wmf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1CB1-FC63-4880-B1C8-A00C7C0C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A5AE-BF8F-4B28-8AB0-071D12D5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DC4E-5AB1-482E-AF10-C1A485706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340C-1830-424F-8996-F672EBC06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EF0E-79BF-4A44-84AD-9775DB760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65E9-AE80-48DD-920B-CB7D7146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7844-8D51-48B5-B711-9CA4A527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601C-76D0-40AC-A5BA-EC63C3F9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837F-A217-4096-9B8A-01D3A269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A448-BD74-4719-97B3-A3A1C5C5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FD3D-59E0-4E0C-B78A-652F71DD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ECF1-A53F-4822-8C0F-6ADAF108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149F-02A5-4E9B-A19F-709CF9C4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5D20-50DD-4933-97C5-68E4D384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73AE-AC66-4A1C-A6FC-4DEBB7EC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31C0-D69C-4412-B6A2-923CD9CF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66C5-103E-4CB9-9ADD-40DA9FCBA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3A7D0-3B19-494E-9D90-CF31D9448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D9A82-A80C-4D35-9A60-3D23EFE9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2F291-1705-4AC3-9FD8-8E99BEA9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61A0A-05E1-4D0D-A6C6-3170FE0E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AF83C-8361-43D0-8CD4-A2C78A43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0868-C4F3-41DE-BEAC-1CFC6CD7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40EE7-0194-4ACD-BFFA-575F2BE3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6C352-C544-4D2A-BF89-DF0EB34F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FDC85-B991-4C73-8593-B9984C3A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3D7A2-B6EE-419E-A1E1-8AA7E0DA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51C82-DB95-4117-9764-8ABFD280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B035D-834E-467D-8DBF-C67500366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35ED6-6F21-44B6-B79B-B69F23B5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9D5F-5311-430D-944B-DBCAE059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12F0-34E5-4D27-8FB2-F97609D1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5883-0E67-41E0-A9B1-FED7FC47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C56C-E0EF-4B28-A544-55ABF88B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0B3B-F293-40A9-ACB0-CF32660D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838E-4006-4E96-BB32-4438B0D4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25.xml"/><Relationship Id="rId17" Type="http://schemas.openxmlformats.org/officeDocument/2006/relationships/slideLayout" Target="../slideLayouts/slideLayout26.xml"/><Relationship Id="rId18" Type="http://schemas.openxmlformats.org/officeDocument/2006/relationships/slideLayout" Target="../slideLayouts/slideLayout27.xml"/><Relationship Id="rId19" Type="http://schemas.openxmlformats.org/officeDocument/2006/relationships/slideLayout" Target="../slideLayouts/slideLayout28.xml"/><Relationship Id="rId20" Type="http://schemas.openxmlformats.org/officeDocument/2006/relationships/slideLayout" Target="../slideLayouts/slideLayout29.xml"/><Relationship Id="rId21" Type="http://schemas.openxmlformats.org/officeDocument/2006/relationships/slideLayout" Target="../slideLayouts/slideLayout30.xml"/><Relationship Id="rId22" Type="http://schemas.openxmlformats.org/officeDocument/2006/relationships/slideLayout" Target="../slideLayouts/slideLayout31.xml"/><Relationship Id="rId23" Type="http://schemas.openxmlformats.org/officeDocument/2006/relationships/slideLayout" Target="../slideLayouts/slideLayout32.xml"/><Relationship Id="rId24" Type="http://schemas.openxmlformats.org/officeDocument/2006/relationships/slideLayout" Target="../slideLayouts/slideLayout33.xml"/><Relationship Id="rId25" Type="http://schemas.openxmlformats.org/officeDocument/2006/relationships/slideLayout" Target="../slideLayouts/slideLayout34.xml"/><Relationship Id="rId26" Type="http://schemas.openxmlformats.org/officeDocument/2006/relationships/slideLayout" Target="../slideLayouts/slideLayout35.xml"/><Relationship Id="rId2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E504-F3D6-4A80-8A78-3BE633B74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725A-E5B0-48DE-B0F2-220E936ED1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5ff"/>
            </a:gs>
            <a:gs pos="100000">
              <a:srgbClr val="b8ffb8">
                <a:alpha val="5607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school2218.jpg"/>
          <p:cNvPicPr/>
          <p:nvPr/>
        </p:nvPicPr>
        <p:blipFill>
          <a:blip r:embed="rId2"/>
          <a:stretch/>
        </p:blipFill>
        <p:spPr>
          <a:xfrm>
            <a:off x="5435640" y="2781360"/>
            <a:ext cx="4078080" cy="4076640"/>
          </a:xfrm>
          <a:prstGeom prst="rect">
            <a:avLst/>
          </a:prstGeom>
          <a:ln w="0">
            <a:noFill/>
          </a:ln>
        </p:spPr>
      </p:pic>
      <p:grpSp>
        <p:nvGrpSpPr>
          <p:cNvPr id="83" name="Группа 20"/>
          <p:cNvGrpSpPr/>
          <p:nvPr/>
        </p:nvGrpSpPr>
        <p:grpSpPr>
          <a:xfrm>
            <a:off x="8601120" y="-360"/>
            <a:ext cx="608040" cy="6767640"/>
            <a:chOff x="8601120" y="-360"/>
            <a:chExt cx="608040" cy="6767640"/>
          </a:xfrm>
        </p:grpSpPr>
        <p:pic>
          <p:nvPicPr>
            <p:cNvPr id="84" name="Рисунок 8" descr="63353908_100gif.gif"/>
            <p:cNvPicPr/>
            <p:nvPr/>
          </p:nvPicPr>
          <p:blipFill>
            <a:blip r:embed="rId3"/>
            <a:stretch/>
          </p:blipFill>
          <p:spPr>
            <a:xfrm rot="16200000">
              <a:off x="7170480" y="1429920"/>
              <a:ext cx="345636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Рисунок 9" descr="63353908_100gif.gif"/>
            <p:cNvPicPr/>
            <p:nvPr/>
          </p:nvPicPr>
          <p:blipFill>
            <a:blip r:embed="rId4"/>
            <a:stretch/>
          </p:blipFill>
          <p:spPr>
            <a:xfrm rot="16200000">
              <a:off x="7183080" y="4741200"/>
              <a:ext cx="3456360" cy="59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Группа 19"/>
          <p:cNvGrpSpPr/>
          <p:nvPr/>
        </p:nvGrpSpPr>
        <p:grpSpPr>
          <a:xfrm>
            <a:off x="-38160" y="37800"/>
            <a:ext cx="606960" cy="6769080"/>
            <a:chOff x="-38160" y="37800"/>
            <a:chExt cx="606960" cy="6769080"/>
          </a:xfrm>
        </p:grpSpPr>
        <p:pic>
          <p:nvPicPr>
            <p:cNvPr id="87" name="Рисунок 11" descr="63353908_100gif.gif"/>
            <p:cNvPicPr/>
            <p:nvPr/>
          </p:nvPicPr>
          <p:blipFill>
            <a:blip r:embed="rId5"/>
            <a:stretch/>
          </p:blipFill>
          <p:spPr>
            <a:xfrm rot="16200000">
              <a:off x="-1469520" y="1469160"/>
              <a:ext cx="3457080" cy="59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Рисунок 12" descr="63353908_100gif.gif"/>
            <p:cNvPicPr/>
            <p:nvPr/>
          </p:nvPicPr>
          <p:blipFill>
            <a:blip r:embed="rId6"/>
            <a:stretch/>
          </p:blipFill>
          <p:spPr>
            <a:xfrm rot="16200000">
              <a:off x="-1456560" y="4781160"/>
              <a:ext cx="34570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Группа 12"/>
          <p:cNvGrpSpPr/>
          <p:nvPr/>
        </p:nvGrpSpPr>
        <p:grpSpPr>
          <a:xfrm>
            <a:off x="0" y="-50760"/>
            <a:ext cx="9204480" cy="490320"/>
            <a:chOff x="0" y="-50760"/>
            <a:chExt cx="9204480" cy="490320"/>
          </a:xfrm>
        </p:grpSpPr>
        <p:pic>
          <p:nvPicPr>
            <p:cNvPr id="90" name="Рисунок 14" descr="63353981_115.gif"/>
            <p:cNvPicPr/>
            <p:nvPr/>
          </p:nvPicPr>
          <p:blipFill>
            <a:blip r:embed="rId7"/>
            <a:stretch/>
          </p:blipFill>
          <p:spPr>
            <a:xfrm>
              <a:off x="0" y="-50400"/>
              <a:ext cx="269424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Рисунок 15" descr="63353981_115.gif"/>
            <p:cNvPicPr/>
            <p:nvPr/>
          </p:nvPicPr>
          <p:blipFill>
            <a:blip r:embed="rId8"/>
            <a:stretch/>
          </p:blipFill>
          <p:spPr>
            <a:xfrm>
              <a:off x="2627640" y="-50760"/>
              <a:ext cx="269424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Рисунок 16" descr="63353981_115.gif"/>
            <p:cNvPicPr/>
            <p:nvPr/>
          </p:nvPicPr>
          <p:blipFill>
            <a:blip r:embed="rId9"/>
            <a:stretch/>
          </p:blipFill>
          <p:spPr>
            <a:xfrm>
              <a:off x="5292000" y="-50760"/>
              <a:ext cx="269424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Рисунок 17" descr="63353981_115.gif"/>
            <p:cNvPicPr/>
            <p:nvPr/>
          </p:nvPicPr>
          <p:blipFill>
            <a:blip r:embed="rId10"/>
            <a:srcRect l="0" t="0" r="53813" b="0"/>
            <a:stretch/>
          </p:blipFill>
          <p:spPr>
            <a:xfrm>
              <a:off x="7923240" y="-50760"/>
              <a:ext cx="1281240" cy="49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Группа 13"/>
          <p:cNvGrpSpPr/>
          <p:nvPr/>
        </p:nvGrpSpPr>
        <p:grpSpPr>
          <a:xfrm>
            <a:off x="-60480" y="6405480"/>
            <a:ext cx="9204480" cy="490680"/>
            <a:chOff x="-60480" y="6405480"/>
            <a:chExt cx="9204480" cy="490680"/>
          </a:xfrm>
        </p:grpSpPr>
        <p:pic>
          <p:nvPicPr>
            <p:cNvPr id="95" name="Рисунок 19" descr="63353981_115.gif"/>
            <p:cNvPicPr/>
            <p:nvPr/>
          </p:nvPicPr>
          <p:blipFill>
            <a:blip r:embed="rId11"/>
            <a:stretch/>
          </p:blipFill>
          <p:spPr>
            <a:xfrm>
              <a:off x="-60480" y="6405480"/>
              <a:ext cx="2694240" cy="47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Рисунок 20" descr="63353981_115.gif"/>
            <p:cNvPicPr/>
            <p:nvPr/>
          </p:nvPicPr>
          <p:blipFill>
            <a:blip r:embed="rId12"/>
            <a:stretch/>
          </p:blipFill>
          <p:spPr>
            <a:xfrm>
              <a:off x="2567160" y="6405480"/>
              <a:ext cx="2694240" cy="47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Рисунок 21" descr="63353981_115.gif"/>
            <p:cNvPicPr/>
            <p:nvPr/>
          </p:nvPicPr>
          <p:blipFill>
            <a:blip r:embed="rId13"/>
            <a:stretch/>
          </p:blipFill>
          <p:spPr>
            <a:xfrm>
              <a:off x="5231520" y="6405480"/>
              <a:ext cx="2694240" cy="47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Рисунок 22" descr="63353981_115.gif"/>
            <p:cNvPicPr/>
            <p:nvPr/>
          </p:nvPicPr>
          <p:blipFill>
            <a:blip r:embed="rId14"/>
            <a:srcRect l="0" t="0" r="53813" b="0"/>
            <a:stretch/>
          </p:blipFill>
          <p:spPr>
            <a:xfrm>
              <a:off x="7862760" y="6405480"/>
              <a:ext cx="1281240" cy="490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" name="Рисунок 23" descr="school21002.jpg"/>
          <p:cNvPicPr/>
          <p:nvPr/>
        </p:nvPicPr>
        <p:blipFill>
          <a:blip r:embed="rId15"/>
          <a:stretch/>
        </p:blipFill>
        <p:spPr>
          <a:xfrm>
            <a:off x="5497560" y="4076640"/>
            <a:ext cx="3646440" cy="27813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ba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ba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ba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C351-AF09-4723-A8CD-BE20C44385FE}" type="slidenum">
              <a:rPr b="0" lang="en-US" sz="1200" spc="-1" strike="noStrike">
                <a:solidFill>
                  <a:srgbClr val="89ba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6"/>
    <p:sldLayoutId id="2147483676" r:id="rId17"/>
    <p:sldLayoutId id="2147483677" r:id="rId18"/>
    <p:sldLayoutId id="2147483678" r:id="rId19"/>
    <p:sldLayoutId id="2147483679" r:id="rId20"/>
    <p:sldLayoutId id="2147483680" r:id="rId21"/>
    <p:sldLayoutId id="2147483681" r:id="rId22"/>
    <p:sldLayoutId id="2147483682" r:id="rId23"/>
    <p:sldLayoutId id="2147483683" r:id="rId24"/>
    <p:sldLayoutId id="2147483684" r:id="rId25"/>
    <p:sldLayoutId id="2147483685" r:id="rId26"/>
    <p:sldLayoutId id="2147483686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4.png"/><Relationship Id="rId15" Type="http://schemas.openxmlformats.org/officeDocument/2006/relationships/image" Target="../media/image21.png"/><Relationship Id="rId16" Type="http://schemas.openxmlformats.org/officeDocument/2006/relationships/image" Target="../media/image21.png"/><Relationship Id="rId17" Type="http://schemas.openxmlformats.org/officeDocument/2006/relationships/image" Target="../media/image25.png"/><Relationship Id="rId18" Type="http://schemas.openxmlformats.org/officeDocument/2006/relationships/image" Target="../media/image25.png"/><Relationship Id="rId19" Type="http://schemas.openxmlformats.org/officeDocument/2006/relationships/image" Target="../media/image26.png"/><Relationship Id="rId20" Type="http://schemas.openxmlformats.org/officeDocument/2006/relationships/image" Target="../media/image26.png"/><Relationship Id="rId21" Type="http://schemas.openxmlformats.org/officeDocument/2006/relationships/image" Target="../media/image27.png"/><Relationship Id="rId22" Type="http://schemas.openxmlformats.org/officeDocument/2006/relationships/image" Target="../media/image27.png"/><Relationship Id="rId23" Type="http://schemas.openxmlformats.org/officeDocument/2006/relationships/image" Target="../media/image25.png"/><Relationship Id="rId24" Type="http://schemas.openxmlformats.org/officeDocument/2006/relationships/image" Target="../media/image25.png"/><Relationship Id="rId25" Type="http://schemas.openxmlformats.org/officeDocument/2006/relationships/image" Target="../media/image28.png"/><Relationship Id="rId26" Type="http://schemas.openxmlformats.org/officeDocument/2006/relationships/image" Target="../media/image28.png"/><Relationship Id="rId27" Type="http://schemas.openxmlformats.org/officeDocument/2006/relationships/image" Target="../media/image29.png"/><Relationship Id="rId28" Type="http://schemas.openxmlformats.org/officeDocument/2006/relationships/image" Target="../media/image29.png"/><Relationship Id="rId29" Type="http://schemas.openxmlformats.org/officeDocument/2006/relationships/image" Target="../media/image29.png"/><Relationship Id="rId30" Type="http://schemas.openxmlformats.org/officeDocument/2006/relationships/image" Target="../media/image29.png"/><Relationship Id="rId31" Type="http://schemas.openxmlformats.org/officeDocument/2006/relationships/image" Target="../media/image24.png"/><Relationship Id="rId32" Type="http://schemas.openxmlformats.org/officeDocument/2006/relationships/image" Target="../media/image24.png"/><Relationship Id="rId33" Type="http://schemas.openxmlformats.org/officeDocument/2006/relationships/image" Target="../media/image30.png"/><Relationship Id="rId34" Type="http://schemas.openxmlformats.org/officeDocument/2006/relationships/image" Target="../media/image30.png"/><Relationship Id="rId35" Type="http://schemas.openxmlformats.org/officeDocument/2006/relationships/image" Target="../media/image26.png"/><Relationship Id="rId36" Type="http://schemas.openxmlformats.org/officeDocument/2006/relationships/image" Target="../media/image26.png"/><Relationship Id="rId37" Type="http://schemas.openxmlformats.org/officeDocument/2006/relationships/image" Target="../media/image31.png"/><Relationship Id="rId38" Type="http://schemas.openxmlformats.org/officeDocument/2006/relationships/image" Target="../media/image31.png"/><Relationship Id="rId39" Type="http://schemas.openxmlformats.org/officeDocument/2006/relationships/image" Target="../media/image32.png"/><Relationship Id="rId40" Type="http://schemas.openxmlformats.org/officeDocument/2006/relationships/image" Target="../media/image32.png"/><Relationship Id="rId41" Type="http://schemas.openxmlformats.org/officeDocument/2006/relationships/image" Target="../media/image26.png"/><Relationship Id="rId42" Type="http://schemas.openxmlformats.org/officeDocument/2006/relationships/image" Target="../media/image26.png"/><Relationship Id="rId43" Type="http://schemas.openxmlformats.org/officeDocument/2006/relationships/image" Target="../media/image31.png"/><Relationship Id="rId44" Type="http://schemas.openxmlformats.org/officeDocument/2006/relationships/image" Target="../media/image31.png"/><Relationship Id="rId45" Type="http://schemas.openxmlformats.org/officeDocument/2006/relationships/image" Target="../media/image33.png"/><Relationship Id="rId46" Type="http://schemas.openxmlformats.org/officeDocument/2006/relationships/image" Target="../media/image33.png"/><Relationship Id="rId47" Type="http://schemas.openxmlformats.org/officeDocument/2006/relationships/image" Target="../media/image31.png"/><Relationship Id="rId48" Type="http://schemas.openxmlformats.org/officeDocument/2006/relationships/image" Target="../media/image31.png"/><Relationship Id="rId49" Type="http://schemas.openxmlformats.org/officeDocument/2006/relationships/image" Target="../media/image34.png"/><Relationship Id="rId50" Type="http://schemas.openxmlformats.org/officeDocument/2006/relationships/image" Target="../media/image34.png"/><Relationship Id="rId51" Type="http://schemas.openxmlformats.org/officeDocument/2006/relationships/image" Target="../media/image33.png"/><Relationship Id="rId52" Type="http://schemas.openxmlformats.org/officeDocument/2006/relationships/image" Target="../media/image33.png"/><Relationship Id="rId53" Type="http://schemas.openxmlformats.org/officeDocument/2006/relationships/image" Target="../media/image31.png"/><Relationship Id="rId54" Type="http://schemas.openxmlformats.org/officeDocument/2006/relationships/image" Target="../media/image31.png"/><Relationship Id="rId55" Type="http://schemas.openxmlformats.org/officeDocument/2006/relationships/image" Target="../media/image35.png"/><Relationship Id="rId56" Type="http://schemas.openxmlformats.org/officeDocument/2006/relationships/image" Target="../media/image35.png"/><Relationship Id="rId57" Type="http://schemas.openxmlformats.org/officeDocument/2006/relationships/image" Target="../media/image36.png"/><Relationship Id="rId58" Type="http://schemas.openxmlformats.org/officeDocument/2006/relationships/image" Target="../media/image36.png"/><Relationship Id="rId59" Type="http://schemas.openxmlformats.org/officeDocument/2006/relationships/image" Target="../media/image37.png"/><Relationship Id="rId60" Type="http://schemas.openxmlformats.org/officeDocument/2006/relationships/image" Target="../media/image37.png"/><Relationship Id="rId61" Type="http://schemas.openxmlformats.org/officeDocument/2006/relationships/image" Target="../media/image38.png"/><Relationship Id="rId62" Type="http://schemas.openxmlformats.org/officeDocument/2006/relationships/image" Target="../media/image38.png"/><Relationship Id="rId63" Type="http://schemas.openxmlformats.org/officeDocument/2006/relationships/image" Target="../media/image39.png"/><Relationship Id="rId64" Type="http://schemas.openxmlformats.org/officeDocument/2006/relationships/image" Target="../media/image39.png"/><Relationship Id="rId65" Type="http://schemas.openxmlformats.org/officeDocument/2006/relationships/image" Target="../media/image33.png"/><Relationship Id="rId66" Type="http://schemas.openxmlformats.org/officeDocument/2006/relationships/image" Target="../media/image33.png"/><Relationship Id="rId67" Type="http://schemas.openxmlformats.org/officeDocument/2006/relationships/image" Target="../media/image40.png"/><Relationship Id="rId68" Type="http://schemas.openxmlformats.org/officeDocument/2006/relationships/image" Target="../media/image40.png"/><Relationship Id="rId69" Type="http://schemas.openxmlformats.org/officeDocument/2006/relationships/image" Target="../media/image41.png"/><Relationship Id="rId70" Type="http://schemas.openxmlformats.org/officeDocument/2006/relationships/image" Target="../media/image41.png"/><Relationship Id="rId71" Type="http://schemas.openxmlformats.org/officeDocument/2006/relationships/image" Target="../media/image42.png"/><Relationship Id="rId72" Type="http://schemas.openxmlformats.org/officeDocument/2006/relationships/image" Target="../media/image42.png"/><Relationship Id="rId73" Type="http://schemas.openxmlformats.org/officeDocument/2006/relationships/image" Target="../media/image38.png"/><Relationship Id="rId74" Type="http://schemas.openxmlformats.org/officeDocument/2006/relationships/image" Target="../media/image38.png"/><Relationship Id="rId75" Type="http://schemas.openxmlformats.org/officeDocument/2006/relationships/image" Target="../media/image42.png"/><Relationship Id="rId76" Type="http://schemas.openxmlformats.org/officeDocument/2006/relationships/image" Target="../media/image42.png"/><Relationship Id="rId77" Type="http://schemas.openxmlformats.org/officeDocument/2006/relationships/image" Target="../media/image43.png"/><Relationship Id="rId78" Type="http://schemas.openxmlformats.org/officeDocument/2006/relationships/image" Target="../media/image43.png"/><Relationship Id="rId79" Type="http://schemas.openxmlformats.org/officeDocument/2006/relationships/image" Target="../media/image43.png"/><Relationship Id="rId80" Type="http://schemas.openxmlformats.org/officeDocument/2006/relationships/image" Target="../media/image43.png"/><Relationship Id="rId81" Type="http://schemas.openxmlformats.org/officeDocument/2006/relationships/image" Target="../media/image31.png"/><Relationship Id="rId82" Type="http://schemas.openxmlformats.org/officeDocument/2006/relationships/image" Target="../media/image31.png"/><Relationship Id="rId83" Type="http://schemas.openxmlformats.org/officeDocument/2006/relationships/image" Target="../media/image31.png"/><Relationship Id="rId84" Type="http://schemas.openxmlformats.org/officeDocument/2006/relationships/image" Target="../media/image31.png"/><Relationship Id="rId85" Type="http://schemas.openxmlformats.org/officeDocument/2006/relationships/image" Target="../media/image31.png"/><Relationship Id="rId86" Type="http://schemas.openxmlformats.org/officeDocument/2006/relationships/image" Target="../media/image31.png"/><Relationship Id="rId8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1447920" y="-5393880"/>
            <a:ext cx="152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ru-RU" sz="4400" spc="-1" strike="noStrike">
                <a:solidFill>
                  <a:srgbClr val="6699ff"/>
                </a:solidFill>
                <a:latin typeface="Arial"/>
              </a:rPr>
              <a:t>Урок Зн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987640" y="189000"/>
            <a:ext cx="5905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азка, я тебя знаю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"/>
          <p:cNvSpPr/>
          <p:nvPr/>
        </p:nvSpPr>
        <p:spPr>
          <a:xfrm rot="20320800">
            <a:off x="3134520" y="-360"/>
            <a:ext cx="30816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Литературное  чт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24000" y="836640"/>
            <a:ext cx="2520720" cy="17589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3348000" y="404640"/>
            <a:ext cx="2519280" cy="17337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7308720" y="2492280"/>
            <a:ext cx="1373400" cy="1873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6156360" y="404640"/>
            <a:ext cx="2771640" cy="17622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4067280" y="2565360"/>
            <a:ext cx="2519280" cy="18716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3708360" y="4581360"/>
            <a:ext cx="1590840" cy="19893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>
            <a:off x="1908000" y="2852640"/>
            <a:ext cx="1546560" cy="1657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9"/>
          <a:stretch/>
        </p:blipFill>
        <p:spPr>
          <a:xfrm>
            <a:off x="6372360" y="4797360"/>
            <a:ext cx="2447640" cy="16398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580000" y="602136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15735" y="10800"/>
                </a:moveTo>
                <a:lnTo>
                  <a:pt x="5229" y="17806"/>
                </a:lnTo>
                <a:lnTo>
                  <a:pt x="5229" y="3794"/>
                </a:lnTo>
                <a:close/>
              </a:path>
              <a:path fill="darken" w="24471" h="21600">
                <a:moveTo>
                  <a:pt x="17580" y="3794"/>
                </a:moveTo>
                <a:lnTo>
                  <a:pt x="17580" y="17806"/>
                </a:lnTo>
                <a:lnTo>
                  <a:pt x="19242" y="17806"/>
                </a:lnTo>
                <a:lnTo>
                  <a:pt x="19242" y="3794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187280" y="333360"/>
            <a:ext cx="6409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кружающий    ми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560" y="-770760"/>
            <a:ext cx="15238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04920" y="0"/>
          <a:ext cx="6172200" cy="1066680"/>
        </p:xfrm>
        <a:graphic>
          <a:graphicData uri="http://schemas.openxmlformats.org/drawingml/2006/table">
            <a:tbl>
              <a:tblPr/>
              <a:tblGrid>
                <a:gridCol w="1234800"/>
                <a:gridCol w="1233720"/>
                <a:gridCol w="1235160"/>
                <a:gridCol w="1233360"/>
                <a:gridCol w="123516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304920" y="1219320"/>
          <a:ext cx="6172200" cy="838080"/>
        </p:xfrm>
        <a:graphic>
          <a:graphicData uri="http://schemas.openxmlformats.org/drawingml/2006/table">
            <a:tbl>
              <a:tblPr/>
              <a:tblGrid>
                <a:gridCol w="1233360"/>
                <a:gridCol w="1235160"/>
                <a:gridCol w="1235160"/>
                <a:gridCol w="1234800"/>
                <a:gridCol w="123372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228600" y="2362320"/>
          <a:ext cx="8686800" cy="898560"/>
        </p:xfrm>
        <a:graphic>
          <a:graphicData uri="http://schemas.openxmlformats.org/drawingml/2006/table">
            <a:tbl>
              <a:tblPr/>
              <a:tblGrid>
                <a:gridCol w="965160"/>
                <a:gridCol w="965160"/>
                <a:gridCol w="965160"/>
                <a:gridCol w="965160"/>
                <a:gridCol w="965520"/>
                <a:gridCol w="965160"/>
                <a:gridCol w="965160"/>
                <a:gridCol w="965160"/>
                <a:gridCol w="965160"/>
              </a:tblGrid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76320" y="3581280"/>
          <a:ext cx="8534160" cy="1143000"/>
        </p:xfrm>
        <a:graphic>
          <a:graphicData uri="http://schemas.openxmlformats.org/drawingml/2006/table">
            <a:tbl>
              <a:tblPr/>
              <a:tblGrid>
                <a:gridCol w="1209600"/>
                <a:gridCol w="1046160"/>
                <a:gridCol w="1046160"/>
                <a:gridCol w="1046160"/>
                <a:gridCol w="1046160"/>
                <a:gridCol w="1047600"/>
                <a:gridCol w="1046160"/>
                <a:gridCol w="104616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28600" y="4724280"/>
          <a:ext cx="6095880" cy="1067040"/>
        </p:xfrm>
        <a:graphic>
          <a:graphicData uri="http://schemas.openxmlformats.org/drawingml/2006/table">
            <a:tbl>
              <a:tblPr/>
              <a:tblGrid>
                <a:gridCol w="1200240"/>
                <a:gridCol w="1198440"/>
                <a:gridCol w="1198440"/>
                <a:gridCol w="1198800"/>
                <a:gridCol w="129996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0" y="5943600"/>
          <a:ext cx="8839080" cy="914400"/>
        </p:xfrm>
        <a:graphic>
          <a:graphicData uri="http://schemas.openxmlformats.org/drawingml/2006/table">
            <a:tbl>
              <a:tblPr/>
              <a:tblGrid>
                <a:gridCol w="982800"/>
                <a:gridCol w="983160"/>
                <a:gridCol w="982800"/>
                <a:gridCol w="983160"/>
                <a:gridCol w="983160"/>
                <a:gridCol w="983160"/>
                <a:gridCol w="991800"/>
                <a:gridCol w="974160"/>
                <a:gridCol w="9748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 txBox="1"/>
          <p:nvPr/>
        </p:nvSpPr>
        <p:spPr>
          <a:xfrm>
            <a:off x="685800" y="228600"/>
            <a:ext cx="609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905120" y="228600"/>
            <a:ext cx="609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8120" y="228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267080" y="-609480"/>
            <a:ext cx="9144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638680" y="228600"/>
            <a:ext cx="609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1371600"/>
            <a:ext cx="609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828800" y="1295280"/>
            <a:ext cx="6094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562720" y="129528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124080" y="1295280"/>
            <a:ext cx="6098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0">
                <a:noFill/>
              </a:ln>
              <a:blipFill rotWithShape="0">
                <a:blip r:embed="rId2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343400" y="1295280"/>
            <a:ext cx="6094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0">
                <a:noFill/>
              </a:ln>
              <a:blipFill rotWithShape="0">
                <a:blip r:embed="rId2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3520" y="2514600"/>
            <a:ext cx="533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0">
                <a:noFill/>
              </a:ln>
              <a:blipFill rotWithShape="0">
                <a:blip r:embed="rId2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447920" y="2438280"/>
            <a:ext cx="533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0">
                <a:noFill/>
              </a:ln>
              <a:blipFill rotWithShape="0">
                <a:blip r:embed="rId2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0" y="243828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0">
                <a:noFill/>
              </a:ln>
              <a:blipFill rotWithShape="0">
                <a:blip r:embed="rId3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76720" y="243828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0">
                <a:noFill/>
              </a:ln>
              <a:blipFill rotWithShape="0">
                <a:blip r:embed="rId3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267080" y="2438280"/>
            <a:ext cx="5335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0">
                <a:noFill/>
              </a:ln>
              <a:blipFill rotWithShape="0">
                <a:blip r:embed="rId3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181480" y="243828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0">
                <a:noFill/>
              </a:ln>
              <a:blipFill rotWithShape="0">
                <a:blip r:embed="rId3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248520" y="2438280"/>
            <a:ext cx="609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3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7162920" y="2438280"/>
            <a:ext cx="6094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0">
                <a:noFill/>
              </a:ln>
              <a:blipFill rotWithShape="0">
                <a:blip r:embed="rId4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001000" y="243828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0">
                <a:noFill/>
              </a:ln>
              <a:blipFill rotWithShape="0">
                <a:blip r:embed="rId4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3809880"/>
            <a:ext cx="609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0">
                <a:noFill/>
              </a:ln>
              <a:blipFill rotWithShape="0">
                <a:blip r:embed="rId4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600200" y="3733920"/>
            <a:ext cx="685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0">
                <a:noFill/>
              </a:ln>
              <a:blipFill rotWithShape="0">
                <a:blip r:embed="rId4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666880" y="3733920"/>
            <a:ext cx="6098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0">
                <a:noFill/>
              </a:ln>
              <a:blipFill rotWithShape="0">
                <a:blip r:embed="rId4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895480" y="4800600"/>
            <a:ext cx="685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0">
                <a:noFill/>
              </a:ln>
              <a:blipFill rotWithShape="0">
                <a:blip r:embed="rId5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657600" y="3733920"/>
            <a:ext cx="685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</a:t>
            </a:r>
            <a:endParaRPr b="0" lang="en-US" sz="1800" spc="1" strike="noStrike">
              <a:ln w="0">
                <a:noFill/>
              </a:ln>
              <a:blipFill rotWithShape="0">
                <a:blip r:embed="rId5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724280" y="3733920"/>
            <a:ext cx="6098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0">
                <a:noFill/>
              </a:ln>
              <a:blipFill rotWithShape="0">
                <a:blip r:embed="rId5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791320" y="3733920"/>
            <a:ext cx="542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ь</a:t>
            </a:r>
            <a:endParaRPr b="0" lang="en-US" sz="1800" spc="1" strike="noStrike">
              <a:ln w="0">
                <a:noFill/>
              </a:ln>
              <a:blipFill rotWithShape="0">
                <a:blip r:embed="rId5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0" y="3733920"/>
            <a:ext cx="6858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0">
                <a:noFill/>
              </a:ln>
              <a:blipFill rotWithShape="0">
                <a:blip r:embed="rId5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924680" y="3733920"/>
            <a:ext cx="533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6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4800600"/>
            <a:ext cx="762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0">
                <a:noFill/>
              </a:ln>
              <a:blipFill rotWithShape="0">
                <a:blip r:embed="rId6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752480" y="480060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0">
                <a:noFill/>
              </a:ln>
              <a:blipFill rotWithShape="0">
                <a:blip r:embed="rId6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114800" y="4876920"/>
            <a:ext cx="685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0">
                <a:noFill/>
              </a:ln>
              <a:blipFill rotWithShape="0">
                <a:blip r:embed="rId6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257800" y="4876920"/>
            <a:ext cx="838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6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52280" y="6019920"/>
            <a:ext cx="685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</a:t>
            </a:r>
            <a:endParaRPr b="0" lang="en-US" sz="1800" spc="1" strike="noStrike">
              <a:ln w="0">
                <a:noFill/>
              </a:ln>
              <a:blipFill rotWithShape="0">
                <a:blip r:embed="rId7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66680" y="6019920"/>
            <a:ext cx="838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0">
                <a:noFill/>
              </a:ln>
              <a:blipFill rotWithShape="0">
                <a:blip r:embed="rId7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057400" y="6019920"/>
            <a:ext cx="762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</a:t>
            </a:r>
            <a:endParaRPr b="0" lang="en-US" sz="1800" spc="1" strike="noStrike">
              <a:ln w="0">
                <a:noFill/>
              </a:ln>
              <a:blipFill rotWithShape="0">
                <a:blip r:embed="rId7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8120" y="6019920"/>
            <a:ext cx="838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0">
                <a:noFill/>
              </a:ln>
              <a:blipFill rotWithShape="0">
                <a:blip r:embed="rId7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114800" y="6019920"/>
            <a:ext cx="762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0">
                <a:noFill/>
              </a:ln>
              <a:blipFill rotWithShape="0">
                <a:blip r:embed="rId7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029200" y="6019920"/>
            <a:ext cx="762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8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172200" y="6019920"/>
            <a:ext cx="609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</a:t>
            </a:r>
            <a:endParaRPr b="0" lang="en-US" sz="1800" spc="1" strike="noStrike">
              <a:ln w="0">
                <a:noFill/>
              </a:ln>
              <a:blipFill rotWithShape="0">
                <a:blip r:embed="rId8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086600" y="6019920"/>
            <a:ext cx="609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0">
                <a:noFill/>
              </a:ln>
              <a:blipFill rotWithShape="0">
                <a:blip r:embed="rId8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077320" y="6019920"/>
            <a:ext cx="609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8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"/>
          <p:cNvSpPr/>
          <p:nvPr/>
        </p:nvSpPr>
        <p:spPr>
          <a:xfrm>
            <a:off x="8244000" y="5300640"/>
            <a:ext cx="541080" cy="393840"/>
          </a:xfrm>
          <a:custGeom>
            <a:avLst/>
            <a:gdLst>
              <a:gd name="textAreaLeft" fmla="*/ 25200 w 541080"/>
              <a:gd name="textAreaRight" fmla="*/ 515880 w 54108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9668" h="21600">
                <a:moveTo>
                  <a:pt x="0" y="0"/>
                </a:moveTo>
                <a:lnTo>
                  <a:pt x="29668" y="0"/>
                </a:lnTo>
                <a:lnTo>
                  <a:pt x="29668" y="21600"/>
                </a:lnTo>
                <a:lnTo>
                  <a:pt x="0" y="21600"/>
                </a:lnTo>
                <a:close/>
              </a:path>
              <a:path fill="lightenLess" w="29668" h="21600">
                <a:moveTo>
                  <a:pt x="0" y="0"/>
                </a:moveTo>
                <a:lnTo>
                  <a:pt x="29668" y="0"/>
                </a:lnTo>
                <a:lnTo>
                  <a:pt x="28268" y="1400"/>
                </a:lnTo>
                <a:lnTo>
                  <a:pt x="1400" y="1400"/>
                </a:lnTo>
                <a:close/>
              </a:path>
              <a:path fill="darken" w="29668" h="21600">
                <a:moveTo>
                  <a:pt x="29668" y="0"/>
                </a:moveTo>
                <a:lnTo>
                  <a:pt x="29668" y="21600"/>
                </a:lnTo>
                <a:lnTo>
                  <a:pt x="28268" y="20200"/>
                </a:lnTo>
                <a:lnTo>
                  <a:pt x="28268" y="1400"/>
                </a:lnTo>
                <a:close/>
              </a:path>
              <a:path fill="darkenLess" w="29668" h="21600">
                <a:moveTo>
                  <a:pt x="29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68" y="20200"/>
                </a:lnTo>
                <a:close/>
              </a:path>
              <a:path fill="lighten" w="29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68" h="21600">
                <a:moveTo>
                  <a:pt x="7827" y="3794"/>
                </a:moveTo>
                <a:lnTo>
                  <a:pt x="21840" y="10800"/>
                </a:lnTo>
                <a:lnTo>
                  <a:pt x="7827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500"/>
                            </p:stCondLst>
                            <p:childTnLst>
                              <p:par>
                                <p:cTn id="2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000"/>
                            </p:stCondLst>
                            <p:childTnLst>
                              <p:par>
                                <p:cTn id="35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000"/>
                            </p:stCondLst>
                            <p:childTnLst>
                              <p:par>
                                <p:cTn id="35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835280" y="2781360"/>
            <a:ext cx="961920" cy="9144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132000" y="2205000"/>
            <a:ext cx="962280" cy="9144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00720" y="1989000"/>
            <a:ext cx="961920" cy="9144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84720" y="2060640"/>
            <a:ext cx="962280" cy="9144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24720" y="2637000"/>
            <a:ext cx="961920" cy="9144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556000" y="260280"/>
            <a:ext cx="4662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вёздный  час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">
            <a:hlinkClick r:id="rId2" action="ppaction://hlinksldjump"/>
          </p:cNvPr>
          <p:cNvSpPr/>
          <p:nvPr/>
        </p:nvSpPr>
        <p:spPr>
          <a:xfrm>
            <a:off x="7451640" y="6381720"/>
            <a:ext cx="250920" cy="287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87280"/>
              <a:gd name="textAreaBottom" fmla="*/ 271080 h 287280"/>
            </a:gdLst>
            <a:ahLst/>
            <a:rect l="textAreaLeft" t="textAreaTop" r="textAreaRight" b="textAreaBottom"/>
            <a:pathLst>
              <a:path w="21600" h="24726">
                <a:moveTo>
                  <a:pt x="0" y="0"/>
                </a:moveTo>
                <a:lnTo>
                  <a:pt x="21600" y="0"/>
                </a:lnTo>
                <a:lnTo>
                  <a:pt x="21600" y="24726"/>
                </a:lnTo>
                <a:lnTo>
                  <a:pt x="0" y="24726"/>
                </a:lnTo>
                <a:close/>
              </a:path>
              <a:path fill="lightenLess" w="21600" h="247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26">
                <a:moveTo>
                  <a:pt x="21600" y="0"/>
                </a:moveTo>
                <a:lnTo>
                  <a:pt x="21600" y="24726"/>
                </a:lnTo>
                <a:lnTo>
                  <a:pt x="20200" y="23326"/>
                </a:lnTo>
                <a:lnTo>
                  <a:pt x="20200" y="1400"/>
                </a:lnTo>
                <a:close/>
              </a:path>
              <a:path fill="darkenLess" w="21600" h="24726">
                <a:moveTo>
                  <a:pt x="21600" y="24726"/>
                </a:moveTo>
                <a:lnTo>
                  <a:pt x="0" y="24726"/>
                </a:lnTo>
                <a:lnTo>
                  <a:pt x="1400" y="23326"/>
                </a:lnTo>
                <a:lnTo>
                  <a:pt x="20200" y="23326"/>
                </a:lnTo>
                <a:close/>
              </a:path>
              <a:path fill="lighten" w="21600" h="24726">
                <a:moveTo>
                  <a:pt x="0" y="247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26"/>
                </a:lnTo>
                <a:close/>
              </a:path>
              <a:path fill="darken" w="21600" h="24726">
                <a:moveTo>
                  <a:pt x="3794" y="5356"/>
                </a:moveTo>
                <a:lnTo>
                  <a:pt x="17806" y="12363"/>
                </a:lnTo>
                <a:lnTo>
                  <a:pt x="3794" y="1936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20000" y="6381720"/>
            <a:ext cx="322200" cy="260280"/>
          </a:xfrm>
          <a:custGeom>
            <a:avLst/>
            <a:gdLst>
              <a:gd name="textAreaLeft" fmla="*/ 16560 w 322200"/>
              <a:gd name="textAreaRight" fmla="*/ 305640 w 3222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6731" h="21600">
                <a:moveTo>
                  <a:pt x="0" y="0"/>
                </a:moveTo>
                <a:lnTo>
                  <a:pt x="26731" y="0"/>
                </a:lnTo>
                <a:lnTo>
                  <a:pt x="26731" y="21600"/>
                </a:lnTo>
                <a:lnTo>
                  <a:pt x="0" y="21600"/>
                </a:lnTo>
                <a:close/>
              </a:path>
              <a:path fill="lightenLess" w="26731" h="21600">
                <a:moveTo>
                  <a:pt x="0" y="0"/>
                </a:moveTo>
                <a:lnTo>
                  <a:pt x="26731" y="0"/>
                </a:lnTo>
                <a:lnTo>
                  <a:pt x="25331" y="1400"/>
                </a:lnTo>
                <a:lnTo>
                  <a:pt x="1400" y="1400"/>
                </a:lnTo>
                <a:close/>
              </a:path>
              <a:path fill="darken" w="26731" h="21600">
                <a:moveTo>
                  <a:pt x="26731" y="0"/>
                </a:moveTo>
                <a:lnTo>
                  <a:pt x="26731" y="21600"/>
                </a:lnTo>
                <a:lnTo>
                  <a:pt x="25331" y="20200"/>
                </a:lnTo>
                <a:lnTo>
                  <a:pt x="25331" y="1400"/>
                </a:lnTo>
                <a:close/>
              </a:path>
              <a:path fill="darkenLess" w="26731" h="21600">
                <a:moveTo>
                  <a:pt x="26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31" y="20200"/>
                </a:lnTo>
                <a:close/>
              </a:path>
              <a:path fill="lighten" w="26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31" h="21600">
                <a:moveTo>
                  <a:pt x="6359" y="10800"/>
                </a:moveTo>
                <a:lnTo>
                  <a:pt x="20372" y="3794"/>
                </a:lnTo>
                <a:lnTo>
                  <a:pt x="20372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16720" y="6381720"/>
            <a:ext cx="360360" cy="260280"/>
          </a:xfrm>
          <a:custGeom>
            <a:avLst/>
            <a:gdLst>
              <a:gd name="textAreaLeft" fmla="*/ 16560 w 360360"/>
              <a:gd name="textAreaRight" fmla="*/ 343800 w 360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9894" h="21600">
                <a:moveTo>
                  <a:pt x="0" y="0"/>
                </a:moveTo>
                <a:lnTo>
                  <a:pt x="29894" y="0"/>
                </a:lnTo>
                <a:lnTo>
                  <a:pt x="29894" y="21600"/>
                </a:lnTo>
                <a:lnTo>
                  <a:pt x="0" y="21600"/>
                </a:lnTo>
                <a:close/>
              </a:path>
              <a:path fill="lightenLess" w="29894" h="21600">
                <a:moveTo>
                  <a:pt x="0" y="0"/>
                </a:moveTo>
                <a:lnTo>
                  <a:pt x="29894" y="0"/>
                </a:lnTo>
                <a:lnTo>
                  <a:pt x="28494" y="1400"/>
                </a:lnTo>
                <a:lnTo>
                  <a:pt x="1400" y="1400"/>
                </a:lnTo>
                <a:close/>
              </a:path>
              <a:path fill="darken" w="29894" h="21600">
                <a:moveTo>
                  <a:pt x="29894" y="0"/>
                </a:moveTo>
                <a:lnTo>
                  <a:pt x="29894" y="21600"/>
                </a:lnTo>
                <a:lnTo>
                  <a:pt x="28494" y="20200"/>
                </a:lnTo>
                <a:lnTo>
                  <a:pt x="28494" y="1400"/>
                </a:lnTo>
                <a:close/>
              </a:path>
              <a:path fill="darkenLess" w="29894" h="21600">
                <a:moveTo>
                  <a:pt x="29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94" y="20200"/>
                </a:lnTo>
                <a:close/>
              </a:path>
              <a:path fill="lighten" w="29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894" h="21600">
                <a:moveTo>
                  <a:pt x="7940" y="10800"/>
                </a:moveTo>
                <a:lnTo>
                  <a:pt x="21953" y="3794"/>
                </a:lnTo>
                <a:lnTo>
                  <a:pt x="21953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94036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10800"/>
                </a:moveTo>
                <a:lnTo>
                  <a:pt x="21862" y="3794"/>
                </a:lnTo>
                <a:lnTo>
                  <a:pt x="21862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302160" y="227664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866000" y="2771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72920" y="241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35640" y="6381720"/>
            <a:ext cx="395280" cy="324000"/>
          </a:xfrm>
          <a:custGeom>
            <a:avLst/>
            <a:gdLst>
              <a:gd name="textAreaLeft" fmla="*/ 20880 w 395280"/>
              <a:gd name="textAreaRight" fmla="*/ 374400 w 39528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6347" h="21600">
                <a:moveTo>
                  <a:pt x="0" y="0"/>
                </a:moveTo>
                <a:lnTo>
                  <a:pt x="26347" y="0"/>
                </a:lnTo>
                <a:lnTo>
                  <a:pt x="26347" y="21600"/>
                </a:lnTo>
                <a:lnTo>
                  <a:pt x="0" y="21600"/>
                </a:lnTo>
                <a:close/>
              </a:path>
              <a:path fill="lightenLess" w="26347" h="21600">
                <a:moveTo>
                  <a:pt x="0" y="0"/>
                </a:moveTo>
                <a:lnTo>
                  <a:pt x="26347" y="0"/>
                </a:lnTo>
                <a:lnTo>
                  <a:pt x="24947" y="1400"/>
                </a:lnTo>
                <a:lnTo>
                  <a:pt x="1400" y="1400"/>
                </a:lnTo>
                <a:close/>
              </a:path>
              <a:path fill="darken" w="26347" h="21600">
                <a:moveTo>
                  <a:pt x="26347" y="0"/>
                </a:moveTo>
                <a:lnTo>
                  <a:pt x="26347" y="21600"/>
                </a:lnTo>
                <a:lnTo>
                  <a:pt x="24947" y="20200"/>
                </a:lnTo>
                <a:lnTo>
                  <a:pt x="24947" y="1400"/>
                </a:lnTo>
                <a:close/>
              </a:path>
              <a:path fill="darkenLess" w="26347" h="21600">
                <a:moveTo>
                  <a:pt x="26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47" y="20200"/>
                </a:lnTo>
                <a:close/>
              </a:path>
              <a:path fill="lighten" w="26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47" h="21600">
                <a:moveTo>
                  <a:pt x="6167" y="10800"/>
                </a:moveTo>
                <a:lnTo>
                  <a:pt x="20180" y="3794"/>
                </a:lnTo>
                <a:lnTo>
                  <a:pt x="20180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812000" y="6381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21800" y="623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55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419640" y="2349360"/>
            <a:ext cx="5524200" cy="4143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3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100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4" descr="LearningFlowers_3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6" descr="531333-b6b9ecd98c6e56ca.gif"/>
          <p:cNvPicPr/>
          <p:nvPr/>
        </p:nvPicPr>
        <p:blipFill>
          <a:blip r:embed="rId2"/>
          <a:stretch/>
        </p:blipFill>
        <p:spPr>
          <a:xfrm>
            <a:off x="2484360" y="981000"/>
            <a:ext cx="3333960" cy="33339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443640" y="6165720"/>
            <a:ext cx="755640" cy="538200"/>
          </a:xfrm>
          <a:custGeom>
            <a:avLst/>
            <a:gdLst>
              <a:gd name="textAreaLeft" fmla="*/ 34560 w 755640"/>
              <a:gd name="textAreaRight" fmla="*/ 721080 w 755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0321" h="21600">
                <a:moveTo>
                  <a:pt x="0" y="0"/>
                </a:moveTo>
                <a:lnTo>
                  <a:pt x="30321" y="0"/>
                </a:lnTo>
                <a:lnTo>
                  <a:pt x="30321" y="21600"/>
                </a:lnTo>
                <a:lnTo>
                  <a:pt x="0" y="21600"/>
                </a:lnTo>
                <a:close/>
              </a:path>
              <a:path fill="lightenLess" w="30321" h="21600">
                <a:moveTo>
                  <a:pt x="0" y="0"/>
                </a:moveTo>
                <a:lnTo>
                  <a:pt x="30321" y="0"/>
                </a:lnTo>
                <a:lnTo>
                  <a:pt x="28921" y="1400"/>
                </a:lnTo>
                <a:lnTo>
                  <a:pt x="1400" y="1400"/>
                </a:lnTo>
                <a:close/>
              </a:path>
              <a:path fill="darken" w="30321" h="21600">
                <a:moveTo>
                  <a:pt x="30321" y="0"/>
                </a:moveTo>
                <a:lnTo>
                  <a:pt x="30321" y="21600"/>
                </a:lnTo>
                <a:lnTo>
                  <a:pt x="28921" y="20200"/>
                </a:lnTo>
                <a:lnTo>
                  <a:pt x="28921" y="1400"/>
                </a:lnTo>
                <a:close/>
              </a:path>
              <a:path fill="darkenLess" w="30321" h="21600">
                <a:moveTo>
                  <a:pt x="30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21" y="20200"/>
                </a:lnTo>
                <a:close/>
              </a:path>
              <a:path fill="lighten" w="30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21" h="21600">
                <a:moveTo>
                  <a:pt x="18659" y="10800"/>
                </a:moveTo>
                <a:lnTo>
                  <a:pt x="8154" y="17806"/>
                </a:lnTo>
                <a:lnTo>
                  <a:pt x="8154" y="3794"/>
                </a:lnTo>
                <a:close/>
              </a:path>
              <a:path fill="darken" w="30321" h="21600">
                <a:moveTo>
                  <a:pt x="20505" y="3794"/>
                </a:moveTo>
                <a:lnTo>
                  <a:pt x="20505" y="17806"/>
                </a:lnTo>
                <a:lnTo>
                  <a:pt x="22167" y="17806"/>
                </a:lnTo>
                <a:lnTo>
                  <a:pt x="22167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95280" y="544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31405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924360" y="189000"/>
            <a:ext cx="39592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азмин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"/>
          <p:cNvSpPr/>
          <p:nvPr/>
        </p:nvSpPr>
        <p:spPr>
          <a:xfrm>
            <a:off x="2847960" y="1341360"/>
            <a:ext cx="597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Доскажите  имя   геро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2060640"/>
            <a:ext cx="83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к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67280" y="2565360"/>
            <a:ext cx="241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омов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22160" y="306864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а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27600" y="4292640"/>
            <a:ext cx="9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д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58920" y="436572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тар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65080" y="4869000"/>
            <a:ext cx="11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ба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03640" y="3284640"/>
            <a:ext cx="117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дяд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17080" y="37162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очталь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5661000"/>
            <a:ext cx="15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док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8317080" y="6237360"/>
            <a:ext cx="610920" cy="466560"/>
          </a:xfrm>
          <a:custGeom>
            <a:avLst/>
            <a:gdLst>
              <a:gd name="textAreaLeft" fmla="*/ 30240 w 610920"/>
              <a:gd name="textAreaRight" fmla="*/ 580680 w 610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8278" h="21600">
                <a:moveTo>
                  <a:pt x="0" y="0"/>
                </a:moveTo>
                <a:lnTo>
                  <a:pt x="28278" y="0"/>
                </a:lnTo>
                <a:lnTo>
                  <a:pt x="28278" y="21600"/>
                </a:lnTo>
                <a:lnTo>
                  <a:pt x="0" y="21600"/>
                </a:lnTo>
                <a:close/>
              </a:path>
              <a:path fill="lightenLess" w="28278" h="21600">
                <a:moveTo>
                  <a:pt x="0" y="0"/>
                </a:moveTo>
                <a:lnTo>
                  <a:pt x="28278" y="0"/>
                </a:lnTo>
                <a:lnTo>
                  <a:pt x="26878" y="1400"/>
                </a:lnTo>
                <a:lnTo>
                  <a:pt x="1400" y="1400"/>
                </a:lnTo>
                <a:close/>
              </a:path>
              <a:path fill="darken" w="28278" h="21600">
                <a:moveTo>
                  <a:pt x="28278" y="0"/>
                </a:moveTo>
                <a:lnTo>
                  <a:pt x="28278" y="21600"/>
                </a:lnTo>
                <a:lnTo>
                  <a:pt x="26878" y="20200"/>
                </a:lnTo>
                <a:lnTo>
                  <a:pt x="26878" y="1400"/>
                </a:lnTo>
                <a:close/>
              </a:path>
              <a:path fill="darkenLess" w="28278" h="21600">
                <a:moveTo>
                  <a:pt x="28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8" y="20200"/>
                </a:lnTo>
                <a:close/>
              </a:path>
              <a:path fill="lighten" w="28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8" h="21600">
                <a:moveTo>
                  <a:pt x="7133" y="3794"/>
                </a:moveTo>
                <a:lnTo>
                  <a:pt x="21146" y="10800"/>
                </a:lnTo>
                <a:lnTo>
                  <a:pt x="7133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835280" y="18900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усский  язы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"/>
          <p:cNvSpPr/>
          <p:nvPr/>
        </p:nvSpPr>
        <p:spPr>
          <a:xfrm>
            <a:off x="828360" y="1773360"/>
            <a:ext cx="56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Сколько букв в русском алфави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16000" y="2492280"/>
            <a:ext cx="645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Чем кончается лето и начинается осен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08000" y="3213000"/>
            <a:ext cx="59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Чего нет ни в дыне, ни в тыкве, но есть в арбузе, помидоре, огурц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38560" y="4365720"/>
            <a:ext cx="46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Чем кончаются день и ноч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73800" y="5013360"/>
            <a:ext cx="53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Предпоследняя буква алфави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34000" y="16192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081640" y="23400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081640" y="3203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37280" y="414036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102880" y="4941720"/>
            <a:ext cx="5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5ff"/>
            </a:gs>
            <a:gs pos="100000">
              <a:srgbClr val="b8ffb8">
                <a:alpha val="5607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258920" y="549360"/>
            <a:ext cx="590544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b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УЧЁБА</a:t>
            </a:r>
            <a:endParaRPr b="0" lang="en-US" sz="1800" spc="1" strike="noStrike">
              <a:ln w="38160">
                <a:solidFill>
                  <a:srgbClr val="0000b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6920" y="5950080"/>
            <a:ext cx="576360" cy="539640"/>
          </a:xfrm>
          <a:custGeom>
            <a:avLst/>
            <a:gdLst>
              <a:gd name="textAreaLeft" fmla="*/ 34920 w 576360"/>
              <a:gd name="textAreaRight" fmla="*/ 541440 w 5763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3069" h="21600">
                <a:moveTo>
                  <a:pt x="0" y="0"/>
                </a:moveTo>
                <a:lnTo>
                  <a:pt x="23069" y="0"/>
                </a:lnTo>
                <a:lnTo>
                  <a:pt x="23069" y="21600"/>
                </a:lnTo>
                <a:lnTo>
                  <a:pt x="0" y="21600"/>
                </a:lnTo>
                <a:close/>
              </a:path>
              <a:path fill="lightenLess" w="23069" h="21600">
                <a:moveTo>
                  <a:pt x="0" y="0"/>
                </a:moveTo>
                <a:lnTo>
                  <a:pt x="23069" y="0"/>
                </a:lnTo>
                <a:lnTo>
                  <a:pt x="21669" y="1400"/>
                </a:lnTo>
                <a:lnTo>
                  <a:pt x="1400" y="1400"/>
                </a:lnTo>
                <a:close/>
              </a:path>
              <a:path fill="darken" w="23069" h="21600">
                <a:moveTo>
                  <a:pt x="23069" y="0"/>
                </a:moveTo>
                <a:lnTo>
                  <a:pt x="23069" y="21600"/>
                </a:lnTo>
                <a:lnTo>
                  <a:pt x="21669" y="20200"/>
                </a:lnTo>
                <a:lnTo>
                  <a:pt x="21669" y="1400"/>
                </a:lnTo>
                <a:close/>
              </a:path>
              <a:path fill="darkenLess" w="23069" h="21600">
                <a:moveTo>
                  <a:pt x="230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9" y="20200"/>
                </a:lnTo>
                <a:close/>
              </a:path>
              <a:path fill="lighten" w="230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69" h="21600">
                <a:moveTo>
                  <a:pt x="15033" y="10800"/>
                </a:moveTo>
                <a:lnTo>
                  <a:pt x="4528" y="17806"/>
                </a:lnTo>
                <a:lnTo>
                  <a:pt x="4528" y="3794"/>
                </a:lnTo>
                <a:close/>
              </a:path>
              <a:path fill="darken" w="23069" h="21600">
                <a:moveTo>
                  <a:pt x="16878" y="3794"/>
                </a:moveTo>
                <a:lnTo>
                  <a:pt x="16878" y="17806"/>
                </a:lnTo>
                <a:lnTo>
                  <a:pt x="18541" y="17806"/>
                </a:lnTo>
                <a:lnTo>
                  <a:pt x="18541" y="3794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2771640" y="1125360"/>
          <a:ext cx="6096240" cy="5666040"/>
        </p:xfrm>
        <a:graphic>
          <a:graphicData uri="http://schemas.openxmlformats.org/drawingml/2006/table">
            <a:tbl>
              <a:tblPr/>
              <a:tblGrid>
                <a:gridCol w="2881440"/>
                <a:gridCol w="1655640"/>
                <a:gridCol w="1559160"/>
              </a:tblGrid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 *  6 = 36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3 * 5 = 16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4 * 7 = 28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 *5 = 4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 * 2 = 16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3 * 3 = 9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 * 8 = 49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5 * 5 = 2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6229080" y="1700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3240" y="227664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02160" y="292428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281640" y="356400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227640" y="414972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02520" y="486900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81640" y="5508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73440" y="60930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813440" y="170028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813080" y="2349360"/>
            <a:ext cx="38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41080" y="292428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813800" y="3573360"/>
            <a:ext cx="5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813800" y="4221000"/>
            <a:ext cx="4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813440" y="4941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813440" y="5516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813440" y="60930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63640" y="0"/>
            <a:ext cx="358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МАТЕМА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98612E-006 L -0.26771 -0.22017 E">
                                      <p:cBhvr>
                                        <p:cTn id="131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0.0104 L -0.39097 -0.31499 E">
                                      <p:cBhvr>
                                        <p:cTn id="135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89362E-006 L -0.18125 -0.39871 E">
                                      <p:cBhvr>
                                        <p:cTn id="139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8 4.15356E-006 L -0.1316 -0.49191 E">
                                      <p:cBhvr>
                                        <p:cTn id="143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8 -5.2729E-007 L -0.25122 -0.58765 E">
                                      <p:cBhvr>
                                        <p:cTn id="147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64 2.39593E-006 L -0.03924 -0.68201 E">
                                      <p:cBhvr>
                                        <p:cTn id="151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68085E-006 L -0.15746 -0.77636 E">
                                      <p:cBhvr>
                                        <p:cTn id="155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7271E-006 L 0.06302 -0.86031 E">
                                      <p:cBhvr>
                                        <p:cTn id="159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476360" y="1413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0" dur="1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5ff"/>
            </a:gs>
            <a:gs pos="100000">
              <a:srgbClr val="b8ffb8">
                <a:alpha val="5607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24000" y="1699560"/>
            <a:ext cx="8820000" cy="703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9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«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ИКРЁТЯП АН ЯСЬТИЧУ УЧОХ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92960" y="3708360"/>
            <a:ext cx="53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bf"/>
                </a:solidFill>
                <a:latin typeface="Arial"/>
              </a:rPr>
              <a:t>Хочу учиться на  пятё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9640" y="6021360"/>
            <a:ext cx="647640" cy="466920"/>
          </a:xfrm>
          <a:custGeom>
            <a:avLst/>
            <a:gdLst>
              <a:gd name="textAreaLeft" fmla="*/ 30240 w 647640"/>
              <a:gd name="textAreaRight" fmla="*/ 617400 w 64764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29954" h="21600">
                <a:moveTo>
                  <a:pt x="0" y="0"/>
                </a:moveTo>
                <a:lnTo>
                  <a:pt x="29954" y="0"/>
                </a:lnTo>
                <a:lnTo>
                  <a:pt x="29954" y="21600"/>
                </a:lnTo>
                <a:lnTo>
                  <a:pt x="0" y="21600"/>
                </a:lnTo>
                <a:close/>
              </a:path>
              <a:path fill="lightenLess" w="29954" h="21600">
                <a:moveTo>
                  <a:pt x="0" y="0"/>
                </a:moveTo>
                <a:lnTo>
                  <a:pt x="29954" y="0"/>
                </a:lnTo>
                <a:lnTo>
                  <a:pt x="28554" y="1400"/>
                </a:lnTo>
                <a:lnTo>
                  <a:pt x="1400" y="1400"/>
                </a:lnTo>
                <a:close/>
              </a:path>
              <a:path fill="darken" w="29954" h="21600">
                <a:moveTo>
                  <a:pt x="29954" y="0"/>
                </a:moveTo>
                <a:lnTo>
                  <a:pt x="29954" y="21600"/>
                </a:lnTo>
                <a:lnTo>
                  <a:pt x="28554" y="20200"/>
                </a:lnTo>
                <a:lnTo>
                  <a:pt x="28554" y="1400"/>
                </a:lnTo>
                <a:close/>
              </a:path>
              <a:path fill="darkenLess" w="29954" h="21600">
                <a:moveTo>
                  <a:pt x="299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54" y="20200"/>
                </a:lnTo>
                <a:close/>
              </a:path>
              <a:path fill="lighten" w="299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54" h="21600">
                <a:moveTo>
                  <a:pt x="18476" y="10800"/>
                </a:moveTo>
                <a:lnTo>
                  <a:pt x="7970" y="17806"/>
                </a:lnTo>
                <a:lnTo>
                  <a:pt x="7970" y="3794"/>
                </a:lnTo>
                <a:close/>
              </a:path>
              <a:path fill="darken" w="29954" h="21600">
                <a:moveTo>
                  <a:pt x="20321" y="3794"/>
                </a:moveTo>
                <a:lnTo>
                  <a:pt x="20321" y="17806"/>
                </a:lnTo>
                <a:lnTo>
                  <a:pt x="21983" y="17806"/>
                </a:lnTo>
                <a:lnTo>
                  <a:pt x="21983" y="3794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5T16:21:09Z</dcterms:created>
  <dc:creator>Марина</dc:creator>
  <dc:description/>
  <dc:language>en-US</dc:language>
  <cp:lastModifiedBy>Марина</cp:lastModifiedBy>
  <dcterms:modified xsi:type="dcterms:W3CDTF">2014-08-28T17:19:17Z</dcterms:modified>
  <cp:revision>7</cp:revision>
  <dc:subject/>
  <dc:title>Слайд 1</dc:title>
</cp:coreProperties>
</file>