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1D6A-44F3-4B19-B125-C799FF6D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81D5-CFED-4D72-83EA-17FAAE93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BAC-2D38-4305-9C41-1C73D446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C7AC-9EAA-41BD-A90F-11D2C6BF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86B5-FFAA-40BE-B3A3-5735855DA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D888-6370-4E48-807B-996BF7DF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602C-B779-46A1-8272-F0EA5831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9E5E-B976-48CC-AE4E-5CD8AC3A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EB98-5C93-409D-94B1-45136FCC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764F-E15A-4B82-988B-05064F9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B2BC-E1E9-4289-926A-5531F155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5DF-7DB1-41A6-BC55-C1B60229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7DFE-C7B8-45C3-8918-F012151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2F0B-7463-45A0-9185-CAC9352B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9866-5C28-4DD4-BFA8-11B2C378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8CC2-D5D6-4DD3-AD2D-AAFA6CBC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2470-6853-477F-9CB6-A00722B0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1C2-90C3-4BB4-9306-FCB789AE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26B9-1A6D-4B7E-AF3D-726BBDF3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5FD9-15E9-43BD-9857-0F763533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13D-DDB4-49D4-9AE9-05E96F2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EBBC-71A2-4D6E-84D5-F4432DD9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21F-38CA-4E6D-A50C-A280285F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424-B35C-4728-86A3-9A58EAC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0A32-CE94-413A-8401-59CDCAE9EB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C267-2A54-4F88-987C-1E7276756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c1420"/>
                </a:solidFill>
                <a:latin typeface="Tahoma"/>
              </a:rPr>
              <a:t>A letter to a pen frien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76000" y="1125360"/>
            <a:ext cx="85676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1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Your address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Flat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16 Mira Str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Kogaly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                                   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25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March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1989000"/>
            <a:ext cx="4392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2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Dear” + name.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Dear Sally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3.</a:t>
            </a: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ay than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 the let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c1420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 was gl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to get your le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 all lik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the pho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of your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’ll send you m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1268280"/>
            <a:ext cx="4824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4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t is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ain part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 of the lett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necessary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information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As for me, I live in a small Russian town Kogalym. It is in the north of our country. I study in the 3 d fo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I have a lot of friends. I go in for spor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 have gymnastics trainings 4 days in a week. Besides that I have a hobby. My hobby is collecting coins. My family consists of daddy, mummy, my elder brother and me. Our pet’s name is Lucky. We love and take care of each 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last paragrap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Well, that’s all about me. I must go and do my homework in Math. It’s my favourite subject. What are your favourite lessons at school? Hope to hear from you s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6.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ending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Best wishes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ep 7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igna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bc1420"/>
                </a:solidFill>
                <a:latin typeface="Tahoma"/>
              </a:rPr>
              <a:t>Svetla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788000" y="3573360"/>
            <a:ext cx="417672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8:15:30Z</dcterms:created>
  <dc:creator>Dez</dc:creator>
  <dc:description/>
  <dc:language>en-US</dc:language>
  <cp:lastModifiedBy>Dez</cp:lastModifiedBy>
  <dcterms:modified xsi:type="dcterms:W3CDTF">2010-03-28T07:00:21Z</dcterms:modified>
  <cp:revision>29</cp:revision>
  <dc:subject/>
  <dc:title>A letter to a pen friend</dc:title>
</cp:coreProperties>
</file>