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31E-DB72-4C92-BD14-D8F3AE12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C82-458E-44D2-9137-0AEB5169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D04-DC3E-4D61-BE7B-B19A037A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1B1-B25E-4F5F-8F49-C7F76880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AC3-F0F3-4EB8-81AA-F923DADD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9F2-D898-4B70-80DE-040E0A66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FFE-7874-435B-962D-4B868503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A63-B331-4E83-8579-498BB75A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7D2-E4B2-4C14-8052-1EB558F7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6DF-E2D6-41C6-BC78-B035A33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FF3-1C3A-40A4-98EF-22B4CA8D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823-09FA-4795-9690-FDA2DC7E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8FE4-FADC-4C0A-AB92-7C71601F1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50920" y="0"/>
            <a:ext cx="8478720" cy="414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0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Й АНГЛИЙСКИЙ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484360" y="3645000"/>
            <a:ext cx="414972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ЗЫ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58920" y="5877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Book Antiqua"/>
              </a:rPr>
              <a:t>LESSON</a:t>
            </a:r>
            <a:r>
              <a:rPr b="1" i="1" lang="ru-RU" sz="2400" spc="-1" strike="noStrike">
                <a:solidFill>
                  <a:srgbClr val="800000"/>
                </a:solidFill>
                <a:latin typeface="Book Antiqua"/>
              </a:rPr>
              <a:t> 2  </a:t>
            </a:r>
            <a:r>
              <a:rPr b="1" i="1" lang="en-US" sz="2400" spc="-1" strike="noStrike">
                <a:solidFill>
                  <a:srgbClr val="800000"/>
                </a:solidFill>
                <a:latin typeface="Book Antiqua"/>
              </a:rPr>
              <a:t>CLOTHES / </a:t>
            </a:r>
            <a:r>
              <a:rPr b="1" i="1" lang="ru-RU" sz="2400" spc="-1" strike="noStrike">
                <a:solidFill>
                  <a:srgbClr val="800000"/>
                </a:solidFill>
                <a:latin typeface="Book Antiqua"/>
              </a:rPr>
              <a:t>О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Jeans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это джинсы, кто же не знает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Их я всегда и везде надеваю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джинсы"/>
          <p:cNvPicPr/>
          <p:nvPr/>
        </p:nvPicPr>
        <p:blipFill>
          <a:blip r:embed="rId1"/>
          <a:stretch/>
        </p:blipFill>
        <p:spPr>
          <a:xfrm>
            <a:off x="2585880" y="1557360"/>
            <a:ext cx="3743640" cy="530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Short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– короткие штаниш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ожно в них скакать в припрыж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шорты1"/>
          <p:cNvPicPr/>
          <p:nvPr/>
        </p:nvPicPr>
        <p:blipFill>
          <a:blip r:embed="rId2"/>
          <a:stretch/>
        </p:blipFill>
        <p:spPr>
          <a:xfrm>
            <a:off x="2987640" y="2133720"/>
            <a:ext cx="296244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Dress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- по-английски плать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нём пойду гулять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платье"/>
          <p:cNvPicPr/>
          <p:nvPr/>
        </p:nvPicPr>
        <p:blipFill>
          <a:blip r:embed="rId1"/>
          <a:stretch/>
        </p:blipFill>
        <p:spPr>
          <a:xfrm>
            <a:off x="2987640" y="1989000"/>
            <a:ext cx="2940120" cy="4365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32400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One-have some fun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Two-I like you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Three-watch TV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Four-run to the door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Five-learn to drive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Six-learn to fix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Seven-jump</a:t>
            </a: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to the heaven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Eight-don’t be late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Nine-feel fine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Ten-say i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908000" y="18900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 Antiqua"/>
              </a:rPr>
              <a:t>Весёлая счита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9"/>
          <p:cNvSpPr txBox="1"/>
          <p:nvPr/>
        </p:nvSpPr>
        <p:spPr>
          <a:xfrm rot="5776800">
            <a:off x="935280" y="3248640"/>
            <a:ext cx="4464000" cy="151308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00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lwe Bd BT"/>
              </a:rPr>
              <a:t>1 2 3 4 5 6 7 8 9 10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00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lwe Bd BT"/>
              <a:ea typeface="Belwe Bd BT"/>
            </a:endParaRPr>
          </a:p>
        </p:txBody>
      </p:sp>
      <p:pic>
        <p:nvPicPr>
          <p:cNvPr id="83" name="Picture 10" descr="HH00714_"/>
          <p:cNvPicPr/>
          <p:nvPr/>
        </p:nvPicPr>
        <p:blipFill>
          <a:blip r:embed="rId1"/>
          <a:stretch/>
        </p:blipFill>
        <p:spPr>
          <a:xfrm>
            <a:off x="6575400" y="1052640"/>
            <a:ext cx="2112840" cy="2305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788000" y="3716280"/>
            <a:ext cx="360036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Один – немножко улыбни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ва – ты мне нравишь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Три – смотри телевизо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Четыре – беги к двер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ять – учись во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Шесть – учись ремонтиров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емь – прыгни к небес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Восемь – не опаздыва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евять – чувствуй себя прекрас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есять – повтори это ещё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446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My hat, it has three corners,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Three corners has my hat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And had it not three corners,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It would not be my hat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83840" y="260280"/>
            <a:ext cx="43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Песенка про шля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лпак"/>
          <p:cNvPicPr/>
          <p:nvPr/>
        </p:nvPicPr>
        <p:blipFill>
          <a:blip r:embed="rId2"/>
          <a:stretch/>
        </p:blipFill>
        <p:spPr>
          <a:xfrm>
            <a:off x="4716360" y="1628640"/>
            <a:ext cx="3867120" cy="4773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826920" y="4869000"/>
            <a:ext cx="331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Колпак мой треугольны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Треугольный мой колпак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А если бы он не был треугольным, это был бы не мой колпак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Чтоб под солнцем не сгоре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день скорее шляпу – 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hat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шляпа"/>
          <p:cNvPicPr/>
          <p:nvPr/>
        </p:nvPicPr>
        <p:blipFill>
          <a:blip r:embed="rId2"/>
          <a:stretch/>
        </p:blipFill>
        <p:spPr>
          <a:xfrm>
            <a:off x="1908000" y="2637000"/>
            <a:ext cx="4969080" cy="29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 улице, в снегу возит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арежки нужны нам – 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mittens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340000" y="2193840"/>
            <a:ext cx="4103640" cy="3659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Этот маленький носо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о-английски будет – 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sock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2476440" y="2492280"/>
            <a:ext cx="33926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Я на улицу спешу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деваю туфли- 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shoes</a:t>
            </a:r>
            <a:r>
              <a:rPr b="1" lang="ru-RU" sz="28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боты"/>
          <p:cNvPicPr/>
          <p:nvPr/>
        </p:nvPicPr>
        <p:blipFill>
          <a:blip r:embed="rId1"/>
          <a:stretch/>
        </p:blipFill>
        <p:spPr>
          <a:xfrm>
            <a:off x="539640" y="2313000"/>
            <a:ext cx="7632720" cy="379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Coat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это значит пальт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Зимой без пальто не выходит ник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пальто"/>
          <p:cNvPicPr/>
          <p:nvPr/>
        </p:nvPicPr>
        <p:blipFill>
          <a:blip r:embed="rId2"/>
          <a:stretch/>
        </p:blipFill>
        <p:spPr>
          <a:xfrm>
            <a:off x="3203640" y="1241280"/>
            <a:ext cx="2982960" cy="56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Юбочка – </a:t>
            </a: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skirt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 Это каждый поймё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Девочкам юбочка очен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юбка"/>
          <p:cNvPicPr/>
          <p:nvPr/>
        </p:nvPicPr>
        <p:blipFill>
          <a:blip r:embed="rId2"/>
          <a:stretch/>
        </p:blipFill>
        <p:spPr>
          <a:xfrm>
            <a:off x="2395440" y="1773360"/>
            <a:ext cx="443700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Я запомнить постараюс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блузка по-английски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blouse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блузка"/>
          <p:cNvPicPr/>
          <p:nvPr/>
        </p:nvPicPr>
        <p:blipFill>
          <a:blip r:embed="rId1"/>
          <a:stretch/>
        </p:blipFill>
        <p:spPr>
          <a:xfrm>
            <a:off x="2124000" y="2060640"/>
            <a:ext cx="4681440" cy="437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0:38:41Z</dcterms:created>
  <dc:creator>пользователь</dc:creator>
  <dc:description/>
  <dc:language>en-US</dc:language>
  <cp:lastModifiedBy>гыук</cp:lastModifiedBy>
  <dcterms:modified xsi:type="dcterms:W3CDTF">2015-01-26T06:59:16Z</dcterms:modified>
  <cp:revision>20</cp:revision>
  <dc:subject/>
  <dc:title>Слайд 1</dc:title>
</cp:coreProperties>
</file>