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055-8DAE-4FB2-9F0A-8D7498A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BC7-A1D6-47CF-A7C0-4544EF7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6E2-E6D1-4B72-AA75-E33490A1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101-4B0A-4F52-A44C-43A0A80D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ADA-B79B-45F5-9E12-D48B005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CF6-3E13-4ABF-9FF9-DE4AC59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37B-75B0-481D-A3BD-D836EC93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EF0-CCBD-4A86-BE6E-3D05B54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399-59A2-4A43-BFD8-96921AB3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360-B28B-44BA-BF3D-34FE262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543-6B38-46B3-99ED-B787ABD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8CB-EB8A-4324-848C-1DDB38C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5065-54A9-4461-9B22-29FB496D9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50920" y="0"/>
            <a:ext cx="8478720" cy="41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Й АНГЛИЙСКИЙ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484360" y="3645000"/>
            <a:ext cx="414972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ЗЫ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58920" y="5877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Book Antiqua"/>
              </a:rPr>
              <a:t>LESSON</a:t>
            </a:r>
            <a:r>
              <a:rPr b="1" i="1" lang="ru-RU" sz="2400" spc="-1" strike="noStrike">
                <a:solidFill>
                  <a:srgbClr val="800000"/>
                </a:solidFill>
                <a:latin typeface="Book Antiqua"/>
              </a:rPr>
              <a:t> 2  </a:t>
            </a:r>
            <a:r>
              <a:rPr b="1" i="1" lang="en-US" sz="2400" spc="-1" strike="noStrike">
                <a:solidFill>
                  <a:srgbClr val="800000"/>
                </a:solidFill>
                <a:latin typeface="Book Antiqua"/>
              </a:rPr>
              <a:t>CLOTHES / </a:t>
            </a:r>
            <a:r>
              <a:rPr b="1" i="1" lang="ru-RU" sz="2400" spc="-1" strike="noStrike">
                <a:solidFill>
                  <a:srgbClr val="800000"/>
                </a:solidFill>
                <a:latin typeface="Book Antiqua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Jean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это джинсы, кто же не знает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х я всегда и везде надева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джинсы"/>
          <p:cNvPicPr/>
          <p:nvPr/>
        </p:nvPicPr>
        <p:blipFill>
          <a:blip r:embed="rId1"/>
          <a:stretch/>
        </p:blipFill>
        <p:spPr>
          <a:xfrm>
            <a:off x="2585880" y="1557360"/>
            <a:ext cx="374364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hor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короткие штаниш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ожно в них скакать в припры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шорты1"/>
          <p:cNvPicPr/>
          <p:nvPr/>
        </p:nvPicPr>
        <p:blipFill>
          <a:blip r:embed="rId2"/>
          <a:stretch/>
        </p:blipFill>
        <p:spPr>
          <a:xfrm>
            <a:off x="2987640" y="2133720"/>
            <a:ext cx="296244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Dres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по-английски плать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нём пойду гулять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платье"/>
          <p:cNvPicPr/>
          <p:nvPr/>
        </p:nvPicPr>
        <p:blipFill>
          <a:blip r:embed="rId1"/>
          <a:stretch/>
        </p:blipFill>
        <p:spPr>
          <a:xfrm>
            <a:off x="2987640" y="1989000"/>
            <a:ext cx="2940120" cy="4365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32400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One-have some fun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wo-I like you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hree-watch TV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Four-run to the door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Five-learn to driv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ix-learn to fix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Seven-jump</a:t>
            </a: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o the heaven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Eight-don’t be late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Nine-feel fine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Book Antiqua"/>
              </a:rPr>
              <a:t>Ten-say i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8000" y="18900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Весёлая счит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 rot="5776800">
            <a:off x="935280" y="3248640"/>
            <a:ext cx="446400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0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lwe Bd BT"/>
              </a:rPr>
              <a:t>1 2 3 4 5 6 7 8 9 1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0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lwe Bd BT"/>
              <a:ea typeface="Belwe Bd BT"/>
            </a:endParaRPr>
          </a:p>
        </p:txBody>
      </p:sp>
      <p:pic>
        <p:nvPicPr>
          <p:cNvPr id="83" name="Picture 10" descr="HH00714_"/>
          <p:cNvPicPr/>
          <p:nvPr/>
        </p:nvPicPr>
        <p:blipFill>
          <a:blip r:embed="rId1"/>
          <a:stretch/>
        </p:blipFill>
        <p:spPr>
          <a:xfrm>
            <a:off x="6575400" y="1052640"/>
            <a:ext cx="2112840" cy="2305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788000" y="3716280"/>
            <a:ext cx="360036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Один – немножко улыбн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ва – ты мне нравиш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ри – смотри телевиз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Четыре – беги к двер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ять – учись во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Шесть – учись ремонтиро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емь – прыгни к небес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осемь – не опаздыва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вять – чувствуй себя прекрас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сять – повтори это ещё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446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My hat, it has three corners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Three corners has my hat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And had it not three corners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It would not be my hat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83840" y="260280"/>
            <a:ext cx="43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 Antiqua"/>
              </a:rPr>
              <a:t>Песенка про шля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лпак"/>
          <p:cNvPicPr/>
          <p:nvPr/>
        </p:nvPicPr>
        <p:blipFill>
          <a:blip r:embed="rId2"/>
          <a:stretch/>
        </p:blipFill>
        <p:spPr>
          <a:xfrm>
            <a:off x="4716360" y="1628640"/>
            <a:ext cx="3867120" cy="4773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826920" y="4869000"/>
            <a:ext cx="331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олпак мой треуголь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Треугольный мой колпа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А если бы он не был треугольным, это был бы не мой колпа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Чтоб под солнцем не сгоре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день скорее шляпу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ha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шляпа"/>
          <p:cNvPicPr/>
          <p:nvPr/>
        </p:nvPicPr>
        <p:blipFill>
          <a:blip r:embed="rId2"/>
          <a:stretch/>
        </p:blipFill>
        <p:spPr>
          <a:xfrm>
            <a:off x="1908000" y="2637000"/>
            <a:ext cx="4969080" cy="29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улице, в снегу воз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арежки нужны нам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mittens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340000" y="2193840"/>
            <a:ext cx="4103640" cy="3659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от маленький нос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-английски будет –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ock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476440" y="2492280"/>
            <a:ext cx="3392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Я на улицу спешу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деваю туфли-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shoes</a:t>
            </a: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боты"/>
          <p:cNvPicPr/>
          <p:nvPr/>
        </p:nvPicPr>
        <p:blipFill>
          <a:blip r:embed="rId1"/>
          <a:stretch/>
        </p:blipFill>
        <p:spPr>
          <a:xfrm>
            <a:off x="539640" y="2313000"/>
            <a:ext cx="7632720" cy="379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Coa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это значит пальт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имой без пальто не выходит ник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пальто"/>
          <p:cNvPicPr/>
          <p:nvPr/>
        </p:nvPicPr>
        <p:blipFill>
          <a:blip r:embed="rId2"/>
          <a:stretch/>
        </p:blipFill>
        <p:spPr>
          <a:xfrm>
            <a:off x="3203640" y="1241280"/>
            <a:ext cx="298296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Юбочка – </a:t>
            </a:r>
            <a:r>
              <a:rPr b="0" lang="en-US" sz="2800" spc="-1" strike="noStrike">
                <a:solidFill>
                  <a:srgbClr val="333399"/>
                </a:solidFill>
                <a:latin typeface="Book Antiqua"/>
              </a:rPr>
              <a:t>skirt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 Это каждый поймё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Девочкам юбочка очен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юбка"/>
          <p:cNvPicPr/>
          <p:nvPr/>
        </p:nvPicPr>
        <p:blipFill>
          <a:blip r:embed="rId2"/>
          <a:stretch/>
        </p:blipFill>
        <p:spPr>
          <a:xfrm>
            <a:off x="2395440" y="1773360"/>
            <a:ext cx="44370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Я запомнить постараю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блузка по-английски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blouse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блузка"/>
          <p:cNvPicPr/>
          <p:nvPr/>
        </p:nvPicPr>
        <p:blipFill>
          <a:blip r:embed="rId1"/>
          <a:stretch/>
        </p:blipFill>
        <p:spPr>
          <a:xfrm>
            <a:off x="2124000" y="2060640"/>
            <a:ext cx="4681440" cy="437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8648640" y="636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0:38:41Z</dcterms:created>
  <dc:creator>пользователь</dc:creator>
  <dc:description/>
  <dc:language>en-US</dc:language>
  <cp:lastModifiedBy>гыук</cp:lastModifiedBy>
  <dcterms:modified xsi:type="dcterms:W3CDTF">2015-01-26T06:59:16Z</dcterms:modified>
  <cp:revision>20</cp:revision>
  <dc:subject/>
  <dc:title>Слайд 1</dc:title>
</cp:coreProperties>
</file>