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CC6-EADB-4E06-89A5-C55E862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C1F-DF2F-44FF-A47A-039A69D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E1B-848A-4734-AEAA-A5DB275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3F4-4801-4DCB-944E-C0E4D7F6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C9B-F3E0-46BF-AF1A-054EBD4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3AB-405B-4C96-B378-5C8E582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558-E760-419F-AE26-73E9600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5B3-2F3D-4F84-8094-F9BB6FDA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F86-FC6F-4EB5-8324-FEC84C6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445-3569-4A96-837B-C63B23E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FA2-833F-404C-9475-03D76FD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4F2-87AD-46B5-8CFC-2F48D064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5C4D-566F-4508-BDE9-B395A7893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6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Подготовка к домашнему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сочинению-рассуждению</a:t>
            </a:r>
            <a:br>
              <a:rPr sz="4800"/>
            </a:br>
            <a:br>
              <a:rPr sz="4800"/>
            </a:br>
            <a:r>
              <a:rPr b="1" lang="en-US" sz="4700" spc="-1" strike="noStrike">
                <a:solidFill>
                  <a:srgbClr val="000000"/>
                </a:solidFill>
                <a:latin typeface="Georgia"/>
              </a:rPr>
              <a:t>на морально-нравственную тему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-2700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00720" y="5877000"/>
            <a:ext cx="1800360" cy="981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2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76720" y="480924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оброта – путь к сердцу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9520" y="404640"/>
            <a:ext cx="39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Можно ли дружить с эгоис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160" y="184140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то такой эгои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9736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значит «уметь дружит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8099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я понимаю слово «дружб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2200" y="47628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бязательно ли другу быть добр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26880" y="191304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то такое добр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2738520"/>
            <a:ext cx="40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ого человека можно назвать добр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3542" t="0" r="0" b="0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518" t="6569" r="6115" b="69325"/>
          <a:stretch/>
        </p:blipFill>
        <p:spPr>
          <a:xfrm rot="20639400">
            <a:off x="107640" y="620640"/>
            <a:ext cx="4680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99072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духовные и душевные качества, необходимые человеку в обществ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правила нравствен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60280"/>
            <a:ext cx="43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Georgia"/>
              </a:rPr>
              <a:t>Нравств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400536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Georgia"/>
              </a:rPr>
              <a:t>Мора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935200">
            <a:off x="1403280" y="1413000"/>
            <a:ext cx="5975280" cy="443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17640" y="-71280"/>
            <a:ext cx="2538360" cy="40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9940" t="14230" r="12095" b="14692"/>
          <a:stretch/>
        </p:blipFill>
        <p:spPr>
          <a:xfrm>
            <a:off x="179280" y="228600"/>
            <a:ext cx="8785440" cy="644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3880" y="62064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жа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240" y="559584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ави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27840" y="559584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92920" y="620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61280" y="610092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одино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67880" y="43920"/>
            <a:ext cx="42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самолюб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711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Эгои́ст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от лат. 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eg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 — «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ловек, чрезмерно заботящийся о собственной пользе, выгоде, ставящий свои интересы выше интересов других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Эгои́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1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ведение эгоистичного человека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19800">
            <a:off x="2121840" y="477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нап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973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ерд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1073800">
            <a:off x="1692360" y="31971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виреп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380800">
            <a:off x="2340000" y="4363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ь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404640"/>
            <a:ext cx="1873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491920"/>
            <a:ext cx="23036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3499920"/>
            <a:ext cx="237672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40000" y="4292280"/>
            <a:ext cx="1944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211640" y="0"/>
            <a:ext cx="431640" cy="7118280"/>
            <a:chOff x="4211640" y="0"/>
            <a:chExt cx="431640" cy="7118280"/>
          </a:xfrm>
        </p:grpSpPr>
        <p:grpSp>
          <p:nvGrpSpPr>
            <p:cNvPr id="65" name=""/>
            <p:cNvGrpSpPr/>
            <p:nvPr/>
          </p:nvGrpSpPr>
          <p:grpSpPr>
            <a:xfrm>
              <a:off x="4211640" y="0"/>
              <a:ext cx="431640" cy="2394000"/>
              <a:chOff x="4211640" y="0"/>
              <a:chExt cx="431640" cy="2394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3"/>
              <a:srcRect l="0" t="0" r="63918" b="0"/>
              <a:stretch/>
            </p:blipFill>
            <p:spPr>
              <a:xfrm>
                <a:off x="4211640" y="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4"/>
              <a:srcRect l="0" t="0" r="63918" b="0"/>
              <a:stretch/>
            </p:blipFill>
            <p:spPr>
              <a:xfrm>
                <a:off x="4211640" y="119700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4211640" y="2349360"/>
              <a:ext cx="431640" cy="2394000"/>
              <a:chOff x="4211640" y="2349360"/>
              <a:chExt cx="431640" cy="2394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5"/>
              <a:srcRect l="0" t="0" r="63918" b="0"/>
              <a:stretch/>
            </p:blipFill>
            <p:spPr>
              <a:xfrm>
                <a:off x="4211640" y="234936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6"/>
              <a:srcRect l="0" t="0" r="63918" b="0"/>
              <a:stretch/>
            </p:blipFill>
            <p:spPr>
              <a:xfrm>
                <a:off x="4211640" y="354636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4211640" y="4724280"/>
              <a:ext cx="431640" cy="2394000"/>
              <a:chOff x="4211640" y="4724280"/>
              <a:chExt cx="431640" cy="2394000"/>
            </a:xfrm>
          </p:grpSpPr>
          <p:pic>
            <p:nvPicPr>
              <p:cNvPr id="72" name="" descr=""/>
              <p:cNvPicPr/>
              <p:nvPr/>
            </p:nvPicPr>
            <p:blipFill>
              <a:blip r:embed="rId7"/>
              <a:srcRect l="0" t="0" r="63918" b="0"/>
              <a:stretch/>
            </p:blipFill>
            <p:spPr>
              <a:xfrm>
                <a:off x="4211640" y="472428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8"/>
              <a:srcRect l="0" t="0" r="63918" b="0"/>
              <a:stretch/>
            </p:blipFill>
            <p:spPr>
              <a:xfrm>
                <a:off x="4211640" y="5921280"/>
                <a:ext cx="431640" cy="119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" name=""/>
          <p:cNvSpPr txBox="1"/>
          <p:nvPr/>
        </p:nvSpPr>
        <p:spPr>
          <a:xfrm rot="5400000">
            <a:off x="-1713960" y="3090240"/>
            <a:ext cx="4608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агрес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 spd="med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7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Агресси́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лат. aggressio — напад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войство личности, отражающая её предрасположенность к поведению, целью которого является причинение вреда окружающ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3436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5400000">
            <a:off x="-1713960" y="3090240"/>
            <a:ext cx="4608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78" name=""/>
          <p:cNvSpPr/>
          <p:nvPr/>
        </p:nvSpPr>
        <p:spPr>
          <a:xfrm>
            <a:off x="3471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724000">
            <a:off x="3633120" y="126468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улыб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31200">
            <a:off x="2985120" y="184464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або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171800">
            <a:off x="2339640" y="263484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дарит бла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26200" y="801000"/>
            <a:ext cx="2022840" cy="1973160"/>
            <a:chOff x="6226200" y="801000"/>
            <a:chExt cx="2022840" cy="1973160"/>
          </a:xfrm>
        </p:grpSpPr>
        <p:pic>
          <p:nvPicPr>
            <p:cNvPr id="83" name="" descr=""/>
            <p:cNvPicPr/>
            <p:nvPr/>
          </p:nvPicPr>
          <p:blipFill>
            <a:blip r:embed="rId3"/>
            <a:srcRect l="0" t="0" r="63918" b="0"/>
            <a:stretch/>
          </p:blipFill>
          <p:spPr>
            <a:xfrm rot="2761200">
              <a:off x="7452360" y="77328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rcRect l="0" t="0" r="63918" b="0"/>
            <a:stretch/>
          </p:blipFill>
          <p:spPr>
            <a:xfrm rot="2761200">
              <a:off x="6590880" y="160452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4535640" y="2432880"/>
            <a:ext cx="2022840" cy="1973160"/>
            <a:chOff x="4535640" y="2432880"/>
            <a:chExt cx="2022840" cy="197316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63918" b="0"/>
            <a:stretch/>
          </p:blipFill>
          <p:spPr>
            <a:xfrm rot="2761200">
              <a:off x="5761800" y="240516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63918" b="0"/>
            <a:stretch/>
          </p:blipFill>
          <p:spPr>
            <a:xfrm rot="2761200">
              <a:off x="4900320" y="323640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827440" y="4082400"/>
            <a:ext cx="2022840" cy="1973160"/>
            <a:chOff x="2827440" y="4082400"/>
            <a:chExt cx="2022840" cy="1973160"/>
          </a:xfrm>
        </p:grpSpPr>
        <p:pic>
          <p:nvPicPr>
            <p:cNvPr id="89" name="" descr=""/>
            <p:cNvPicPr/>
            <p:nvPr/>
          </p:nvPicPr>
          <p:blipFill>
            <a:blip r:embed="rId7"/>
            <a:srcRect l="0" t="0" r="63918" b="0"/>
            <a:stretch/>
          </p:blipFill>
          <p:spPr>
            <a:xfrm rot="2761200">
              <a:off x="4053600" y="4054680"/>
              <a:ext cx="43164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8"/>
            <a:srcRect l="0" t="0" r="63918" b="0"/>
            <a:stretch/>
          </p:blipFill>
          <p:spPr>
            <a:xfrm rot="2761200">
              <a:off x="3192120" y="4885920"/>
              <a:ext cx="43164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это проявление искренних, добрых чувств по отношению к кому или чему-ли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4960" y="4308480"/>
            <a:ext cx="86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оброта делает нас отзывчи-выми  и  терпимыми, способны-ми  дарить  окружающим  забо-ту и любов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5T10:19:18Z</dcterms:created>
  <dc:creator>Пользователь</dc:creator>
  <dc:description/>
  <dc:language>en-US</dc:language>
  <cp:lastModifiedBy>Пользователь</cp:lastModifiedBy>
  <dcterms:modified xsi:type="dcterms:W3CDTF">2013-05-06T16:03:14Z</dcterms:modified>
  <cp:revision>9</cp:revision>
  <dc:subject/>
  <dc:title>Слайд 1</dc:title>
</cp:coreProperties>
</file>