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5A7D-B139-4F5C-A819-38B733E6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7BE-2475-41D3-8D44-BFCA3369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B169-E668-4C79-A6EC-23453AAE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43ED-583D-40E9-8F24-06567A34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04BB-DCFB-49AE-9283-F364A9C6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C2E-0C3C-4D2B-8D83-65DC6EEA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A81D-2C04-47B6-A554-DBA51D5E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45F-A93E-4B8A-98D6-64BA9725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5B2-C4B2-44B7-B29B-CADCAF87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554D-D535-462F-AB71-D043271F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E2A0-4152-4013-8C4C-5C569AFD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33F2-94BC-47FE-B9C9-F7363ED3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4CF4-7299-4874-A2DE-8D41A173C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4634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Подготовка к домашнему</a:t>
            </a: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Georgia"/>
              </a:rPr>
              <a:t>сочинению-рассуждению</a:t>
            </a:r>
            <a:br>
              <a:rPr sz="4800"/>
            </a:br>
            <a:br>
              <a:rPr sz="4800"/>
            </a:br>
            <a:r>
              <a:rPr b="1" lang="en-US" sz="4700" spc="-1" strike="noStrike">
                <a:solidFill>
                  <a:srgbClr val="000000"/>
                </a:solidFill>
                <a:latin typeface="Georgia"/>
              </a:rPr>
              <a:t>на морально-нравственную тему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16000" y="-27000"/>
            <a:ext cx="6840720" cy="6840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300720" y="5877000"/>
            <a:ext cx="1800360" cy="981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42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076720" y="480924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Доброта – путь к сердцу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9520" y="404640"/>
            <a:ext cx="39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Можно ли дружить с эгоис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6160" y="1841400"/>
            <a:ext cx="38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Кто такой эгоис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2997360"/>
            <a:ext cx="38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Что значит «уметь дружить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480996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Как я понимаю слово «дружб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02200" y="476280"/>
            <a:ext cx="403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Обязательно ли другу быть добр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26880" y="1913040"/>
            <a:ext cx="41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Что такое добро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2738520"/>
            <a:ext cx="40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Какого человека можно назвать добр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rcRect l="3542" t="0" r="0" b="0"/>
          <a:stretch/>
        </p:blipFill>
        <p:spPr>
          <a:xfrm>
            <a:off x="0" y="442800"/>
            <a:ext cx="9144000" cy="6415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5518" t="6569" r="6115" b="69325"/>
          <a:stretch/>
        </p:blipFill>
        <p:spPr>
          <a:xfrm rot="20639400">
            <a:off x="107640" y="620640"/>
            <a:ext cx="468000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826560" y="990720"/>
            <a:ext cx="831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духовные и душевные качества, необходимые человеку в обществ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правила нравственност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4000" y="260280"/>
            <a:ext cx="431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Georgia"/>
              </a:rPr>
              <a:t>Нравствен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4000" y="400536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Georgia"/>
              </a:rPr>
              <a:t>Мора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20935200">
            <a:off x="1403280" y="1413000"/>
            <a:ext cx="5975280" cy="4432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817640" y="-71280"/>
            <a:ext cx="2538360" cy="4005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rcRect l="9940" t="14230" r="12095" b="14692"/>
          <a:stretch/>
        </p:blipFill>
        <p:spPr>
          <a:xfrm>
            <a:off x="179280" y="228600"/>
            <a:ext cx="8785440" cy="6440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3880" y="620640"/>
            <a:ext cx="25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жад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240" y="5595840"/>
            <a:ext cx="20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зави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27840" y="559584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ст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92920" y="62064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зл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61280" y="6100920"/>
            <a:ext cx="32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одино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67880" y="43920"/>
            <a:ext cx="42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самолюбов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711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Эгои́ст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(от лат. </a:t>
            </a: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ego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 — «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1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человек, чрезмерно заботящийся о собственной пользе, выгоде, ставящий свои интересы выше интересов других люд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1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00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Эгои́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11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ведение эгоистичного человека.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7416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2119800">
            <a:off x="2121840" y="47772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напад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9731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серд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1073800">
            <a:off x="1692360" y="31971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свирепе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380800">
            <a:off x="2340000" y="43635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бь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93840" y="404640"/>
            <a:ext cx="1873440" cy="129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763640" y="2491920"/>
            <a:ext cx="2303640" cy="7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763640" y="3499920"/>
            <a:ext cx="237672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340000" y="4292280"/>
            <a:ext cx="194472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211640" y="0"/>
            <a:ext cx="431640" cy="7118280"/>
            <a:chOff x="4211640" y="0"/>
            <a:chExt cx="431640" cy="7118280"/>
          </a:xfrm>
        </p:grpSpPr>
        <p:grpSp>
          <p:nvGrpSpPr>
            <p:cNvPr id="65" name=""/>
            <p:cNvGrpSpPr/>
            <p:nvPr/>
          </p:nvGrpSpPr>
          <p:grpSpPr>
            <a:xfrm>
              <a:off x="4211640" y="0"/>
              <a:ext cx="431640" cy="2394000"/>
              <a:chOff x="4211640" y="0"/>
              <a:chExt cx="431640" cy="2394000"/>
            </a:xfrm>
          </p:grpSpPr>
          <p:pic>
            <p:nvPicPr>
              <p:cNvPr id="66" name="" descr=""/>
              <p:cNvPicPr/>
              <p:nvPr/>
            </p:nvPicPr>
            <p:blipFill>
              <a:blip r:embed="rId3"/>
              <a:srcRect l="0" t="0" r="63918" b="0"/>
              <a:stretch/>
            </p:blipFill>
            <p:spPr>
              <a:xfrm>
                <a:off x="4211640" y="0"/>
                <a:ext cx="431640" cy="119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4"/>
              <a:srcRect l="0" t="0" r="63918" b="0"/>
              <a:stretch/>
            </p:blipFill>
            <p:spPr>
              <a:xfrm>
                <a:off x="4211640" y="1197000"/>
                <a:ext cx="431640" cy="1197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" name=""/>
            <p:cNvGrpSpPr/>
            <p:nvPr/>
          </p:nvGrpSpPr>
          <p:grpSpPr>
            <a:xfrm>
              <a:off x="4211640" y="2349360"/>
              <a:ext cx="431640" cy="2394000"/>
              <a:chOff x="4211640" y="2349360"/>
              <a:chExt cx="431640" cy="2394000"/>
            </a:xfrm>
          </p:grpSpPr>
          <p:pic>
            <p:nvPicPr>
              <p:cNvPr id="69" name="" descr=""/>
              <p:cNvPicPr/>
              <p:nvPr/>
            </p:nvPicPr>
            <p:blipFill>
              <a:blip r:embed="rId5"/>
              <a:srcRect l="0" t="0" r="63918" b="0"/>
              <a:stretch/>
            </p:blipFill>
            <p:spPr>
              <a:xfrm>
                <a:off x="4211640" y="2349360"/>
                <a:ext cx="431640" cy="119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" descr=""/>
              <p:cNvPicPr/>
              <p:nvPr/>
            </p:nvPicPr>
            <p:blipFill>
              <a:blip r:embed="rId6"/>
              <a:srcRect l="0" t="0" r="63918" b="0"/>
              <a:stretch/>
            </p:blipFill>
            <p:spPr>
              <a:xfrm>
                <a:off x="4211640" y="3546360"/>
                <a:ext cx="431640" cy="1197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" name=""/>
            <p:cNvGrpSpPr/>
            <p:nvPr/>
          </p:nvGrpSpPr>
          <p:grpSpPr>
            <a:xfrm>
              <a:off x="4211640" y="4724280"/>
              <a:ext cx="431640" cy="2394000"/>
              <a:chOff x="4211640" y="4724280"/>
              <a:chExt cx="431640" cy="2394000"/>
            </a:xfrm>
          </p:grpSpPr>
          <p:pic>
            <p:nvPicPr>
              <p:cNvPr id="72" name="" descr=""/>
              <p:cNvPicPr/>
              <p:nvPr/>
            </p:nvPicPr>
            <p:blipFill>
              <a:blip r:embed="rId7"/>
              <a:srcRect l="0" t="0" r="63918" b="0"/>
              <a:stretch/>
            </p:blipFill>
            <p:spPr>
              <a:xfrm>
                <a:off x="4211640" y="4724280"/>
                <a:ext cx="431640" cy="119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" descr=""/>
              <p:cNvPicPr/>
              <p:nvPr/>
            </p:nvPicPr>
            <p:blipFill>
              <a:blip r:embed="rId8"/>
              <a:srcRect l="0" t="0" r="63918" b="0"/>
              <a:stretch/>
            </p:blipFill>
            <p:spPr>
              <a:xfrm>
                <a:off x="4211640" y="5921280"/>
                <a:ext cx="431640" cy="1197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4" name=""/>
          <p:cNvSpPr txBox="1"/>
          <p:nvPr/>
        </p:nvSpPr>
        <p:spPr>
          <a:xfrm rot="5400000">
            <a:off x="-1713960" y="3090240"/>
            <a:ext cx="46083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агресс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</p:spTree>
  </p:cSld>
  <p:transition spd="med">
    <p:wipe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7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Агресси́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(лат. aggressio — напада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свойство личности, отражающая её предрасположенность к поведению, целью которого является причинение вреда окружающе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16000" y="0"/>
            <a:ext cx="73436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 rot="5400000">
            <a:off x="-1713960" y="3090240"/>
            <a:ext cx="46083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добр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78" name=""/>
          <p:cNvSpPr/>
          <p:nvPr/>
        </p:nvSpPr>
        <p:spPr>
          <a:xfrm>
            <a:off x="347184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724000">
            <a:off x="3633120" y="1264680"/>
            <a:ext cx="28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улыб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131200">
            <a:off x="2985120" y="1844640"/>
            <a:ext cx="28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забот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171800">
            <a:off x="2339640" y="2634840"/>
            <a:ext cx="28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дарит бла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226200" y="801000"/>
            <a:ext cx="2022840" cy="1973160"/>
            <a:chOff x="6226200" y="801000"/>
            <a:chExt cx="2022840" cy="1973160"/>
          </a:xfrm>
        </p:grpSpPr>
        <p:pic>
          <p:nvPicPr>
            <p:cNvPr id="83" name="" descr=""/>
            <p:cNvPicPr/>
            <p:nvPr/>
          </p:nvPicPr>
          <p:blipFill>
            <a:blip r:embed="rId3"/>
            <a:srcRect l="0" t="0" r="63918" b="0"/>
            <a:stretch/>
          </p:blipFill>
          <p:spPr>
            <a:xfrm rot="2761200">
              <a:off x="7452360" y="773280"/>
              <a:ext cx="43164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4"/>
            <a:srcRect l="0" t="0" r="63918" b="0"/>
            <a:stretch/>
          </p:blipFill>
          <p:spPr>
            <a:xfrm rot="2761200">
              <a:off x="6590880" y="1604520"/>
              <a:ext cx="431640" cy="119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4535640" y="2432880"/>
            <a:ext cx="2022840" cy="1973160"/>
            <a:chOff x="4535640" y="2432880"/>
            <a:chExt cx="2022840" cy="1973160"/>
          </a:xfrm>
        </p:grpSpPr>
        <p:pic>
          <p:nvPicPr>
            <p:cNvPr id="86" name="" descr=""/>
            <p:cNvPicPr/>
            <p:nvPr/>
          </p:nvPicPr>
          <p:blipFill>
            <a:blip r:embed="rId5"/>
            <a:srcRect l="0" t="0" r="63918" b="0"/>
            <a:stretch/>
          </p:blipFill>
          <p:spPr>
            <a:xfrm rot="2761200">
              <a:off x="5761800" y="2405160"/>
              <a:ext cx="43164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rcRect l="0" t="0" r="63918" b="0"/>
            <a:stretch/>
          </p:blipFill>
          <p:spPr>
            <a:xfrm rot="2761200">
              <a:off x="4900320" y="3236400"/>
              <a:ext cx="431640" cy="119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2827440" y="4082400"/>
            <a:ext cx="2022840" cy="1973160"/>
            <a:chOff x="2827440" y="4082400"/>
            <a:chExt cx="2022840" cy="1973160"/>
          </a:xfrm>
        </p:grpSpPr>
        <p:pic>
          <p:nvPicPr>
            <p:cNvPr id="89" name="" descr=""/>
            <p:cNvPicPr/>
            <p:nvPr/>
          </p:nvPicPr>
          <p:blipFill>
            <a:blip r:embed="rId7"/>
            <a:srcRect l="0" t="0" r="63918" b="0"/>
            <a:stretch/>
          </p:blipFill>
          <p:spPr>
            <a:xfrm rot="2761200">
              <a:off x="4053600" y="4054680"/>
              <a:ext cx="43164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8"/>
            <a:srcRect l="0" t="0" r="63918" b="0"/>
            <a:stretch/>
          </p:blipFill>
          <p:spPr>
            <a:xfrm rot="2761200">
              <a:off x="3192120" y="4885920"/>
              <a:ext cx="431640" cy="1197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900"/>
                            </p:stCondLst>
                            <p:childTnLst>
                              <p:par>
                                <p:cTn id="10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400"/>
                            </p:stCondLst>
                            <p:childTnLst>
                              <p:par>
                                <p:cTn id="1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Добр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это проявление искренних, добрых чувств по отношению к кому или чему-либ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4960" y="4308480"/>
            <a:ext cx="862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Доброта делает нас отзывчи-выми  и  терпимыми, способны-ми  дарить  окружающим  забо-ту и любов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5T10:19:18Z</dcterms:created>
  <dc:creator>Пользователь</dc:creator>
  <dc:description/>
  <dc:language>en-US</dc:language>
  <cp:lastModifiedBy>Пользователь</cp:lastModifiedBy>
  <dcterms:modified xsi:type="dcterms:W3CDTF">2013-05-06T16:03:14Z</dcterms:modified>
  <cp:revision>9</cp:revision>
  <dc:subject/>
  <dc:title>Слайд 1</dc:title>
</cp:coreProperties>
</file>