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7.jpeg" ContentType="image/jpeg"/>
  <Override PartName="/ppt/media/image18.png" ContentType="image/png"/>
  <Override PartName="/ppt/media/image12.png" ContentType="image/png"/>
  <Override PartName="/ppt/media/image20.jpeg" ContentType="image/jpeg"/>
  <Override PartName="/ppt/media/image24.png" ContentType="image/png"/>
  <Override PartName="/ppt/media/image23.wmf" ContentType="image/x-wmf"/>
  <Override PartName="/ppt/media/image21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BFBC-6030-4671-8077-49503C9F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1B98-ED8C-4E02-A9CE-63D0C362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8EFA-2C69-445F-845C-D214608A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A4D-EEBA-4E1C-95ED-E634322F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88F9-F3E5-4B92-953E-1681F2C2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708-5B3D-4BDC-8234-5F6D5329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EE3-6446-4693-B843-D9A1486F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E408-9301-4363-A7FE-9665614F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95E-6E74-4E4F-841F-5D3BEB2B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7B0-7ADB-40CE-BB28-288DE0CA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85D-EBAE-4397-B628-41FF96FA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712-D504-4ABA-9575-5EF12D5F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04A5-C596-4EFC-BE6E-73449602985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1042920" y="115920"/>
            <a:ext cx="6400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Исследовательская работ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395280" y="1700280"/>
            <a:ext cx="84488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" Распределения средств семейного бюджета"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4211640" y="3068640"/>
            <a:ext cx="4680000" cy="24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Работу 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ученица 7   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МБОУ СОШ  с. Владимировка Тандинского кожууна РТ </a:t>
            </a:r>
            <a:r>
              <a:rPr b="1" i="1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80399"/>
                </a:solidFill>
                <a:latin typeface="Candara"/>
                <a:ea typeface="Arial"/>
              </a:rPr>
              <a:t>Сульдум-оол Крис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учитель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80399"/>
                </a:solidFill>
                <a:latin typeface="Candara"/>
                <a:ea typeface="Arial"/>
              </a:rPr>
              <a:t>Сарыглар Саяна Шакыровна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714240" y="714240"/>
          <a:ext cx="8001000" cy="60073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ная часть Наименование статьи (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ная часть Наименование статьи (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2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Заработанная пл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ен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типенд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особ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Доход от других источ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Доход от личного хоз- ва (сад, огород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дежд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ит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Хозяйственные 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Коммунальные услуги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Транспортные 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плата телеф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Лекар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Подар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9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едвиденные 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Накоп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Рисунок 2" descr="Image353.jpg"/>
          <p:cNvPicPr/>
          <p:nvPr/>
        </p:nvPicPr>
        <p:blipFill>
          <a:blip r:embed="rId1"/>
          <a:stretch/>
        </p:blipFill>
        <p:spPr>
          <a:xfrm>
            <a:off x="6000840" y="500040"/>
            <a:ext cx="27860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500040" y="500040"/>
          <a:ext cx="7786800" cy="5859360"/>
        </p:xfrm>
        <a:graphic>
          <a:graphicData uri="http://schemas.openxmlformats.org/drawingml/2006/table">
            <a:tbl>
              <a:tblPr/>
              <a:tblGrid>
                <a:gridCol w="514440"/>
                <a:gridCol w="1227240"/>
                <a:gridCol w="1236600"/>
                <a:gridCol w="1226880"/>
                <a:gridCol w="1249560"/>
                <a:gridCol w="1130400"/>
                <a:gridCol w="1201680"/>
              </a:tblGrid>
              <a:tr h="617400">
                <a:tc gridSpan="7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я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плата ма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пл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о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5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Диаграмма 1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sp>
        <p:nvSpPr>
          <p:cNvPr id="102" name="WordArt 3"/>
          <p:cNvSpPr txBox="1"/>
          <p:nvPr/>
        </p:nvSpPr>
        <p:spPr>
          <a:xfrm>
            <a:off x="2705040" y="1676520"/>
            <a:ext cx="2755800" cy="2705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03" name="Прямоугольник 3" descr=""/>
          <p:cNvPicPr/>
          <p:nvPr/>
        </p:nvPicPr>
        <p:blipFill>
          <a:blip r:embed="rId4"/>
          <a:stretch/>
        </p:blipFill>
        <p:spPr>
          <a:xfrm>
            <a:off x="1206360" y="689040"/>
            <a:ext cx="66582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28760" y="571680"/>
          <a:ext cx="8143920" cy="5786280"/>
        </p:xfrm>
        <a:graphic>
          <a:graphicData uri="http://schemas.openxmlformats.org/drawingml/2006/table">
            <a:tbl>
              <a:tblPr/>
              <a:tblGrid>
                <a:gridCol w="337680"/>
                <a:gridCol w="169200"/>
                <a:gridCol w="355320"/>
                <a:gridCol w="122040"/>
                <a:gridCol w="568800"/>
                <a:gridCol w="771840"/>
                <a:gridCol w="694800"/>
                <a:gridCol w="659880"/>
                <a:gridCol w="123480"/>
                <a:gridCol w="433080"/>
                <a:gridCol w="549360"/>
                <a:gridCol w="658440"/>
                <a:gridCol w="587160"/>
                <a:gridCol w="123480"/>
                <a:gridCol w="634680"/>
                <a:gridCol w="751680"/>
                <a:gridCol w="603000"/>
              </a:tblGrid>
              <a:tr h="271440">
                <a:tc gridSpan="2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4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720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-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-ые 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еж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-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ар-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оп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6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6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 gridSpan="17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6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 gridSpan="17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676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1"/>
          <p:cNvSpPr/>
          <p:nvPr/>
        </p:nvSpPr>
        <p:spPr>
          <a:xfrm>
            <a:off x="642960" y="21600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ходы семей  Сульдум-оол Кристины и Ооржак Ди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Диаграмма 1" descr=""/>
          <p:cNvPicPr/>
          <p:nvPr/>
        </p:nvPicPr>
        <p:blipFill>
          <a:blip r:embed="rId1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428840" y="1143000"/>
            <a:ext cx="707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мь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счастье, любовь и удач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мь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летом поездки на дач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мь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праздник, семейные да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арки,  покупки, приятные тр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0" descr="8.jpeg"/>
          <p:cNvPicPr/>
          <p:nvPr/>
        </p:nvPicPr>
        <p:blipFill>
          <a:blip r:embed="rId1"/>
          <a:stretch/>
        </p:blipFill>
        <p:spPr>
          <a:xfrm>
            <a:off x="3571920" y="3714840"/>
            <a:ext cx="32385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00040" y="571680"/>
          <a:ext cx="8072640" cy="6060960"/>
        </p:xfrm>
        <a:graphic>
          <a:graphicData uri="http://schemas.openxmlformats.org/drawingml/2006/table">
            <a:tbl>
              <a:tblPr/>
              <a:tblGrid>
                <a:gridCol w="8072640"/>
              </a:tblGrid>
              <a:tr h="6060960">
                <a:tc>
                  <a:txBody>
                    <a:bodyPr lIns="9360" rIns="9360" tIns="95400" bIns="9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й опро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ос проводился среди 15 семей. Результаты были таковы: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уя данную тему меня заинтересовали некоторые вопросы, такие как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 в среднем доход семьи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0-4000 руб – 5 семей, от 5000-6000 руб – 8 семей, от 10000-16000 руб – 2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акие сферы расходов уходит больше денег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итание – 5, на одежду и на питание – 6,  на кредит – 2, на канцелярские товары – 1, на коммунальные услуги – 1, на детей -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зуются ли семьи схемами расчёта семейного бюджет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льзуются- 9, пользуются 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 ли семей пользуются кредитами, ссудами или займами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2,не знаю – 2, нет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многих семей есть дополнительный доход помимо заработка (пенсии, стипендии и т. п.)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– 8, да – 4, мало- 2, не знаю 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523880" y="3335400"/>
          <a:ext cx="6096240" cy="1872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87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1" descr="ar120284008936063.jpg"/>
          <p:cNvPicPr/>
          <p:nvPr/>
        </p:nvPicPr>
        <p:blipFill>
          <a:blip r:embed="rId1"/>
          <a:stretch/>
        </p:blipFill>
        <p:spPr>
          <a:xfrm>
            <a:off x="7358040" y="214200"/>
            <a:ext cx="135720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0" y="161640"/>
            <a:ext cx="900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ос семей  учителей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ос проводился среди 14 учи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ос состоял из трех приведённых ниже вопрос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) На что вы больше всего тратите свой дох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редиты – 2, на продукты питания – 6, на отдых – 1,на одежду –3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нужды семьи- 2, на учебы детей -1,  УМК – 3, на поездки, досуг – 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учебы -1, на канцелярские товары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) На что вам не хватает средст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окупку дорогих вещей - 2 , на мультимедийные средства -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урорт, путешествия – 6, на жизненные мелочи -1, на себя – 3, на все -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одежду -2, на подарки 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) Как и на чём можно сэкономи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получать кредиты – 3, не плановые покупки -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же ходить в магазин – 2, на продукты питания-3, сэкономить не получается -3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хозяйственные нужды 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1" descr="M5kLODaLNJY.jpg"/>
          <p:cNvPicPr/>
          <p:nvPr/>
        </p:nvPicPr>
        <p:blipFill>
          <a:blip r:embed="rId1"/>
          <a:stretch/>
        </p:blipFill>
        <p:spPr>
          <a:xfrm>
            <a:off x="6215040" y="4286160"/>
            <a:ext cx="21290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7"/>
          <p:cNvSpPr/>
          <p:nvPr/>
        </p:nvSpPr>
        <p:spPr>
          <a:xfrm>
            <a:off x="395280" y="62064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Строгое</a:t>
            </a: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ведение</a:t>
            </a: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учё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д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енежных</a:t>
            </a: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средств семь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п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риводит</a:t>
            </a: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к</a:t>
            </a: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их</a:t>
            </a: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эконом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D:\Documents and Settings\Diana\Рабочий стол\Новая папка рисунков\CALENDCR\MONEY\FINANCE.WMF"/>
          <p:cNvPicPr/>
          <p:nvPr/>
        </p:nvPicPr>
        <p:blipFill>
          <a:blip r:embed="rId2"/>
          <a:stretch/>
        </p:blipFill>
        <p:spPr>
          <a:xfrm>
            <a:off x="4500720" y="3213000"/>
            <a:ext cx="3889080" cy="2017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1042920" y="3284640"/>
            <a:ext cx="3168720" cy="13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1143000" y="1000080"/>
            <a:ext cx="6929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7030a0"/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108000" y="1816200"/>
            <a:ext cx="871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Деньги лишними не бываю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042920" y="260280"/>
            <a:ext cx="7272360" cy="9352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2340000" y="260280"/>
            <a:ext cx="56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Актуальность  темы: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pic>
        <p:nvPicPr>
          <p:cNvPr id="49" name="Picture 2" descr="D:\Documents and Settings\Diana\Рабочий стол\Новая папка рисунков\CALENDCR\MONEY\EXCHNGE.WMF"/>
          <p:cNvPicPr/>
          <p:nvPr/>
        </p:nvPicPr>
        <p:blipFill>
          <a:blip r:embed="rId2"/>
          <a:stretch/>
        </p:blipFill>
        <p:spPr>
          <a:xfrm>
            <a:off x="1116000" y="333360"/>
            <a:ext cx="1008000" cy="795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3"/>
          <a:stretch/>
        </p:blipFill>
        <p:spPr>
          <a:xfrm>
            <a:off x="5286240" y="3357720"/>
            <a:ext cx="2735280" cy="181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"/>
          <p:cNvPicPr/>
          <p:nvPr/>
        </p:nvPicPr>
        <p:blipFill>
          <a:blip r:embed="rId4"/>
          <a:stretch/>
        </p:blipFill>
        <p:spPr>
          <a:xfrm>
            <a:off x="1000080" y="2928960"/>
            <a:ext cx="3425760" cy="2844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D:\Documents and Settings\Diana\Рабочий стол\Новая папка рисунков\CALENDCR\MONEY\MONEYBAG.WMF"/>
          <p:cNvPicPr/>
          <p:nvPr/>
        </p:nvPicPr>
        <p:blipFill>
          <a:blip r:embed="rId5"/>
          <a:stretch/>
        </p:blipFill>
        <p:spPr>
          <a:xfrm>
            <a:off x="8317080" y="476280"/>
            <a:ext cx="6858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54" name="WordArt 6"/>
          <p:cNvSpPr txBox="1"/>
          <p:nvPr/>
        </p:nvSpPr>
        <p:spPr>
          <a:xfrm>
            <a:off x="1187280" y="1413000"/>
            <a:ext cx="216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Цель: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55" name="WordArt 7"/>
          <p:cNvSpPr txBox="1"/>
          <p:nvPr/>
        </p:nvSpPr>
        <p:spPr>
          <a:xfrm>
            <a:off x="5867280" y="1125360"/>
            <a:ext cx="2519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дачи: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95280" y="2781360"/>
            <a:ext cx="331164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строения семейного бюджета, выведение формулы или иного способа вычисления семейного бюджета и нахождение различных предложений по его улучшению, изучение бюджета наших семей и исследование расх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755640" y="0"/>
            <a:ext cx="7272360" cy="93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D:\Documents and Settings\Diana\Рабочий стол\Новая папка рисунков\CALENDCR\MONEY\EXCHNGE.WMF"/>
          <p:cNvPicPr/>
          <p:nvPr/>
        </p:nvPicPr>
        <p:blipFill>
          <a:blip r:embed="rId3"/>
          <a:stretch/>
        </p:blipFill>
        <p:spPr>
          <a:xfrm>
            <a:off x="755640" y="115920"/>
            <a:ext cx="1008000" cy="795240"/>
          </a:xfrm>
          <a:prstGeom prst="rect">
            <a:avLst/>
          </a:prstGeom>
          <a:ln w="0">
            <a:noFill/>
          </a:ln>
        </p:spPr>
      </p:pic>
      <p:sp>
        <p:nvSpPr>
          <p:cNvPr id="59" name="WordArt 11"/>
          <p:cNvSpPr txBox="1"/>
          <p:nvPr/>
        </p:nvSpPr>
        <p:spPr>
          <a:xfrm>
            <a:off x="1908000" y="115920"/>
            <a:ext cx="56167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Цель и задачи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pic>
        <p:nvPicPr>
          <p:cNvPr id="60" name="Picture 3" descr="D:\Documents and Settings\Diana\Рабочий стол\Новая папка рисунков\CALENDCR\MONEY\MONEYBAG.WMF"/>
          <p:cNvPicPr/>
          <p:nvPr/>
        </p:nvPicPr>
        <p:blipFill>
          <a:blip r:embed="rId4"/>
          <a:stretch/>
        </p:blipFill>
        <p:spPr>
          <a:xfrm>
            <a:off x="8101080" y="0"/>
            <a:ext cx="936720" cy="981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3"/>
          <p:cNvSpPr/>
          <p:nvPr/>
        </p:nvSpPr>
        <p:spPr>
          <a:xfrm>
            <a:off x="5292720" y="2781360"/>
            <a:ext cx="33116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Изучить, что такое бюджет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вести опрос насе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Составить бюджет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Изучить проблему рационального и экономного расходования доходов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24"/>
          <p:cNvGrpSpPr/>
          <p:nvPr/>
        </p:nvGrpSpPr>
        <p:grpSpPr>
          <a:xfrm>
            <a:off x="684000" y="3857400"/>
            <a:ext cx="7245000" cy="1857240"/>
            <a:chOff x="684000" y="3857400"/>
            <a:chExt cx="7245000" cy="1857240"/>
          </a:xfrm>
        </p:grpSpPr>
        <p:sp>
          <p:nvSpPr>
            <p:cNvPr id="64" name="AutoShape 10"/>
            <p:cNvSpPr/>
            <p:nvPr/>
          </p:nvSpPr>
          <p:spPr>
            <a:xfrm rot="10800000">
              <a:off x="684000" y="3857760"/>
              <a:ext cx="2049480" cy="996480"/>
            </a:xfrm>
            <a:prstGeom prst="leftArrowCallout">
              <a:avLst>
                <a:gd name="adj1" fmla="val 25002"/>
                <a:gd name="adj2" fmla="val 25000"/>
                <a:gd name="adj3" fmla="val 34279"/>
                <a:gd name="adj4" fmla="val 66673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8" descr=""/>
            <p:cNvPicPr/>
            <p:nvPr/>
          </p:nvPicPr>
          <p:blipFill>
            <a:blip r:embed="rId2"/>
            <a:stretch/>
          </p:blipFill>
          <p:spPr>
            <a:xfrm>
              <a:off x="748080" y="3917160"/>
              <a:ext cx="1223280" cy="87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AutoShape 9"/>
            <p:cNvSpPr/>
            <p:nvPr/>
          </p:nvSpPr>
          <p:spPr>
            <a:xfrm rot="10800000">
              <a:off x="2002320" y="3857400"/>
              <a:ext cx="5926680" cy="1857240"/>
            </a:xfrm>
            <a:prstGeom prst="flowChartOnlineStorage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являетс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изучение распределе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средств семейного бюджета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AutoShape 19"/>
          <p:cNvSpPr/>
          <p:nvPr/>
        </p:nvSpPr>
        <p:spPr>
          <a:xfrm>
            <a:off x="2124000" y="404640"/>
            <a:ext cx="4448160" cy="667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0"/>
          <p:cNvSpPr/>
          <p:nvPr/>
        </p:nvSpPr>
        <p:spPr>
          <a:xfrm>
            <a:off x="2195640" y="2924280"/>
            <a:ext cx="4805280" cy="57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2484360" y="476280"/>
            <a:ext cx="408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Объект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2786040" y="2997360"/>
            <a:ext cx="44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Предмет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23"/>
          <p:cNvGrpSpPr/>
          <p:nvPr/>
        </p:nvGrpSpPr>
        <p:grpSpPr>
          <a:xfrm>
            <a:off x="663480" y="1495080"/>
            <a:ext cx="7775640" cy="1152360"/>
            <a:chOff x="663480" y="1495080"/>
            <a:chExt cx="7775640" cy="1152360"/>
          </a:xfrm>
        </p:grpSpPr>
        <p:sp>
          <p:nvSpPr>
            <p:cNvPr id="72" name="AutoShape 5"/>
            <p:cNvSpPr/>
            <p:nvPr/>
          </p:nvSpPr>
          <p:spPr>
            <a:xfrm rot="10800000">
              <a:off x="2138400" y="1494720"/>
              <a:ext cx="6300720" cy="1152360"/>
            </a:xfrm>
            <a:prstGeom prst="flowChartOnlineStorage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бюджет семьи Сульдум-оол Кристи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и  Ооржак Дианы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6"/>
            <p:cNvSpPr/>
            <p:nvPr/>
          </p:nvSpPr>
          <p:spPr>
            <a:xfrm rot="10800000">
              <a:off x="663480" y="1495080"/>
              <a:ext cx="2292480" cy="1152360"/>
            </a:xfrm>
            <a:prstGeom prst="leftArrowCallout">
              <a:avLst>
                <a:gd name="adj1" fmla="val 25002"/>
                <a:gd name="adj2" fmla="val 25000"/>
                <a:gd name="adj3" fmla="val 33156"/>
                <a:gd name="adj4" fmla="val 66673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21" descr=""/>
            <p:cNvPicPr/>
            <p:nvPr/>
          </p:nvPicPr>
          <p:blipFill>
            <a:blip r:embed="rId3"/>
            <a:stretch/>
          </p:blipFill>
          <p:spPr>
            <a:xfrm>
              <a:off x="755640" y="1557360"/>
              <a:ext cx="1368360" cy="100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26"/>
          <p:cNvGrpSpPr/>
          <p:nvPr/>
        </p:nvGrpSpPr>
        <p:grpSpPr>
          <a:xfrm>
            <a:off x="324000" y="1268280"/>
            <a:ext cx="8569080" cy="1441440"/>
            <a:chOff x="324000" y="1268280"/>
            <a:chExt cx="8569080" cy="1441440"/>
          </a:xfrm>
        </p:grpSpPr>
        <p:sp>
          <p:nvSpPr>
            <p:cNvPr id="77" name="AutoShape 8"/>
            <p:cNvSpPr/>
            <p:nvPr/>
          </p:nvSpPr>
          <p:spPr>
            <a:xfrm rot="10800000">
              <a:off x="324000" y="1411920"/>
              <a:ext cx="1584000" cy="1081080"/>
            </a:xfrm>
            <a:prstGeom prst="leftArrowCallout">
              <a:avLst>
                <a:gd name="adj1" fmla="val 22447"/>
                <a:gd name="adj2" fmla="val 25000"/>
                <a:gd name="adj3" fmla="val 22751"/>
                <a:gd name="adj4" fmla="val 66673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9" descr=""/>
            <p:cNvPicPr/>
            <p:nvPr/>
          </p:nvPicPr>
          <p:blipFill>
            <a:blip r:embed="rId2"/>
            <a:stretch/>
          </p:blipFill>
          <p:spPr>
            <a:xfrm>
              <a:off x="395280" y="1484280"/>
              <a:ext cx="93672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AutoShape 14"/>
            <p:cNvSpPr/>
            <p:nvPr/>
          </p:nvSpPr>
          <p:spPr>
            <a:xfrm>
              <a:off x="1908000" y="1268280"/>
              <a:ext cx="6912000" cy="14414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2"/>
            <p:cNvSpPr/>
            <p:nvPr/>
          </p:nvSpPr>
          <p:spPr>
            <a:xfrm>
              <a:off x="1908000" y="1341360"/>
              <a:ext cx="6985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Если мы будем знать, как формируется бюджет семьи и на что расходуются доходы семьи, то мы сможем соотносить свои желания и потребност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AutoShape 16"/>
          <p:cNvSpPr/>
          <p:nvPr/>
        </p:nvSpPr>
        <p:spPr>
          <a:xfrm>
            <a:off x="2124000" y="260280"/>
            <a:ext cx="5112000" cy="792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177360" y="260280"/>
            <a:ext cx="278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Monotype Corsiva"/>
              </a:rPr>
              <a:t>Гипоте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9"/>
          <p:cNvSpPr/>
          <p:nvPr/>
        </p:nvSpPr>
        <p:spPr>
          <a:xfrm>
            <a:off x="2195640" y="2997360"/>
            <a:ext cx="5111640" cy="79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1414800" y="2997360"/>
            <a:ext cx="639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Monotype Corsiva"/>
              </a:rPr>
              <a:t>Методы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30"/>
          <p:cNvGrpSpPr/>
          <p:nvPr/>
        </p:nvGrpSpPr>
        <p:grpSpPr>
          <a:xfrm>
            <a:off x="324000" y="4005360"/>
            <a:ext cx="8496000" cy="2209680"/>
            <a:chOff x="324000" y="4005360"/>
            <a:chExt cx="8496000" cy="2209680"/>
          </a:xfrm>
        </p:grpSpPr>
        <p:sp>
          <p:nvSpPr>
            <p:cNvPr id="86" name="AutoShape 21"/>
            <p:cNvSpPr/>
            <p:nvPr/>
          </p:nvSpPr>
          <p:spPr>
            <a:xfrm rot="10800000">
              <a:off x="324000" y="4076280"/>
              <a:ext cx="1584000" cy="1081080"/>
            </a:xfrm>
            <a:prstGeom prst="leftArrowCallout">
              <a:avLst>
                <a:gd name="adj1" fmla="val 25002"/>
                <a:gd name="adj2" fmla="val 25000"/>
                <a:gd name="adj3" fmla="val 24420"/>
                <a:gd name="adj4" fmla="val 66673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23"/>
            <p:cNvSpPr/>
            <p:nvPr/>
          </p:nvSpPr>
          <p:spPr>
            <a:xfrm>
              <a:off x="1908000" y="4005360"/>
              <a:ext cx="6912000" cy="220968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В ходе исследования использовалис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различ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методы и приемы анализа учебной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научно-популярной литературы, ресурсов сети Интернет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социологический опрос, практическая работа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28" descr=""/>
            <p:cNvPicPr/>
            <p:nvPr/>
          </p:nvPicPr>
          <p:blipFill>
            <a:blip r:embed="rId3"/>
            <a:stretch/>
          </p:blipFill>
          <p:spPr>
            <a:xfrm>
              <a:off x="395280" y="4149720"/>
              <a:ext cx="936720" cy="93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04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785880"/>
            <a:ext cx="81867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мейный бюджет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одна из важнейших составляющих каждой семьи. Именно неумение вести семейный бюджет и грамотно распоряжаться теми средствами, которые есть, приводит семью к взаимному разочарованию, обидам и недовольству. Для счастливой семейной жизни, помимо всего прочего, необходимо ещё и финансовое благополучие. Для этого не обязательно каждый месяц зарабатывать по миллиону рублей, необходимо всего лишь научиться грамотно вести семейный бюджет и распоряжаться теми средствами, которыми располагает в данный момент ваша семья. Когда мы умеем мудро распределить свой семейный бюджет, и когда у нас всегда и на все  хватает денег, в нашей жизни наступает спокойствие и ощущение надеж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7686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ово "экономика" произошло от греческого «oikonomike", буквально - искусство ведения домашнего хозяйства. В нашем языке слово "экономить" связывают с понятиями "беречь, расходовать осмотрительно, рассчитать". Слово "рачительно" происходит от слова "радеть", то есть переживать, заботиться, относиться ответственно. "Разумно" получается только тогда, когда подумаешь, "приложишь ум". "Умело", когда сумеешь, "приложишь руки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такое бюджет семь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юджет семьи - роспись денежных доходов и расходов семьи, составляемая обычно на месячный срок в виде таблицы, баланс семейных расходов и доходов. Упрощенно говоря, бюджет семьи – это постатейный перечень всех доходов и расходов семьи за определенный период. Бюджет делится на две части – доходную и расходную. В доходную часть попадают все доходы, которые планируется получить за определенное время, в расходной части, соответственно, отображаются все предполагаемые расходы. Для расчёта семейного бюджета используется множество вариантов. Самый распространенный из них это форму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ормула расчета семейного бюдже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Д = Р +П+  О +  Нз...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де Р = Рк + Рт + Рг…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 = Пд + Пс …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 = Ож + Ом + Од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- доходная статья бюдж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 – обязательные расход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- питание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- расходы на предметы гардероб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з - резерв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09:42:39Z</dcterms:created>
  <dc:creator>Admin</dc:creator>
  <dc:description/>
  <dc:language>en-US</dc:language>
  <cp:lastModifiedBy>User</cp:lastModifiedBy>
  <dcterms:modified xsi:type="dcterms:W3CDTF">2014-02-14T02:37:27Z</dcterms:modified>
  <cp:revision>90</cp:revision>
  <dc:subject/>
  <dc:title>Слайд 1</dc:title>
</cp:coreProperties>
</file>