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F48-32CD-4D23-A908-531352FA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D91-CBB8-4D5F-AEFA-F3C9FD16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E5E-F62B-4BD5-92B2-0CA6A881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992-A296-45DB-A5BB-0916C416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BF7-063E-4578-9632-E958EC5E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2E5-8947-4DC6-8B02-D2436812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026-7411-40A1-ADEA-8E818C07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BC4-DABF-49B1-B9DA-3C976D7F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215-5170-4523-91DA-B9755246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584-66A2-4D1F-9CC3-B89D920C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114-1E34-4BC0-BEB7-CC314297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801-B59F-47A7-B95E-57F4F9F7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410E-D94E-411E-9332-6639EAD792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езентация по теме: «Патриотическое воспитание в начальной школ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406320" y="3276720"/>
            <a:ext cx="5757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и учителя начальны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ов ГБОУ школы №4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ексеева Н.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мчик Ю.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28600" y="228600"/>
            <a:ext cx="89154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атриотическое воспитание подрастающ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околения является одной из важнейших зада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овременной школы, ведь детство и юность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амая благодатная пора для привит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вященного чувства любви к Роди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од патриотическим воспитанием мы понима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остепенное формирование у учащихся любви 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воей Родине, своему народу и служение Отечест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Работа в нашей школе по патриотическом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воспитанию направлена на развитие у школьн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чувства гордости за свой народ, уважение к ег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вершениям и подвиг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812600" y="285840"/>
            <a:ext cx="495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Знакомство с истори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родного кр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6" descr="Стрелка"/>
          <p:cNvPicPr/>
          <p:nvPr/>
        </p:nvPicPr>
        <p:blipFill>
          <a:blip r:embed="rId2"/>
          <a:stretch/>
        </p:blipFill>
        <p:spPr>
          <a:xfrm>
            <a:off x="1828800" y="23623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1030759"/>
          <p:cNvPicPr/>
          <p:nvPr/>
        </p:nvPicPr>
        <p:blipFill>
          <a:blip r:embed="rId2"/>
          <a:stretch/>
        </p:blipFill>
        <p:spPr>
          <a:xfrm>
            <a:off x="685800" y="304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Петропавловка"/>
          <p:cNvPicPr/>
          <p:nvPr/>
        </p:nvPicPr>
        <p:blipFill>
          <a:blip r:embed="rId3"/>
          <a:stretch/>
        </p:blipFill>
        <p:spPr>
          <a:xfrm>
            <a:off x="4648320" y="3733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P1010348"/>
          <p:cNvPicPr/>
          <p:nvPr/>
        </p:nvPicPr>
        <p:blipFill>
          <a:blip r:embed="rId4"/>
          <a:stretch/>
        </p:blipFill>
        <p:spPr>
          <a:xfrm>
            <a:off x="762120" y="3962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P1010337"/>
          <p:cNvPicPr/>
          <p:nvPr/>
        </p:nvPicPr>
        <p:blipFill>
          <a:blip r:embed="rId5"/>
          <a:stretch/>
        </p:blipFill>
        <p:spPr>
          <a:xfrm>
            <a:off x="5810400" y="304920"/>
            <a:ext cx="234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1010391"/>
          <p:cNvPicPr/>
          <p:nvPr/>
        </p:nvPicPr>
        <p:blipFill>
          <a:blip r:embed="rId2"/>
          <a:stretch/>
        </p:blipFill>
        <p:spPr>
          <a:xfrm>
            <a:off x="609480" y="3049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P1010384"/>
          <p:cNvPicPr/>
          <p:nvPr/>
        </p:nvPicPr>
        <p:blipFill>
          <a:blip r:embed="rId3"/>
          <a:stretch/>
        </p:blipFill>
        <p:spPr>
          <a:xfrm>
            <a:off x="4952880" y="3657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1020301"/>
          <p:cNvPicPr/>
          <p:nvPr/>
        </p:nvPicPr>
        <p:blipFill>
          <a:blip r:embed="rId4"/>
          <a:stretch/>
        </p:blipFill>
        <p:spPr>
          <a:xfrm>
            <a:off x="6019920" y="22860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P1020298"/>
          <p:cNvPicPr/>
          <p:nvPr/>
        </p:nvPicPr>
        <p:blipFill>
          <a:blip r:embed="rId5"/>
          <a:stretch/>
        </p:blipFill>
        <p:spPr>
          <a:xfrm>
            <a:off x="228600" y="36766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1020631"/>
          <p:cNvPicPr/>
          <p:nvPr/>
        </p:nvPicPr>
        <p:blipFill>
          <a:blip r:embed="rId2"/>
          <a:stretch/>
        </p:blipFill>
        <p:spPr>
          <a:xfrm>
            <a:off x="457200" y="9144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P1020636"/>
          <p:cNvPicPr/>
          <p:nvPr/>
        </p:nvPicPr>
        <p:blipFill>
          <a:blip r:embed="rId3"/>
          <a:stretch/>
        </p:blipFill>
        <p:spPr>
          <a:xfrm>
            <a:off x="5181480" y="9907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1020791"/>
          <p:cNvPicPr/>
          <p:nvPr/>
        </p:nvPicPr>
        <p:blipFill>
          <a:blip r:embed="rId4"/>
          <a:stretch/>
        </p:blipFill>
        <p:spPr>
          <a:xfrm>
            <a:off x="457200" y="38862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P1020797"/>
          <p:cNvPicPr/>
          <p:nvPr/>
        </p:nvPicPr>
        <p:blipFill>
          <a:blip r:embed="rId5"/>
          <a:stretch/>
        </p:blipFill>
        <p:spPr>
          <a:xfrm>
            <a:off x="5181480" y="3886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2050200" y="15228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Народные праздн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21052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5-01-28T10:30:0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