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89F-0A54-47C8-9917-30B1CC0E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BEB-6709-41E3-BECB-060F1013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21D-0A40-4458-853D-A07CF185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DF9-F79E-4399-9BA2-1B293F95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E4D-AAB8-49FE-8D6F-22DE0E06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E54-9B34-4C3B-B690-6FEF919F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73D-B731-4557-A32F-0FB21AD5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AA5-CE7F-4843-9304-2F10E9EA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BF1-3759-4DB4-9435-44A01741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345-E253-4C35-84F8-3217290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948-F100-4EB9-A016-3E440BA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4BB-AAC5-4D88-AC01-3146B96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9463-6E87-4781-B3C7-A9F34ACC06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я по теме: «Патриотическое воспитание в начальной школ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406320" y="3276720"/>
            <a:ext cx="575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и учителя начальны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ов ГБОУ школы №4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еева Н.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мчик Ю.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1040771"/>
          <p:cNvPicPr/>
          <p:nvPr/>
        </p:nvPicPr>
        <p:blipFill>
          <a:blip r:embed="rId2"/>
          <a:stretch/>
        </p:blipFill>
        <p:spPr>
          <a:xfrm>
            <a:off x="152280" y="12952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1040772"/>
          <p:cNvPicPr/>
          <p:nvPr/>
        </p:nvPicPr>
        <p:blipFill>
          <a:blip r:embed="rId3"/>
          <a:stretch/>
        </p:blipFill>
        <p:spPr>
          <a:xfrm>
            <a:off x="4191120" y="295272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252160" y="304920"/>
            <a:ext cx="46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мотры строя и пес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y_71020b48"/>
          <p:cNvPicPr/>
          <p:nvPr/>
        </p:nvPicPr>
        <p:blipFill>
          <a:blip r:embed="rId2"/>
          <a:stretch/>
        </p:blipFill>
        <p:spPr>
          <a:xfrm>
            <a:off x="4191120" y="3200400"/>
            <a:ext cx="4605120" cy="329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1"/>
          <p:cNvPicPr/>
          <p:nvPr/>
        </p:nvPicPr>
        <p:blipFill>
          <a:blip r:embed="rId3"/>
          <a:stretch/>
        </p:blipFill>
        <p:spPr>
          <a:xfrm>
            <a:off x="152280" y="1066680"/>
            <a:ext cx="4453200" cy="3353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-59760" y="304920"/>
            <a:ext cx="92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ступления в госпитале для ветеранов В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1040494"/>
          <p:cNvPicPr/>
          <p:nvPr/>
        </p:nvPicPr>
        <p:blipFill>
          <a:blip r:embed="rId2"/>
          <a:stretch/>
        </p:blipFill>
        <p:spPr>
          <a:xfrm>
            <a:off x="304920" y="3808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P1040497"/>
          <p:cNvPicPr/>
          <p:nvPr/>
        </p:nvPicPr>
        <p:blipFill>
          <a:blip r:embed="rId3"/>
          <a:stretch/>
        </p:blipFill>
        <p:spPr>
          <a:xfrm>
            <a:off x="4419720" y="32385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P1040500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839880" y="5715000"/>
            <a:ext cx="74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Проекты о Великой Отечественной вой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99200" y="1143000"/>
            <a:ext cx="764244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Работа в данном направлении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это долгий и кропотливый тру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Но делать это, тем не менее необходим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Без любви к Отечеству и уважению к е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истории и культуре невозможн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воспитать </a:t>
            </a:r>
            <a:r>
              <a:rPr b="1" lang="en-US" sz="4000" spc="-1" strike="noStrike">
                <a:solidFill>
                  <a:srgbClr val="e5ffff"/>
                </a:solidFill>
                <a:latin typeface="Times New Roman"/>
              </a:rPr>
              <a:t>гражданина и патриот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стречи с ветеранами Великой Отечественной вой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цветы187"/>
          <p:cNvPicPr/>
          <p:nvPr/>
        </p:nvPicPr>
        <p:blipFill>
          <a:blip r:embed="rId2"/>
          <a:stretch/>
        </p:blipFill>
        <p:spPr>
          <a:xfrm>
            <a:off x="1828800" y="20574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1040166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1040167"/>
          <p:cNvPicPr/>
          <p:nvPr/>
        </p:nvPicPr>
        <p:blipFill>
          <a:blip r:embed="rId3"/>
          <a:stretch/>
        </p:blipFill>
        <p:spPr>
          <a:xfrm>
            <a:off x="4495680" y="327672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205920" y="406440"/>
            <a:ext cx="88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imes New Roman"/>
              </a:rPr>
              <a:t>Встреча с жителями блокадного Ленингра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020586"/>
          <p:cNvPicPr/>
          <p:nvPr/>
        </p:nvPicPr>
        <p:blipFill>
          <a:blip r:embed="rId2"/>
          <a:stretch/>
        </p:blipFill>
        <p:spPr>
          <a:xfrm>
            <a:off x="609480" y="24382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20592"/>
          <p:cNvPicPr/>
          <p:nvPr/>
        </p:nvPicPr>
        <p:blipFill>
          <a:blip r:embed="rId3"/>
          <a:stretch/>
        </p:blipFill>
        <p:spPr>
          <a:xfrm>
            <a:off x="5334120" y="18288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581920" y="457200"/>
            <a:ext cx="34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Уроки муж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1040724"/>
          <p:cNvPicPr/>
          <p:nvPr/>
        </p:nvPicPr>
        <p:blipFill>
          <a:blip r:embed="rId2"/>
          <a:stretch/>
        </p:blipFill>
        <p:spPr>
          <a:xfrm>
            <a:off x="304920" y="1905120"/>
            <a:ext cx="3543120" cy="472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1080569"/>
          <p:cNvPicPr/>
          <p:nvPr/>
        </p:nvPicPr>
        <p:blipFill>
          <a:blip r:embed="rId3"/>
          <a:stretch/>
        </p:blipFill>
        <p:spPr>
          <a:xfrm>
            <a:off x="4114800" y="266688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98880" y="380880"/>
            <a:ext cx="85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овместные экскурсии с ветеранами В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1040755"/>
          <p:cNvPicPr/>
          <p:nvPr/>
        </p:nvPicPr>
        <p:blipFill>
          <a:blip r:embed="rId2"/>
          <a:stretch/>
        </p:blipFill>
        <p:spPr>
          <a:xfrm>
            <a:off x="304920" y="8380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1080588"/>
          <p:cNvPicPr/>
          <p:nvPr/>
        </p:nvPicPr>
        <p:blipFill>
          <a:blip r:embed="rId3"/>
          <a:stretch/>
        </p:blipFill>
        <p:spPr>
          <a:xfrm>
            <a:off x="4572000" y="33526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016280" y="406440"/>
            <a:ext cx="716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imes New Roman"/>
              </a:rPr>
              <a:t>Результатами нашей совместно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imes New Roman"/>
              </a:rPr>
              <a:t>деятельности с детьми являютс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3720" y="1981080"/>
            <a:ext cx="7840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Выставки рисун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Инсценировки военных пес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Смотры строя и пес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Концерты в госпитале для ветеранов В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5ffff"/>
                </a:solidFill>
                <a:latin typeface="Times New Roman"/>
              </a:rPr>
              <a:t>Проекты о вой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e5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1040157"/>
          <p:cNvPicPr/>
          <p:nvPr/>
        </p:nvPicPr>
        <p:blipFill>
          <a:blip r:embed="rId2"/>
          <a:stretch/>
        </p:blipFill>
        <p:spPr>
          <a:xfrm>
            <a:off x="0" y="152388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P1060770"/>
          <p:cNvPicPr/>
          <p:nvPr/>
        </p:nvPicPr>
        <p:blipFill>
          <a:blip r:embed="rId3"/>
          <a:stretch/>
        </p:blipFill>
        <p:spPr>
          <a:xfrm>
            <a:off x="4267080" y="3048120"/>
            <a:ext cx="467388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429280" y="38088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ставки рисун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1020600"/>
          <p:cNvPicPr/>
          <p:nvPr/>
        </p:nvPicPr>
        <p:blipFill>
          <a:blip r:embed="rId2"/>
          <a:stretch/>
        </p:blipFill>
        <p:spPr>
          <a:xfrm>
            <a:off x="152280" y="16765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20613"/>
          <p:cNvPicPr/>
          <p:nvPr/>
        </p:nvPicPr>
        <p:blipFill>
          <a:blip r:embed="rId3"/>
          <a:stretch/>
        </p:blipFill>
        <p:spPr>
          <a:xfrm>
            <a:off x="4267080" y="2819520"/>
            <a:ext cx="4724640" cy="3543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476000" y="457200"/>
            <a:ext cx="632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Конкурсы-инсцениров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оенно-патриотических пес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5-01-28T10:33:4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