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F2AA-0F7F-4F13-A9FC-BF1DCB8DFD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16DF-8C54-4584-B186-F82A04ED993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79279-DB6E-4C94-9DDD-C06CDC325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2A0C-1324-4BD9-9416-060366EF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57B87-0C86-44EF-8EED-FB832A8D5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AC5A9-4121-4AE4-AB75-937B8EAA2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EAB13-B2BE-4718-9793-F15D3D9DC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50FE8-B011-44B9-9382-24FCC59BB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9E64E-DC5B-4079-ADED-3BCF8B975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8479-120C-4054-BC8E-D13C7FC78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8AA16-FF10-4A79-A113-B08992CC6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8C8DF-A274-4ADC-B1DB-8A07DA883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1D072-DCA1-4EB4-A2BF-47343148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949BC-52BE-4BE0-A842-B6EE0B526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82FF0-E14B-42E2-BD7F-66F8D5D94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9218-BAF7-4608-88D9-037633025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5F061-63FE-405C-8526-3628A6053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49B21-B8CC-48FE-B36C-251D3A1B9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4BDEB-2D94-49FA-8FFB-5EBB1ED76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5ABB6C-2C90-4889-AC2B-58009526D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95EE1-5B51-40F8-9B4C-2C110A0D9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E4ACB-8509-41C1-8ED1-6B3F54DE0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70FB7-02F6-4FC0-87F5-EE9FBD1DF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1A73A-A10A-44CD-9B30-4301F6B7F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EFA60-B650-439A-B511-27060D23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8228B-DF2D-4823-80C4-A1AE08253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42199-03AD-4756-851A-811F7288D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D3E85-DE0F-4174-8307-9158168C5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4E9D5-7743-48E4-BF77-41E564059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C6765-08CB-4AC9-B5DE-F364B5D8A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72765A-1405-4F1A-8743-CF02F9EA19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EDC0ED-5BDA-41CD-924E-5CA706BC2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EC88E2-CF65-4D70-9B0B-B11E952AE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D9A93-94F5-48D4-BE86-B86ADE73B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3EDB2-F315-4A71-8575-F9354E6C2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4EDBE-0F52-458D-A0AF-1C942F7B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48771-510C-4CA5-80FB-15FF34310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2B82C-DE65-4235-A493-A5560A235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EBA64-905E-4369-A406-7795D1430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86063-6C05-4456-99EF-4F6AC1ADD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5E5A3-6EB0-4B44-9167-6FE09EFFB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7FF30-85D1-49F5-BAED-47A1E072D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3080B-9CBC-4614-98FF-1E3431FA5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66330D-98A4-4128-87E7-269B365242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09E63A-893C-43B3-BAEF-59C9A6301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C8B59C-74A5-40A3-B8E0-CB97C49C51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FAFB8-FF7D-4D4F-B3AF-0FAFCAAF8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55520F-7914-4EF3-8F42-254A260D57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85D07-9FFB-47F5-8D41-A17AE2DA7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5F969-7112-4292-B961-918056FD2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EB43C-239A-4593-876C-8DA639D79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A99097-BCCA-4004-A21C-12AAB0184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213F4-21E2-460A-BE16-FCCDCC58B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E65D7-1DDA-467C-A691-72E70EF2A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D948B-7C2E-401A-850C-4557F499B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0FA9B-CFC5-4E62-9447-793B71AED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1F368E-9658-410B-A00D-620E0905C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6336E-C841-4B91-A85D-2F994E5C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1C9567-FAA4-40D9-B0B4-6258E866EE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F31CE-6BB7-4380-A7A1-C3B6C69BE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6919C-5694-4492-9BF3-9AE129579D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90633-1167-458D-9DC7-74FF6B55B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EED24-C450-4004-AC2C-46411F090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E1A07-9D11-4D4C-8BE3-C15BA4D66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DD6AB-F6E3-4AB5-875C-A70D60156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4D11B-84AC-42D9-8DBF-4527A5D3D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9995D-F95A-48B4-838C-3ACC08014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443BF-3BB7-4E87-A1B3-C97395942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6A5F-C6E8-4A89-B609-48E1FA61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B22EB-4EDB-478C-BCAC-1166DE6B6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28EEBE-8D9A-4C82-9D4D-AFCB3F2FF5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D28ADB-EA0F-4BD5-81D8-A9C76F7C4F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4D10F4-A174-4C32-A358-DB24AFF4E4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79F45-CD6A-454E-978A-C18B747992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9E65E-40B4-4FD2-8036-9F3D34B36E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63319-D585-4A33-8CFF-5759DE55F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B0CCE-4A98-4756-B817-A17896AC8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5A732-F74D-4BCE-9FD1-D929BB3C8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0F2BB-EE27-4130-A57B-7767C9A91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4ADF-DFE5-4808-99AD-0B9371CEB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CBBED-524F-4183-961F-826D376B1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0CAA8-84B9-4BA1-AE04-386E005ED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5C90DF-9688-4C4F-9545-C8E74CA02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2A2FB6-C73D-44D6-AB3D-ACDFAE556D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EF6E4D-9C2B-4A75-B1F4-8FE5D00840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391F1A-ED89-43AA-A7CD-04E0EF9F2B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CBD45C-F579-4D47-A293-2744907D5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1A20E6-B88A-4785-BFBE-0E93FB1C73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9FAF50-DCEF-4202-A0F5-07B6DE6080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A3FDF-B06C-4085-935B-5A699DD103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33CB2-CD45-463A-BC13-F7969AE0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1D30A4-D720-4786-8C8F-E26B664124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C22B4-D120-4AB1-8AA7-172A0F325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92C79A-F489-4742-8EC5-E4C5AD6F0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3859D-2E16-45F6-955D-F45B62950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CA418-E154-4724-8009-61D2A44604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40401F-6068-4B50-8440-22BCD85E75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98FE4A-47C9-457C-BF77-4F5253F435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Прямоугольный треугольник 13"/>
          <p:cNvGrpSpPr/>
          <p:nvPr/>
        </p:nvGrpSpPr>
        <p:grpSpPr>
          <a:xfrm>
            <a:off x="-6480" y="5791320"/>
            <a:ext cx="3402000" cy="1079280"/>
            <a:chOff x="-6480" y="5791320"/>
            <a:chExt cx="3402000" cy="1079280"/>
          </a:xfrm>
        </p:grpSpPr>
        <p:pic>
          <p:nvPicPr>
            <p:cNvPr id="3"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1B78-BF01-4198-AC11-DB1C14EFD49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Группа 15"/>
          <p:cNvGrpSpPr/>
          <p:nvPr/>
        </p:nvGrpSpPr>
        <p:grpSpPr>
          <a:xfrm>
            <a:off x="-3240" y="4952880"/>
            <a:ext cx="9147240" cy="1911600"/>
            <a:chOff x="-3240" y="4952880"/>
            <a:chExt cx="9147240" cy="1911600"/>
          </a:xfrm>
        </p:grpSpPr>
        <p:sp>
          <p:nvSpPr>
            <p:cNvPr id="49" name="Полилиния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Полилиния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1" name="Полилиния 18"/>
            <p:cNvGrpSpPr/>
            <p:nvPr/>
          </p:nvGrpSpPr>
          <p:grpSpPr>
            <a:xfrm>
              <a:off x="8640" y="4998600"/>
              <a:ext cx="9135360" cy="1865880"/>
              <a:chOff x="8640" y="4998600"/>
              <a:chExt cx="9135360" cy="1865880"/>
            </a:xfrm>
          </p:grpSpPr>
          <p:pic>
            <p:nvPicPr>
              <p:cNvPr id="52" name="Полилиния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Прямая соединительная линия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9731-1118-47F6-AF46-5BD8E7D5F3D9}"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8" name="Прямоугольный треугольник 13"/>
          <p:cNvGrpSpPr/>
          <p:nvPr/>
        </p:nvGrpSpPr>
        <p:grpSpPr>
          <a:xfrm>
            <a:off x="-6480" y="5791320"/>
            <a:ext cx="3402000" cy="1079280"/>
            <a:chOff x="-6480" y="5791320"/>
            <a:chExt cx="3402000" cy="1079280"/>
          </a:xfrm>
        </p:grpSpPr>
        <p:pic>
          <p:nvPicPr>
            <p:cNvPr id="99"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Нашивка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5C29-C5AC-4258-8AC1-5CB73FD1565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47" name="Прямоугольный треугольник 13"/>
          <p:cNvGrpSpPr/>
          <p:nvPr/>
        </p:nvGrpSpPr>
        <p:grpSpPr>
          <a:xfrm>
            <a:off x="-6480" y="5791320"/>
            <a:ext cx="3402000" cy="1079280"/>
            <a:chOff x="-6480" y="5791320"/>
            <a:chExt cx="3402000" cy="1079280"/>
          </a:xfrm>
        </p:grpSpPr>
        <p:pic>
          <p:nvPicPr>
            <p:cNvPr id="148"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D0E9-974E-49B0-922E-2B778565939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54C1-7889-4D3A-8FB9-C37B2B10496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35" name="Прямоугольный треугольник 13"/>
          <p:cNvGrpSpPr/>
          <p:nvPr/>
        </p:nvGrpSpPr>
        <p:grpSpPr>
          <a:xfrm>
            <a:off x="-6480" y="5791320"/>
            <a:ext cx="3402000" cy="1079280"/>
            <a:chOff x="-6480" y="5791320"/>
            <a:chExt cx="3402000" cy="1079280"/>
          </a:xfrm>
        </p:grpSpPr>
        <p:pic>
          <p:nvPicPr>
            <p:cNvPr id="236"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4CCB-C742-446F-AEE9-0C95040687F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62F0-FD7F-4866-ADA1-338B09DA60D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23" name="Прямоугольный треугольник 15"/>
          <p:cNvGrpSpPr/>
          <p:nvPr/>
        </p:nvGrpSpPr>
        <p:grpSpPr>
          <a:xfrm>
            <a:off x="-6480" y="5791320"/>
            <a:ext cx="3402000" cy="1079280"/>
            <a:chOff x="-6480" y="5791320"/>
            <a:chExt cx="3402000" cy="1079280"/>
          </a:xfrm>
        </p:grpSpPr>
        <p:pic>
          <p:nvPicPr>
            <p:cNvPr id="324" name="Прямоугольный треугольник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Прямая соединительная линия 16" descr=""/>
          <p:cNvPicPr/>
          <p:nvPr/>
        </p:nvPicPr>
        <p:blipFill>
          <a:blip r:embed="rId4"/>
          <a:stretch/>
        </p:blipFill>
        <p:spPr>
          <a:xfrm>
            <a:off x="-19080" y="5778360"/>
            <a:ext cx="3414600" cy="1098720"/>
          </a:xfrm>
          <a:prstGeom prst="rect">
            <a:avLst/>
          </a:prstGeom>
          <a:ln w="0">
            <a:noFill/>
          </a:ln>
        </p:spPr>
      </p:pic>
      <p:sp>
        <p:nvSpPr>
          <p:cNvPr id="327" name="Нашивка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Нашивка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93CE-F2F1-48C1-8A1A-8C0E245ED3D3}"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054080"/>
            <a:ext cx="8137440" cy="22795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700" spc="-1" strike="noStrike">
                <a:solidFill>
                  <a:srgbClr val="002060"/>
                </a:solidFill>
                <a:latin typeface="Lucida Sans Unicode"/>
              </a:rPr>
              <a:t>Ахатова С.Х. беренче категорияле физика укытучысы</a:t>
            </a:r>
            <a:r>
              <a:rPr b="0" lang="tt-RU" sz="2700" spc="-1" strike="noStrike">
                <a:solidFill>
                  <a:srgbClr val="002060"/>
                </a:solidFill>
                <a:latin typeface="Lucida Sans Unicode"/>
              </a:rPr>
              <a:t> </a:t>
            </a:r>
            <a:endParaRPr b="0" lang="en-US" sz="2700" spc="-1" strike="noStrike">
              <a:solidFill>
                <a:srgbClr val="000000"/>
              </a:solidFill>
              <a:latin typeface="Lucida Sans Unicode"/>
            </a:endParaRPr>
          </a:p>
        </p:txBody>
      </p:sp>
      <p:sp>
        <p:nvSpPr>
          <p:cNvPr id="379" name="TextBox 1"/>
          <p:cNvSpPr/>
          <p:nvPr/>
        </p:nvSpPr>
        <p:spPr>
          <a:xfrm>
            <a:off x="684360" y="333360"/>
            <a:ext cx="820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2060"/>
                </a:solidFill>
                <a:latin typeface="Verdana"/>
              </a:rPr>
              <a:t>Түбән Сон урта гомуми белем мәктәбе</a:t>
            </a: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Lucida Sans Unicode"/>
              </a:rPr>
              <a:t>Q1 =с m(t</a:t>
            </a:r>
            <a:r>
              <a:rPr b="1" lang="en-US" sz="3400" spc="-1" strike="noStrike" baseline="-25000">
                <a:solidFill>
                  <a:srgbClr val="000000"/>
                </a:solidFill>
                <a:latin typeface="Lucida Sans Unicode"/>
              </a:rPr>
              <a:t>2</a:t>
            </a:r>
            <a:r>
              <a:rPr b="1" lang="ru-RU" sz="3400" spc="-1" strike="noStrike">
                <a:solidFill>
                  <a:srgbClr val="000000"/>
                </a:solidFill>
                <a:latin typeface="Lucida Sans Unicode"/>
              </a:rPr>
              <a:t>  - t</a:t>
            </a:r>
            <a:r>
              <a:rPr b="1" lang="en-US" sz="3400" spc="-1" strike="noStrike" baseline="-25000">
                <a:solidFill>
                  <a:srgbClr val="000000"/>
                </a:solidFill>
                <a:latin typeface="Lucida Sans Unicode"/>
              </a:rPr>
              <a:t>1</a:t>
            </a:r>
            <a:r>
              <a:rPr b="1" lang="ru-RU" sz="3400" spc="-1" strike="noStrike">
                <a:solidFill>
                  <a:srgbClr val="000000"/>
                </a:solidFill>
                <a:latin typeface="Lucida Sans Unicode"/>
              </a:rPr>
              <a:t>)</a:t>
            </a:r>
            <a:endParaRPr b="0" lang="en-US" sz="3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Sans Unicode"/>
              </a:rPr>
              <a:t>Q2=qm</a:t>
            </a:r>
            <a:endParaRPr b="0" lang="en-US" sz="3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Sans Unicode"/>
              </a:rPr>
              <a:t>Q3=</a:t>
            </a:r>
            <a:r>
              <a:rPr b="1" lang="el-GR" sz="3400" spc="-1" strike="noStrike">
                <a:solidFill>
                  <a:srgbClr val="000000"/>
                </a:solidFill>
                <a:latin typeface="Lucida Sans Unicode"/>
              </a:rPr>
              <a:t>λ</a:t>
            </a:r>
            <a:r>
              <a:rPr b="1" lang="en-US" sz="3400" spc="-1" strike="noStrike">
                <a:solidFill>
                  <a:srgbClr val="000000"/>
                </a:solidFill>
                <a:latin typeface="Lucida Sans Unicode"/>
              </a:rPr>
              <a:t>m</a:t>
            </a:r>
            <a:endParaRPr b="0" lang="en-US" sz="3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Sans Unicode"/>
              </a:rPr>
              <a:t> </a:t>
            </a:r>
            <a:r>
              <a:rPr b="1" lang="en-US" sz="3400" spc="-1" strike="noStrike">
                <a:solidFill>
                  <a:srgbClr val="000000"/>
                </a:solidFill>
                <a:latin typeface="Lucida Sans Unicode"/>
              </a:rPr>
              <a:t>Q4=Lm</a:t>
            </a:r>
            <a:endParaRPr b="0" lang="en-US" sz="3400" spc="-1" strike="noStrike">
              <a:solidFill>
                <a:srgbClr val="000000"/>
              </a:solidFill>
              <a:latin typeface="Lucida Sans Unicode"/>
            </a:endParaRPr>
          </a:p>
        </p:txBody>
      </p:sp>
      <p:pic>
        <p:nvPicPr>
          <p:cNvPr id="396" name="Rectangle 2" descr=""/>
          <p:cNvPicPr/>
          <p:nvPr/>
        </p:nvPicPr>
        <p:blipFill>
          <a:blip r:embed="rId1"/>
          <a:stretch/>
        </p:blipFill>
        <p:spPr>
          <a:xfrm>
            <a:off x="201600" y="274680"/>
            <a:ext cx="8485200" cy="126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08000" y="1052640"/>
            <a:ext cx="8928000" cy="5116320"/>
          </a:xfrm>
          <a:prstGeom prst="rect">
            <a:avLst/>
          </a:prstGeom>
          <a:noFill/>
          <a:ln w="0">
            <a:noFill/>
          </a:ln>
        </p:spPr>
        <p:txBody>
          <a:bodyPr anchor="t">
            <a:normAutofit fontScale="96000"/>
          </a:bodyPr>
          <a:p>
            <a:pPr marL="350280" indent="-2451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Эңгер төште. Өстәлне балкытып,</a:t>
            </a:r>
            <a:br>
              <a:rPr sz="2400"/>
            </a:br>
            <a:r>
              <a:rPr b="0" lang="ru-RU" sz="2400" spc="-1" strike="noStrike">
                <a:solidFill>
                  <a:srgbClr val="000000"/>
                </a:solidFill>
                <a:latin typeface="Lucida Sans Unicode"/>
              </a:rPr>
              <a:t>Шаулап утыра кичке самовар</a:t>
            </a:r>
            <a:br>
              <a:rPr sz="2400"/>
            </a:br>
            <a:r>
              <a:rPr b="0" lang="ru-RU" sz="2400" spc="-1" strike="noStrike">
                <a:solidFill>
                  <a:srgbClr val="000000"/>
                </a:solidFill>
                <a:latin typeface="Lucida Sans Unicode"/>
              </a:rPr>
              <a:t>Чәйнектәге бөртек чәйне җылытып</a:t>
            </a:r>
            <a:br>
              <a:rPr sz="2400"/>
            </a:br>
            <a:r>
              <a:rPr b="0" lang="ru-RU" sz="2400" spc="-1" strike="noStrike">
                <a:solidFill>
                  <a:srgbClr val="000000"/>
                </a:solidFill>
                <a:latin typeface="Lucida Sans Unicode"/>
              </a:rPr>
              <a:t>Күтәрелә аннан җиңел пар,-»</a:t>
            </a:r>
            <a:br>
              <a:rPr sz="2400"/>
            </a:br>
            <a:r>
              <a:rPr b="0" lang="ru-RU" sz="2400" spc="-1" strike="noStrike">
                <a:solidFill>
                  <a:srgbClr val="000000"/>
                </a:solidFill>
                <a:latin typeface="Lucida Sans Unicode"/>
              </a:rPr>
              <a:t> дип яза А.С. Пушкин бу юлларны, 1883 нче елның сентябрендә, Казанга килгәч. Бөек шагыйрь кунакчыл калабызда чәй эчми калмагандыр, дип уйлыйбыз. </a:t>
            </a:r>
            <a:endParaRPr b="0" lang="en-US" sz="2400" spc="-1" strike="noStrike">
              <a:solidFill>
                <a:srgbClr val="000000"/>
              </a:solidFill>
              <a:latin typeface="Lucida Sans Unicode"/>
            </a:endParaRPr>
          </a:p>
          <a:p>
            <a:pPr marL="350280" indent="-2451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     </a:t>
            </a:r>
            <a:r>
              <a:rPr b="0" lang="ru-RU" sz="2400" spc="-1" strike="noStrike">
                <a:solidFill>
                  <a:srgbClr val="000000"/>
                </a:solidFill>
                <a:latin typeface="Lucida Sans Unicode"/>
              </a:rPr>
              <a:t>Бугенге кичәнең әһәмияте зур булгандыр, дип уйлыйм. «Җылылык күренешләре» дигән тема буенча күп кенә өстәмә мәгъл</a:t>
            </a:r>
            <a:r>
              <a:rPr b="0" lang="tt-RU" sz="2400" spc="-1" strike="noStrike">
                <a:solidFill>
                  <a:srgbClr val="000000"/>
                </a:solidFill>
                <a:latin typeface="Lucida Sans Unicode"/>
              </a:rPr>
              <a:t>ү</a:t>
            </a:r>
            <a:r>
              <a:rPr b="0" lang="ru-RU" sz="2400" spc="-1" strike="noStrike">
                <a:solidFill>
                  <a:srgbClr val="000000"/>
                </a:solidFill>
                <a:latin typeface="Lucida Sans Unicode"/>
              </a:rPr>
              <a:t>матлар алдык. Барыбызга да дәрес ошагандыр, дип ышанып калам.               </a:t>
            </a:r>
            <a:endParaRPr b="0" lang="en-US" sz="2400" spc="-1" strike="noStrike">
              <a:solidFill>
                <a:srgbClr val="000000"/>
              </a:solidFill>
              <a:latin typeface="Lucida Sans Unicode"/>
            </a:endParaRPr>
          </a:p>
          <a:p>
            <a:pPr marL="350280" indent="-2451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Lucida Sans Unicode"/>
              </a:rPr>
              <a:t>Унышлар сезгә!!! </a:t>
            </a:r>
            <a:endParaRPr b="0" lang="en-US" sz="2400" spc="-1" strike="noStrike">
              <a:solidFill>
                <a:srgbClr val="000000"/>
              </a:solidFill>
              <a:latin typeface="Lucida Sans Unicode"/>
            </a:endParaRPr>
          </a:p>
          <a:p>
            <a:pPr marL="350280" indent="-245160" algn="ct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Lucida Sans Unicode"/>
              </a:rPr>
              <a:t>Ә хәзер, укучылар һәм кунаклар, чәй табыны     </a:t>
            </a:r>
            <a:endParaRPr b="0" lang="en-US" sz="2400" spc="-1" strike="noStrike">
              <a:solidFill>
                <a:srgbClr val="000000"/>
              </a:solidFill>
              <a:latin typeface="Lucida Sans Unicode"/>
            </a:endParaRPr>
          </a:p>
          <a:p>
            <a:pPr marL="350280" indent="-2451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Lucida Sans Unicode"/>
              </a:rPr>
              <a:t>  </a:t>
            </a:r>
            <a:r>
              <a:rPr b="0" lang="tt-RU" sz="2400" spc="-1" strike="noStrike">
                <a:solidFill>
                  <a:srgbClr val="000000"/>
                </a:solidFill>
                <a:latin typeface="Lucida Sans Unicode"/>
              </a:rPr>
              <a:t>янына рәхим итегез! Тула самовары янында, </a:t>
            </a:r>
            <a:endParaRPr b="0" lang="en-US" sz="2400" spc="-1" strike="noStrike">
              <a:solidFill>
                <a:srgbClr val="000000"/>
              </a:solidFill>
              <a:latin typeface="Lucida Sans Unicode"/>
            </a:endParaRPr>
          </a:p>
          <a:p>
            <a:pPr marL="350280" indent="-2451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Lucida Sans Unicode"/>
              </a:rPr>
              <a:t>тәм-томнар белән чәй эчәбез</a:t>
            </a:r>
            <a:r>
              <a:rPr b="1" lang="tt-RU"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398" name="Rectangle 2" descr=""/>
          <p:cNvPicPr/>
          <p:nvPr/>
        </p:nvPicPr>
        <p:blipFill>
          <a:blip r:embed="rId1"/>
          <a:stretch/>
        </p:blipFill>
        <p:spPr>
          <a:xfrm>
            <a:off x="212760" y="334800"/>
            <a:ext cx="8486640" cy="124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549360"/>
            <a:ext cx="8229600" cy="545760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Максаты:</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a:t>
            </a:r>
            <a:r>
              <a:rPr b="0" lang="tt-RU" sz="2700" spc="-1" strike="noStrike">
                <a:solidFill>
                  <a:srgbClr val="000000"/>
                </a:solidFill>
                <a:latin typeface="Lucida Sans Unicode"/>
              </a:rPr>
              <a:t>Җылылык күренешләре” дигән теманы кабатлау һәм ныгыту;</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Чәйне </a:t>
            </a:r>
            <a:r>
              <a:rPr b="0" lang="tt-RU" sz="2700" spc="-1" strike="noStrike">
                <a:solidFill>
                  <a:srgbClr val="000000"/>
                </a:solidFill>
                <a:latin typeface="Lucida Sans Unicode"/>
              </a:rPr>
              <a:t>э</a:t>
            </a:r>
            <a:r>
              <a:rPr b="0" lang="en-US" sz="2700" spc="-1" strike="noStrike">
                <a:solidFill>
                  <a:srgbClr val="000000"/>
                </a:solidFill>
                <a:latin typeface="Lucida Sans Unicode"/>
              </a:rPr>
              <a:t>чкәндә физика</a:t>
            </a:r>
            <a:r>
              <a:rPr b="0" lang="tt-RU" sz="2700" spc="-1" strike="noStrike">
                <a:solidFill>
                  <a:srgbClr val="000000"/>
                </a:solidFill>
                <a:latin typeface="Lucida Sans Unicode"/>
              </a:rPr>
              <a:t> фәненең</a:t>
            </a:r>
            <a:r>
              <a:rPr b="0" lang="en-US" sz="2700" spc="-1" strike="noStrike">
                <a:solidFill>
                  <a:srgbClr val="000000"/>
                </a:solidFill>
                <a:latin typeface="Lucida Sans Unicode"/>
              </a:rPr>
              <a:t> әдәбият, сәнгать һәм тарих фәннәре белән дә бәйле булуын укучыларга җиткерү</a:t>
            </a:r>
            <a:r>
              <a:rPr b="0" lang="tt-RU" sz="2700" spc="-1" strike="noStrike">
                <a:solidFill>
                  <a:srgbClr val="000000"/>
                </a:solidFill>
                <a:latin typeface="Lucida Sans Unicode"/>
              </a:rPr>
              <a:t>;</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Укучыларда физика фәненә кызыксыну үстерү;</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Укучыларның иҗади мөмкинлекләрен күрсәтү.</a:t>
            </a:r>
            <a:endParaRPr b="0" lang="en-US" sz="2700" spc="-1" strike="noStrike">
              <a:solidFill>
                <a:srgbClr val="000000"/>
              </a:solidFill>
              <a:latin typeface="Lucida Sans Unicode"/>
            </a:endParaRPr>
          </a:p>
        </p:txBody>
      </p:sp>
      <p:pic>
        <p:nvPicPr>
          <p:cNvPr id="381" name="Заголовок 2" descr=""/>
          <p:cNvPicPr/>
          <p:nvPr/>
        </p:nvPicPr>
        <p:blipFill>
          <a:blip r:embed="rId1"/>
          <a:stretch/>
        </p:blipFill>
        <p:spPr>
          <a:xfrm>
            <a:off x="249120" y="4797360"/>
            <a:ext cx="8229600" cy="11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   </a:t>
            </a:r>
            <a:r>
              <a:rPr b="1" lang="tt-RU" sz="2100" spc="-1" strike="noStrike">
                <a:solidFill>
                  <a:srgbClr val="000000"/>
                </a:solidFill>
                <a:latin typeface="Lucida Sans Unicode"/>
              </a:rPr>
              <a:t>Тарихка күз салсак...</a:t>
            </a:r>
            <a:endParaRPr b="0" lang="en-US" sz="21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Lucida Sans Unicode"/>
              </a:rPr>
              <a:t>  </a:t>
            </a:r>
            <a:r>
              <a:rPr b="0" lang="ru-RU" sz="2100" spc="-1" strike="noStrike">
                <a:solidFill>
                  <a:srgbClr val="000000"/>
                </a:solidFill>
                <a:latin typeface="Lucida Sans Unicode"/>
              </a:rPr>
              <a:t>1638 елда ,  Алтын-ханнан, патша ярдәмчесе, Рус патшасына күчтәнәч итеп, чәй алып кайта. Патша к</a:t>
            </a:r>
            <a:r>
              <a:rPr b="0" lang="tt-RU" sz="2100" spc="-1" strike="noStrike">
                <a:solidFill>
                  <a:srgbClr val="000000"/>
                </a:solidFill>
                <a:latin typeface="Lucida Sans Unicode"/>
              </a:rPr>
              <a:t>ү</a:t>
            </a:r>
            <a:r>
              <a:rPr b="0" lang="ru-RU" sz="2100" spc="-1" strike="noStrike">
                <a:solidFill>
                  <a:srgbClr val="000000"/>
                </a:solidFill>
                <a:latin typeface="Lucida Sans Unicode"/>
              </a:rPr>
              <a:t>чтәнәчкә бик сөенә,  бу күчтәнәч өчен 100 соболь тиресе бирә, ләкин чәйне эчәргә курка. Берзаман бик каты авырып киткәч, ул чәй эчеп, аның шифасын күрә. Шул вакыттан Россиядә чәй эчә һәм чәйне кайнату өчен, самоварлар җитештерә башлыйлар. Иң беренче самовар Тула шәһәрендәге фабрикада  ясала. 19 нчы гасырда Тулада 50 гә якын фабрика самоварлар җитештерә. Аларнын бәяләре 235 сумга кадәр (10 сыер бәясе) торган. Массалары 125 граммнан – 250 литрга кадәр булган самоварлар ясаганнар.</a:t>
            </a:r>
            <a:endParaRPr b="0" lang="en-US" sz="2100" spc="-1" strike="noStrike">
              <a:solidFill>
                <a:srgbClr val="000000"/>
              </a:solidFill>
              <a:latin typeface="Lucida Sans Unicode"/>
            </a:endParaRPr>
          </a:p>
        </p:txBody>
      </p:sp>
      <p:pic>
        <p:nvPicPr>
          <p:cNvPr id="383" name="Rectangle 2" descr=""/>
          <p:cNvPicPr/>
          <p:nvPr/>
        </p:nvPicPr>
        <p:blipFill>
          <a:blip r:embed="rId1"/>
          <a:stretch/>
        </p:blipFill>
        <p:spPr>
          <a:xfrm>
            <a:off x="201600" y="274680"/>
            <a:ext cx="8485200" cy="12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4" descr="25807980"/>
          <p:cNvPicPr/>
          <p:nvPr/>
        </p:nvPicPr>
        <p:blipFill>
          <a:blip r:embed="rId1"/>
          <a:stretch/>
        </p:blipFill>
        <p:spPr>
          <a:xfrm>
            <a:off x="0" y="0"/>
            <a:ext cx="9144000" cy="718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0" y="1599840"/>
            <a:ext cx="9144000" cy="52578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Чәй...Татарстанда олылар да, балалар да ярата торган бу традицион, гадәтләнелгән эчемлекне белмәүче кешене табып булмастыр, мөгаен. Елның теләсә кайсы фасылында куырып ала торган ачы суык булсынмы, яисә түзеп тора алмаслык эссеме бездә күңелне күтәреп җибәрүче һәм җанны иркенәйтүче, арыганлыкны бетерүче һәм зиһенне ачучы, ялкаулыкны куучы һәм тәнне сафландыручы хуш ис бөркеп торган бер чынаяк чәйдән башка һич тә мөмкин түгел.</a:t>
            </a:r>
            <a:br>
              <a:rPr sz="1900"/>
            </a:br>
            <a:r>
              <a:rPr b="1" lang="ru-RU" sz="1900" spc="-1" strike="noStrike">
                <a:solidFill>
                  <a:srgbClr val="000000"/>
                </a:solidFill>
                <a:latin typeface="Lucida Sans Unicode"/>
              </a:rPr>
              <a:t>Эчсәң чәй - җанда җәй, - диелә татар мәкалендә. Милли эчемлеккә һәм кунакчыллык символына әверелеп, чәй менә инде күпме гасырлар дәвамында Татарстан халыкларын куандырып килә. Ул гадәти көннәрдә дә, бәйрәмнәрдә дә гаилә өстәлендәге кадерле кунак, сәфәр чыкканда кешеләрнең аерылмас юлдашы һәм иң гаҗәбе беркайчан да туйдырмый, гайрәтне чигерми торган эчемлек!</a:t>
            </a:r>
            <a:br>
              <a:rPr sz="1900"/>
            </a:br>
            <a:r>
              <a:rPr b="1" lang="ru-RU" sz="1900" spc="-1" strike="noStrike">
                <a:solidFill>
                  <a:srgbClr val="000000"/>
                </a:solidFill>
                <a:latin typeface="Lucida Sans Unicode"/>
              </a:rPr>
              <a:t>Халыклар кулланган бер генә эчемлек тә әдәбиятта һәм сәнгатьтә чәй кебек макталмагандыр, мөгаен. Ул татар халык иҗатының күп кенә жанрларында, узган чорлар һәм бүгенге көн татар язучылары әсәрләрендә дә чагылыш тапты.</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Укучыларга сүз бирәбез, алар үзләре эзерләгән шигырьләрне укырлар.</a:t>
            </a:r>
            <a:endParaRPr b="0" lang="en-US" sz="1900" spc="-1" strike="noStrike">
              <a:solidFill>
                <a:srgbClr val="000000"/>
              </a:solidFill>
              <a:latin typeface="Lucida Sans Unicode"/>
            </a:endParaRPr>
          </a:p>
        </p:txBody>
      </p:sp>
      <p:pic>
        <p:nvPicPr>
          <p:cNvPr id="386" name="Rectangle 2" descr=""/>
          <p:cNvPicPr/>
          <p:nvPr/>
        </p:nvPicPr>
        <p:blipFill>
          <a:blip r:embed="rId1"/>
          <a:stretch/>
        </p:blipFill>
        <p:spPr>
          <a:xfrm>
            <a:off x="201600" y="274680"/>
            <a:ext cx="8485200" cy="126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1600200"/>
            <a:ext cx="9144000" cy="5068800"/>
          </a:xfrm>
          <a:prstGeom prst="rect">
            <a:avLst/>
          </a:prstGeom>
          <a:noFill/>
          <a:ln w="0">
            <a:noFill/>
          </a:ln>
        </p:spPr>
        <p:txBody>
          <a:bodyPr anchor="t">
            <a:normAutofit/>
          </a:bodyPr>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Ни өчен самоварның тоткасы агачтан яки пластмасстан ясал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Ни өчен самоварның өслеге ялтырап тор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Стаканга су салганда ни өчен калак куялар?</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Самоварның кранын ни өчен аска урнаштыралар?</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Самоварнын җылыту элементы кайда урнашкан? Ни өчен?</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Самоварга суны өске кырыйга кадәр тутырырга ярыймы? </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Өскә кадәр тутырсаң ни бул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Самоварда су җылынамы икәнлеген ничек белергә?</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Су җылыту элементыннан түбәнрәк булса нәрсә булыр?</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Ни өчен чокырда су стаканга караганда тизрәк суын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Ни өчен чәйнекнең капкачы кайвакыт сикерә башлый?</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Кайный торган суның температурасы күпме?</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8" name="Rectangle 2" descr=""/>
          <p:cNvPicPr/>
          <p:nvPr/>
        </p:nvPicPr>
        <p:blipFill>
          <a:blip r:embed="rId1"/>
          <a:stretch/>
        </p:blipFill>
        <p:spPr>
          <a:xfrm>
            <a:off x="231840" y="274680"/>
            <a:ext cx="8613720" cy="1189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200" spc="-1" strike="noStrike">
                <a:solidFill>
                  <a:srgbClr val="000000"/>
                </a:solidFill>
                <a:latin typeface="Lucida Sans Unicode"/>
              </a:rPr>
              <a:t>Су җылыту элементыннан түбәнрәк булса самоварны розеткага тоташтырмагыз!</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200" spc="-1" strike="noStrike">
                <a:solidFill>
                  <a:srgbClr val="000000"/>
                </a:solidFill>
                <a:latin typeface="Lucida Sans Unicode"/>
              </a:rPr>
              <a:t>Розеткага тоташтырылган электр самоварын краучысыз калдырмагыз!</a:t>
            </a:r>
            <a:r>
              <a:rPr b="0" lang="ru-RU" sz="2200" spc="-1" strike="noStrike">
                <a:solidFill>
                  <a:srgbClr val="000000"/>
                </a:solidFill>
                <a:latin typeface="Lucida Sans Unicode"/>
              </a:rPr>
              <a:t> </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Lucida Sans Unicode"/>
              </a:rPr>
              <a:t>Электр самоварын, суга тулысынча салып юмагыз!</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Lucida Sans Unicode"/>
              </a:rPr>
              <a:t>Электр самоварын көчәнеше 220 В лы алмаш токка гына тоташтырырга ярый!</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Lucida Sans Unicode"/>
              </a:rPr>
              <a:t>Электр самоварынтиз янып китучэн әйберләр янында урнаштырмагыз!</a:t>
            </a:r>
            <a:endParaRPr b="0" lang="en-US" sz="2200" spc="-1" strike="noStrike">
              <a:solidFill>
                <a:srgbClr val="000000"/>
              </a:solidFill>
              <a:latin typeface="Lucida Sans Unicode"/>
            </a:endParaRPr>
          </a:p>
        </p:txBody>
      </p:sp>
      <p:pic>
        <p:nvPicPr>
          <p:cNvPr id="390" name="Rectangle 2" descr=""/>
          <p:cNvPicPr/>
          <p:nvPr/>
        </p:nvPicPr>
        <p:blipFill>
          <a:blip r:embed="rId1"/>
          <a:stretch/>
        </p:blipFill>
        <p:spPr>
          <a:xfrm>
            <a:off x="262080" y="146160"/>
            <a:ext cx="8424720" cy="1536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1)Чык ясалу.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2)Томан т</a:t>
            </a:r>
            <a:r>
              <a:rPr b="0" lang="tt-RU" sz="2700" spc="-1" strike="noStrike">
                <a:solidFill>
                  <a:srgbClr val="000000"/>
                </a:solidFill>
                <a:latin typeface="Lucida Sans Unicode"/>
              </a:rPr>
              <a:t>өш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3)Яңгыр яв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4)Кар яву.</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92" name="Заголовок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0" y="1484280"/>
            <a:ext cx="9144000" cy="5113440"/>
          </a:xfrm>
          <a:prstGeom prst="rect">
            <a:avLst/>
          </a:prstGeom>
          <a:noFill/>
          <a:ln w="0">
            <a:noFill/>
          </a:ln>
        </p:spPr>
        <p:txBody>
          <a:bodyPr anchor="t">
            <a:normAutofit/>
          </a:bodyPr>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Lucida Sans Unicode"/>
              </a:rPr>
              <a:t>Башлангыч температурасы 15</a:t>
            </a:r>
            <a:r>
              <a:rPr b="1" lang="en-US" sz="2600" spc="-1" strike="noStrike">
                <a:solidFill>
                  <a:srgbClr val="000000"/>
                </a:solidFill>
                <a:latin typeface="Lucida Sans Unicode"/>
              </a:rPr>
              <a:t>°</a:t>
            </a:r>
            <a:r>
              <a:rPr b="1" lang="ru-RU" sz="2600" spc="-1" strike="noStrike">
                <a:solidFill>
                  <a:srgbClr val="000000"/>
                </a:solidFill>
                <a:latin typeface="Lucida Sans Unicode"/>
              </a:rPr>
              <a:t>С  булган 5 л суны самоварда кайнатып чыгару өчен күпме җылылык микъ</a:t>
            </a:r>
            <a:r>
              <a:rPr b="1" lang="tt-RU" sz="2600" spc="-1" strike="noStrike">
                <a:solidFill>
                  <a:srgbClr val="000000"/>
                </a:solidFill>
                <a:latin typeface="Lucida Sans Unicode"/>
              </a:rPr>
              <a:t>дары кирәк? Суның чагыштырма җылысыешлыгы </a:t>
            </a:r>
            <a:r>
              <a:rPr b="1" lang="ru-RU" sz="2600" spc="-1" strike="noStrike">
                <a:solidFill>
                  <a:srgbClr val="000000"/>
                </a:solidFill>
                <a:latin typeface="Lucida Sans Unicode"/>
              </a:rPr>
              <a:t>4200 Дж/кг</a:t>
            </a:r>
            <a:r>
              <a:rPr b="1" lang="en-US" sz="2600" spc="-1" strike="noStrike">
                <a:solidFill>
                  <a:srgbClr val="000000"/>
                </a:solidFill>
                <a:latin typeface="Lucida Sans Unicode"/>
              </a:rPr>
              <a:t>°</a:t>
            </a:r>
            <a:r>
              <a:rPr b="1" lang="ru-RU" sz="2600" spc="-1" strike="noStrike">
                <a:solidFill>
                  <a:srgbClr val="000000"/>
                </a:solidFill>
                <a:latin typeface="Lucida Sans Unicode"/>
              </a:rPr>
              <a:t>С , тыгызлыгы 1000 кг/м</a:t>
            </a:r>
            <a:r>
              <a:rPr b="1" lang="ru-RU" sz="2600" spc="-1" strike="noStrike" baseline="30000">
                <a:solidFill>
                  <a:srgbClr val="000000"/>
                </a:solidFill>
                <a:latin typeface="Lucida Sans Unicode"/>
              </a:rPr>
              <a:t>3</a:t>
            </a:r>
            <a:r>
              <a:rPr b="1" lang="ru-RU" sz="2600" spc="-1" strike="noStrike">
                <a:solidFill>
                  <a:srgbClr val="000000"/>
                </a:solidFill>
                <a:latin typeface="Lucida Sans Unicode"/>
              </a:rPr>
              <a:t> .</a:t>
            </a:r>
            <a:endParaRPr b="0" lang="en-US" sz="2600" spc="-1" strike="noStrike">
              <a:solidFill>
                <a:srgbClr val="000000"/>
              </a:solidFill>
              <a:latin typeface="Lucida Sans Unicode"/>
            </a:endParaRPr>
          </a:p>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Lucida Sans Unicode"/>
              </a:rPr>
              <a:t>Башлангыч температурасы 15</a:t>
            </a:r>
            <a:r>
              <a:rPr b="1" lang="en-US" sz="2600" spc="-1" strike="noStrike">
                <a:solidFill>
                  <a:srgbClr val="000000"/>
                </a:solidFill>
                <a:latin typeface="Lucida Sans Unicode"/>
              </a:rPr>
              <a:t>°</a:t>
            </a:r>
            <a:r>
              <a:rPr b="1" lang="ru-RU" sz="2600" spc="-1" strike="noStrike">
                <a:solidFill>
                  <a:srgbClr val="000000"/>
                </a:solidFill>
                <a:latin typeface="Lucida Sans Unicode"/>
              </a:rPr>
              <a:t>С  булган 3 л суны самоварда кайнатып чыгару өчен күпме җылылык микъ</a:t>
            </a:r>
            <a:r>
              <a:rPr b="1" lang="tt-RU" sz="2600" spc="-1" strike="noStrike">
                <a:solidFill>
                  <a:srgbClr val="000000"/>
                </a:solidFill>
                <a:latin typeface="Lucida Sans Unicode"/>
              </a:rPr>
              <a:t>дары кирәк? Суның чагыштырма җылысыешлыгы </a:t>
            </a:r>
            <a:r>
              <a:rPr b="1" lang="ru-RU" sz="2600" spc="-1" strike="noStrike">
                <a:solidFill>
                  <a:srgbClr val="000000"/>
                </a:solidFill>
                <a:latin typeface="Lucida Sans Unicode"/>
              </a:rPr>
              <a:t>4200 Дж/кг</a:t>
            </a:r>
            <a:r>
              <a:rPr b="1" lang="en-US" sz="2600" spc="-1" strike="noStrike">
                <a:solidFill>
                  <a:srgbClr val="000000"/>
                </a:solidFill>
                <a:latin typeface="Lucida Sans Unicode"/>
              </a:rPr>
              <a:t>°</a:t>
            </a:r>
            <a:r>
              <a:rPr b="1" lang="ru-RU" sz="2600" spc="-1" strike="noStrike">
                <a:solidFill>
                  <a:srgbClr val="000000"/>
                </a:solidFill>
                <a:latin typeface="Lucida Sans Unicode"/>
              </a:rPr>
              <a:t>С , тыгызлыгы 1000 кг/м</a:t>
            </a:r>
            <a:r>
              <a:rPr b="1" lang="ru-RU" sz="2600" spc="-1" strike="noStrike" baseline="30000">
                <a:solidFill>
                  <a:srgbClr val="000000"/>
                </a:solidFill>
                <a:latin typeface="Lucida Sans Unicode"/>
              </a:rPr>
              <a:t>3</a:t>
            </a:r>
            <a:r>
              <a:rPr b="1" lang="ru-RU" sz="2600" spc="-1" strike="noStrike">
                <a:solidFill>
                  <a:srgbClr val="000000"/>
                </a:solidFill>
                <a:latin typeface="Lucida Sans Unicode"/>
              </a:rPr>
              <a:t> .</a:t>
            </a:r>
            <a:endParaRPr b="0" lang="en-US" sz="2600" spc="-1" strike="noStrike">
              <a:solidFill>
                <a:srgbClr val="000000"/>
              </a:solidFill>
              <a:latin typeface="Lucida Sans Unicode"/>
            </a:endParaRPr>
          </a:p>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94" name="Rectangle 2" descr=""/>
          <p:cNvPicPr/>
          <p:nvPr/>
        </p:nvPicPr>
        <p:blipFill>
          <a:blip r:embed="rId1"/>
          <a:stretch/>
        </p:blipFill>
        <p:spPr>
          <a:xfrm>
            <a:off x="201600" y="274680"/>
            <a:ext cx="8485200" cy="126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22:17:05Z</dcterms:created>
  <dc:creator>Сария</dc:creator>
  <dc:description/>
  <dc:language>en-US</dc:language>
  <cp:lastModifiedBy>Сария</cp:lastModifiedBy>
  <dcterms:modified xsi:type="dcterms:W3CDTF">2015-01-27T16:35:01Z</dcterms:modified>
  <cp:revision>14</cp:revision>
  <dc:subject/>
  <dc:title>Чәй табыны артында</dc:title>
</cp:coreProperties>
</file>